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54D5-7534-4CEB-B6BF-7CF10694FF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арстве растений сосуществуют высшие и низшие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нимательно рассмотреть водоросль (например такую, как фукус) то мы не найдем у нее ни корней, ни стебля, ни листьев. Растение, имеющее такое строение, называется низш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о у высших растений разделено на органы, а у низших растений – 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CF1-E3FE-4F25-B8D0-47E546297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914-7E9C-44D7-BC1C-450A713B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C0D-E381-425F-8780-8B43F2B2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A3C-AE2C-49D9-9523-00D434C2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8BB-FD53-46D7-8978-BDB2ED59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09C-384D-479E-9320-D5E6705C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5A1-4790-42DE-911A-AF6D7876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2CE-CE97-46FE-A93D-F1B6B27A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E88-4524-4955-8159-A6E59F9E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5A8-6BFD-4F8E-BCD4-ABA1E83E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7A7-413F-4272-846F-08618449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790-63C0-46DB-AC67-AE87B7AB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5CCC-3B0F-4978-8BDE-D8EB7B9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0145-C04E-4DC1-80D5-62E637BDF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3ed6a"/>
            </a:gs>
          </a:gsLst>
          <a:lin ang="21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 rot="167400">
            <a:off x="2698920" y="-42840"/>
            <a:ext cx="842760" cy="6869160"/>
          </a:xfrm>
          <a:custGeom>
            <a:avLst/>
            <a:gdLst/>
            <a:ahLst/>
            <a:rect l="l" t="t" r="r" b="b"/>
            <a:pathLst>
              <a:path w="842113" h="6868632">
                <a:moveTo>
                  <a:pt x="765545" y="0"/>
                </a:moveTo>
                <a:cubicBezTo>
                  <a:pt x="441252" y="464289"/>
                  <a:pt x="-262269" y="714154"/>
                  <a:pt x="531628" y="3274828"/>
                </a:cubicBezTo>
                <a:cubicBezTo>
                  <a:pt x="1463748" y="6090683"/>
                  <a:pt x="0" y="6868632"/>
                  <a:pt x="0" y="6868632"/>
                </a:cubicBezTo>
                <a:lnTo>
                  <a:pt x="0" y="6868632"/>
                </a:lnTo>
              </a:path>
            </a:pathLst>
          </a:custGeom>
          <a:noFill/>
          <a:ln w="38160">
            <a:solidFill>
              <a:srgbClr val="7f7f7f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Полилиния 7"/>
          <p:cNvGrpSpPr/>
          <p:nvPr/>
        </p:nvGrpSpPr>
        <p:grpSpPr>
          <a:xfrm>
            <a:off x="1773360" y="-139680"/>
            <a:ext cx="2012760" cy="7491240"/>
            <a:chOff x="1773360" y="-139680"/>
            <a:chExt cx="2012760" cy="7491240"/>
          </a:xfrm>
        </p:grpSpPr>
        <p:pic>
          <p:nvPicPr>
            <p:cNvPr id="43" name="Полилиния 7" descr=""/>
            <p:cNvPicPr/>
            <p:nvPr/>
          </p:nvPicPr>
          <p:blipFill>
            <a:blip r:embed="rId2"/>
            <a:stretch/>
          </p:blipFill>
          <p:spPr>
            <a:xfrm>
              <a:off x="1773360" y="-139680"/>
              <a:ext cx="2012760" cy="74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 rot="189600">
              <a:off x="1976040" y="63360"/>
              <a:ext cx="1471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олилиния 8"/>
          <p:cNvGrpSpPr/>
          <p:nvPr/>
        </p:nvGrpSpPr>
        <p:grpSpPr>
          <a:xfrm>
            <a:off x="1139760" y="-244440"/>
            <a:ext cx="2432160" cy="7553160"/>
            <a:chOff x="1139760" y="-244440"/>
            <a:chExt cx="2432160" cy="7553160"/>
          </a:xfrm>
        </p:grpSpPr>
        <p:pic>
          <p:nvPicPr>
            <p:cNvPr id="46" name="Полилиния 8" descr=""/>
            <p:cNvPicPr/>
            <p:nvPr/>
          </p:nvPicPr>
          <p:blipFill>
            <a:blip r:embed="rId3"/>
            <a:stretch/>
          </p:blipFill>
          <p:spPr>
            <a:xfrm>
              <a:off x="1139760" y="-244440"/>
              <a:ext cx="2432160" cy="755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368360" y="-20520"/>
              <a:ext cx="1763640" cy="68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олилиния 9"/>
          <p:cNvGrpSpPr/>
          <p:nvPr/>
        </p:nvGrpSpPr>
        <p:grpSpPr>
          <a:xfrm>
            <a:off x="1036800" y="-237960"/>
            <a:ext cx="2388960" cy="7699320"/>
            <a:chOff x="1036800" y="-237960"/>
            <a:chExt cx="2388960" cy="7699320"/>
          </a:xfrm>
        </p:grpSpPr>
        <p:pic>
          <p:nvPicPr>
            <p:cNvPr id="49" name="Полилиния 9" descr=""/>
            <p:cNvPicPr/>
            <p:nvPr/>
          </p:nvPicPr>
          <p:blipFill>
            <a:blip r:embed="rId4"/>
            <a:stretch/>
          </p:blipFill>
          <p:spPr>
            <a:xfrm>
              <a:off x="1036800" y="-237960"/>
              <a:ext cx="2388960" cy="769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58920" y="-14400"/>
              <a:ext cx="1727280" cy="703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олилиния 10"/>
          <p:cNvGrpSpPr/>
          <p:nvPr/>
        </p:nvGrpSpPr>
        <p:grpSpPr>
          <a:xfrm>
            <a:off x="-19080" y="-19080"/>
            <a:ext cx="2828880" cy="6913440"/>
            <a:chOff x="-19080" y="-19080"/>
            <a:chExt cx="2828880" cy="6913440"/>
          </a:xfrm>
        </p:grpSpPr>
        <p:pic>
          <p:nvPicPr>
            <p:cNvPr id="52" name="Полилиния 10" descr=""/>
            <p:cNvPicPr/>
            <p:nvPr/>
          </p:nvPicPr>
          <p:blipFill>
            <a:blip r:embed="rId5"/>
            <a:stretch/>
          </p:blipFill>
          <p:spPr>
            <a:xfrm>
              <a:off x="-19080" y="-19080"/>
              <a:ext cx="2828880" cy="69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0"/>
              <a:ext cx="2795760" cy="68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senpolia.info/generic/catalog/all/1266_image.jpg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" descr="http://www.vsecvetki.ru/images/cvetk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WordArt 6"/>
          <p:cNvGrpSpPr/>
          <p:nvPr/>
        </p:nvGrpSpPr>
        <p:grpSpPr>
          <a:xfrm>
            <a:off x="1023840" y="950760"/>
            <a:ext cx="7516800" cy="2213280"/>
            <a:chOff x="1023840" y="950760"/>
            <a:chExt cx="7516800" cy="2213280"/>
          </a:xfrm>
        </p:grpSpPr>
        <p:pic>
          <p:nvPicPr>
            <p:cNvPr id="101" name="WordArt 6" descr=""/>
            <p:cNvPicPr/>
            <p:nvPr/>
          </p:nvPicPr>
          <p:blipFill>
            <a:blip r:embed="rId3"/>
            <a:stretch/>
          </p:blipFill>
          <p:spPr>
            <a:xfrm>
              <a:off x="1023840" y="950760"/>
              <a:ext cx="751680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066680" y="990720"/>
              <a:ext cx="7086600" cy="18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66ff33"/>
                  </a:solidFill>
                  <a:latin typeface="Impact"/>
                </a:rPr>
                <a:t>Царство Раст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агну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 и корн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щ полевой, плаун булавовидный, нефролепи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агну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 и корн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вощ полевой, плаун булавовидный, нефролепи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представлено слоевище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огира, ламинар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72" name="Облако 2"/>
          <p:cNvGrpSpPr/>
          <p:nvPr/>
        </p:nvGrpSpPr>
        <p:grpSpPr>
          <a:xfrm>
            <a:off x="944640" y="268200"/>
            <a:ext cx="7961400" cy="2389320"/>
            <a:chOff x="944640" y="268200"/>
            <a:chExt cx="7961400" cy="2389320"/>
          </a:xfrm>
        </p:grpSpPr>
        <p:pic>
          <p:nvPicPr>
            <p:cNvPr id="173" name="Облако 2" descr=""/>
            <p:cNvPicPr/>
            <p:nvPr/>
          </p:nvPicPr>
          <p:blipFill>
            <a:blip r:embed="rId1"/>
            <a:stretch/>
          </p:blipFill>
          <p:spPr>
            <a:xfrm>
              <a:off x="944640" y="268200"/>
              <a:ext cx="796140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030400" y="603360"/>
              <a:ext cx="4927680" cy="12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Домашнее задание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§ 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666880" y="38088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1828800"/>
            <a:ext cx="36576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КЛЕТ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029200" y="1828800"/>
            <a:ext cx="388620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2057400" y="13716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562720" y="1371600"/>
            <a:ext cx="15238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&amp;KHcy;&amp;lcy;&amp;acy;&amp;mcy;&amp;icy;&amp;dcy;&amp;ocy;&amp;mcy;&amp;ocy;&amp;ncy;&amp;acy;&amp;dcy;&amp;acy; &amp;Bcy;&amp;icy;&amp;ocy;&amp;lcy;&amp;ocy;&amp;gcy;&amp;icy;&amp;yacy;"/>
          <p:cNvPicPr/>
          <p:nvPr/>
        </p:nvPicPr>
        <p:blipFill>
          <a:blip r:embed="rId1"/>
          <a:stretch/>
        </p:blipFill>
        <p:spPr>
          <a:xfrm>
            <a:off x="685800" y="3048120"/>
            <a:ext cx="28576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9" name="Picture 13" descr="Nature Beauty"/>
          <p:cNvPicPr/>
          <p:nvPr/>
        </p:nvPicPr>
        <p:blipFill>
          <a:blip r:embed="rId2"/>
          <a:stretch/>
        </p:blipFill>
        <p:spPr>
          <a:xfrm>
            <a:off x="5562720" y="2971800"/>
            <a:ext cx="2666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2666880" y="380880"/>
            <a:ext cx="37339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1371600"/>
            <a:ext cx="27432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З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019920" y="1371600"/>
            <a:ext cx="28954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 flipH="1">
            <a:off x="2057400" y="9144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5562720" y="914400"/>
            <a:ext cx="15238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&amp;KHcy;&amp;lcy;&amp;acy;&amp;mcy;&amp;icy;&amp;dcy;&amp;ocy;&amp;mcy;&amp;ocy;&amp;ncy;&amp;acy;&amp;dcy;&amp;acy; &amp;Bcy;&amp;icy;&amp;ocy;&amp;lcy;&amp;ocy;&amp;gcy;&amp;icy;&amp;yacy;"/>
          <p:cNvPicPr/>
          <p:nvPr/>
        </p:nvPicPr>
        <p:blipFill>
          <a:blip r:embed="rId1"/>
          <a:stretch/>
        </p:blipFill>
        <p:spPr>
          <a:xfrm>
            <a:off x="304920" y="1905120"/>
            <a:ext cx="2057400" cy="109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Text Box 9"/>
          <p:cNvSpPr/>
          <p:nvPr/>
        </p:nvSpPr>
        <p:spPr>
          <a:xfrm>
            <a:off x="4038480" y="4724280"/>
            <a:ext cx="4953240" cy="198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9f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рг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часть организма, выполняющая в нем определенную функцию и имеющая определенное 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&amp;Lcy;&amp;acy;&amp;mcy;&amp;icy;&amp;ncy;&amp;acy;&amp;rcy;&amp;icy;&amp;yacy; &amp;yacy;&amp;pcy;&amp;ocy;&amp;ncy;&amp;scy;&amp;kcy;&amp;acy;&amp;yacy; - &amp;Zcy;&amp;IEcy;&amp;Lcy;&amp;IEcy;&amp;Ncy;&amp;Acy;&amp;YAcy; &amp;Acy;&amp;Pcy;&amp;Tcy;&amp;IEcy;&amp;Kcy;&amp;Acy; - &amp;Kcy;&amp;acy;&amp;tcy;&amp;acy;&amp;lcy;&amp;ocy;&amp;gcy; &amp;scy;&amp;tcy;&amp;acy;&amp;tcy;&amp;iecy;&amp;jcy; - &amp;Ucy;&amp;Scy;&amp;Acy;&amp;Dcy;&amp;SOFTcy;&amp;Bcy;&amp;Acy;"/>
          <p:cNvPicPr/>
          <p:nvPr/>
        </p:nvPicPr>
        <p:blipFill>
          <a:blip r:embed="rId2"/>
          <a:stretch/>
        </p:blipFill>
        <p:spPr>
          <a:xfrm>
            <a:off x="2438280" y="1905120"/>
            <a:ext cx="1532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12"/>
          <p:cNvSpPr/>
          <p:nvPr/>
        </p:nvSpPr>
        <p:spPr>
          <a:xfrm>
            <a:off x="304920" y="3890880"/>
            <a:ext cx="41907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9f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алло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лое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4" descr="&amp;scy;&amp;pcy;&amp;icy;&amp;rcy;&amp;tcy;&amp;ocy;&amp;vcy;&amp;ocy;&amp;jcy;"/>
          <p:cNvPicPr/>
          <p:nvPr/>
        </p:nvPicPr>
        <p:blipFill>
          <a:blip r:embed="rId3"/>
          <a:stretch/>
        </p:blipFill>
        <p:spPr>
          <a:xfrm>
            <a:off x="5334120" y="2362320"/>
            <a:ext cx="380988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666880" y="38088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762120" y="1828800"/>
            <a:ext cx="36576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6172200" y="1828800"/>
            <a:ext cx="27432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Р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 flipH="1">
            <a:off x="2057400" y="13716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5562720" y="1371600"/>
            <a:ext cx="152388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6320" y="2971800"/>
            <a:ext cx="25905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ОСЕМЕ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2819520" y="2971800"/>
            <a:ext cx="32004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3ee2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b4dc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КРЫТОСЕМЕ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685800" y="2514600"/>
            <a:ext cx="137160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124080" y="2514600"/>
            <a:ext cx="152424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60146038_ffff"/>
          <p:cNvPicPr/>
          <p:nvPr/>
        </p:nvPicPr>
        <p:blipFill>
          <a:blip r:embed="rId1"/>
          <a:stretch/>
        </p:blipFill>
        <p:spPr>
          <a:xfrm>
            <a:off x="76320" y="4002120"/>
            <a:ext cx="2514600" cy="19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14" descr="8033052d66ad1e0c2ef8ce17fb34aeb9_d5df2eea8e1bfca6069e10d7d774c30b"/>
          <p:cNvPicPr/>
          <p:nvPr/>
        </p:nvPicPr>
        <p:blipFill>
          <a:blip r:embed="rId2"/>
          <a:stretch/>
        </p:blipFill>
        <p:spPr>
          <a:xfrm>
            <a:off x="6553080" y="4572000"/>
            <a:ext cx="198144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15" descr="Картинка 4 из 919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590920"/>
            <a:ext cx="2438640" cy="182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6" descr="вишня"/>
          <p:cNvPicPr/>
          <p:nvPr/>
        </p:nvPicPr>
        <p:blipFill>
          <a:blip r:embed="rId5"/>
          <a:stretch/>
        </p:blipFill>
        <p:spPr>
          <a:xfrm>
            <a:off x="3276720" y="3733920"/>
            <a:ext cx="21193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2209680" y="112680"/>
            <a:ext cx="335304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217440" y="1359000"/>
            <a:ext cx="231768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702320" y="912960"/>
            <a:ext cx="335268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3086280" y="1892160"/>
            <a:ext cx="335268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7162920" y="1905120"/>
            <a:ext cx="1752480" cy="5331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Прямоугольник 7" descr=""/>
          <p:cNvPicPr/>
          <p:nvPr/>
        </p:nvPicPr>
        <p:blipFill>
          <a:blip r:embed="rId1"/>
          <a:stretch/>
        </p:blipFill>
        <p:spPr>
          <a:xfrm>
            <a:off x="1060560" y="2816280"/>
            <a:ext cx="622080" cy="31338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9" descr=""/>
          <p:cNvPicPr/>
          <p:nvPr/>
        </p:nvPicPr>
        <p:blipFill>
          <a:blip r:embed="rId2"/>
          <a:stretch/>
        </p:blipFill>
        <p:spPr>
          <a:xfrm>
            <a:off x="212760" y="2798640"/>
            <a:ext cx="622440" cy="3151440"/>
          </a:xfrm>
          <a:prstGeom prst="rect">
            <a:avLst/>
          </a:prstGeom>
          <a:ln w="0">
            <a:noFill/>
          </a:ln>
        </p:spPr>
      </p:pic>
      <p:pic>
        <p:nvPicPr>
          <p:cNvPr id="140" name="Прямоугольник 10" descr=""/>
          <p:cNvPicPr/>
          <p:nvPr/>
        </p:nvPicPr>
        <p:blipFill>
          <a:blip r:embed="rId3"/>
          <a:stretch/>
        </p:blipFill>
        <p:spPr>
          <a:xfrm>
            <a:off x="1908000" y="2840040"/>
            <a:ext cx="622440" cy="3060720"/>
          </a:xfrm>
          <a:prstGeom prst="rect">
            <a:avLst/>
          </a:prstGeom>
          <a:ln w="0">
            <a:noFill/>
          </a:ln>
        </p:spPr>
      </p:pic>
      <p:pic>
        <p:nvPicPr>
          <p:cNvPr id="141" name="Прямоугольник 11" descr=""/>
          <p:cNvPicPr/>
          <p:nvPr/>
        </p:nvPicPr>
        <p:blipFill>
          <a:blip r:embed="rId4"/>
          <a:stretch/>
        </p:blipFill>
        <p:spPr>
          <a:xfrm>
            <a:off x="3078000" y="2968560"/>
            <a:ext cx="622440" cy="29448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2" descr=""/>
          <p:cNvPicPr/>
          <p:nvPr/>
        </p:nvPicPr>
        <p:blipFill>
          <a:blip r:embed="rId5"/>
          <a:stretch/>
        </p:blipFill>
        <p:spPr>
          <a:xfrm>
            <a:off x="4071960" y="2975040"/>
            <a:ext cx="622440" cy="2925720"/>
          </a:xfrm>
          <a:prstGeom prst="rect">
            <a:avLst/>
          </a:prstGeom>
          <a:ln w="0">
            <a:noFill/>
          </a:ln>
        </p:spPr>
      </p:pic>
      <p:pic>
        <p:nvPicPr>
          <p:cNvPr id="143" name="Прямоугольник 13" descr=""/>
          <p:cNvPicPr/>
          <p:nvPr/>
        </p:nvPicPr>
        <p:blipFill>
          <a:blip r:embed="rId6"/>
          <a:stretch/>
        </p:blipFill>
        <p:spPr>
          <a:xfrm>
            <a:off x="4998960" y="2981160"/>
            <a:ext cx="620640" cy="292608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4" descr=""/>
          <p:cNvPicPr/>
          <p:nvPr/>
        </p:nvPicPr>
        <p:blipFill>
          <a:blip r:embed="rId7"/>
          <a:stretch/>
        </p:blipFill>
        <p:spPr>
          <a:xfrm>
            <a:off x="5924520" y="2981160"/>
            <a:ext cx="622440" cy="29260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15" descr=""/>
          <p:cNvPicPr/>
          <p:nvPr/>
        </p:nvPicPr>
        <p:blipFill>
          <a:blip r:embed="rId8"/>
          <a:stretch/>
        </p:blipFill>
        <p:spPr>
          <a:xfrm>
            <a:off x="8321760" y="2938320"/>
            <a:ext cx="620640" cy="299268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6" descr=""/>
          <p:cNvPicPr/>
          <p:nvPr/>
        </p:nvPicPr>
        <p:blipFill>
          <a:blip r:embed="rId9"/>
          <a:stretch/>
        </p:blipFill>
        <p:spPr>
          <a:xfrm>
            <a:off x="7156440" y="2968560"/>
            <a:ext cx="622440" cy="2938680"/>
          </a:xfrm>
          <a:prstGeom prst="rect">
            <a:avLst/>
          </a:prstGeom>
          <a:ln w="0">
            <a:noFill/>
          </a:ln>
        </p:spPr>
      </p:pic>
      <p:cxnSp>
        <p:nvCxnSpPr>
          <p:cNvPr id="147" name="Прямая со стрелкой 18"/>
          <p:cNvCxnSpPr>
            <a:endCxn id="134" idx="0"/>
          </p:cNvCxnSpPr>
          <p:nvPr/>
        </p:nvCxnSpPr>
        <p:spPr>
          <a:xfrm flipH="1">
            <a:off x="1375560" y="646200"/>
            <a:ext cx="1824840" cy="713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Прямая со стрелкой 20"/>
          <p:cNvCxnSpPr>
            <a:endCxn id="135" idx="0"/>
          </p:cNvCxnSpPr>
          <p:nvPr/>
        </p:nvCxnSpPr>
        <p:spPr>
          <a:xfrm>
            <a:off x="4495680" y="645840"/>
            <a:ext cx="1883520" cy="267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Прямая со стрелкой 22"/>
          <p:cNvCxnSpPr>
            <a:endCxn id="136" idx="0"/>
          </p:cNvCxnSpPr>
          <p:nvPr/>
        </p:nvCxnSpPr>
        <p:spPr>
          <a:xfrm flipH="1">
            <a:off x="4761720" y="1445760"/>
            <a:ext cx="801000" cy="446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Прямая со стрелкой 24"/>
          <p:cNvCxnSpPr>
            <a:endCxn id="137" idx="0"/>
          </p:cNvCxnSpPr>
          <p:nvPr/>
        </p:nvCxnSpPr>
        <p:spPr>
          <a:xfrm>
            <a:off x="7238520" y="1458720"/>
            <a:ext cx="801000" cy="446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Прямая со стрелкой 28"/>
          <p:cNvCxnSpPr/>
          <p:nvPr/>
        </p:nvCxnSpPr>
        <p:spPr>
          <a:xfrm>
            <a:off x="522000" y="1891800"/>
            <a:ext cx="1080" cy="9579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Прямая со стрелкой 30"/>
          <p:cNvCxnSpPr>
            <a:stCxn id="134" idx="2"/>
            <a:endCxn id="138" idx="0"/>
          </p:cNvCxnSpPr>
          <p:nvPr/>
        </p:nvCxnSpPr>
        <p:spPr>
          <a:xfrm flipH="1">
            <a:off x="1370880" y="1892160"/>
            <a:ext cx="5400" cy="9676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Прямая со стрелкой 32"/>
          <p:cNvCxnSpPr>
            <a:endCxn id="140" idx="0"/>
          </p:cNvCxnSpPr>
          <p:nvPr/>
        </p:nvCxnSpPr>
        <p:spPr>
          <a:xfrm>
            <a:off x="2198520" y="1904760"/>
            <a:ext cx="23040" cy="945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Прямая со стрелкой 34"/>
          <p:cNvCxnSpPr>
            <a:endCxn id="141" idx="0"/>
          </p:cNvCxnSpPr>
          <p:nvPr/>
        </p:nvCxnSpPr>
        <p:spPr>
          <a:xfrm>
            <a:off x="3390480" y="2425680"/>
            <a:ext cx="1080" cy="550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Прямая со стрелкой 36"/>
          <p:cNvCxnSpPr>
            <a:endCxn id="142" idx="0"/>
          </p:cNvCxnSpPr>
          <p:nvPr/>
        </p:nvCxnSpPr>
        <p:spPr>
          <a:xfrm>
            <a:off x="4384440" y="2438280"/>
            <a:ext cx="1080" cy="540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Прямая со стрелкой 38"/>
          <p:cNvCxnSpPr>
            <a:endCxn id="143" idx="0"/>
          </p:cNvCxnSpPr>
          <p:nvPr/>
        </p:nvCxnSpPr>
        <p:spPr>
          <a:xfrm>
            <a:off x="5310000" y="2437920"/>
            <a:ext cx="1080" cy="54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Прямая со стрелкой 40"/>
          <p:cNvCxnSpPr>
            <a:endCxn id="144" idx="0"/>
          </p:cNvCxnSpPr>
          <p:nvPr/>
        </p:nvCxnSpPr>
        <p:spPr>
          <a:xfrm>
            <a:off x="6237000" y="2425680"/>
            <a:ext cx="1080" cy="559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Прямая со стрелкой 42"/>
          <p:cNvCxnSpPr>
            <a:endCxn id="146" idx="0"/>
          </p:cNvCxnSpPr>
          <p:nvPr/>
        </p:nvCxnSpPr>
        <p:spPr>
          <a:xfrm>
            <a:off x="7467120" y="2438280"/>
            <a:ext cx="108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Прямая со стрелкой 44"/>
          <p:cNvCxnSpPr>
            <a:endCxn id="145" idx="0"/>
          </p:cNvCxnSpPr>
          <p:nvPr/>
        </p:nvCxnSpPr>
        <p:spPr>
          <a:xfrm>
            <a:off x="8631000" y="2438280"/>
            <a:ext cx="1080" cy="534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арство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280" y="685800"/>
          <a:ext cx="8839440" cy="6067440"/>
        </p:xfrm>
        <a:graphic>
          <a:graphicData uri="http://schemas.openxmlformats.org/drawingml/2006/table">
            <a:tbl>
              <a:tblPr/>
              <a:tblGrid>
                <a:gridCol w="2248200"/>
                <a:gridCol w="3644640"/>
                <a:gridCol w="2946600"/>
              </a:tblGrid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ков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о состоит из двух частей – корня и побега. Цветут хотя бы раз в жизни. Образуют плоды с семен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шеница, картофель, яблон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5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семенны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Семена не защищены плодовыми оболочками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на, ель, лиственни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х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цветут. Размножаются спорами. Есть побег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агнум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поротники, хвощи и плаун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оросл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Неизвестная</cp:lastModifiedBy>
  <dcterms:modified xsi:type="dcterms:W3CDTF">2017-01-30T15:29:0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