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AFD0-21D4-4DEB-9B6C-1AF3046BA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арстве растений сосуществуют высшие и низшие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нимательно рассмотреть водоросль (например такую, как фукус) то мы не найдем у нее ни корней, ни стебля, ни листьев. Растение, имеющее такое строение, называется низш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у высших растений разделено на органы, а у низших растений –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3695-9EAB-4037-A396-0B12F9D81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B3E-A4E2-484B-A461-D83B2B65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B8F-1384-49E3-B7CE-FAEC56E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3E8-6393-478F-9174-D582C9EC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E4F-16CD-417A-A7EB-019555C9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31B-EEC1-41AB-BA97-E40376E3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8BA-BA39-4842-B3C7-C0DAF33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167-2A4A-47CF-A980-1D939FA8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221-141A-4AA2-AFA8-0F02F92D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01B-A622-41A4-AAD0-D0DA646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335-8110-4E55-8FF6-69DF8E7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EE7-46C8-4636-B9D4-179E294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50E-1323-4344-A2B8-85444D1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6E4A-CFD3-422C-B6EA-3D75A9184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 rot="167400">
            <a:off x="2698920" y="-42840"/>
            <a:ext cx="842760" cy="6869160"/>
          </a:xfrm>
          <a:custGeom>
            <a:avLst/>
            <a:gdLst/>
            <a:ahLst/>
            <a:rect l="l" t="t" r="r" b="b"/>
            <a:pathLst>
              <a:path w="842113" h="6868632">
                <a:moveTo>
                  <a:pt x="765545" y="0"/>
                </a:moveTo>
                <a:cubicBezTo>
                  <a:pt x="441252" y="464289"/>
                  <a:pt x="-262269" y="714154"/>
                  <a:pt x="531628" y="3274828"/>
                </a:cubicBezTo>
                <a:cubicBezTo>
                  <a:pt x="1463748" y="6090683"/>
                  <a:pt x="0" y="6868632"/>
                  <a:pt x="0" y="6868632"/>
                </a:cubicBezTo>
                <a:lnTo>
                  <a:pt x="0" y="6868632"/>
                </a:lnTo>
              </a:path>
            </a:pathLst>
          </a:custGeom>
          <a:noFill/>
          <a:ln w="38160">
            <a:solidFill>
              <a:srgbClr val="7f7f7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Полилиния 7"/>
          <p:cNvGrpSpPr/>
          <p:nvPr/>
        </p:nvGrpSpPr>
        <p:grpSpPr>
          <a:xfrm>
            <a:off x="1773360" y="-139680"/>
            <a:ext cx="2012760" cy="7491240"/>
            <a:chOff x="1773360" y="-139680"/>
            <a:chExt cx="2012760" cy="7491240"/>
          </a:xfrm>
        </p:grpSpPr>
        <p:pic>
          <p:nvPicPr>
            <p:cNvPr id="43" name="Полилиния 7" descr=""/>
            <p:cNvPicPr/>
            <p:nvPr/>
          </p:nvPicPr>
          <p:blipFill>
            <a:blip r:embed="rId2"/>
            <a:stretch/>
          </p:blipFill>
          <p:spPr>
            <a:xfrm>
              <a:off x="1773360" y="-139680"/>
              <a:ext cx="2012760" cy="74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89600">
              <a:off x="1976040" y="63360"/>
              <a:ext cx="1471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олилиния 8"/>
          <p:cNvGrpSpPr/>
          <p:nvPr/>
        </p:nvGrpSpPr>
        <p:grpSpPr>
          <a:xfrm>
            <a:off x="1139760" y="-244440"/>
            <a:ext cx="2432160" cy="7553160"/>
            <a:chOff x="1139760" y="-244440"/>
            <a:chExt cx="2432160" cy="7553160"/>
          </a:xfrm>
        </p:grpSpPr>
        <p:pic>
          <p:nvPicPr>
            <p:cNvPr id="46" name="Полилиния 8" descr=""/>
            <p:cNvPicPr/>
            <p:nvPr/>
          </p:nvPicPr>
          <p:blipFill>
            <a:blip r:embed="rId3"/>
            <a:stretch/>
          </p:blipFill>
          <p:spPr>
            <a:xfrm>
              <a:off x="1139760" y="-244440"/>
              <a:ext cx="2432160" cy="75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68360" y="-20520"/>
              <a:ext cx="1763640" cy="68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олилиния 9"/>
          <p:cNvGrpSpPr/>
          <p:nvPr/>
        </p:nvGrpSpPr>
        <p:grpSpPr>
          <a:xfrm>
            <a:off x="1036800" y="-237960"/>
            <a:ext cx="2388960" cy="7699320"/>
            <a:chOff x="1036800" y="-237960"/>
            <a:chExt cx="2388960" cy="7699320"/>
          </a:xfrm>
        </p:grpSpPr>
        <p:pic>
          <p:nvPicPr>
            <p:cNvPr id="49" name="Полилиния 9" descr=""/>
            <p:cNvPicPr/>
            <p:nvPr/>
          </p:nvPicPr>
          <p:blipFill>
            <a:blip r:embed="rId4"/>
            <a:stretch/>
          </p:blipFill>
          <p:spPr>
            <a:xfrm>
              <a:off x="1036800" y="-237960"/>
              <a:ext cx="2388960" cy="76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58920" y="-14400"/>
              <a:ext cx="1727280" cy="70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олилиния 10"/>
          <p:cNvGrpSpPr/>
          <p:nvPr/>
        </p:nvGrpSpPr>
        <p:grpSpPr>
          <a:xfrm>
            <a:off x="-19080" y="-19080"/>
            <a:ext cx="2828880" cy="6913440"/>
            <a:chOff x="-19080" y="-19080"/>
            <a:chExt cx="2828880" cy="6913440"/>
          </a:xfrm>
        </p:grpSpPr>
        <p:pic>
          <p:nvPicPr>
            <p:cNvPr id="52" name="Полилиния 10" descr=""/>
            <p:cNvPicPr/>
            <p:nvPr/>
          </p:nvPicPr>
          <p:blipFill>
            <a:blip r:embed="rId5"/>
            <a:stretch/>
          </p:blipFill>
          <p:spPr>
            <a:xfrm>
              <a:off x="-19080" y="-19080"/>
              <a:ext cx="2828880" cy="69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279576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senpolia.info/generic/catalog/all/1266_image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http://www.vsecvetki.ru/images/cvetk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WordArt 6"/>
          <p:cNvGrpSpPr/>
          <p:nvPr/>
        </p:nvGrpSpPr>
        <p:grpSpPr>
          <a:xfrm>
            <a:off x="1023840" y="950760"/>
            <a:ext cx="7516800" cy="2213280"/>
            <a:chOff x="1023840" y="950760"/>
            <a:chExt cx="7516800" cy="2213280"/>
          </a:xfrm>
        </p:grpSpPr>
        <p:pic>
          <p:nvPicPr>
            <p:cNvPr id="101" name="WordArt 6" descr=""/>
            <p:cNvPicPr/>
            <p:nvPr/>
          </p:nvPicPr>
          <p:blipFill>
            <a:blip r:embed="rId3"/>
            <a:stretch/>
          </p:blipFill>
          <p:spPr>
            <a:xfrm>
              <a:off x="1023840" y="950760"/>
              <a:ext cx="751680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066680" y="990720"/>
              <a:ext cx="708660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66ff33"/>
                  </a:solidFill>
                  <a:latin typeface="Impact"/>
                </a:rPr>
                <a:t>Царство Раст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 и корн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щ полевой, плаун булавовидный, нефролепи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 и корн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щ полевой, плаун булавовидный, нефролепи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представлено слоевище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огира, ламинар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72" name="Облако 2"/>
          <p:cNvGrpSpPr/>
          <p:nvPr/>
        </p:nvGrpSpPr>
        <p:grpSpPr>
          <a:xfrm>
            <a:off x="944640" y="268200"/>
            <a:ext cx="7961400" cy="2389320"/>
            <a:chOff x="944640" y="268200"/>
            <a:chExt cx="7961400" cy="2389320"/>
          </a:xfrm>
        </p:grpSpPr>
        <p:pic>
          <p:nvPicPr>
            <p:cNvPr id="173" name="Облако 2" descr=""/>
            <p:cNvPicPr/>
            <p:nvPr/>
          </p:nvPicPr>
          <p:blipFill>
            <a:blip r:embed="rId1"/>
            <a:stretch/>
          </p:blipFill>
          <p:spPr>
            <a:xfrm>
              <a:off x="944640" y="268200"/>
              <a:ext cx="79614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030400" y="603360"/>
              <a:ext cx="49276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омашнее задани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§ 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666880" y="38088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1828800"/>
            <a:ext cx="36576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029200" y="1828800"/>
            <a:ext cx="38862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2057400" y="1371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562720" y="13716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&amp;KHcy;&amp;lcy;&amp;acy;&amp;mcy;&amp;icy;&amp;dcy;&amp;ocy;&amp;mcy;&amp;ocy;&amp;ncy;&amp;acy;&amp;dcy;&amp;acy; &amp;Bcy;&amp;icy;&amp;ocy;&amp;lcy;&amp;ocy;&amp;gcy;&amp;icy;&amp;yacy;"/>
          <p:cNvPicPr/>
          <p:nvPr/>
        </p:nvPicPr>
        <p:blipFill>
          <a:blip r:embed="rId1"/>
          <a:stretch/>
        </p:blipFill>
        <p:spPr>
          <a:xfrm>
            <a:off x="685800" y="3048120"/>
            <a:ext cx="28576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3" descr="Nature Beauty"/>
          <p:cNvPicPr/>
          <p:nvPr/>
        </p:nvPicPr>
        <p:blipFill>
          <a:blip r:embed="rId2"/>
          <a:stretch/>
        </p:blipFill>
        <p:spPr>
          <a:xfrm>
            <a:off x="5562720" y="29718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666880" y="380880"/>
            <a:ext cx="37339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371600"/>
            <a:ext cx="27432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З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19920" y="1371600"/>
            <a:ext cx="28954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2057400" y="9144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562720" y="9144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&amp;KHcy;&amp;lcy;&amp;acy;&amp;mcy;&amp;icy;&amp;dcy;&amp;ocy;&amp;mcy;&amp;ocy;&amp;ncy;&amp;acy;&amp;dcy;&amp;acy; &amp;Bcy;&amp;icy;&amp;ocy;&amp;lcy;&amp;ocy;&amp;gcy;&amp;icy;&amp;yacy;"/>
          <p:cNvPicPr/>
          <p:nvPr/>
        </p:nvPicPr>
        <p:blipFill>
          <a:blip r:embed="rId1"/>
          <a:stretch/>
        </p:blipFill>
        <p:spPr>
          <a:xfrm>
            <a:off x="304920" y="1905120"/>
            <a:ext cx="205740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Text Box 9"/>
          <p:cNvSpPr/>
          <p:nvPr/>
        </p:nvSpPr>
        <p:spPr>
          <a:xfrm>
            <a:off x="4038480" y="4724280"/>
            <a:ext cx="4953240" cy="198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9f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часть организма, выполняющая в нем определенную функцию и имеющая определен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&amp;Lcy;&amp;acy;&amp;mcy;&amp;icy;&amp;ncy;&amp;acy;&amp;rcy;&amp;icy;&amp;yacy; &amp;yacy;&amp;pcy;&amp;ocy;&amp;ncy;&amp;scy;&amp;kcy;&amp;acy;&amp;yacy; - &amp;Zcy;&amp;IEcy;&amp;Lcy;&amp;IEcy;&amp;Ncy;&amp;Acy;&amp;YAcy; &amp;Acy;&amp;Pcy;&amp;Tcy;&amp;IEcy;&amp;Kcy;&amp;Acy; - &amp;Kcy;&amp;acy;&amp;tcy;&amp;acy;&amp;lcy;&amp;ocy;&amp;gcy; &amp;scy;&amp;tcy;&amp;acy;&amp;tcy;&amp;iecy;&amp;jcy; - &amp;Ucy;&amp;Scy;&amp;Acy;&amp;Dcy;&amp;SOFTcy;&amp;Bcy;&amp;Acy;"/>
          <p:cNvPicPr/>
          <p:nvPr/>
        </p:nvPicPr>
        <p:blipFill>
          <a:blip r:embed="rId2"/>
          <a:stretch/>
        </p:blipFill>
        <p:spPr>
          <a:xfrm>
            <a:off x="2438280" y="1905120"/>
            <a:ext cx="1532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12"/>
          <p:cNvSpPr/>
          <p:nvPr/>
        </p:nvSpPr>
        <p:spPr>
          <a:xfrm>
            <a:off x="304920" y="3890880"/>
            <a:ext cx="41907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9f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лло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е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&amp;scy;&amp;pcy;&amp;icy;&amp;rcy;&amp;tcy;&amp;ocy;&amp;vcy;&amp;ocy;&amp;jcy;"/>
          <p:cNvPicPr/>
          <p:nvPr/>
        </p:nvPicPr>
        <p:blipFill>
          <a:blip r:embed="rId3"/>
          <a:stretch/>
        </p:blipFill>
        <p:spPr>
          <a:xfrm>
            <a:off x="5334120" y="2362320"/>
            <a:ext cx="380988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666880" y="38088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62120" y="1828800"/>
            <a:ext cx="36576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72200" y="1828800"/>
            <a:ext cx="27432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057400" y="1371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562720" y="13716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6320" y="2971800"/>
            <a:ext cx="25905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СЕМЕ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819520" y="2971800"/>
            <a:ext cx="32004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685800" y="2514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124080" y="2514600"/>
            <a:ext cx="152424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60146038_ffff"/>
          <p:cNvPicPr/>
          <p:nvPr/>
        </p:nvPicPr>
        <p:blipFill>
          <a:blip r:embed="rId1"/>
          <a:stretch/>
        </p:blipFill>
        <p:spPr>
          <a:xfrm>
            <a:off x="76320" y="4002120"/>
            <a:ext cx="251460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4" descr="8033052d66ad1e0c2ef8ce17fb34aeb9_d5df2eea8e1bfca6069e10d7d774c30b"/>
          <p:cNvPicPr/>
          <p:nvPr/>
        </p:nvPicPr>
        <p:blipFill>
          <a:blip r:embed="rId2"/>
          <a:stretch/>
        </p:blipFill>
        <p:spPr>
          <a:xfrm>
            <a:off x="6553080" y="4572000"/>
            <a:ext cx="19814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15" descr="Картинка 4 из 91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590920"/>
            <a:ext cx="2438640" cy="18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6" descr="вишня"/>
          <p:cNvPicPr/>
          <p:nvPr/>
        </p:nvPicPr>
        <p:blipFill>
          <a:blip r:embed="rId5"/>
          <a:stretch/>
        </p:blipFill>
        <p:spPr>
          <a:xfrm>
            <a:off x="3276720" y="3733920"/>
            <a:ext cx="21193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09680" y="112680"/>
            <a:ext cx="335304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17440" y="1359000"/>
            <a:ext cx="23176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702320" y="912960"/>
            <a:ext cx="33526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3086280" y="1892160"/>
            <a:ext cx="335268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7162920" y="1905120"/>
            <a:ext cx="17524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7" descr=""/>
          <p:cNvPicPr/>
          <p:nvPr/>
        </p:nvPicPr>
        <p:blipFill>
          <a:blip r:embed="rId1"/>
          <a:stretch/>
        </p:blipFill>
        <p:spPr>
          <a:xfrm>
            <a:off x="1060560" y="2816280"/>
            <a:ext cx="62208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9" descr=""/>
          <p:cNvPicPr/>
          <p:nvPr/>
        </p:nvPicPr>
        <p:blipFill>
          <a:blip r:embed="rId2"/>
          <a:stretch/>
        </p:blipFill>
        <p:spPr>
          <a:xfrm>
            <a:off x="212760" y="2798640"/>
            <a:ext cx="622440" cy="31514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0" descr=""/>
          <p:cNvPicPr/>
          <p:nvPr/>
        </p:nvPicPr>
        <p:blipFill>
          <a:blip r:embed="rId3"/>
          <a:stretch/>
        </p:blipFill>
        <p:spPr>
          <a:xfrm>
            <a:off x="1908000" y="2840040"/>
            <a:ext cx="622440" cy="3060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1" descr=""/>
          <p:cNvPicPr/>
          <p:nvPr/>
        </p:nvPicPr>
        <p:blipFill>
          <a:blip r:embed="rId4"/>
          <a:stretch/>
        </p:blipFill>
        <p:spPr>
          <a:xfrm>
            <a:off x="3078000" y="2968560"/>
            <a:ext cx="622440" cy="2944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2" descr=""/>
          <p:cNvPicPr/>
          <p:nvPr/>
        </p:nvPicPr>
        <p:blipFill>
          <a:blip r:embed="rId5"/>
          <a:stretch/>
        </p:blipFill>
        <p:spPr>
          <a:xfrm>
            <a:off x="4071960" y="2975040"/>
            <a:ext cx="622440" cy="292572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3" descr=""/>
          <p:cNvPicPr/>
          <p:nvPr/>
        </p:nvPicPr>
        <p:blipFill>
          <a:blip r:embed="rId6"/>
          <a:stretch/>
        </p:blipFill>
        <p:spPr>
          <a:xfrm>
            <a:off x="4998960" y="2981160"/>
            <a:ext cx="620640" cy="29260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4" descr=""/>
          <p:cNvPicPr/>
          <p:nvPr/>
        </p:nvPicPr>
        <p:blipFill>
          <a:blip r:embed="rId7"/>
          <a:stretch/>
        </p:blipFill>
        <p:spPr>
          <a:xfrm>
            <a:off x="5924520" y="2981160"/>
            <a:ext cx="622440" cy="2926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5" descr=""/>
          <p:cNvPicPr/>
          <p:nvPr/>
        </p:nvPicPr>
        <p:blipFill>
          <a:blip r:embed="rId8"/>
          <a:stretch/>
        </p:blipFill>
        <p:spPr>
          <a:xfrm>
            <a:off x="8321760" y="2938320"/>
            <a:ext cx="620640" cy="29926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6" descr=""/>
          <p:cNvPicPr/>
          <p:nvPr/>
        </p:nvPicPr>
        <p:blipFill>
          <a:blip r:embed="rId9"/>
          <a:stretch/>
        </p:blipFill>
        <p:spPr>
          <a:xfrm>
            <a:off x="7156440" y="2968560"/>
            <a:ext cx="622440" cy="293868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18"/>
          <p:cNvCxnSpPr>
            <a:endCxn id="134" idx="0"/>
          </p:cNvCxnSpPr>
          <p:nvPr/>
        </p:nvCxnSpPr>
        <p:spPr>
          <a:xfrm flipH="1">
            <a:off x="1375560" y="646200"/>
            <a:ext cx="1824840" cy="71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Прямая со стрелкой 20"/>
          <p:cNvCxnSpPr>
            <a:endCxn id="135" idx="0"/>
          </p:cNvCxnSpPr>
          <p:nvPr/>
        </p:nvCxnSpPr>
        <p:spPr>
          <a:xfrm>
            <a:off x="4495680" y="645840"/>
            <a:ext cx="1883520" cy="267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22"/>
          <p:cNvCxnSpPr>
            <a:endCxn id="136" idx="0"/>
          </p:cNvCxnSpPr>
          <p:nvPr/>
        </p:nvCxnSpPr>
        <p:spPr>
          <a:xfrm flipH="1">
            <a:off x="4761720" y="1445760"/>
            <a:ext cx="801000" cy="446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Прямая со стрелкой 24"/>
          <p:cNvCxnSpPr>
            <a:endCxn id="137" idx="0"/>
          </p:cNvCxnSpPr>
          <p:nvPr/>
        </p:nvCxnSpPr>
        <p:spPr>
          <a:xfrm>
            <a:off x="7238520" y="1458720"/>
            <a:ext cx="801000" cy="446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Прямая со стрелкой 28"/>
          <p:cNvCxnSpPr/>
          <p:nvPr/>
        </p:nvCxnSpPr>
        <p:spPr>
          <a:xfrm>
            <a:off x="522000" y="1891800"/>
            <a:ext cx="1080" cy="957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Прямая со стрелкой 30"/>
          <p:cNvCxnSpPr>
            <a:stCxn id="134" idx="2"/>
            <a:endCxn id="138" idx="0"/>
          </p:cNvCxnSpPr>
          <p:nvPr/>
        </p:nvCxnSpPr>
        <p:spPr>
          <a:xfrm flipH="1">
            <a:off x="1370880" y="1892160"/>
            <a:ext cx="5400" cy="967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Прямая со стрелкой 32"/>
          <p:cNvCxnSpPr>
            <a:endCxn id="140" idx="0"/>
          </p:cNvCxnSpPr>
          <p:nvPr/>
        </p:nvCxnSpPr>
        <p:spPr>
          <a:xfrm>
            <a:off x="2198520" y="1904760"/>
            <a:ext cx="23040" cy="945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Прямая со стрелкой 34"/>
          <p:cNvCxnSpPr>
            <a:endCxn id="141" idx="0"/>
          </p:cNvCxnSpPr>
          <p:nvPr/>
        </p:nvCxnSpPr>
        <p:spPr>
          <a:xfrm>
            <a:off x="3390480" y="2425680"/>
            <a:ext cx="1080" cy="55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Прямая со стрелкой 36"/>
          <p:cNvCxnSpPr>
            <a:endCxn id="142" idx="0"/>
          </p:cNvCxnSpPr>
          <p:nvPr/>
        </p:nvCxnSpPr>
        <p:spPr>
          <a:xfrm>
            <a:off x="4384440" y="2438280"/>
            <a:ext cx="1080" cy="540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Прямая со стрелкой 38"/>
          <p:cNvCxnSpPr>
            <a:endCxn id="143" idx="0"/>
          </p:cNvCxnSpPr>
          <p:nvPr/>
        </p:nvCxnSpPr>
        <p:spPr>
          <a:xfrm>
            <a:off x="5310000" y="2437920"/>
            <a:ext cx="1080" cy="54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Прямая со стрелкой 40"/>
          <p:cNvCxnSpPr>
            <a:endCxn id="144" idx="0"/>
          </p:cNvCxnSpPr>
          <p:nvPr/>
        </p:nvCxnSpPr>
        <p:spPr>
          <a:xfrm>
            <a:off x="6237000" y="2425680"/>
            <a:ext cx="1080" cy="55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Прямая со стрелкой 42"/>
          <p:cNvCxnSpPr>
            <a:endCxn id="146" idx="0"/>
          </p:cNvCxnSpPr>
          <p:nvPr/>
        </p:nvCxnSpPr>
        <p:spPr>
          <a:xfrm>
            <a:off x="7467120" y="2438280"/>
            <a:ext cx="108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Прямая со стрелкой 44"/>
          <p:cNvCxnSpPr>
            <a:endCxn id="145" idx="0"/>
          </p:cNvCxnSpPr>
          <p:nvPr/>
        </p:nvCxnSpPr>
        <p:spPr>
          <a:xfrm>
            <a:off x="8631000" y="2438280"/>
            <a:ext cx="108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Неизвестная</cp:lastModifiedBy>
  <dcterms:modified xsi:type="dcterms:W3CDTF">2017-01-30T15:29:0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