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3167-CBC4-4B44-9C4F-943B7966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AA7-171C-4B5C-879D-0956AF3F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479-008C-46C6-B19A-AA0E413F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49A1-0951-46C8-9C23-B28A8229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7EEB-D967-4427-8CB0-9DD23B37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C3D1-A41F-415D-A042-93D0B1B5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C5D2-7E0B-479A-B2CC-EFE5309F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0935-E02B-4EE1-82F5-1CB16CCA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708-FD54-4D3A-8E5B-1766928A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1BF8-C0D2-409F-AD8F-8245B708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9212-88B6-46E3-A6AF-F7D241F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BA0-881C-4030-8DD6-891DCCE7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A1EA-6B29-42B0-9F9C-BAD7E603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2133-C26A-4B6B-ADF2-6E23F86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46C-43CA-4750-825C-FEF12F2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CB71-4B3B-4B47-A307-7EF4DCA9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10A3-438A-4C8C-ADD3-1C64D995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F91-16AD-41FC-89E0-94B5B24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C58A-7DC5-4432-BA78-00B6D4DF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4E6-64B6-4F41-AE20-F2909422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5D3-3197-4424-9499-91209D91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148-21A6-4E12-85A9-BF46065D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2EB-ED2C-4693-AFBC-82573D5C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921-2366-43A5-BD8E-C80F7F01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AFDC-977E-4779-9E71-23E58A241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1A24-1502-442A-A226-99649A8FAA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Diagram 23"/>
          <p:cNvGrpSpPr/>
          <p:nvPr/>
        </p:nvGrpSpPr>
        <p:grpSpPr>
          <a:xfrm>
            <a:off x="324000" y="0"/>
            <a:ext cx="8596080" cy="6858000"/>
            <a:chOff x="324000" y="0"/>
            <a:chExt cx="8596080" cy="6858000"/>
          </a:xfrm>
        </p:grpSpPr>
        <p:sp>
          <p:nvSpPr>
            <p:cNvPr id="84" name="_s1028"/>
            <p:cNvSpPr/>
            <p:nvPr/>
          </p:nvSpPr>
          <p:spPr>
            <a:xfrm flipH="1" flipV="1">
              <a:off x="2554920" y="2492280"/>
              <a:ext cx="1439640" cy="6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H="1">
              <a:off x="3058920" y="3573720"/>
              <a:ext cx="986760" cy="79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>
              <a:off x="684000" y="3715920"/>
              <a:ext cx="2476080" cy="23382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2"/>
            <p:cNvSpPr/>
            <p:nvPr/>
          </p:nvSpPr>
          <p:spPr>
            <a:xfrm>
              <a:off x="4716360" y="4005720"/>
              <a:ext cx="720" cy="88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3"/>
            <p:cNvSpPr/>
            <p:nvPr/>
          </p:nvSpPr>
          <p:spPr>
            <a:xfrm>
              <a:off x="3419640" y="4754160"/>
              <a:ext cx="2457360" cy="2103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34"/>
            <p:cNvSpPr/>
            <p:nvPr/>
          </p:nvSpPr>
          <p:spPr>
            <a:xfrm>
              <a:off x="5579640" y="3860280"/>
              <a:ext cx="803160" cy="43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35"/>
            <p:cNvSpPr/>
            <p:nvPr/>
          </p:nvSpPr>
          <p:spPr>
            <a:xfrm>
              <a:off x="6156360" y="3789360"/>
              <a:ext cx="2476080" cy="233676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36"/>
            <p:cNvSpPr/>
            <p:nvPr/>
          </p:nvSpPr>
          <p:spPr>
            <a:xfrm flipV="1">
              <a:off x="5508720" y="2636640"/>
              <a:ext cx="1079640" cy="56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37"/>
            <p:cNvSpPr/>
            <p:nvPr/>
          </p:nvSpPr>
          <p:spPr>
            <a:xfrm>
              <a:off x="6444000" y="908280"/>
              <a:ext cx="2476080" cy="23889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8"/>
            <p:cNvSpPr/>
            <p:nvPr/>
          </p:nvSpPr>
          <p:spPr>
            <a:xfrm flipV="1">
              <a:off x="4716360" y="1341000"/>
              <a:ext cx="1440" cy="115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9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40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7"/>
            <p:cNvSpPr/>
            <p:nvPr/>
          </p:nvSpPr>
          <p:spPr>
            <a:xfrm>
              <a:off x="6444000" y="90828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6600"/>
                </a:gs>
              </a:gsLst>
              <a:lin ang="13500000"/>
            </a:gra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8"/>
            <p:cNvSpPr/>
            <p:nvPr/>
          </p:nvSpPr>
          <p:spPr>
            <a:xfrm>
              <a:off x="6156360" y="371592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ccff"/>
                </a:gs>
              </a:gsLst>
              <a:lin ang="13500000"/>
            </a:gra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9"/>
            <p:cNvSpPr/>
            <p:nvPr/>
          </p:nvSpPr>
          <p:spPr>
            <a:xfrm>
              <a:off x="684000" y="3644640"/>
              <a:ext cx="2463480" cy="241488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00cc00"/>
                </a:gs>
              </a:gsLst>
              <a:lin ang="13500000"/>
            </a:gradFill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0"/>
            <p:cNvSpPr/>
            <p:nvPr/>
          </p:nvSpPr>
          <p:spPr>
            <a:xfrm>
              <a:off x="2916360" y="0"/>
              <a:ext cx="3600000" cy="213372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1"/>
            <p:cNvSpPr/>
            <p:nvPr/>
          </p:nvSpPr>
          <p:spPr>
            <a:xfrm>
              <a:off x="3202920" y="4724280"/>
              <a:ext cx="2881080" cy="213372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ff0000"/>
                </a:gs>
              </a:gsLst>
              <a:lin ang="13500000"/>
            </a:gra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2"/>
            <p:cNvSpPr/>
            <p:nvPr/>
          </p:nvSpPr>
          <p:spPr>
            <a:xfrm>
              <a:off x="324000" y="765000"/>
              <a:ext cx="2463480" cy="24145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9966ff"/>
                </a:gs>
              </a:gsLst>
              <a:lin ang="13500000"/>
            </a:gra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3202920" y="2275920"/>
              <a:ext cx="3024360" cy="230580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ffff00"/>
                </a:gs>
              </a:gsLst>
              <a:lin ang="13500000"/>
            </a:gra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WordArt 39"/>
          <p:cNvSpPr txBox="1"/>
          <p:nvPr/>
        </p:nvSpPr>
        <p:spPr>
          <a:xfrm>
            <a:off x="3635280" y="3284640"/>
            <a:ext cx="2160720" cy="93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Основоположник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н а ц и о н а л ь н о й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cap="rnd" w="324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м  у  з  ы  к  и</a:t>
            </a:r>
            <a:endParaRPr b="1" lang="en-US" sz="2000" spc="1" strike="noStrike">
              <a:ln cap="rnd" w="324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41"/>
          <p:cNvSpPr txBox="1"/>
          <p:nvPr/>
        </p:nvSpPr>
        <p:spPr>
          <a:xfrm>
            <a:off x="755640" y="1197000"/>
            <a:ext cx="16462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РУС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6" name="WordArt 49"/>
          <p:cNvSpPr txBox="1"/>
          <p:nvPr/>
        </p:nvSpPr>
        <p:spPr>
          <a:xfrm>
            <a:off x="6732720" y="1413000"/>
            <a:ext cx="1726920" cy="115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ПОЛЬ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7" name="WordArt 50"/>
          <p:cNvSpPr txBox="1"/>
          <p:nvPr/>
        </p:nvSpPr>
        <p:spPr>
          <a:xfrm>
            <a:off x="1042920" y="4005360"/>
            <a:ext cx="1728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ВЕНГЕР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8" name="WordArt 51"/>
          <p:cNvSpPr txBox="1"/>
          <p:nvPr/>
        </p:nvSpPr>
        <p:spPr>
          <a:xfrm>
            <a:off x="6443640" y="4149720"/>
            <a:ext cx="187164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Comic Sans MS"/>
              </a:rPr>
              <a:t>НОРВЕЖ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Comic Sans MS"/>
              <a:ea typeface="Comic Sans MS"/>
            </a:endParaRPr>
          </a:p>
        </p:txBody>
      </p:sp>
      <p:sp>
        <p:nvSpPr>
          <p:cNvPr id="109" name="WordArt 52"/>
          <p:cNvSpPr txBox="1"/>
          <p:nvPr/>
        </p:nvSpPr>
        <p:spPr>
          <a:xfrm>
            <a:off x="3564000" y="5157720"/>
            <a:ext cx="22320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АВСТРИЙСКОЙ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  <p:sp>
        <p:nvSpPr>
          <p:cNvPr id="110" name="WordArt 53"/>
          <p:cNvSpPr txBox="1"/>
          <p:nvPr/>
        </p:nvSpPr>
        <p:spPr>
          <a:xfrm>
            <a:off x="3276720" y="1125360"/>
            <a:ext cx="280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ИНСКОЙ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54"/>
          <p:cNvSpPr txBox="1"/>
          <p:nvPr/>
        </p:nvSpPr>
        <p:spPr>
          <a:xfrm>
            <a:off x="755640" y="1628640"/>
            <a:ext cx="172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.И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Глинка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WordArt 55"/>
          <p:cNvSpPr txBox="1"/>
          <p:nvPr/>
        </p:nvSpPr>
        <p:spPr>
          <a:xfrm>
            <a:off x="971640" y="4869000"/>
            <a:ext cx="20160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Лис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WordArt 56"/>
          <p:cNvSpPr txBox="1"/>
          <p:nvPr/>
        </p:nvSpPr>
        <p:spPr>
          <a:xfrm>
            <a:off x="6659640" y="2205000"/>
            <a:ext cx="194472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Ф. Шопен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WordArt 57"/>
          <p:cNvSpPr txBox="1"/>
          <p:nvPr/>
        </p:nvSpPr>
        <p:spPr>
          <a:xfrm>
            <a:off x="6443640" y="5084640"/>
            <a:ext cx="194472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Э. Григ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WordArt 58"/>
          <p:cNvSpPr txBox="1"/>
          <p:nvPr/>
        </p:nvSpPr>
        <p:spPr>
          <a:xfrm>
            <a:off x="3780000" y="5373720"/>
            <a:ext cx="1871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В.А.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Моцарт</a:t>
            </a:r>
            <a:endParaRPr b="1" lang="en-US" sz="18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6" name="WordArt 59"/>
          <p:cNvSpPr txBox="1"/>
          <p:nvPr/>
        </p:nvSpPr>
        <p:spPr>
          <a:xfrm>
            <a:off x="3203640" y="404640"/>
            <a:ext cx="290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omic Sans MS"/>
              </a:rPr>
              <a:t>Ян Сибелиус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2900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Book Antiqua"/>
              </a:rPr>
              <a:t>форма музыкального искусства, возникшая  в  Америке на основе негритянских пес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4071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428840" y="200016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Джаз – это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2900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народная песня американских негров с грустным, печальным отте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4071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7"/>
          <p:cNvSpPr/>
          <p:nvPr/>
        </p:nvSpPr>
        <p:spPr>
          <a:xfrm>
            <a:off x="1428840" y="2000160"/>
            <a:ext cx="564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Блюз  – это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2900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57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ook Antiqua"/>
              </a:rPr>
              <a:t>крупное одночастное произведение в свободной форме на основе народных мелод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7196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1071720" y="21430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i="1" lang="ru-RU" sz="6000" spc="-1" strike="noStrike">
                <a:solidFill>
                  <a:srgbClr val="000000"/>
                </a:solidFill>
                <a:latin typeface="Book Antiqua"/>
              </a:rPr>
              <a:t>Рапсодия – это…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usic06"/>
          <p:cNvPicPr/>
          <p:nvPr/>
        </p:nvPicPr>
        <p:blipFill>
          <a:blip r:embed="rId1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music06"/>
          <p:cNvPicPr/>
          <p:nvPr/>
        </p:nvPicPr>
        <p:blipFill>
          <a:blip r:embed="rId2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3840" y="3860640"/>
            <a:ext cx="8643960" cy="25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6000" spc="-1" strike="noStrike" u="sng">
                <a:solidFill>
                  <a:srgbClr val="000000"/>
                </a:solidFill>
                <a:uFillTx/>
                <a:latin typeface="Arial"/>
              </a:rPr>
              <a:t>Rhapsody in Blue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1" lang="ru-RU" sz="6000" spc="-1" strike="noStrike">
                <a:solidFill>
                  <a:srgbClr val="820000"/>
                </a:solidFill>
                <a:latin typeface="Book Antiqua"/>
              </a:rPr>
              <a:t>Рапсодия в стиле блю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Rhapsody_in_Blue_cover"/>
          <p:cNvPicPr/>
          <p:nvPr/>
        </p:nvPicPr>
        <p:blipFill>
          <a:blip r:embed="rId5"/>
          <a:stretch/>
        </p:blipFill>
        <p:spPr>
          <a:xfrm>
            <a:off x="3143160" y="0"/>
            <a:ext cx="2425680" cy="3236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hapsody_in_blue_45_i"/>
          <p:cNvPicPr/>
          <p:nvPr/>
        </p:nvPicPr>
        <p:blipFill>
          <a:blip r:embed="rId6"/>
          <a:stretch/>
        </p:blipFill>
        <p:spPr>
          <a:xfrm>
            <a:off x="0" y="0"/>
            <a:ext cx="2360520" cy="359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RhapsodyBlue1"/>
          <p:cNvPicPr/>
          <p:nvPr/>
        </p:nvPicPr>
        <p:blipFill>
          <a:blip r:embed="rId7"/>
          <a:stretch/>
        </p:blipFill>
        <p:spPr>
          <a:xfrm>
            <a:off x="6837480" y="0"/>
            <a:ext cx="2306520" cy="359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3"/>
          <p:cNvSpPr/>
          <p:nvPr/>
        </p:nvSpPr>
        <p:spPr>
          <a:xfrm>
            <a:off x="500040" y="1500120"/>
            <a:ext cx="3786120" cy="35006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псо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имфоническая музы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4714920" y="1500120"/>
            <a:ext cx="3786120" cy="3500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9"/>
          <p:cNvSpPr/>
          <p:nvPr/>
        </p:nvSpPr>
        <p:spPr>
          <a:xfrm>
            <a:off x="3786120" y="1714680"/>
            <a:ext cx="1571760" cy="30002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мфо     дж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0.08872 0.0051 E">
                                      <p:cBhvr>
                                        <p:cTn id="30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09913 -0.00416 E">
                                      <p:cBhvr>
                                        <p:cTn id="30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09913 -0.00416 E">
                                      <p:cBhvr>
                                        <p:cTn id="305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0809 -0.00532 E">
                                      <p:cBhvr>
                                        <p:cTn id="308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07407E-006 L -0.05868 -0.00416 E">
                                      <p:cBhvr>
                                        <p:cTn id="310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3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Многие композиторы ходили вокруг джаза, как коты вокруг миски с горячим супом, ожидая, пока он немного остынет. Джорджу Гершвину удалось решить проблему. Подобно Принцу из известной сказки, он взял за руку Золушку и провозгласил ее принцессой, невзирая на бешеную злобу ее завистливых сестер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6"/>
          <p:cNvSpPr/>
          <p:nvPr/>
        </p:nvSpPr>
        <p:spPr>
          <a:xfrm>
            <a:off x="179280" y="2852640"/>
            <a:ext cx="3672000" cy="1727280"/>
          </a:xfrm>
          <a:custGeom>
            <a:avLst/>
            <a:gdLst>
              <a:gd name="textAreaLeft" fmla="*/ 0 w 3672000"/>
              <a:gd name="textAreaRight" fmla="*/ 3672360 w 3672000"/>
              <a:gd name="textAreaTop" fmla="*/ 223920 h 1727280"/>
              <a:gd name="textAreaBottom" fmla="*/ 15033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Класс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радиции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5292720" y="2852640"/>
            <a:ext cx="3672000" cy="1727280"/>
          </a:xfrm>
          <a:custGeom>
            <a:avLst/>
            <a:gdLst>
              <a:gd name="textAreaLeft" fmla="*/ 0 w 3672000"/>
              <a:gd name="textAreaRight" fmla="*/ 3672360 w 3672000"/>
              <a:gd name="textAreaTop" fmla="*/ 223920 h 1727280"/>
              <a:gd name="textAreaBottom" fmla="*/ 15033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жаз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традиции музы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8"/>
          <p:cNvSpPr/>
          <p:nvPr/>
        </p:nvSpPr>
        <p:spPr>
          <a:xfrm>
            <a:off x="2050920" y="4941720"/>
            <a:ext cx="5400720" cy="1727280"/>
          </a:xfrm>
          <a:custGeom>
            <a:avLst/>
            <a:gdLst>
              <a:gd name="textAreaLeft" fmla="*/ 0 w 5400720"/>
              <a:gd name="textAreaRight" fmla="*/ 5401080 w 5400720"/>
              <a:gd name="textAreaTop" fmla="*/ 223920 h 1727280"/>
              <a:gd name="textAreaBottom" fmla="*/ 15033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Arial"/>
              </a:rPr>
              <a:t>СИМФОДЖА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9"/>
          <p:cNvSpPr/>
          <p:nvPr/>
        </p:nvSpPr>
        <p:spPr>
          <a:xfrm>
            <a:off x="3851280" y="3068640"/>
            <a:ext cx="1368360" cy="1224000"/>
          </a:xfrm>
          <a:custGeom>
            <a:avLst/>
            <a:gdLst>
              <a:gd name="textAreaLeft" fmla="*/ 563760 w 1368360"/>
              <a:gd name="textAreaRight" fmla="*/ 804600 w 1368360"/>
              <a:gd name="textAreaTop" fmla="*/ 504360 h 1224000"/>
              <a:gd name="textAreaBottom" fmla="*/ 719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a2c774c6eff5b7eccb69185be58e2c31_full[1]"/>
          <p:cNvPicPr/>
          <p:nvPr/>
        </p:nvPicPr>
        <p:blipFill>
          <a:blip r:embed="rId1"/>
          <a:stretch/>
        </p:blipFill>
        <p:spPr>
          <a:xfrm>
            <a:off x="0" y="2060640"/>
            <a:ext cx="3801960" cy="47973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2"/>
          <p:cNvSpPr/>
          <p:nvPr/>
        </p:nvSpPr>
        <p:spPr>
          <a:xfrm>
            <a:off x="0" y="0"/>
            <a:ext cx="9144000" cy="2060640"/>
          </a:xfrm>
          <a:prstGeom prst="wedgeRectCallout">
            <a:avLst>
              <a:gd name="adj1" fmla="val -44393"/>
              <a:gd name="adj2" fmla="val 8428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Джордж  Гершви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Book Antiqua"/>
              </a:rPr>
              <a:t>Оркестровая сюита «Американец в Париже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14200" y="2143080"/>
            <a:ext cx="435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егодня я узн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было интерес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было труд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выполнял задан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оня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теперь я мог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очувствовал,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риобре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науч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у меня получилось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смог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попробую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еня удивил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урок дал мне для жизн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не захоте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2960" y="114300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214200" y="2143080"/>
            <a:ext cx="864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ответьте на 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Сколько лет спустя была создана первая американская опера после создания в России оперы «Иван Сусанин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Как называется первая американская опе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Имя главного героя оп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2852280"/>
            <a:ext cx="8715600" cy="37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Book Antiqua"/>
              </a:rPr>
              <a:t>«… живет музыкой и выражает все чувства - серьезные и несерьезные - музыкой, потому что это его естественный язык…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Book Antiqua"/>
              </a:rPr>
              <a:t>                        Арнольд Шёнберг </a:t>
            </a:r>
            <a:br>
              <a:rPr sz="9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40000" y="1988640"/>
            <a:ext cx="50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3789360"/>
            <a:ext cx="8172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820000"/>
                </a:solidFill>
                <a:latin typeface="Arial"/>
              </a:rPr>
              <a:t>«</a:t>
            </a:r>
            <a:r>
              <a:rPr b="1" lang="ru-RU" sz="6600" spc="-1" strike="noStrike">
                <a:solidFill>
                  <a:srgbClr val="820000"/>
                </a:solidFill>
                <a:latin typeface="Arial"/>
              </a:rPr>
              <a:t>Мой народ – американцы…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68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68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998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08000" y="2852640"/>
            <a:ext cx="54356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20000"/>
                </a:solidFill>
                <a:latin typeface="Book Antiqua"/>
              </a:rPr>
              <a:t>Джордж Гершвин </a:t>
            </a:r>
            <a:br>
              <a:rPr sz="6000"/>
            </a:br>
            <a:r>
              <a:rPr b="1" lang="ru-RU" sz="6000" spc="-1" strike="noStrike">
                <a:solidFill>
                  <a:srgbClr val="820000"/>
                </a:solidFill>
                <a:latin typeface="Book Antiqua"/>
              </a:rPr>
              <a:t>(1898 - 193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1200340697_gershwin[1]"/>
          <p:cNvPicPr/>
          <p:nvPr/>
        </p:nvPicPr>
        <p:blipFill>
          <a:blip r:embed="rId5"/>
          <a:stretch/>
        </p:blipFill>
        <p:spPr>
          <a:xfrm>
            <a:off x="0" y="857160"/>
            <a:ext cx="4111560" cy="5286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820000"/>
                </a:solidFill>
                <a:latin typeface="Arial"/>
              </a:rPr>
              <a:t>ДЖА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jazz"/>
          <p:cNvPicPr/>
          <p:nvPr/>
        </p:nvPicPr>
        <p:blipFill>
          <a:blip r:embed="rId5"/>
          <a:stretch/>
        </p:blipFill>
        <p:spPr>
          <a:xfrm>
            <a:off x="0" y="0"/>
            <a:ext cx="2811600" cy="3959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271235"/>
          <p:cNvPicPr/>
          <p:nvPr/>
        </p:nvPicPr>
        <p:blipFill>
          <a:blip r:embed="rId6"/>
          <a:stretch/>
        </p:blipFill>
        <p:spPr>
          <a:xfrm>
            <a:off x="6132600" y="0"/>
            <a:ext cx="3011400" cy="2879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mp_news_post_img_7543"/>
          <p:cNvPicPr/>
          <p:nvPr/>
        </p:nvPicPr>
        <p:blipFill>
          <a:blip r:embed="rId7"/>
          <a:stretch/>
        </p:blipFill>
        <p:spPr>
          <a:xfrm>
            <a:off x="3059280" y="4429080"/>
            <a:ext cx="323820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998"/>
                            </p:stCondLst>
                            <p:childTnLst>
                              <p:par>
                                <p:cTn id="1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998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998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9"/>
          <p:cNvSpPr/>
          <p:nvPr/>
        </p:nvSpPr>
        <p:spPr>
          <a:xfrm>
            <a:off x="0" y="2781360"/>
            <a:ext cx="3857760" cy="180000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ПИРИЧУЭ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4429080" y="4786200"/>
            <a:ext cx="4105440" cy="180036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5357880" y="2714760"/>
            <a:ext cx="3357360" cy="180000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РЕГТАЙ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2195640" y="0"/>
            <a:ext cx="4876560" cy="208908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Жан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66"/>
                </a:solidFill>
                <a:latin typeface="Arial"/>
              </a:rPr>
              <a:t>джазовой музы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2357280" y="2071800"/>
            <a:ext cx="287640" cy="647640"/>
          </a:xfrm>
          <a:prstGeom prst="downArrow">
            <a:avLst>
              <a:gd name="adj1" fmla="val 50000"/>
              <a:gd name="adj2" fmla="val 56289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6215040" y="207180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flipH="1">
            <a:off x="4572000" y="2071800"/>
            <a:ext cx="285840" cy="2786040"/>
          </a:xfrm>
          <a:prstGeom prst="downArrow">
            <a:avLst>
              <a:gd name="adj1" fmla="val 50000"/>
              <a:gd name="adj2" fmla="val 237895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500040" y="5214960"/>
            <a:ext cx="3500640" cy="12859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ГОСП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2214720" y="457200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8e00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Gospel1"/>
          <p:cNvPicPr/>
          <p:nvPr/>
        </p:nvPicPr>
        <p:blipFill>
          <a:blip r:embed="rId5"/>
          <a:stretch/>
        </p:blipFill>
        <p:spPr>
          <a:xfrm>
            <a:off x="0" y="2421000"/>
            <a:ext cx="4716360" cy="33573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9"/>
          <p:cNvSpPr/>
          <p:nvPr/>
        </p:nvSpPr>
        <p:spPr>
          <a:xfrm>
            <a:off x="2411280" y="0"/>
            <a:ext cx="4537080" cy="2133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ГОСП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751280" y="39301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716360" y="2276640"/>
            <a:ext cx="4427640" cy="446544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20-е годы XX века возникло ещ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дно направление духовной музы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близкое к спиричуэлу. В осн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её были положены тексты 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Евангелия,что и дало названи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госпел (Gospel – Евангел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госпеле уже активно применя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амый разнообра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аккомпанемент: клавишные, дух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ударные. Энергичная, задор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жизнерадостная музыка на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церкв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sp1"/>
          <p:cNvPicPr/>
          <p:nvPr/>
        </p:nvPicPr>
        <p:blipFill>
          <a:blip r:embed="rId5"/>
          <a:stretch/>
        </p:blipFill>
        <p:spPr>
          <a:xfrm>
            <a:off x="539640" y="2492280"/>
            <a:ext cx="3619440" cy="2695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sp2"/>
          <p:cNvPicPr/>
          <p:nvPr/>
        </p:nvPicPr>
        <p:blipFill>
          <a:blip r:embed="rId6"/>
          <a:stretch/>
        </p:blipFill>
        <p:spPr>
          <a:xfrm>
            <a:off x="5076720" y="2492280"/>
            <a:ext cx="3619440" cy="26863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2340000" y="0"/>
            <a:ext cx="4464000" cy="2133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СПИРИЧУЭ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600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1"/>
          <p:cNvSpPr/>
          <p:nvPr/>
        </p:nvSpPr>
        <p:spPr>
          <a:xfrm>
            <a:off x="0" y="5445000"/>
            <a:ext cx="9144000" cy="141300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Жанр спиричуэл – духовные песнопения рабов в США – возник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обращения негров в христианскую веру. Для этого использовались гим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 псалмы, завезённые в Америку белыми переселенцами и миссионер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music06"/>
          <p:cNvPicPr/>
          <p:nvPr/>
        </p:nvPicPr>
        <p:blipFill>
          <a:blip r:embed="rId1"/>
          <a:srcRect l="0" t="0" r="0" b="43507"/>
          <a:stretch/>
        </p:blipFill>
        <p:spPr>
          <a:xfrm>
            <a:off x="622296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music06"/>
          <p:cNvPicPr/>
          <p:nvPr/>
        </p:nvPicPr>
        <p:blipFill>
          <a:blip r:embed="rId2"/>
          <a:srcRect l="0" t="0" r="0" b="43509"/>
          <a:stretch/>
        </p:blipFill>
        <p:spPr>
          <a:xfrm>
            <a:off x="3419640" y="0"/>
            <a:ext cx="292068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music06"/>
          <p:cNvPicPr/>
          <p:nvPr/>
        </p:nvPicPr>
        <p:blipFill>
          <a:blip r:embed="rId3"/>
          <a:srcRect l="0" t="0" r="0" b="43509"/>
          <a:stretch/>
        </p:blipFill>
        <p:spPr>
          <a:xfrm>
            <a:off x="539640" y="0"/>
            <a:ext cx="292104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music06"/>
          <p:cNvPicPr/>
          <p:nvPr/>
        </p:nvPicPr>
        <p:blipFill>
          <a:blip r:embed="rId4"/>
          <a:srcRect l="80170" t="0" r="-1082" b="43509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9"/>
          <p:cNvSpPr/>
          <p:nvPr/>
        </p:nvSpPr>
        <p:spPr>
          <a:xfrm>
            <a:off x="2268360" y="0"/>
            <a:ext cx="4680000" cy="2133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Arial"/>
              </a:rPr>
              <a:t>БЛЮ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6138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1" descr="128638_image_large"/>
          <p:cNvPicPr/>
          <p:nvPr/>
        </p:nvPicPr>
        <p:blipFill>
          <a:blip r:embed="rId5"/>
          <a:stretch/>
        </p:blipFill>
        <p:spPr>
          <a:xfrm>
            <a:off x="826920" y="2133720"/>
            <a:ext cx="2403720" cy="33843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4"/>
          <p:cNvSpPr/>
          <p:nvPr/>
        </p:nvSpPr>
        <p:spPr>
          <a:xfrm>
            <a:off x="3564000" y="2852640"/>
            <a:ext cx="5327640" cy="234972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реди значений английского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"blue" есть "тоска", "уныние", "грус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Именно эти настроения и лежат 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блюза. Исполнявшиеся ещё во вре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рабства, блюзы представляли с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есни-переживания о тяжёлой д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самых разных её проявле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0" y="5516640"/>
            <a:ext cx="9144000" cy="1341360"/>
          </a:xfrm>
          <a:prstGeom prst="flowChartAlternateProcess">
            <a:avLst/>
          </a:prstGeom>
          <a:gradFill rotWithShape="0">
            <a:gsLst>
              <a:gs pos="0">
                <a:srgbClr val="8e002f"/>
              </a:gs>
              <a:gs pos="100000">
                <a:srgbClr val="66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«Отец блюза" - Уильям Хэнди (William Handy). Это почё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звание он получил не только потому, что в 20-е годы XX века стал сочинять блю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но и первым начал их публиковать – нотные сборники, а позж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свою знаменитую "Антологию блюза"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20:56:51Z</dcterms:created>
  <dc:creator>Татьяна</dc:creator>
  <dc:description/>
  <dc:language>en-US</dc:language>
  <cp:lastModifiedBy>WORK</cp:lastModifiedBy>
  <dcterms:modified xsi:type="dcterms:W3CDTF">2018-11-29T16:03:09Z</dcterms:modified>
  <cp:revision>24</cp:revision>
  <dc:subject/>
  <dc:title>Слайд 1</dc:title>
</cp:coreProperties>
</file>