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714-2B4F-4C03-B4DD-B91E378B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FAA-4867-443F-BE93-4E0B904C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274-B010-43F2-93A2-5FFFBE1A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498-1922-4C8D-AC52-74C3FE4F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BE4F-3D15-4B6A-AE18-4EBD5F8D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82CD-CCA7-47CE-9017-86BCD093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3DFD-1CBE-40C8-AA7C-C5B20383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BCF8-A71F-47F3-8F8D-3B420240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4B6A-CB8C-4C3F-81B1-CB9F5675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E727-5C6C-4785-A6AA-4AD65887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9DBB-EFDA-482D-9D67-2C7E179A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9C5-6AC4-4C26-903F-71760A89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0117-E363-4CAE-B38A-E04C066E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A008-024E-47FC-9EC8-FB96E42A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A47B-2FFC-48BB-A94A-1826FCAA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95D3-04DF-409E-AE25-3FBDEBE5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73D8-A6A8-49CA-800B-FF6D28C4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8DBC-BC30-4524-8A9D-76595FB9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F962-EEA7-4B6A-A406-A40ADD66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CFA-2AFD-4E99-B18D-B04808B4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0DB-05B2-4A6F-91D4-82E1D7A0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5C5-86B0-4046-B135-C678450F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B0C-B816-4824-AA4C-5A1E7B57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1AA-0951-4974-ABF4-2A3069F0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C8BE-8AD8-4F13-9AFF-D544C676C6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F317-1AAE-44B5-8AE3-54356506DB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1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Diagram 23"/>
          <p:cNvGrpSpPr/>
          <p:nvPr/>
        </p:nvGrpSpPr>
        <p:grpSpPr>
          <a:xfrm>
            <a:off x="324000" y="0"/>
            <a:ext cx="8596080" cy="6858000"/>
            <a:chOff x="324000" y="0"/>
            <a:chExt cx="8596080" cy="6858000"/>
          </a:xfrm>
        </p:grpSpPr>
        <p:sp>
          <p:nvSpPr>
            <p:cNvPr id="84" name="_s1028"/>
            <p:cNvSpPr/>
            <p:nvPr/>
          </p:nvSpPr>
          <p:spPr>
            <a:xfrm flipH="1" flipV="1">
              <a:off x="2554920" y="2492280"/>
              <a:ext cx="1439640" cy="64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29"/>
            <p:cNvSpPr/>
            <p:nvPr/>
          </p:nvSpPr>
          <p:spPr>
            <a:xfrm>
              <a:off x="324000" y="765000"/>
              <a:ext cx="2463480" cy="241452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0"/>
            <p:cNvSpPr/>
            <p:nvPr/>
          </p:nvSpPr>
          <p:spPr>
            <a:xfrm flipH="1">
              <a:off x="3058920" y="3573720"/>
              <a:ext cx="986760" cy="79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1"/>
            <p:cNvSpPr/>
            <p:nvPr/>
          </p:nvSpPr>
          <p:spPr>
            <a:xfrm>
              <a:off x="684000" y="3715920"/>
              <a:ext cx="2476080" cy="233820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2"/>
            <p:cNvSpPr/>
            <p:nvPr/>
          </p:nvSpPr>
          <p:spPr>
            <a:xfrm>
              <a:off x="4716360" y="4005720"/>
              <a:ext cx="720" cy="88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3"/>
            <p:cNvSpPr/>
            <p:nvPr/>
          </p:nvSpPr>
          <p:spPr>
            <a:xfrm>
              <a:off x="3419640" y="4754160"/>
              <a:ext cx="2457360" cy="21034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34"/>
            <p:cNvSpPr/>
            <p:nvPr/>
          </p:nvSpPr>
          <p:spPr>
            <a:xfrm>
              <a:off x="5579640" y="3860280"/>
              <a:ext cx="803160" cy="43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35"/>
            <p:cNvSpPr/>
            <p:nvPr/>
          </p:nvSpPr>
          <p:spPr>
            <a:xfrm>
              <a:off x="6156360" y="3789360"/>
              <a:ext cx="2476080" cy="2336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36"/>
            <p:cNvSpPr/>
            <p:nvPr/>
          </p:nvSpPr>
          <p:spPr>
            <a:xfrm flipV="1">
              <a:off x="5508720" y="2636640"/>
              <a:ext cx="1079640" cy="56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37"/>
            <p:cNvSpPr/>
            <p:nvPr/>
          </p:nvSpPr>
          <p:spPr>
            <a:xfrm>
              <a:off x="6444000" y="908280"/>
              <a:ext cx="2476080" cy="23889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8"/>
            <p:cNvSpPr/>
            <p:nvPr/>
          </p:nvSpPr>
          <p:spPr>
            <a:xfrm flipV="1">
              <a:off x="4716360" y="1341000"/>
              <a:ext cx="1440" cy="115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9"/>
            <p:cNvSpPr/>
            <p:nvPr/>
          </p:nvSpPr>
          <p:spPr>
            <a:xfrm>
              <a:off x="2916360" y="0"/>
              <a:ext cx="3600000" cy="21337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40"/>
            <p:cNvSpPr/>
            <p:nvPr/>
          </p:nvSpPr>
          <p:spPr>
            <a:xfrm>
              <a:off x="3202920" y="2275920"/>
              <a:ext cx="3024360" cy="23058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7"/>
            <p:cNvSpPr/>
            <p:nvPr/>
          </p:nvSpPr>
          <p:spPr>
            <a:xfrm>
              <a:off x="6444000" y="908280"/>
              <a:ext cx="2463480" cy="241452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6600"/>
                </a:gs>
              </a:gsLst>
              <a:lin ang="13500000"/>
            </a:gra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8"/>
            <p:cNvSpPr/>
            <p:nvPr/>
          </p:nvSpPr>
          <p:spPr>
            <a:xfrm>
              <a:off x="6156360" y="3715920"/>
              <a:ext cx="2463480" cy="24145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ccff"/>
                </a:gs>
              </a:gsLst>
              <a:lin ang="13500000"/>
            </a:gradFill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9"/>
            <p:cNvSpPr/>
            <p:nvPr/>
          </p:nvSpPr>
          <p:spPr>
            <a:xfrm>
              <a:off x="684000" y="3644640"/>
              <a:ext cx="2463480" cy="241488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cc00"/>
                </a:gs>
              </a:gsLst>
              <a:lin ang="13500000"/>
            </a:gra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0"/>
            <p:cNvSpPr/>
            <p:nvPr/>
          </p:nvSpPr>
          <p:spPr>
            <a:xfrm>
              <a:off x="2916360" y="0"/>
              <a:ext cx="3600000" cy="213372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cc33"/>
                </a:gs>
              </a:gsLst>
              <a:lin ang="54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1"/>
            <p:cNvSpPr/>
            <p:nvPr/>
          </p:nvSpPr>
          <p:spPr>
            <a:xfrm>
              <a:off x="3202920" y="4724280"/>
              <a:ext cx="2881080" cy="213372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ff0000"/>
                </a:gs>
              </a:gsLst>
              <a:lin ang="135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2"/>
            <p:cNvSpPr/>
            <p:nvPr/>
          </p:nvSpPr>
          <p:spPr>
            <a:xfrm>
              <a:off x="324000" y="765000"/>
              <a:ext cx="2463480" cy="24145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9966ff"/>
                </a:gs>
              </a:gsLst>
              <a:lin ang="13500000"/>
            </a:gra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3202920" y="2275920"/>
              <a:ext cx="3024360" cy="230580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ffff00"/>
                </a:gs>
              </a:gsLst>
              <a:lin ang="13500000"/>
            </a:gra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WordArt 39"/>
          <p:cNvSpPr txBox="1"/>
          <p:nvPr/>
        </p:nvSpPr>
        <p:spPr>
          <a:xfrm>
            <a:off x="3635280" y="3284640"/>
            <a:ext cx="2160720" cy="93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324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"/>
              </a:rPr>
              <a:t>Основоположники</a:t>
            </a: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324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"/>
              </a:rPr>
              <a:t>н а ц и о н а л ь н о й</a:t>
            </a: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324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"/>
              </a:rPr>
              <a:t>м  у  з  ы  к  и</a:t>
            </a: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41"/>
          <p:cNvSpPr txBox="1"/>
          <p:nvPr/>
        </p:nvSpPr>
        <p:spPr>
          <a:xfrm>
            <a:off x="755640" y="1197000"/>
            <a:ext cx="164628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РУС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106" name="WordArt 49"/>
          <p:cNvSpPr txBox="1"/>
          <p:nvPr/>
        </p:nvSpPr>
        <p:spPr>
          <a:xfrm>
            <a:off x="6732720" y="1413000"/>
            <a:ext cx="1726920" cy="115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ПОЛЬ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107" name="WordArt 50"/>
          <p:cNvSpPr txBox="1"/>
          <p:nvPr/>
        </p:nvSpPr>
        <p:spPr>
          <a:xfrm>
            <a:off x="1042920" y="4005360"/>
            <a:ext cx="172872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ВЕНГЕР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108" name="WordArt 51"/>
          <p:cNvSpPr txBox="1"/>
          <p:nvPr/>
        </p:nvSpPr>
        <p:spPr>
          <a:xfrm>
            <a:off x="6443640" y="4149720"/>
            <a:ext cx="187164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НОРВЕЖ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109" name="WordArt 52"/>
          <p:cNvSpPr txBox="1"/>
          <p:nvPr/>
        </p:nvSpPr>
        <p:spPr>
          <a:xfrm>
            <a:off x="3564000" y="5157720"/>
            <a:ext cx="223200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Arial"/>
              </a:rPr>
              <a:t>АВСТРИЙ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110" name="WordArt 53"/>
          <p:cNvSpPr txBox="1"/>
          <p:nvPr/>
        </p:nvSpPr>
        <p:spPr>
          <a:xfrm>
            <a:off x="3276720" y="1125360"/>
            <a:ext cx="2808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ФИНСКО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1" name="WordArt 54"/>
          <p:cNvSpPr txBox="1"/>
          <p:nvPr/>
        </p:nvSpPr>
        <p:spPr>
          <a:xfrm>
            <a:off x="755640" y="1628640"/>
            <a:ext cx="172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М.И.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Глинка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2" name="WordArt 55"/>
          <p:cNvSpPr txBox="1"/>
          <p:nvPr/>
        </p:nvSpPr>
        <p:spPr>
          <a:xfrm>
            <a:off x="971640" y="4869000"/>
            <a:ext cx="2016000" cy="4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Ф. Лист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3" name="WordArt 56"/>
          <p:cNvSpPr txBox="1"/>
          <p:nvPr/>
        </p:nvSpPr>
        <p:spPr>
          <a:xfrm>
            <a:off x="6659640" y="2205000"/>
            <a:ext cx="194472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Ф. Шопен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WordArt 57"/>
          <p:cNvSpPr txBox="1"/>
          <p:nvPr/>
        </p:nvSpPr>
        <p:spPr>
          <a:xfrm>
            <a:off x="6443640" y="5084640"/>
            <a:ext cx="1944720" cy="5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Э. Григ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5" name="WordArt 58"/>
          <p:cNvSpPr txBox="1"/>
          <p:nvPr/>
        </p:nvSpPr>
        <p:spPr>
          <a:xfrm>
            <a:off x="3780000" y="5373720"/>
            <a:ext cx="187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В.А.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Моцарт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6" name="WordArt 59"/>
          <p:cNvSpPr txBox="1"/>
          <p:nvPr/>
        </p:nvSpPr>
        <p:spPr>
          <a:xfrm>
            <a:off x="3203640" y="404640"/>
            <a:ext cx="290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Ян Сибелиус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2900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335772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Book Antiqua"/>
              </a:rPr>
              <a:t>форма музыкального искусства, возникшая  в  Америке на основе негритянских песе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4071960" y="1643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428840" y="2000160"/>
            <a:ext cx="564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ru-RU" sz="6000" spc="-1" strike="noStrike">
                <a:solidFill>
                  <a:srgbClr val="000000"/>
                </a:solidFill>
                <a:latin typeface="Book Antiqua"/>
              </a:rPr>
              <a:t>Джаз – это…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2900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335772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народная песня американских негров с грустным, печальным оттен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4071960" y="1643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7"/>
          <p:cNvSpPr/>
          <p:nvPr/>
        </p:nvSpPr>
        <p:spPr>
          <a:xfrm>
            <a:off x="1428840" y="2000160"/>
            <a:ext cx="564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ru-RU" sz="6000" spc="-1" strike="noStrike">
                <a:solidFill>
                  <a:srgbClr val="000000"/>
                </a:solidFill>
                <a:latin typeface="Book Antiqua"/>
              </a:rPr>
              <a:t>Блюз  – это…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2900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5772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крупное одночастное произведение в свободной форме на основе народных мелод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4071960" y="1643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7"/>
          <p:cNvSpPr/>
          <p:nvPr/>
        </p:nvSpPr>
        <p:spPr>
          <a:xfrm>
            <a:off x="1071720" y="21430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ru-RU" sz="6000" spc="-1" strike="noStrike">
                <a:solidFill>
                  <a:srgbClr val="000000"/>
                </a:solidFill>
                <a:latin typeface="Book Antiqua"/>
              </a:rPr>
              <a:t>Рапсодия – это…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music06"/>
          <p:cNvPicPr/>
          <p:nvPr/>
        </p:nvPicPr>
        <p:blipFill>
          <a:blip r:embed="rId1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music06"/>
          <p:cNvPicPr/>
          <p:nvPr/>
        </p:nvPicPr>
        <p:blipFill>
          <a:blip r:embed="rId2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3840" y="3860640"/>
            <a:ext cx="8643960" cy="25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Rhapsody in Blue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1" lang="ru-RU" sz="6000" spc="-1" strike="noStrike">
                <a:solidFill>
                  <a:srgbClr val="820000"/>
                </a:solidFill>
                <a:latin typeface="Book Antiqua"/>
              </a:rPr>
              <a:t>Рапсодия в стиле блю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Rhapsody_in_Blue_cover"/>
          <p:cNvPicPr/>
          <p:nvPr/>
        </p:nvPicPr>
        <p:blipFill>
          <a:blip r:embed="rId5"/>
          <a:stretch/>
        </p:blipFill>
        <p:spPr>
          <a:xfrm>
            <a:off x="3143160" y="0"/>
            <a:ext cx="2425680" cy="3236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hapsody_in_blue_45_i"/>
          <p:cNvPicPr/>
          <p:nvPr/>
        </p:nvPicPr>
        <p:blipFill>
          <a:blip r:embed="rId6"/>
          <a:stretch/>
        </p:blipFill>
        <p:spPr>
          <a:xfrm>
            <a:off x="0" y="0"/>
            <a:ext cx="2360520" cy="359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RhapsodyBlue1"/>
          <p:cNvPicPr/>
          <p:nvPr/>
        </p:nvPicPr>
        <p:blipFill>
          <a:blip r:embed="rId7"/>
          <a:stretch/>
        </p:blipFill>
        <p:spPr>
          <a:xfrm>
            <a:off x="6837480" y="0"/>
            <a:ext cx="2306520" cy="359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3"/>
          <p:cNvSpPr/>
          <p:nvPr/>
        </p:nvSpPr>
        <p:spPr>
          <a:xfrm>
            <a:off x="500040" y="1500120"/>
            <a:ext cx="3786120" cy="35006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псо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имфоническая музы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4"/>
          <p:cNvSpPr/>
          <p:nvPr/>
        </p:nvSpPr>
        <p:spPr>
          <a:xfrm>
            <a:off x="4714920" y="1500120"/>
            <a:ext cx="3786120" cy="3500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ж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9"/>
          <p:cNvSpPr/>
          <p:nvPr/>
        </p:nvSpPr>
        <p:spPr>
          <a:xfrm>
            <a:off x="3786120" y="1714680"/>
            <a:ext cx="1571760" cy="3000240"/>
          </a:xfrm>
          <a:prstGeom prst="ellipse">
            <a:avLst/>
          </a:prstGeom>
          <a:solidFill>
            <a:srgbClr val="00b050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фо     дж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0.08872 0.0051 E">
                                      <p:cBhvr>
                                        <p:cTn id="301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0.09913 -0.00416 E">
                                      <p:cBhvr>
                                        <p:cTn id="303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0.09913 -0.00416 E">
                                      <p:cBhvr>
                                        <p:cTn id="305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0809 -0.00532 E">
                                      <p:cBhvr>
                                        <p:cTn id="308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07407E-006 L -0.05868 -0.00416 E">
                                      <p:cBhvr>
                                        <p:cTn id="310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3"/>
          <p:cNvSpPr/>
          <p:nvPr/>
        </p:nvSpPr>
        <p:spPr>
          <a:xfrm>
            <a:off x="0" y="0"/>
            <a:ext cx="9144000" cy="2060640"/>
          </a:xfrm>
          <a:prstGeom prst="wedgeRectCallout">
            <a:avLst>
              <a:gd name="adj1" fmla="val -44393"/>
              <a:gd name="adj2" fmla="val 8428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Многие композиторы ходили вокруг джаза, как коты вокруг миски с горячим супом, ожидая, пока он немного остынет. Джорджу Гершвину удалось решить проблему. Подобно Принцу из известной сказки, он взял за руку Золушку и провозгласил ее принцессой, невзирая на бешеную злобу ее завистливых сестер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>
            <a:off x="179280" y="2852640"/>
            <a:ext cx="3672000" cy="1727280"/>
          </a:xfrm>
          <a:custGeom>
            <a:avLst/>
            <a:gdLst>
              <a:gd name="textAreaLeft" fmla="*/ 0 w 3672000"/>
              <a:gd name="textAreaRight" fmla="*/ 3672360 w 3672000"/>
              <a:gd name="textAreaTop" fmla="*/ 223920 h 1727280"/>
              <a:gd name="textAreaBottom" fmla="*/ 150336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ласс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традиции муз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7"/>
          <p:cNvSpPr/>
          <p:nvPr/>
        </p:nvSpPr>
        <p:spPr>
          <a:xfrm>
            <a:off x="5292720" y="2852640"/>
            <a:ext cx="3672000" cy="1727280"/>
          </a:xfrm>
          <a:custGeom>
            <a:avLst/>
            <a:gdLst>
              <a:gd name="textAreaLeft" fmla="*/ 0 w 3672000"/>
              <a:gd name="textAreaRight" fmla="*/ 3672360 w 3672000"/>
              <a:gd name="textAreaTop" fmla="*/ 223920 h 1727280"/>
              <a:gd name="textAreaBottom" fmla="*/ 150336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Джаз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традиции муз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8"/>
          <p:cNvSpPr/>
          <p:nvPr/>
        </p:nvSpPr>
        <p:spPr>
          <a:xfrm>
            <a:off x="2050920" y="4941720"/>
            <a:ext cx="5400720" cy="1727280"/>
          </a:xfrm>
          <a:custGeom>
            <a:avLst/>
            <a:gdLst>
              <a:gd name="textAreaLeft" fmla="*/ 0 w 5400720"/>
              <a:gd name="textAreaRight" fmla="*/ 5401080 w 5400720"/>
              <a:gd name="textAreaTop" fmla="*/ 223920 h 1727280"/>
              <a:gd name="textAreaBottom" fmla="*/ 150336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СИМФОДЖ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9"/>
          <p:cNvSpPr/>
          <p:nvPr/>
        </p:nvSpPr>
        <p:spPr>
          <a:xfrm>
            <a:off x="3851280" y="3068640"/>
            <a:ext cx="1368360" cy="1224000"/>
          </a:xfrm>
          <a:custGeom>
            <a:avLst/>
            <a:gdLst>
              <a:gd name="textAreaLeft" fmla="*/ 563760 w 1368360"/>
              <a:gd name="textAreaRight" fmla="*/ 804600 w 1368360"/>
              <a:gd name="textAreaTop" fmla="*/ 504360 h 1224000"/>
              <a:gd name="textAreaBottom" fmla="*/ 719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" descr="a2c774c6eff5b7eccb69185be58e2c31_full[1]"/>
          <p:cNvPicPr/>
          <p:nvPr/>
        </p:nvPicPr>
        <p:blipFill>
          <a:blip r:embed="rId1"/>
          <a:stretch/>
        </p:blipFill>
        <p:spPr>
          <a:xfrm>
            <a:off x="0" y="2060640"/>
            <a:ext cx="3801960" cy="479736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2"/>
          <p:cNvSpPr/>
          <p:nvPr/>
        </p:nvSpPr>
        <p:spPr>
          <a:xfrm>
            <a:off x="0" y="0"/>
            <a:ext cx="9144000" cy="2060640"/>
          </a:xfrm>
          <a:prstGeom prst="wedgeRectCallout">
            <a:avLst>
              <a:gd name="adj1" fmla="val -44393"/>
              <a:gd name="adj2" fmla="val 8428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Джордж  Гершви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Оркестровая сюита «Американец в Париже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2960" y="11430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214200" y="2143080"/>
            <a:ext cx="4357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егодня я узна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было интерес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было труд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я выполнял задани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я понял,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теперь я мог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я почувствовал,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я приобре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я научил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у меня получилось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я смог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я попробую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меня удивил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урок дал мне для жизн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мне захотелос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2960" y="11430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214200" y="2143080"/>
            <a:ext cx="8643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ответьте на вопрос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1. Сколько лет спустя была создана первая американская опера после создания в России оперы «Иван Сусанин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2. Как называется первая американская опе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3. Имя главного героя опе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4200" y="2852280"/>
            <a:ext cx="8715600" cy="379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Book Antiqua"/>
              </a:rPr>
              <a:t>«… живет музыкой и выражает все чувства - серьезные и несерьезные - музыкой, потому что это его естественный язык…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Book Antiqua"/>
              </a:rPr>
              <a:t>                        Арнольд Шёнберг </a:t>
            </a:r>
            <a:br>
              <a:rPr sz="9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40000" y="1988640"/>
            <a:ext cx="50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280" y="3789360"/>
            <a:ext cx="81723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6600" spc="-1" strike="noStrike">
                <a:solidFill>
                  <a:srgbClr val="820000"/>
                </a:solidFill>
                <a:latin typeface="Arial"/>
              </a:rPr>
              <a:t>«</a:t>
            </a:r>
            <a:r>
              <a:rPr b="1" lang="ru-RU" sz="6600" spc="-1" strike="noStrike">
                <a:solidFill>
                  <a:srgbClr val="820000"/>
                </a:solidFill>
                <a:latin typeface="Arial"/>
              </a:rPr>
              <a:t>Мой народ – американцы…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998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08000" y="2852640"/>
            <a:ext cx="54356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20000"/>
                </a:solidFill>
                <a:latin typeface="Book Antiqua"/>
              </a:rPr>
              <a:t>Джордж Гершвин </a:t>
            </a:r>
            <a:br>
              <a:rPr sz="6000"/>
            </a:br>
            <a:r>
              <a:rPr b="1" lang="ru-RU" sz="6000" spc="-1" strike="noStrike">
                <a:solidFill>
                  <a:srgbClr val="820000"/>
                </a:solidFill>
                <a:latin typeface="Book Antiqua"/>
              </a:rPr>
              <a:t>(1898 - 1937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1200340697_gershwin[1]"/>
          <p:cNvPicPr/>
          <p:nvPr/>
        </p:nvPicPr>
        <p:blipFill>
          <a:blip r:embed="rId5"/>
          <a:stretch/>
        </p:blipFill>
        <p:spPr>
          <a:xfrm>
            <a:off x="0" y="857160"/>
            <a:ext cx="4111560" cy="528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20000"/>
                </a:solidFill>
                <a:latin typeface="Arial"/>
              </a:rPr>
              <a:t>ДЖА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jazz"/>
          <p:cNvPicPr/>
          <p:nvPr/>
        </p:nvPicPr>
        <p:blipFill>
          <a:blip r:embed="rId5"/>
          <a:stretch/>
        </p:blipFill>
        <p:spPr>
          <a:xfrm>
            <a:off x="0" y="0"/>
            <a:ext cx="2811600" cy="395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271235"/>
          <p:cNvPicPr/>
          <p:nvPr/>
        </p:nvPicPr>
        <p:blipFill>
          <a:blip r:embed="rId6"/>
          <a:stretch/>
        </p:blipFill>
        <p:spPr>
          <a:xfrm>
            <a:off x="6132600" y="0"/>
            <a:ext cx="3011400" cy="2879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p_news_post_img_7543"/>
          <p:cNvPicPr/>
          <p:nvPr/>
        </p:nvPicPr>
        <p:blipFill>
          <a:blip r:embed="rId7"/>
          <a:stretch/>
        </p:blipFill>
        <p:spPr>
          <a:xfrm>
            <a:off x="3059280" y="4429080"/>
            <a:ext cx="3238200" cy="242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998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998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998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9"/>
          <p:cNvSpPr/>
          <p:nvPr/>
        </p:nvSpPr>
        <p:spPr>
          <a:xfrm>
            <a:off x="0" y="2781360"/>
            <a:ext cx="3857760" cy="180000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СПИРИЧУЭ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4429080" y="4786200"/>
            <a:ext cx="4105440" cy="180036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БЛЮ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5357880" y="2714760"/>
            <a:ext cx="3357360" cy="180000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РЕГТАЙ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2195640" y="0"/>
            <a:ext cx="4876560" cy="208908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Жан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джазовой музы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2357280" y="2071800"/>
            <a:ext cx="287640" cy="647640"/>
          </a:xfrm>
          <a:prstGeom prst="downArrow">
            <a:avLst>
              <a:gd name="adj1" fmla="val 50000"/>
              <a:gd name="adj2" fmla="val 56289"/>
            </a:avLst>
          </a:prstGeom>
          <a:solidFill>
            <a:srgbClr val="8e00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6215040" y="2071800"/>
            <a:ext cx="287280" cy="647640"/>
          </a:xfrm>
          <a:prstGeom prst="downArrow">
            <a:avLst>
              <a:gd name="adj1" fmla="val 50000"/>
              <a:gd name="adj2" fmla="val 56360"/>
            </a:avLst>
          </a:prstGeom>
          <a:solidFill>
            <a:srgbClr val="8e00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6"/>
          <p:cNvSpPr/>
          <p:nvPr/>
        </p:nvSpPr>
        <p:spPr>
          <a:xfrm flipH="1">
            <a:off x="4572000" y="2071800"/>
            <a:ext cx="285840" cy="2786040"/>
          </a:xfrm>
          <a:prstGeom prst="downArrow">
            <a:avLst>
              <a:gd name="adj1" fmla="val 50000"/>
              <a:gd name="adj2" fmla="val 237895"/>
            </a:avLst>
          </a:prstGeom>
          <a:solidFill>
            <a:srgbClr val="8e00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500040" y="5214960"/>
            <a:ext cx="3500640" cy="128592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ГОСП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4"/>
          <p:cNvSpPr/>
          <p:nvPr/>
        </p:nvSpPr>
        <p:spPr>
          <a:xfrm>
            <a:off x="2214720" y="4572000"/>
            <a:ext cx="287280" cy="647640"/>
          </a:xfrm>
          <a:prstGeom prst="downArrow">
            <a:avLst>
              <a:gd name="adj1" fmla="val 50000"/>
              <a:gd name="adj2" fmla="val 56360"/>
            </a:avLst>
          </a:prstGeom>
          <a:solidFill>
            <a:srgbClr val="8e00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Gospel1"/>
          <p:cNvPicPr/>
          <p:nvPr/>
        </p:nvPicPr>
        <p:blipFill>
          <a:blip r:embed="rId5"/>
          <a:stretch/>
        </p:blipFill>
        <p:spPr>
          <a:xfrm>
            <a:off x="0" y="2421000"/>
            <a:ext cx="4716360" cy="335736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9"/>
          <p:cNvSpPr/>
          <p:nvPr/>
        </p:nvSpPr>
        <p:spPr>
          <a:xfrm>
            <a:off x="2411280" y="0"/>
            <a:ext cx="4537080" cy="213372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ГОСП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4751280" y="39301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4716360" y="2276640"/>
            <a:ext cx="4427640" cy="446544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 20-е годы XX века возникло ещ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одно направление духовной музы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близкое к спиричуэлу. В осн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её были положены тексты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Евангелия,что и дало названи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госпел (Gospel – Евангел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 госпеле уже активно применя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амый разнообра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аккомпанемент: клавишные, духов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ударные. Энергичная, задор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жизнерадостная музыка на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церкв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sp1"/>
          <p:cNvPicPr/>
          <p:nvPr/>
        </p:nvPicPr>
        <p:blipFill>
          <a:blip r:embed="rId5"/>
          <a:stretch/>
        </p:blipFill>
        <p:spPr>
          <a:xfrm>
            <a:off x="539640" y="2492280"/>
            <a:ext cx="3619440" cy="269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sp2"/>
          <p:cNvPicPr/>
          <p:nvPr/>
        </p:nvPicPr>
        <p:blipFill>
          <a:blip r:embed="rId6"/>
          <a:stretch/>
        </p:blipFill>
        <p:spPr>
          <a:xfrm>
            <a:off x="5076720" y="2492280"/>
            <a:ext cx="3619440" cy="26863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9"/>
          <p:cNvSpPr/>
          <p:nvPr/>
        </p:nvSpPr>
        <p:spPr>
          <a:xfrm>
            <a:off x="2340000" y="0"/>
            <a:ext cx="4464000" cy="213372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СПИРИЧУЭ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6003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0" y="5445000"/>
            <a:ext cx="9144000" cy="141300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Жанр спиричуэл – духовные песнопения рабов в США – возник в результ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обращения негров в христианскую веру. Для этого использовались гим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и псалмы, завезённые в Америку белыми переселенцами и миссионер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9"/>
          <p:cNvSpPr/>
          <p:nvPr/>
        </p:nvSpPr>
        <p:spPr>
          <a:xfrm>
            <a:off x="2268360" y="0"/>
            <a:ext cx="4680000" cy="213372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БЛЮ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0" y="6138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1" descr="128638_image_large"/>
          <p:cNvPicPr/>
          <p:nvPr/>
        </p:nvPicPr>
        <p:blipFill>
          <a:blip r:embed="rId5"/>
          <a:stretch/>
        </p:blipFill>
        <p:spPr>
          <a:xfrm>
            <a:off x="826920" y="2133720"/>
            <a:ext cx="2403720" cy="338436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4"/>
          <p:cNvSpPr/>
          <p:nvPr/>
        </p:nvSpPr>
        <p:spPr>
          <a:xfrm>
            <a:off x="3564000" y="2852640"/>
            <a:ext cx="5327640" cy="234972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реди значений английского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"blue" есть "тоска", "уныние", "грусть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Именно эти настроения и лежат в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блюза. Исполнявшиеся ещё во вре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рабства, блюзы представляли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есни-переживания о тяжёлой до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 самых разных её проявлен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0" y="5516640"/>
            <a:ext cx="9144000" cy="134136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«Отец блюза" - Уильям Хэнди (William Handy). Это почё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звание он получил не только потому, что в 20-е годы XX века стал сочинять блюз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о и первым начал их публиковать – нотные сборники, а позж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вою знаменитую "Антологию блюза"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20:56:51Z</dcterms:created>
  <dc:creator>Татьяна</dc:creator>
  <dc:description/>
  <dc:language>en-US</dc:language>
  <cp:lastModifiedBy>WORK</cp:lastModifiedBy>
  <dcterms:modified xsi:type="dcterms:W3CDTF">2018-11-29T16:03:09Z</dcterms:modified>
  <cp:revision>24</cp:revision>
  <dc:subject/>
  <dc:title>Слайд 1</dc:title>
</cp:coreProperties>
</file>