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02C2-A9E7-416C-8419-9366707EA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4EB0-AF8E-4414-9233-E9250DDD9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6ED4-103F-442E-ACD6-395234D31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CB5F-CC53-43F8-A492-A2C4C5D8DA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CF71-D026-4D33-8538-651C3B055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B3C-729F-4625-8B6E-E0F9CDA7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FC7-48A8-4F15-9A85-38505069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79F8-AC80-4EAA-B758-4784D26D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772-4C35-4257-BC5B-6C66CA5D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DAB9-5F9D-4787-B937-013161E5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FE92-4AF5-4508-9862-108C7F41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2BF9-C50E-4994-A21F-1C155D5D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A16E-C53A-41B6-8F0A-5DE69A51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F623-BB62-4B7A-B150-286072CB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E3F6-2C12-4BB3-B13D-19203CEE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85C-17F8-406F-9B0E-8BF83785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156-FCD9-4E31-8376-25C3622A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3272-2F3D-4F3B-A012-8BAE4EA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A063-9FCC-4427-9FE1-7E62A98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3A98-4A26-4D8B-8DAF-3B97ABC2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9BEB-7889-4C90-AA2F-FC94D4FD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BE78-58D5-4540-8FEB-DD762DF2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F05-5C74-4719-BD38-07FCDCC5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477-A919-465E-A703-5A5BAB5B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34E0-9C93-4D30-97B4-6049A6E8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423-7188-4432-9D59-C799E0C2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841-5ED5-47E1-B746-7A290301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B88-7C23-4E89-9AB3-BA90CE0C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9A6-0027-4B81-9808-53A05AD3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3FC3-55BD-4E50-923C-5F1BFCAD42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55000" y="490320"/>
                  <a:ext cx="4316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51520" y="25344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51360" y="1393920"/>
                  <a:ext cx="27072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48120"/>
                  <a:ext cx="2905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95520" y="183240"/>
                  <a:ext cx="2869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400" spc="-1" strike="noStrike">
                    <a:solidFill>
                      <a:srgbClr val="1f497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c0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1f497d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60D8-B42F-4F47-8320-B8C2AD52BA16}" type="slidenum">
              <a:rPr b="0" lang="ru-RU" sz="14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2" descr="https://fs00.infourok.ru/images/doc/240/187206/2/img15.jpg"/>
          <p:cNvPicPr/>
          <p:nvPr/>
        </p:nvPicPr>
        <p:blipFill>
          <a:blip r:embed="rId1"/>
          <a:stretch/>
        </p:blipFill>
        <p:spPr>
          <a:xfrm>
            <a:off x="0" y="-100080"/>
            <a:ext cx="93916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дберите глаголы к этим существительны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попробуйте пересказ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ласте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Овал 1"/>
          <p:cNvSpPr/>
          <p:nvPr/>
        </p:nvSpPr>
        <p:spPr>
          <a:xfrm>
            <a:off x="3735360" y="2611440"/>
            <a:ext cx="158436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ктор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Лиза</a:t>
            </a: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6" name="Овал 4"/>
          <p:cNvSpPr/>
          <p:nvPr/>
        </p:nvSpPr>
        <p:spPr>
          <a:xfrm>
            <a:off x="6039000" y="1563840"/>
            <a:ext cx="1584000" cy="1584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7" name="Овал 5"/>
          <p:cNvSpPr/>
          <p:nvPr/>
        </p:nvSpPr>
        <p:spPr>
          <a:xfrm>
            <a:off x="6156360" y="4338720"/>
            <a:ext cx="158436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8" name="Овал 6"/>
          <p:cNvSpPr/>
          <p:nvPr/>
        </p:nvSpPr>
        <p:spPr>
          <a:xfrm>
            <a:off x="1117440" y="1628640"/>
            <a:ext cx="158436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9" name="Овал 7"/>
          <p:cNvSpPr/>
          <p:nvPr/>
        </p:nvSpPr>
        <p:spPr>
          <a:xfrm>
            <a:off x="1763640" y="4292640"/>
            <a:ext cx="158436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180" name="Прямая со стрелкой 3"/>
          <p:cNvCxnSpPr>
            <a:stCxn id="175" idx="7"/>
          </p:cNvCxnSpPr>
          <p:nvPr/>
        </p:nvCxnSpPr>
        <p:spPr>
          <a:xfrm flipV="1">
            <a:off x="5086440" y="2467800"/>
            <a:ext cx="95328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Прямая со стрелкой 9"/>
          <p:cNvCxnSpPr/>
          <p:nvPr/>
        </p:nvCxnSpPr>
        <p:spPr>
          <a:xfrm flipH="1" flipV="1">
            <a:off x="2584080" y="2780640"/>
            <a:ext cx="112464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Прямая со стрелкой 11"/>
          <p:cNvCxnSpPr>
            <a:stCxn id="175" idx="3"/>
            <a:endCxn id="179" idx="7"/>
          </p:cNvCxnSpPr>
          <p:nvPr/>
        </p:nvCxnSpPr>
        <p:spPr>
          <a:xfrm flipH="1">
            <a:off x="3115800" y="3963600"/>
            <a:ext cx="851760" cy="56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Прямая со стрелкой 13"/>
          <p:cNvCxnSpPr>
            <a:endCxn id="177" idx="1"/>
          </p:cNvCxnSpPr>
          <p:nvPr/>
        </p:nvCxnSpPr>
        <p:spPr>
          <a:xfrm>
            <a:off x="5239800" y="3780000"/>
            <a:ext cx="114876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Овал 2"/>
          <p:cNvSpPr/>
          <p:nvPr/>
        </p:nvSpPr>
        <p:spPr>
          <a:xfrm>
            <a:off x="3743280" y="5364000"/>
            <a:ext cx="1692360" cy="1366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 абзац</a:t>
            </a:r>
            <a:endParaRPr b="0" lang="en-US" sz="16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185" name="Прямая со стрелкой 10"/>
          <p:cNvCxnSpPr/>
          <p:nvPr/>
        </p:nvCxnSpPr>
        <p:spPr>
          <a:xfrm>
            <a:off x="1692360" y="43920"/>
            <a:ext cx="216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Овал 11"/>
          <p:cNvSpPr/>
          <p:nvPr/>
        </p:nvSpPr>
        <p:spPr>
          <a:xfrm>
            <a:off x="5573880" y="7029360"/>
            <a:ext cx="45720" cy="46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187" name="Прямая со стрелкой 13"/>
          <p:cNvCxnSpPr/>
          <p:nvPr/>
        </p:nvCxnSpPr>
        <p:spPr>
          <a:xfrm flipV="1">
            <a:off x="1692360" y="-3600"/>
            <a:ext cx="7200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Прямая соединительная линия 16"/>
          <p:cNvSpPr/>
          <p:nvPr/>
        </p:nvSpPr>
        <p:spPr>
          <a:xfrm>
            <a:off x="4643280" y="4195800"/>
            <a:ext cx="0" cy="11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клоняем числитель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исать  все числительные из текста и определить разря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склонять порядковые, собирательные и одно из тех, которое имеет две падежные фор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оизнеси прави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18 г . в   Т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00  в Р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е подруги в  П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90 в Д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0 в Р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00 в Т.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0448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интаксис – мост через пропасть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интаксис- это порядок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ипы подчинительной свя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писали из текста по 5 словосочетаний : согласование, управление, примык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000080"/>
            <a:ext cx="7696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то порядочен только ради того, чтобы  об этом узнали другие и , узнав, стали питать к нему  больше уважения, кто  творит  добрые дела лишь при условии, чтобы его добродетели стали известны,- от того нельзя ожидать  слишком многого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ишель Монтен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днородное подчи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Прямоугольник 3"/>
          <p:cNvGrpSpPr/>
          <p:nvPr/>
        </p:nvGrpSpPr>
        <p:grpSpPr>
          <a:xfrm>
            <a:off x="1255680" y="2255760"/>
            <a:ext cx="1274760" cy="841320"/>
            <a:chOff x="1255680" y="2255760"/>
            <a:chExt cx="1274760" cy="841320"/>
          </a:xfrm>
        </p:grpSpPr>
        <p:pic>
          <p:nvPicPr>
            <p:cNvPr id="19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255680" y="2255760"/>
              <a:ext cx="12747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285920" y="2286000"/>
              <a:ext cx="1214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01" name="Овал 4"/>
          <p:cNvGrpSpPr/>
          <p:nvPr/>
        </p:nvGrpSpPr>
        <p:grpSpPr>
          <a:xfrm>
            <a:off x="542880" y="3541680"/>
            <a:ext cx="1054080" cy="987480"/>
            <a:chOff x="542880" y="3541680"/>
            <a:chExt cx="1054080" cy="987480"/>
          </a:xfrm>
        </p:grpSpPr>
        <p:pic>
          <p:nvPicPr>
            <p:cNvPr id="202" name="Овал 4" descr=""/>
            <p:cNvPicPr/>
            <p:nvPr/>
          </p:nvPicPr>
          <p:blipFill>
            <a:blip r:embed="rId2"/>
            <a:stretch/>
          </p:blipFill>
          <p:spPr>
            <a:xfrm>
              <a:off x="542880" y="3541680"/>
              <a:ext cx="1054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717480" y="370836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04" name="Овал 5"/>
          <p:cNvGrpSpPr/>
          <p:nvPr/>
        </p:nvGrpSpPr>
        <p:grpSpPr>
          <a:xfrm>
            <a:off x="1974960" y="3541680"/>
            <a:ext cx="1054080" cy="987480"/>
            <a:chOff x="1974960" y="3541680"/>
            <a:chExt cx="1054080" cy="987480"/>
          </a:xfrm>
        </p:grpSpPr>
        <p:pic>
          <p:nvPicPr>
            <p:cNvPr id="205" name="Овал 5" descr=""/>
            <p:cNvPicPr/>
            <p:nvPr/>
          </p:nvPicPr>
          <p:blipFill>
            <a:blip r:embed="rId3"/>
            <a:stretch/>
          </p:blipFill>
          <p:spPr>
            <a:xfrm>
              <a:off x="1974960" y="3541680"/>
              <a:ext cx="1054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146320" y="3708360"/>
              <a:ext cx="70812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sp>
        <p:nvSpPr>
          <p:cNvPr id="207" name="Прямая соединительная линия 9"/>
          <p:cNvSpPr/>
          <p:nvPr/>
        </p:nvSpPr>
        <p:spPr>
          <a:xfrm>
            <a:off x="1892160" y="3071880"/>
            <a:ext cx="465120" cy="500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8" name="Прямая соединительная линия 12"/>
          <p:cNvSpPr/>
          <p:nvPr/>
        </p:nvSpPr>
        <p:spPr>
          <a:xfrm flipH="1">
            <a:off x="1425600" y="3071880"/>
            <a:ext cx="466560" cy="6364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Содержимое 3"/>
              <p:cNvSpPr txBox="1"/>
              <p:nvPr/>
            </p:nvSpPr>
            <p:spPr>
              <a:xfrm>
                <a:off x="3786120" y="2857680"/>
                <a:ext cx="4535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Прямая соединительная линия 15"/>
          <p:cNvSpPr/>
          <p:nvPr/>
        </p:nvSpPr>
        <p:spPr>
          <a:xfrm>
            <a:off x="4500720" y="2286000"/>
            <a:ext cx="30002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 flipH="1">
            <a:off x="4498560" y="2286000"/>
            <a:ext cx="1800" cy="500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12" name="Прямая со стрелкой 20"/>
          <p:cNvCxnSpPr/>
          <p:nvPr/>
        </p:nvCxnSpPr>
        <p:spPr>
          <a:xfrm flipH="1">
            <a:off x="6000480" y="2357280"/>
            <a:ext cx="2160" cy="5011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13" name="Прямая со стрелкой 22"/>
          <p:cNvCxnSpPr/>
          <p:nvPr/>
        </p:nvCxnSpPr>
        <p:spPr>
          <a:xfrm flipH="1">
            <a:off x="7500600" y="2285640"/>
            <a:ext cx="2160" cy="5007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14" name="Text Box 21"/>
          <p:cNvSpPr/>
          <p:nvPr/>
        </p:nvSpPr>
        <p:spPr>
          <a:xfrm>
            <a:off x="3419640" y="4869000"/>
            <a:ext cx="47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Из данного текста найдите предложение ,соответствующее этой схеме , или сами сконструируйте  его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176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следовательное подчин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6" name="Прямоугольник 3"/>
          <p:cNvGrpSpPr/>
          <p:nvPr/>
        </p:nvGrpSpPr>
        <p:grpSpPr>
          <a:xfrm>
            <a:off x="615960" y="1847880"/>
            <a:ext cx="1268280" cy="846000"/>
            <a:chOff x="615960" y="1847880"/>
            <a:chExt cx="1268280" cy="846000"/>
          </a:xfrm>
        </p:grpSpPr>
        <p:pic>
          <p:nvPicPr>
            <p:cNvPr id="21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15960" y="1847880"/>
              <a:ext cx="126828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42960" y="1878120"/>
              <a:ext cx="1214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гл. 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19" name="Овал 4"/>
          <p:cNvGrpSpPr/>
          <p:nvPr/>
        </p:nvGrpSpPr>
        <p:grpSpPr>
          <a:xfrm>
            <a:off x="755640" y="2975040"/>
            <a:ext cx="1060560" cy="981000"/>
            <a:chOff x="755640" y="2975040"/>
            <a:chExt cx="1060560" cy="981000"/>
          </a:xfrm>
        </p:grpSpPr>
        <p:pic>
          <p:nvPicPr>
            <p:cNvPr id="220" name="Овал 4" descr=""/>
            <p:cNvPicPr/>
            <p:nvPr/>
          </p:nvPicPr>
          <p:blipFill>
            <a:blip r:embed="rId2"/>
            <a:stretch/>
          </p:blipFill>
          <p:spPr>
            <a:xfrm>
              <a:off x="755640" y="2975040"/>
              <a:ext cx="106056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932040" y="3137040"/>
              <a:ext cx="7077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1 пр.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22" name="Овал 5"/>
          <p:cNvGrpSpPr/>
          <p:nvPr/>
        </p:nvGrpSpPr>
        <p:grpSpPr>
          <a:xfrm>
            <a:off x="755640" y="4114800"/>
            <a:ext cx="1060560" cy="987480"/>
            <a:chOff x="755640" y="4114800"/>
            <a:chExt cx="1060560" cy="987480"/>
          </a:xfrm>
        </p:grpSpPr>
        <p:pic>
          <p:nvPicPr>
            <p:cNvPr id="223" name="Овал 5" descr=""/>
            <p:cNvPicPr/>
            <p:nvPr/>
          </p:nvPicPr>
          <p:blipFill>
            <a:blip r:embed="rId3"/>
            <a:stretch/>
          </p:blipFill>
          <p:spPr>
            <a:xfrm>
              <a:off x="755640" y="4114800"/>
              <a:ext cx="10605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932040" y="4280040"/>
              <a:ext cx="7077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2 пр.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cxnSp>
        <p:nvCxnSpPr>
          <p:cNvPr id="225" name="Прямая со стрелкой 13"/>
          <p:cNvCxnSpPr/>
          <p:nvPr/>
        </p:nvCxnSpPr>
        <p:spPr>
          <a:xfrm flipH="1">
            <a:off x="1283400" y="3930480"/>
            <a:ext cx="2520" cy="215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26" name="Прямая со стрелкой 15"/>
          <p:cNvCxnSpPr/>
          <p:nvPr/>
        </p:nvCxnSpPr>
        <p:spPr>
          <a:xfrm flipH="1">
            <a:off x="1283400" y="2785680"/>
            <a:ext cx="2520" cy="2149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7" name="Содержимое 3"/>
              <p:cNvSpPr txBox="1"/>
              <p:nvPr/>
            </p:nvSpPr>
            <p:spPr>
              <a:xfrm>
                <a:off x="2697120" y="2428920"/>
                <a:ext cx="4535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Прямая соединительная линия 18"/>
          <p:cNvSpPr/>
          <p:nvPr/>
        </p:nvSpPr>
        <p:spPr>
          <a:xfrm>
            <a:off x="3143160" y="2000160"/>
            <a:ext cx="157176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29" name="Прямая со стрелкой 20"/>
          <p:cNvCxnSpPr/>
          <p:nvPr/>
        </p:nvCxnSpPr>
        <p:spPr>
          <a:xfrm flipH="1">
            <a:off x="4714560" y="2000160"/>
            <a:ext cx="2160" cy="3578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30" name="Прямая соединительная линия 22"/>
          <p:cNvSpPr/>
          <p:nvPr/>
        </p:nvSpPr>
        <p:spPr>
          <a:xfrm flipH="1">
            <a:off x="3141720" y="2000160"/>
            <a:ext cx="1440" cy="357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Прямая соединительная линия 24"/>
          <p:cNvSpPr/>
          <p:nvPr/>
        </p:nvSpPr>
        <p:spPr>
          <a:xfrm>
            <a:off x="5000760" y="2000160"/>
            <a:ext cx="157140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2" name="Прямая соединительная линия 25"/>
          <p:cNvSpPr/>
          <p:nvPr/>
        </p:nvSpPr>
        <p:spPr>
          <a:xfrm flipH="1">
            <a:off x="5000760" y="2000160"/>
            <a:ext cx="1440" cy="357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33" name="Прямая со стрелкой 26"/>
          <p:cNvCxnSpPr/>
          <p:nvPr/>
        </p:nvCxnSpPr>
        <p:spPr>
          <a:xfrm flipH="1">
            <a:off x="6571440" y="2000160"/>
            <a:ext cx="2520" cy="3578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34" name="Text Box 25"/>
          <p:cNvSpPr/>
          <p:nvPr/>
        </p:nvSpPr>
        <p:spPr>
          <a:xfrm>
            <a:off x="2987640" y="3933720"/>
            <a:ext cx="489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Найдите в тексте предложение, соответствующее этой схеме, или сконструируйте его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АРАЛЛЕЛЬНОЕ ПОДЧИН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6" name="Прямоугольник 3"/>
          <p:cNvGrpSpPr/>
          <p:nvPr/>
        </p:nvGrpSpPr>
        <p:grpSpPr>
          <a:xfrm>
            <a:off x="1474920" y="2475000"/>
            <a:ext cx="1268280" cy="841320"/>
            <a:chOff x="1474920" y="2475000"/>
            <a:chExt cx="1268280" cy="841320"/>
          </a:xfrm>
        </p:grpSpPr>
        <p:pic>
          <p:nvPicPr>
            <p:cNvPr id="23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474920" y="2475000"/>
              <a:ext cx="1268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501920" y="2502000"/>
              <a:ext cx="12142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39" name="Овал 4"/>
          <p:cNvGrpSpPr/>
          <p:nvPr/>
        </p:nvGrpSpPr>
        <p:grpSpPr>
          <a:xfrm>
            <a:off x="1042920" y="3828960"/>
            <a:ext cx="1060560" cy="987480"/>
            <a:chOff x="1042920" y="3828960"/>
            <a:chExt cx="1060560" cy="987480"/>
          </a:xfrm>
        </p:grpSpPr>
        <p:pic>
          <p:nvPicPr>
            <p:cNvPr id="240" name="Овал 4" descr=""/>
            <p:cNvPicPr/>
            <p:nvPr/>
          </p:nvPicPr>
          <p:blipFill>
            <a:blip r:embed="rId2"/>
            <a:stretch/>
          </p:blipFill>
          <p:spPr>
            <a:xfrm>
              <a:off x="1042920" y="3828960"/>
              <a:ext cx="10605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219320" y="3995640"/>
              <a:ext cx="7077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p:grpSp>
        <p:nvGrpSpPr>
          <p:cNvPr id="242" name="Овал 5"/>
          <p:cNvGrpSpPr/>
          <p:nvPr/>
        </p:nvGrpSpPr>
        <p:grpSpPr>
          <a:xfrm>
            <a:off x="2189160" y="3828960"/>
            <a:ext cx="1054080" cy="987480"/>
            <a:chOff x="2189160" y="3828960"/>
            <a:chExt cx="1054080" cy="987480"/>
          </a:xfrm>
        </p:grpSpPr>
        <p:pic>
          <p:nvPicPr>
            <p:cNvPr id="243" name="Овал 5" descr=""/>
            <p:cNvPicPr/>
            <p:nvPr/>
          </p:nvPicPr>
          <p:blipFill>
            <a:blip r:embed="rId3"/>
            <a:stretch/>
          </p:blipFill>
          <p:spPr>
            <a:xfrm>
              <a:off x="2189160" y="3828960"/>
              <a:ext cx="1054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362320" y="3995640"/>
              <a:ext cx="7077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1f497d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5" name="Содержимое 3"/>
              <p:cNvSpPr txBox="1"/>
              <p:nvPr/>
            </p:nvSpPr>
            <p:spPr>
              <a:xfrm>
                <a:off x="3859200" y="3073320"/>
                <a:ext cx="4535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Прямая соединительная линия 10"/>
          <p:cNvSpPr/>
          <p:nvPr/>
        </p:nvSpPr>
        <p:spPr>
          <a:xfrm>
            <a:off x="4573440" y="2644920"/>
            <a:ext cx="14288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Прямая соединительная линия 15"/>
          <p:cNvSpPr/>
          <p:nvPr/>
        </p:nvSpPr>
        <p:spPr>
          <a:xfrm flipH="1">
            <a:off x="6001920" y="2644920"/>
            <a:ext cx="1800" cy="357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48" name="Прямая со стрелкой 17"/>
          <p:cNvCxnSpPr/>
          <p:nvPr/>
        </p:nvCxnSpPr>
        <p:spPr>
          <a:xfrm flipH="1">
            <a:off x="4571640" y="2644920"/>
            <a:ext cx="2160" cy="4291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49" name="Прямая соединительная линия 18"/>
          <p:cNvSpPr/>
          <p:nvPr/>
        </p:nvSpPr>
        <p:spPr>
          <a:xfrm>
            <a:off x="6216480" y="2644920"/>
            <a:ext cx="142884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0" name="Прямая соединительная линия 19"/>
          <p:cNvSpPr/>
          <p:nvPr/>
        </p:nvSpPr>
        <p:spPr>
          <a:xfrm flipH="1">
            <a:off x="6216120" y="2644920"/>
            <a:ext cx="1800" cy="3571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cxnSp>
        <p:nvCxnSpPr>
          <p:cNvPr id="251" name="Прямая со стрелкой 20"/>
          <p:cNvCxnSpPr/>
          <p:nvPr/>
        </p:nvCxnSpPr>
        <p:spPr>
          <a:xfrm flipH="1">
            <a:off x="7644600" y="2644920"/>
            <a:ext cx="2520" cy="4291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52" name="Прямая соединительная линия 16"/>
          <p:cNvSpPr/>
          <p:nvPr/>
        </p:nvSpPr>
        <p:spPr>
          <a:xfrm flipH="1">
            <a:off x="1499760" y="3287880"/>
            <a:ext cx="1800" cy="572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3" name="Прямая соединительная линия 22"/>
          <p:cNvSpPr/>
          <p:nvPr/>
        </p:nvSpPr>
        <p:spPr>
          <a:xfrm>
            <a:off x="2644920" y="3287880"/>
            <a:ext cx="0" cy="5713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4" name="Прямоугольник 8"/>
          <p:cNvSpPr/>
          <p:nvPr/>
        </p:nvSpPr>
        <p:spPr>
          <a:xfrm>
            <a:off x="3494520" y="5232240"/>
            <a:ext cx="511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Найдите предложение ,соответствующее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Arial"/>
              </a:rPr>
              <a:t>этой схеме,или сконструируйте сами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 1 минуту убедите  своих  собеседников из другой группы  в том, что изучение этой темы просто необходим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2" descr="https://presentacii.ru/documents_4/559b875c46bad458cfcc621bb4b811e0/img3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436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Я ко всем наукам ключ имею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Я со всей вселенною знако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Это потому, что я владе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усским всеохватным языко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. Данил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4360" y="54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/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писать сочинение на тем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Милосердие» 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уя текст о докторе Ли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2" descr="https://arhivurokov.ru/kopilka/up/html/2017/10/16/k_59e4f1e59b9c3/img_user_file_59e4f1e623d88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7070"/>
                </a:solidFill>
                <a:latin typeface="Arial"/>
                <a:ea typeface="Times New Roman"/>
              </a:rPr>
              <a:t>Добро творите. Рук не опускайте.</a:t>
            </a:r>
            <a:br>
              <a:rPr sz="2400"/>
            </a:br>
            <a:r>
              <a:rPr b="0" lang="ru-RU" sz="2400" spc="-1" strike="noStrike">
                <a:solidFill>
                  <a:srgbClr val="707070"/>
                </a:solidFill>
                <a:latin typeface="Arial"/>
                <a:ea typeface="Times New Roman"/>
              </a:rPr>
              <a:t>Цените каждый миг и каждый час.</a:t>
            </a:r>
            <a:br>
              <a:rPr sz="2400"/>
            </a:br>
            <a:r>
              <a:rPr b="0" lang="ru-RU" sz="2400" spc="-1" strike="noStrike">
                <a:solidFill>
                  <a:srgbClr val="707070"/>
                </a:solidFill>
                <a:latin typeface="Arial"/>
                <a:ea typeface="Times New Roman"/>
              </a:rPr>
              <a:t>Живите радостно. И просто знайте,</a:t>
            </a:r>
            <a:br>
              <a:rPr sz="2400"/>
            </a:br>
            <a:r>
              <a:rPr b="0" lang="ru-RU" sz="2400" spc="-1" strike="noStrike">
                <a:solidFill>
                  <a:srgbClr val="707070"/>
                </a:solidFill>
                <a:latin typeface="Arial"/>
                <a:ea typeface="Times New Roman"/>
              </a:rPr>
              <a:t>Что многое зависит лишь от нас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2" descr="https://ic.pics.livejournal.com/anchiktigra/18346223/4496609/4496609_original.png"/>
          <p:cNvPicPr/>
          <p:nvPr/>
        </p:nvPicPr>
        <p:blipFill>
          <a:blip r:embed="rId1"/>
          <a:srcRect l="42638" t="0" r="0" b="0"/>
          <a:stretch/>
        </p:blipFill>
        <p:spPr>
          <a:xfrm>
            <a:off x="2124000" y="2000160"/>
            <a:ext cx="43592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198000"/>
            <a:ext cx="76960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еловеческая память хранит име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ероев и их свершения: люди долж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ыть всегда благодарны тем, кто нашёл 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бе силы и мужество совершать вели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.Дубин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374480"/>
            <a:ext cx="7848720" cy="376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ема урока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Развитие речи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готовка к  ОГЭ и итоговому собеседованию.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4067280" y="4176000"/>
            <a:ext cx="457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  <a:ea typeface="Calibri"/>
              </a:rPr>
              <a:t>                                                                                               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273800" cy="564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Цел</a:t>
            </a:r>
            <a:r>
              <a:rPr b="1" lang="smn-FI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урока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Формировать умение работать с текстом и  находить верные ответы на вопросы ОГЭ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 Обобщение и систематизация полученных знаний, умение  применять  их на практи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Воспитывать любовь к чтению, уважение к слов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лючевые понятия на уро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979640" y="180324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ма тек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дея тек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икро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лючевое сло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иль тек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ип реч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иал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нол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оверь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68360" y="1196640"/>
            <a:ext cx="619128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икроте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де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или ре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ипы ре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иало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ноло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лючевые сл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75564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одолжите фразу «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Чтобы добитьс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спеха  в  жизни, нужно ……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ерой текс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 вставьте в каждую колонку существительны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828800"/>
          <a:ext cx="7696080" cy="2948040"/>
        </p:xfrm>
        <a:graphic>
          <a:graphicData uri="http://schemas.openxmlformats.org/drawingml/2006/table">
            <a:tbl>
              <a:tblPr/>
              <a:tblGrid>
                <a:gridCol w="2446200"/>
                <a:gridCol w="2684520"/>
                <a:gridCol w="2565360"/>
              </a:tblGrid>
              <a:tr h="183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ак как  его профессиональные достижения велики  и значимы</a:t>
                      </a:r>
                      <a:endParaRPr b="0" lang="en-US" sz="2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гумент 1-й</a:t>
                      </a:r>
                      <a:endParaRPr b="0" lang="en-US" sz="2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ак как он был не только хорошим ……, он любил людей</a:t>
                      </a:r>
                      <a:endParaRPr b="0" lang="en-US" sz="2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751"/>
                        </a:spcBef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гумент 2-й</a:t>
                      </a:r>
                      <a:endParaRPr b="0" lang="en-US" sz="20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этому его помнят потомки.</a:t>
                      </a: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ргумент 3-й</a:t>
                      </a:r>
                      <a:endParaRPr b="0" lang="en-US" sz="2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1f49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47:55Z</dcterms:created>
  <dc:creator>User</dc:creator>
  <dc:description/>
  <dc:language>en-US</dc:language>
  <cp:lastModifiedBy>User</cp:lastModifiedBy>
  <dcterms:modified xsi:type="dcterms:W3CDTF">2018-12-10T04:55:08Z</dcterms:modified>
  <cp:revision>68</cp:revision>
  <dc:subject/>
  <dc:title> ГОСПОДИН СИНТАКСИС!  МЫ С ТОБОЙ НА ТЫ!</dc:title>
</cp:coreProperties>
</file>