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BE3-A9A4-44BF-A5B7-FB621E451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E17-51BF-4429-A6A7-91B98A2AA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801-52C1-45E2-9986-FFC8F007C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E87-1BBE-448C-B3C1-6062158E9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F22-915B-49E8-9032-C41499C33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E92-0972-4C11-A91F-C100E065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F75-5332-4EBD-9C28-2E0CF93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72-75E7-49DC-BF8D-BA312BDB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C05-C096-40E0-976C-DEA5D3DB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717D-732D-4116-A02E-4CF02AAC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F50E-3010-4FC5-8E36-9915C312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90B8-B8FD-4DEB-AB95-094CD44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0B7D-ACC7-4CB9-A23A-13F4AFB7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6556-2BBA-4ADD-9AF9-D0B66174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0F6-924E-4D37-AB52-946222E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4CA8-A03E-435A-B029-AD31502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CFF-81F2-4DD0-8D1E-1750695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2E73-E9CF-4C18-AF7E-2787FFD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856-9468-4E00-982F-98B72F8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56C-ECF8-41C0-BC76-5716F6C0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9849-E170-40E3-9B56-217CFA36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1AA-794F-4525-8A7F-F25A64FE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CF3-CD8E-4087-854A-256A517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996-417C-4B3F-8175-A27BE56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F81-8641-4387-98A7-056FF71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3E9-BE34-4969-B643-37D0C17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DDC-CB8B-4C15-94F4-C538B78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BCC-9D8F-4615-8B55-E4DC94C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24F-13ED-4FD2-B5C7-9319B43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E18-A987-49B7-801B-2323F4B32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55000" y="4903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51520" y="25344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51360" y="139392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4812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95520" y="183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D6D-3DA0-4A49-8918-55FEBA500026}" type="slidenum">
              <a:rPr b="0" lang="ru-RU" sz="14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" descr="https://fs00.infourok.ru/images/doc/240/187206/2/img15.jpg"/>
          <p:cNvPicPr/>
          <p:nvPr/>
        </p:nvPicPr>
        <p:blipFill>
          <a:blip r:embed="rId1"/>
          <a:stretch/>
        </p:blipFill>
        <p:spPr>
          <a:xfrm>
            <a:off x="0" y="-100080"/>
            <a:ext cx="93916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ерите глаголы к этим существительны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попробуйте пересказ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Овал 1"/>
          <p:cNvSpPr/>
          <p:nvPr/>
        </p:nvSpPr>
        <p:spPr>
          <a:xfrm>
            <a:off x="3735360" y="26114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ктор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за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Овал 4"/>
          <p:cNvSpPr/>
          <p:nvPr/>
        </p:nvSpPr>
        <p:spPr>
          <a:xfrm>
            <a:off x="6039000" y="1563840"/>
            <a:ext cx="158400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Овал 5"/>
          <p:cNvSpPr/>
          <p:nvPr/>
        </p:nvSpPr>
        <p:spPr>
          <a:xfrm>
            <a:off x="6156360" y="433872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1117440" y="16286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Овал 7"/>
          <p:cNvSpPr/>
          <p:nvPr/>
        </p:nvSpPr>
        <p:spPr>
          <a:xfrm>
            <a:off x="1763640" y="42926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0" name="Прямая со стрелкой 3"/>
          <p:cNvCxnSpPr>
            <a:stCxn id="175" idx="7"/>
          </p:cNvCxnSpPr>
          <p:nvPr/>
        </p:nvCxnSpPr>
        <p:spPr>
          <a:xfrm flipV="1">
            <a:off x="5086440" y="2467800"/>
            <a:ext cx="95328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Прямая со стрелкой 9"/>
          <p:cNvCxnSpPr/>
          <p:nvPr/>
        </p:nvCxnSpPr>
        <p:spPr>
          <a:xfrm flipH="1" flipV="1">
            <a:off x="2584080" y="2780640"/>
            <a:ext cx="112464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Прямая со стрелкой 11"/>
          <p:cNvCxnSpPr>
            <a:stCxn id="175" idx="3"/>
            <a:endCxn id="179" idx="7"/>
          </p:cNvCxnSpPr>
          <p:nvPr/>
        </p:nvCxnSpPr>
        <p:spPr>
          <a:xfrm flipH="1">
            <a:off x="3115800" y="3963600"/>
            <a:ext cx="85176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Прямая со стрелкой 13"/>
          <p:cNvCxnSpPr>
            <a:endCxn id="177" idx="1"/>
          </p:cNvCxnSpPr>
          <p:nvPr/>
        </p:nvCxnSpPr>
        <p:spPr>
          <a:xfrm>
            <a:off x="5239800" y="3780000"/>
            <a:ext cx="114876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Овал 2"/>
          <p:cNvSpPr/>
          <p:nvPr/>
        </p:nvSpPr>
        <p:spPr>
          <a:xfrm>
            <a:off x="3743280" y="5364000"/>
            <a:ext cx="1692360" cy="136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5" name="Прямая со стрелкой 10"/>
          <p:cNvCxnSpPr/>
          <p:nvPr/>
        </p:nvCxnSpPr>
        <p:spPr>
          <a:xfrm>
            <a:off x="1692360" y="43920"/>
            <a:ext cx="21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Овал 11"/>
          <p:cNvSpPr/>
          <p:nvPr/>
        </p:nvSpPr>
        <p:spPr>
          <a:xfrm>
            <a:off x="5573880" y="7029360"/>
            <a:ext cx="4572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7" name="Прямая со стрелкой 13"/>
          <p:cNvCxnSpPr/>
          <p:nvPr/>
        </p:nvCxnSpPr>
        <p:spPr>
          <a:xfrm flipV="1">
            <a:off x="1692360" y="-3600"/>
            <a:ext cx="7200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Прямая соединительная линия 16"/>
          <p:cNvSpPr/>
          <p:nvPr/>
        </p:nvSpPr>
        <p:spPr>
          <a:xfrm>
            <a:off x="4643280" y="4195800"/>
            <a:ext cx="0" cy="11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клоняем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сать  все числительные из текста и определить раз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клонять порядковые, собирательные и одно из тех, которое имеет две падежные фор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оизнеси прави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18 г . в   Т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00  в Р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е подруги в  П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 в Д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0 в Р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00 в Т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044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нтаксис – мост через пропасть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нтаксис- это порядо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подчинительной свя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сали из текста по 5 словосочетаний : согласование, управление, примык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000080"/>
            <a:ext cx="7696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то порядочен только ради того, чтобы  об этом узнали другие и , узнав, стали питать к нему  больше уважения, кто  творит  добрые дела лишь при условии, чтобы его добродетели стали известны,- от того нельзя ожидать  слишком многого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ишель Монтен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днородное подчи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Прямоугольник 3"/>
          <p:cNvGrpSpPr/>
          <p:nvPr/>
        </p:nvGrpSpPr>
        <p:grpSpPr>
          <a:xfrm>
            <a:off x="1255680" y="2255760"/>
            <a:ext cx="1274760" cy="841320"/>
            <a:chOff x="1255680" y="2255760"/>
            <a:chExt cx="1274760" cy="841320"/>
          </a:xfrm>
        </p:grpSpPr>
        <p:pic>
          <p:nvPicPr>
            <p:cNvPr id="19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255680" y="2255760"/>
              <a:ext cx="12747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285920" y="228600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01" name="Овал 4"/>
          <p:cNvGrpSpPr/>
          <p:nvPr/>
        </p:nvGrpSpPr>
        <p:grpSpPr>
          <a:xfrm>
            <a:off x="542880" y="3541680"/>
            <a:ext cx="1054080" cy="987480"/>
            <a:chOff x="542880" y="3541680"/>
            <a:chExt cx="1054080" cy="987480"/>
          </a:xfrm>
        </p:grpSpPr>
        <p:pic>
          <p:nvPicPr>
            <p:cNvPr id="202" name="Овал 4" descr=""/>
            <p:cNvPicPr/>
            <p:nvPr/>
          </p:nvPicPr>
          <p:blipFill>
            <a:blip r:embed="rId2"/>
            <a:stretch/>
          </p:blipFill>
          <p:spPr>
            <a:xfrm>
              <a:off x="542880" y="354168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17480" y="370836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04" name="Овал 5"/>
          <p:cNvGrpSpPr/>
          <p:nvPr/>
        </p:nvGrpSpPr>
        <p:grpSpPr>
          <a:xfrm>
            <a:off x="1974960" y="3541680"/>
            <a:ext cx="1054080" cy="987480"/>
            <a:chOff x="1974960" y="3541680"/>
            <a:chExt cx="1054080" cy="987480"/>
          </a:xfrm>
        </p:grpSpPr>
        <p:pic>
          <p:nvPicPr>
            <p:cNvPr id="205" name="Овал 5" descr=""/>
            <p:cNvPicPr/>
            <p:nvPr/>
          </p:nvPicPr>
          <p:blipFill>
            <a:blip r:embed="rId3"/>
            <a:stretch/>
          </p:blipFill>
          <p:spPr>
            <a:xfrm>
              <a:off x="1974960" y="354168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146320" y="370836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sp>
        <p:nvSpPr>
          <p:cNvPr id="207" name="Прямая соединительная линия 9"/>
          <p:cNvSpPr/>
          <p:nvPr/>
        </p:nvSpPr>
        <p:spPr>
          <a:xfrm>
            <a:off x="1892160" y="3071880"/>
            <a:ext cx="465120" cy="50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Прямая соединительная линия 12"/>
          <p:cNvSpPr/>
          <p:nvPr/>
        </p:nvSpPr>
        <p:spPr>
          <a:xfrm flipH="1">
            <a:off x="1425600" y="3071880"/>
            <a:ext cx="466560" cy="6364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Содержимое 3"/>
              <p:cNvSpPr txBox="1"/>
              <p:nvPr/>
            </p:nvSpPr>
            <p:spPr>
              <a:xfrm>
                <a:off x="3786120" y="285768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Прямая соединительная линия 15"/>
          <p:cNvSpPr/>
          <p:nvPr/>
        </p:nvSpPr>
        <p:spPr>
          <a:xfrm>
            <a:off x="4500720" y="2286000"/>
            <a:ext cx="30002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 flipH="1">
            <a:off x="4498560" y="2286000"/>
            <a:ext cx="1800" cy="50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12" name="Прямая со стрелкой 20"/>
          <p:cNvCxnSpPr/>
          <p:nvPr/>
        </p:nvCxnSpPr>
        <p:spPr>
          <a:xfrm flipH="1">
            <a:off x="6000480" y="2357280"/>
            <a:ext cx="2160" cy="501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22"/>
          <p:cNvCxnSpPr/>
          <p:nvPr/>
        </p:nvCxnSpPr>
        <p:spPr>
          <a:xfrm flipH="1">
            <a:off x="7500600" y="2285640"/>
            <a:ext cx="2160" cy="5007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14" name="Text Box 21"/>
          <p:cNvSpPr/>
          <p:nvPr/>
        </p:nvSpPr>
        <p:spPr>
          <a:xfrm>
            <a:off x="3419640" y="486900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Из данного текста найдите предложение ,соответствующее этой схеме , или сами сконструируйте  его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76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едовательное подчин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Прямоугольник 3"/>
          <p:cNvGrpSpPr/>
          <p:nvPr/>
        </p:nvGrpSpPr>
        <p:grpSpPr>
          <a:xfrm>
            <a:off x="615960" y="1847880"/>
            <a:ext cx="1268280" cy="846000"/>
            <a:chOff x="615960" y="1847880"/>
            <a:chExt cx="1268280" cy="846000"/>
          </a:xfrm>
        </p:grpSpPr>
        <p:pic>
          <p:nvPicPr>
            <p:cNvPr id="21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15960" y="1847880"/>
              <a:ext cx="12682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42960" y="187812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л.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19" name="Овал 4"/>
          <p:cNvGrpSpPr/>
          <p:nvPr/>
        </p:nvGrpSpPr>
        <p:grpSpPr>
          <a:xfrm>
            <a:off x="755640" y="2975040"/>
            <a:ext cx="1060560" cy="981000"/>
            <a:chOff x="755640" y="2975040"/>
            <a:chExt cx="1060560" cy="981000"/>
          </a:xfrm>
        </p:grpSpPr>
        <p:pic>
          <p:nvPicPr>
            <p:cNvPr id="220" name="Овал 4" descr=""/>
            <p:cNvPicPr/>
            <p:nvPr/>
          </p:nvPicPr>
          <p:blipFill>
            <a:blip r:embed="rId2"/>
            <a:stretch/>
          </p:blipFill>
          <p:spPr>
            <a:xfrm>
              <a:off x="755640" y="2975040"/>
              <a:ext cx="10605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932040" y="31370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1 пр.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22" name="Овал 5"/>
          <p:cNvGrpSpPr/>
          <p:nvPr/>
        </p:nvGrpSpPr>
        <p:grpSpPr>
          <a:xfrm>
            <a:off x="755640" y="4114800"/>
            <a:ext cx="1060560" cy="987480"/>
            <a:chOff x="755640" y="4114800"/>
            <a:chExt cx="1060560" cy="987480"/>
          </a:xfrm>
        </p:grpSpPr>
        <p:pic>
          <p:nvPicPr>
            <p:cNvPr id="223" name="Овал 5" descr=""/>
            <p:cNvPicPr/>
            <p:nvPr/>
          </p:nvPicPr>
          <p:blipFill>
            <a:blip r:embed="rId3"/>
            <a:stretch/>
          </p:blipFill>
          <p:spPr>
            <a:xfrm>
              <a:off x="755640" y="4114800"/>
              <a:ext cx="1060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32040" y="42800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2 пр.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cxnSp>
        <p:nvCxnSpPr>
          <p:cNvPr id="225" name="Прямая со стрелкой 13"/>
          <p:cNvCxnSpPr/>
          <p:nvPr/>
        </p:nvCxnSpPr>
        <p:spPr>
          <a:xfrm flipH="1">
            <a:off x="1283400" y="3930480"/>
            <a:ext cx="2520" cy="215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26" name="Прямая со стрелкой 15"/>
          <p:cNvCxnSpPr/>
          <p:nvPr/>
        </p:nvCxnSpPr>
        <p:spPr>
          <a:xfrm flipH="1">
            <a:off x="1283400" y="2785680"/>
            <a:ext cx="2520" cy="2149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7" name="Содержимое 3"/>
              <p:cNvSpPr txBox="1"/>
              <p:nvPr/>
            </p:nvSpPr>
            <p:spPr>
              <a:xfrm>
                <a:off x="2697120" y="242892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Прямая соединительная линия 18"/>
          <p:cNvSpPr/>
          <p:nvPr/>
        </p:nvSpPr>
        <p:spPr>
          <a:xfrm>
            <a:off x="3143160" y="2000160"/>
            <a:ext cx="157176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29" name="Прямая со стрелкой 20"/>
          <p:cNvCxnSpPr/>
          <p:nvPr/>
        </p:nvCxnSpPr>
        <p:spPr>
          <a:xfrm flipH="1">
            <a:off x="4714560" y="2000160"/>
            <a:ext cx="2160" cy="357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0" name="Прямая соединительная линия 22"/>
          <p:cNvSpPr/>
          <p:nvPr/>
        </p:nvSpPr>
        <p:spPr>
          <a:xfrm flipH="1">
            <a:off x="3141720" y="2000160"/>
            <a:ext cx="144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Прямая соединительная линия 24"/>
          <p:cNvSpPr/>
          <p:nvPr/>
        </p:nvSpPr>
        <p:spPr>
          <a:xfrm>
            <a:off x="5000760" y="2000160"/>
            <a:ext cx="157140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Прямая соединительная линия 25"/>
          <p:cNvSpPr/>
          <p:nvPr/>
        </p:nvSpPr>
        <p:spPr>
          <a:xfrm flipH="1">
            <a:off x="5000760" y="2000160"/>
            <a:ext cx="144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33" name="Прямая со стрелкой 26"/>
          <p:cNvCxnSpPr/>
          <p:nvPr/>
        </p:nvCxnSpPr>
        <p:spPr>
          <a:xfrm flipH="1">
            <a:off x="6571440" y="2000160"/>
            <a:ext cx="2520" cy="357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4" name="Text Box 25"/>
          <p:cNvSpPr/>
          <p:nvPr/>
        </p:nvSpPr>
        <p:spPr>
          <a:xfrm>
            <a:off x="2987640" y="3933720"/>
            <a:ext cx="48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йдите в тексте предложение, соответствующее этой схеме, или сконструируйте его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АРАЛЛЕЛЬНОЕ ПОДЧИ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Прямоугольник 3"/>
          <p:cNvGrpSpPr/>
          <p:nvPr/>
        </p:nvGrpSpPr>
        <p:grpSpPr>
          <a:xfrm>
            <a:off x="1474920" y="2475000"/>
            <a:ext cx="1268280" cy="841320"/>
            <a:chOff x="1474920" y="2475000"/>
            <a:chExt cx="1268280" cy="841320"/>
          </a:xfrm>
        </p:grpSpPr>
        <p:pic>
          <p:nvPicPr>
            <p:cNvPr id="23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474920" y="2475000"/>
              <a:ext cx="1268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501920" y="250200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39" name="Овал 4"/>
          <p:cNvGrpSpPr/>
          <p:nvPr/>
        </p:nvGrpSpPr>
        <p:grpSpPr>
          <a:xfrm>
            <a:off x="1042920" y="3828960"/>
            <a:ext cx="1060560" cy="987480"/>
            <a:chOff x="1042920" y="3828960"/>
            <a:chExt cx="1060560" cy="987480"/>
          </a:xfrm>
        </p:grpSpPr>
        <p:pic>
          <p:nvPicPr>
            <p:cNvPr id="240" name="Овал 4" descr=""/>
            <p:cNvPicPr/>
            <p:nvPr/>
          </p:nvPicPr>
          <p:blipFill>
            <a:blip r:embed="rId2"/>
            <a:stretch/>
          </p:blipFill>
          <p:spPr>
            <a:xfrm>
              <a:off x="1042920" y="3828960"/>
              <a:ext cx="1060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219320" y="39956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42" name="Овал 5"/>
          <p:cNvGrpSpPr/>
          <p:nvPr/>
        </p:nvGrpSpPr>
        <p:grpSpPr>
          <a:xfrm>
            <a:off x="2189160" y="3828960"/>
            <a:ext cx="1054080" cy="987480"/>
            <a:chOff x="2189160" y="3828960"/>
            <a:chExt cx="1054080" cy="987480"/>
          </a:xfrm>
        </p:grpSpPr>
        <p:pic>
          <p:nvPicPr>
            <p:cNvPr id="243" name="Овал 5" descr=""/>
            <p:cNvPicPr/>
            <p:nvPr/>
          </p:nvPicPr>
          <p:blipFill>
            <a:blip r:embed="rId3"/>
            <a:stretch/>
          </p:blipFill>
          <p:spPr>
            <a:xfrm>
              <a:off x="2189160" y="382896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362320" y="39956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Содержимое 3"/>
              <p:cNvSpPr txBox="1"/>
              <p:nvPr/>
            </p:nvSpPr>
            <p:spPr>
              <a:xfrm>
                <a:off x="3859200" y="307332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Прямая соединительная линия 10"/>
          <p:cNvSpPr/>
          <p:nvPr/>
        </p:nvSpPr>
        <p:spPr>
          <a:xfrm>
            <a:off x="4573440" y="2644920"/>
            <a:ext cx="14288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Прямая соединительная линия 15"/>
          <p:cNvSpPr/>
          <p:nvPr/>
        </p:nvSpPr>
        <p:spPr>
          <a:xfrm flipH="1">
            <a:off x="6001920" y="2644920"/>
            <a:ext cx="180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48" name="Прямая со стрелкой 17"/>
          <p:cNvCxnSpPr/>
          <p:nvPr/>
        </p:nvCxnSpPr>
        <p:spPr>
          <a:xfrm flipH="1">
            <a:off x="4571640" y="2644920"/>
            <a:ext cx="216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49" name="Прямая соединительная линия 18"/>
          <p:cNvSpPr/>
          <p:nvPr/>
        </p:nvSpPr>
        <p:spPr>
          <a:xfrm>
            <a:off x="6216480" y="2644920"/>
            <a:ext cx="14288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 flipH="1">
            <a:off x="6216120" y="2644920"/>
            <a:ext cx="180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51" name="Прямая со стрелкой 20"/>
          <p:cNvCxnSpPr/>
          <p:nvPr/>
        </p:nvCxnSpPr>
        <p:spPr>
          <a:xfrm flipH="1">
            <a:off x="7644600" y="2644920"/>
            <a:ext cx="252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52" name="Прямая соединительная линия 16"/>
          <p:cNvSpPr/>
          <p:nvPr/>
        </p:nvSpPr>
        <p:spPr>
          <a:xfrm flipH="1">
            <a:off x="1499760" y="3287880"/>
            <a:ext cx="1800" cy="572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2644920" y="3287880"/>
            <a:ext cx="0" cy="5713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Прямоугольник 8"/>
          <p:cNvSpPr/>
          <p:nvPr/>
        </p:nvSpPr>
        <p:spPr>
          <a:xfrm>
            <a:off x="3494520" y="5232240"/>
            <a:ext cx="511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Найдите предложение ,соответствующе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этой схеме,или сконструируйте сам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1 минуту убедите  своих  собеседников из другой группы  в том, что изучение этой темы просто необходим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s://presentacii.ru/documents_4/559b875c46bad458cfcc621bb4b811e0/img3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ко всем наукам ключ имею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со всей вселенною знако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то потому, что я владе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усским всеохватным языко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. Данил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/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писать сочинение на те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илосердие» 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я текст о докторе Л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2" descr="https://arhivurokov.ru/kopilka/up/html/2017/10/16/k_59e4f1e59b9c3/img_user_file_59e4f1e623d88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Добро творите. Рук не опускайте.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Цените каждый миг и каждый час.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Живите радостно. И просто знайте,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Что многое зависит лишь от нас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2" descr="https://ic.pics.livejournal.com/anchiktigra/18346223/4496609/4496609_original.png"/>
          <p:cNvPicPr/>
          <p:nvPr/>
        </p:nvPicPr>
        <p:blipFill>
          <a:blip r:embed="rId1"/>
          <a:srcRect l="42638" t="0" r="0" b="0"/>
          <a:stretch/>
        </p:blipFill>
        <p:spPr>
          <a:xfrm>
            <a:off x="2124000" y="2000160"/>
            <a:ext cx="4359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98000"/>
            <a:ext cx="76960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еловеческая память хранит им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ероев и их свершения: люди долж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ть всегда благодарны тем, кто нашёл 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бе силы и мужество совершать вели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.Дубин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74480"/>
            <a:ext cx="7848720" cy="37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 уро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Развитие реч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готовка к  ОГЭ и итоговому собеседованию.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067280" y="417600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273800" cy="564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Цел</a:t>
            </a:r>
            <a:r>
              <a:rPr b="1" lang="smn-FI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урок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Формировать умение работать с текстом и  находить верные ответы на вопросы ОГЭ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 Обобщение и систематизация полученных знаний, умение  применять  их на практи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Воспитывать любовь к чтению, уважение к сло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лючевые понятия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979640" y="180324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дея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икро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лючевое сл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иль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ип ре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нол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оверь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68360" y="1196640"/>
            <a:ext cx="619128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крот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де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или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ипы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но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ючевые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564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должите фразу 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Чтобы добитьс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спеха  в  жизни, нужно ……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рой текс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 вставьте в каждую колонку существительны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828800"/>
          <a:ext cx="7696080" cy="2948040"/>
        </p:xfrm>
        <a:graphic>
          <a:graphicData uri="http://schemas.openxmlformats.org/drawingml/2006/table">
            <a:tbl>
              <a:tblPr/>
              <a:tblGrid>
                <a:gridCol w="2446200"/>
                <a:gridCol w="2684520"/>
                <a:gridCol w="2565360"/>
              </a:tblGrid>
              <a:tr h="183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к как  его профессиональные достижения велики  и значимы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1-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к как он был не только хорошим ……, он любил люде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2-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этому его помнят потомки.</a:t>
                      </a: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3-й</a:t>
                      </a: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7:55Z</dcterms:created>
  <dc:creator>User</dc:creator>
  <dc:description/>
  <dc:language>en-US</dc:language>
  <cp:lastModifiedBy>User</cp:lastModifiedBy>
  <dcterms:modified xsi:type="dcterms:W3CDTF">2018-12-10T04:55:08Z</dcterms:modified>
  <cp:revision>68</cp:revision>
  <dc:subject/>
  <dc:title> ГОСПОДИН СИНТАКСИС!  МЫ С ТОБОЙ НА ТЫ!</dc:title>
</cp:coreProperties>
</file>