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97B-233C-4D5D-B3D7-A103C0AB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C69-8DF1-4C13-A858-21DC6499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589-5E0F-498B-980B-94EF0A9B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AAA-95F5-4227-BC1C-A058040E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C5C7-DA26-4451-A9B7-32A4DD99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63A2-0B50-4853-9D7A-AB4273DC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3B79-5288-4A2D-8E61-4E5EDBB5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78EF-5E30-48B3-ABB9-74AEBB7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5E1E-8A54-4E3C-AA5B-C93058F8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F440-1A3C-49C9-A188-C00847E9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4FAE-B934-4AF4-A785-F481FD02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73BA-76A7-487D-BD97-E467802D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39F9-ADF3-4330-AA62-4821D5AB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8986-6F01-4554-A2D2-9059E465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7D35-78B9-48AE-A0C1-C42FFDFA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3DA9-862C-4C40-9068-AAC71063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94FA-BC1F-4C2D-AF29-225E5F72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334-A782-48BD-8177-79F64D13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CA9-76E9-4694-991C-9FABADCA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D15-CBEE-40A8-A45E-A359913B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66A-9FCD-4F2E-A019-31D2479B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F8F-A361-4B54-B96C-4D179C8D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F37-81B8-456E-9529-643ECD92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D04-BA96-430C-BB18-FA94469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A606-F0BD-4CF0-B36D-407C86025BF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752C-416A-4CF1-BC38-2A088891E43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426960"/>
            <a:ext cx="8229600" cy="2425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23640" y="2565000"/>
            <a:ext cx="81435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10082"/>
                </a:solidFill>
                <a:latin typeface="Times New Roman"/>
              </a:rPr>
              <a:t>Обличение человеческих пороков в баснях И.А.Крылова</a:t>
            </a:r>
            <a:r>
              <a:rPr b="0" lang="ru-RU" sz="4400" spc="-1" strike="noStrike">
                <a:solidFill>
                  <a:srgbClr val="410082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310212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3079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Случается нередко н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И труд и мудрость видеть та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Где стоит только догад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За дело просто взя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Содержимое 4" descr="list3_b.jpg"/>
          <p:cNvPicPr/>
          <p:nvPr/>
        </p:nvPicPr>
        <p:blipFill>
          <a:blip r:embed="rId2"/>
          <a:stretch/>
        </p:blipFill>
        <p:spPr>
          <a:xfrm>
            <a:off x="3701880" y="500040"/>
            <a:ext cx="51562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опробуйте перечислить, какие пороки человека высмеивает Крылов в басня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 «А Васька слушает …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 «Чтоб музыкантом быть, так надобн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3. «Хоть видит око, да зуб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4. «Ай, Моська, знать, она сильн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5. « Когда в товарищах согласья нет, на лад их дело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395280" y="620640"/>
            <a:ext cx="80391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"Закончи строчку из басни Крылова"</a:t>
            </a:r>
            <a:endParaRPr b="0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410082"/>
                </a:solidFill>
                <a:latin typeface="Times New Roman"/>
              </a:rPr>
              <a:t>«Из каких басен Крылова   взяты эти строчки?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WordArt 14"/>
          <p:cNvGrpSpPr/>
          <p:nvPr/>
        </p:nvGrpSpPr>
        <p:grpSpPr>
          <a:xfrm>
            <a:off x="438120" y="262080"/>
            <a:ext cx="8261280" cy="1170000"/>
            <a:chOff x="438120" y="262080"/>
            <a:chExt cx="8261280" cy="1170000"/>
          </a:xfrm>
        </p:grpSpPr>
        <p:pic>
          <p:nvPicPr>
            <p:cNvPr id="114" name="WordArt 1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38120" y="262080"/>
              <a:ext cx="8261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викторин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-4182840"/>
            <a:ext cx="7128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Уж сколько раз твердили миру, что лесть гнусна, вредна; но только всё не впрок, и в сердце льстец всегда отыщет угол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10082"/>
                </a:solidFill>
                <a:latin typeface="Arial"/>
              </a:rPr>
              <a:t>(«Ворона и         Лисица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9" descr="Рисунок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920" y="836640"/>
            <a:ext cx="471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464400"/>
            <a:ext cx="719280" cy="36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2000" y="620640"/>
            <a:ext cx="2890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Когда в товарищах согласья нет, на лад их дело не пойдёт и выйдет из него не дело, только му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Лебедь, Щука и Ра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1" descr="Рисунок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12880"/>
            <a:ext cx="608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-3602880"/>
            <a:ext cx="7128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У сильного всегда бессильный винов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Волк и  Ягнёнок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Рисунок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-4477320"/>
            <a:ext cx="92160" cy="11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0072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Попрыгунья Стрекоза лето красное пропела; оглянуться не успела, как зима катит в гла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(«Стрекоза и Мураве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Рисунок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49360"/>
            <a:ext cx="470052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-2005200"/>
            <a:ext cx="71640" cy="91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Times New Roman"/>
              </a:rPr>
              <a:t>Невежда так же в ослепленье бранит науки и ученье и все учёные труды, не чувствуя, что он вкушает их пл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10082"/>
                </a:solidFill>
                <a:latin typeface="Times New Roman"/>
              </a:rPr>
              <a:t>(«Свинья под дубом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9" descr="Фотка 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84280"/>
            <a:ext cx="4707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-354960"/>
            <a:ext cx="946080" cy="31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87640" y="1341000"/>
            <a:ext cx="3887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Голодная кума Лиса залезла в сад; в нём винограду кисти рдели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10082"/>
                </a:solidFill>
                <a:latin typeface="Arial"/>
              </a:rPr>
              <a:t>(«Лисица и виноград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7" descr="Рисунок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4716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7640" y="44064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33112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10082"/>
                </a:solidFill>
                <a:latin typeface="Times New Roman"/>
              </a:rPr>
              <a:t>Люблю, где случай есть, пороки пощипа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921e81"/>
                </a:solidFill>
                <a:latin typeface="Times New Roman"/>
              </a:rPr>
              <a:t>И.А.Кры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одержимое 4" descr="Эггинк ИЕ.jpg"/>
          <p:cNvPicPr/>
          <p:nvPr/>
        </p:nvPicPr>
        <p:blipFill>
          <a:blip r:embed="rId1"/>
          <a:stretch/>
        </p:blipFill>
        <p:spPr>
          <a:xfrm>
            <a:off x="4143240" y="285840"/>
            <a:ext cx="4429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Сочинение «Что осуждается в русских баснях?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1305000" y="609480"/>
            <a:ext cx="7381800" cy="1444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2133720"/>
            <a:ext cx="7086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Arial"/>
              </a:rPr>
              <a:t>учитель русского языка и литературы Сизова М.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00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9900ff"/>
                </a:solidFill>
                <a:latin typeface="Arial"/>
              </a:rPr>
              <a:t>Комсомольская средняя общеобразовательная школа №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9280" y="333360"/>
            <a:ext cx="8445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Басня  - это…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краткий стихотворный или прозаический рассказ нравоучительного характера, имеющий иносказательный, аллегорический смыс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Мораль – эт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начальные или заключительные строки басни с нравоучительным выв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Аллегория – это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62626"/>
                </a:solidFill>
                <a:latin typeface="Arial"/>
              </a:rPr>
              <a:t>изображение предмета, за которым скрывается другое понятие или другой предм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0" y="922320"/>
            <a:ext cx="69840" cy="61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«Осёл и Соловей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Times New Roman"/>
              </a:rPr>
              <a:t>1811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Содержимое 4" descr="list5_b.jpg"/>
          <p:cNvPicPr/>
          <p:nvPr/>
        </p:nvPicPr>
        <p:blipFill>
          <a:blip r:embed="rId1"/>
          <a:stretch/>
        </p:blipFill>
        <p:spPr>
          <a:xfrm>
            <a:off x="4286160" y="714240"/>
            <a:ext cx="421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то было причиной появления басни «Осёл и Соловей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Над чем заставляет читателя смеяться баснописе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Чем восхищались современни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82971"/>
                </a:solidFill>
                <a:latin typeface="Arial"/>
              </a:rPr>
              <a:t>Почему особенно важно было показать в басне красоту пения Соловья и восхищение слушател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311040" y="-19080"/>
            <a:ext cx="3432240" cy="17193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300816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…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Избави Бог и нас  от этаких суд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Содержимое 4" descr="krylov16.gif"/>
          <p:cNvPicPr/>
          <p:nvPr/>
        </p:nvPicPr>
        <p:blipFill>
          <a:blip r:embed="rId2"/>
          <a:stretch/>
        </p:blipFill>
        <p:spPr>
          <a:xfrm>
            <a:off x="4000680" y="285840"/>
            <a:ext cx="4643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28680" y="195120"/>
            <a:ext cx="3157560" cy="14511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Как вы объясните иллюстрацию художника К.Трутовского к басне «Листы и Корни»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Почему там нет ни листов ни корн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4" descr="Тургенев 008.jpg"/>
          <p:cNvPicPr/>
          <p:nvPr/>
        </p:nvPicPr>
        <p:blipFill>
          <a:blip r:embed="rId2"/>
          <a:stretch/>
        </p:blipFill>
        <p:spPr>
          <a:xfrm>
            <a:off x="3714840" y="357120"/>
            <a:ext cx="507204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Что хотел сказать И.А.Крылов басней «Листы и Корни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В каких словах выражена мораль в этой басн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</a:rPr>
              <a:t>О каких жизненных ситуациях говорится в этих строк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281160" y="262080"/>
            <a:ext cx="3181320" cy="14810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1.Над чем смеётся баснописец в басне «Ларчик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2.Что изменилось бы в басне от перестановки ударения (на слове «просто» или «открывался»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Содержимое 4" descr="Тургенев.jpg"/>
          <p:cNvPicPr/>
          <p:nvPr/>
        </p:nvPicPr>
        <p:blipFill>
          <a:blip r:embed="rId2"/>
          <a:stretch/>
        </p:blipFill>
        <p:spPr>
          <a:xfrm>
            <a:off x="4143240" y="285840"/>
            <a:ext cx="46436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8:49:10Z</dcterms:created>
  <dc:creator>Kolpbushka333</dc:creator>
  <dc:description/>
  <dc:language>en-US</dc:language>
  <cp:lastModifiedBy>1</cp:lastModifiedBy>
  <dcterms:modified xsi:type="dcterms:W3CDTF">2013-02-13T10:06:40Z</dcterms:modified>
  <cp:revision>39</cp:revision>
  <dc:subject/>
  <dc:title>Урок литературы в 6 классе.</dc:title>
</cp:coreProperties>
</file>