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5FE-95A9-4D26-859B-C07B0B88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04C-7A69-4E12-89B9-7E78A0C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385-D0DF-4C96-80CC-285B82B2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BE8-016C-4E5B-928D-873B0D8B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11BF-17B9-49AE-97FB-35B545C9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AB55-30BE-4AC9-ABDB-291A58BB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42C-33F1-456B-B336-70180ADE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F2CC-198B-4AD9-9912-F883AAB0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F22B-4859-4A18-9646-DAC08D00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9B1C-07A5-40F0-9DDC-D1264569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76A6-9845-4F67-BD51-BFF1AC6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646-5498-4EF9-B11E-74EB55A8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AB8E-E967-4939-A643-5BCC1B5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0A6D-925B-4B06-B9B5-8EA6856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59A7-A95B-4766-8BD5-5AA11C3A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A49E-A3FA-4553-B518-564ECFE7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71C0-044A-4345-AF45-E353C627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6EC-D8E0-46F9-8495-FA8A6EFB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08E-3F34-44C2-AF9D-75A84153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46D-00B9-401E-A395-99E01C1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8EB-FB25-43A6-BA1D-F86820F4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EA4-838C-4F4E-AA80-F3BC892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D07-F4D7-48ED-8703-1266FB05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4C3-7D57-4AED-9F9A-2E11D2D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A2ED-1BDE-485F-9F87-DAAE5C65695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123F-570F-42C8-99E3-8D1736CAA70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426960"/>
            <a:ext cx="8229600" cy="24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2565000"/>
            <a:ext cx="81435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10082"/>
                </a:solidFill>
                <a:latin typeface="Times New Roman"/>
              </a:rPr>
              <a:t>Обличение человеческих пороков в баснях И.А.Крылова</a:t>
            </a:r>
            <a:r>
              <a:rPr b="0" lang="ru-RU" sz="4400" spc="-1" strike="noStrike">
                <a:solidFill>
                  <a:srgbClr val="410082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310212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3079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Случается нередко н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И труд и мудрость видеть та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Где стоит только догад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За дело просто взя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Содержимое 4" descr="list3_b.jpg"/>
          <p:cNvPicPr/>
          <p:nvPr/>
        </p:nvPicPr>
        <p:blipFill>
          <a:blip r:embed="rId2"/>
          <a:stretch/>
        </p:blipFill>
        <p:spPr>
          <a:xfrm>
            <a:off x="3701880" y="500040"/>
            <a:ext cx="51562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пробуйте перечислить, какие пороки человека высмеивает Крылов в басн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 «А Васька слушает 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 «Чтоб музыкантом быть, так надобн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3. «Хоть видит око, да зуб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4. «Ай, Моська, знать, она сильн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5. « Когда в товарищах согласья нет, на лад их дел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395280" y="620640"/>
            <a:ext cx="8039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"Закончи строчку из басни Крылова"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10082"/>
                </a:solidFill>
                <a:latin typeface="Times New Roman"/>
              </a:rPr>
              <a:t>«Из каких басен Крылова   взяты эти строчки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WordArt 14"/>
          <p:cNvGrpSpPr/>
          <p:nvPr/>
        </p:nvGrpSpPr>
        <p:grpSpPr>
          <a:xfrm>
            <a:off x="438120" y="262080"/>
            <a:ext cx="8261280" cy="1170000"/>
            <a:chOff x="438120" y="262080"/>
            <a:chExt cx="8261280" cy="1170000"/>
          </a:xfrm>
        </p:grpSpPr>
        <p:pic>
          <p:nvPicPr>
            <p:cNvPr id="114" name="WordArt 1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8120" y="262080"/>
              <a:ext cx="8261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иктори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4182840"/>
            <a:ext cx="7128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Уж сколько раз твердили миру, что лесть гнусна, вредна; но только всё не впрок, и в сердце льстец всегда отыщет уг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(«Ворона и         Лисиц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9" descr="Рисунок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0" y="836640"/>
            <a:ext cx="471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464400"/>
            <a:ext cx="719280" cy="36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2000" y="620640"/>
            <a:ext cx="289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Когда в товарищах согласья нет, на лад их дело не пойдёт и выйдет из него не дело, только м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Лебедь, Щука и Ра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Рисунок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12880"/>
            <a:ext cx="608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-3602880"/>
            <a:ext cx="7128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У сильного всегда бессильный винов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Волк и  Ягнёно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Рисунок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-4477320"/>
            <a:ext cx="9216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72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Попрыгунья Стрекоза лето красное пропела; оглянуться не успела, как зима катит в гла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Стрекоза и Мураве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Рисунок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47005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-2005200"/>
            <a:ext cx="7164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Невежда так же в ослепленье бранит науки и ученье и все учёные труды, не чувствуя, что он вкушает их пл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Times New Roman"/>
              </a:rPr>
              <a:t>(«Свинья под дубом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Фотка 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4707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54960"/>
            <a:ext cx="946080" cy="31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87640" y="1341000"/>
            <a:ext cx="388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Голодная кума Лиса залезла в сад; в нём винограду кисти рдели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(«Лисица и виноград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4716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7640" y="44064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33112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Люблю, где случай есть, пороки пощипа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921e81"/>
                </a:solidFill>
                <a:latin typeface="Times New Roman"/>
              </a:rPr>
              <a:t>И.А.Кры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4" descr="Эггинк ИЕ.jpg"/>
          <p:cNvPicPr/>
          <p:nvPr/>
        </p:nvPicPr>
        <p:blipFill>
          <a:blip r:embed="rId1"/>
          <a:stretch/>
        </p:blipFill>
        <p:spPr>
          <a:xfrm>
            <a:off x="4143240" y="285840"/>
            <a:ext cx="4429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Сочинение «Что осуждается в русских баснях?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1305000" y="609480"/>
            <a:ext cx="7381800" cy="1444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2133720"/>
            <a:ext cx="7086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Arial"/>
              </a:rPr>
              <a:t>учитель русского языка и литературы Сизова М.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9900ff"/>
                </a:solidFill>
                <a:latin typeface="Arial"/>
              </a:rPr>
              <a:t>Комсомольская средняя общеобразовательная школа №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333360"/>
            <a:ext cx="8445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Басня  - это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краткий стихотворный или прозаический рассказ нравоучительного характера, имеющий иносказательный, аллегорический смыс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Мораль – 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начальные или заключительные строки басни с нравоучительным выв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Аллегория – это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изображение предмета, за которым скрывается другое понятие или другой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0" y="92232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«Осёл и Солове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181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Содержимое 4" descr="list5_b.jpg"/>
          <p:cNvPicPr/>
          <p:nvPr/>
        </p:nvPicPr>
        <p:blipFill>
          <a:blip r:embed="rId1"/>
          <a:stretch/>
        </p:blipFill>
        <p:spPr>
          <a:xfrm>
            <a:off x="4286160" y="71424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то было причиной появления басни «Осёл и Соловей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Над чем заставляет читателя смеяться баснописе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ем восхищались современни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Почему особенно важно было показать в басне красоту пения Соловья и восхищение слушате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11040" y="-19080"/>
            <a:ext cx="3432240" cy="1719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300816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…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Избави Бог и нас  от этаких суд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4" descr="krylov16.gif"/>
          <p:cNvPicPr/>
          <p:nvPr/>
        </p:nvPicPr>
        <p:blipFill>
          <a:blip r:embed="rId2"/>
          <a:stretch/>
        </p:blipFill>
        <p:spPr>
          <a:xfrm>
            <a:off x="4000680" y="285840"/>
            <a:ext cx="4643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3157560" cy="1451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Как вы объясните иллюстрацию художника К.Трутовского к басне «Листы и Корн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Почему там нет ни листов ни корн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4" descr="Тургенев 008.jpg"/>
          <p:cNvPicPr/>
          <p:nvPr/>
        </p:nvPicPr>
        <p:blipFill>
          <a:blip r:embed="rId2"/>
          <a:stretch/>
        </p:blipFill>
        <p:spPr>
          <a:xfrm>
            <a:off x="3714840" y="357120"/>
            <a:ext cx="5072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Что хотел сказать И.А.Крылов басней «Листы и Корни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 каких словах выражена мораль в этой басн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 каких жизненных ситуациях говорится в этих строк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3181320" cy="1481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Над чем смеётся баснописец в басне «Ларчик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Что изменилось бы в басне от перестановки ударения (на слове «просто» или «открывался»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4" descr="Тургенев.jpg"/>
          <p:cNvPicPr/>
          <p:nvPr/>
        </p:nvPicPr>
        <p:blipFill>
          <a:blip r:embed="rId2"/>
          <a:stretch/>
        </p:blipFill>
        <p:spPr>
          <a:xfrm>
            <a:off x="4143240" y="285840"/>
            <a:ext cx="46436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49:10Z</dcterms:created>
  <dc:creator>Kolpbushka333</dc:creator>
  <dc:description/>
  <dc:language>en-US</dc:language>
  <cp:lastModifiedBy>1</cp:lastModifiedBy>
  <dcterms:modified xsi:type="dcterms:W3CDTF">2013-02-13T10:06:40Z</dcterms:modified>
  <cp:revision>39</cp:revision>
  <dc:subject/>
  <dc:title>Урок литературы в 6 классе.</dc:title>
</cp:coreProperties>
</file>