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D5C-2C31-4850-9CB6-F683927A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E7F-7E21-4119-A857-2E29E9C4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5D9-E468-4150-B797-DB0CE36A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D26-FB26-4BF4-A1F6-123BACBF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765-21AA-44F0-8775-8170585E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0C1-6685-45FC-9801-CDA4CEED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B20-0E47-413C-A2EF-FE18D687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9E5-F634-4C62-BBDF-702E425B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1BF-9169-4AF9-AB15-470D869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D51-7F2C-4EE3-9C6D-6838021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67B-24BF-4093-98C7-7E69AC9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DCA-AF62-44F3-A5D5-16D9C2B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0A52-D76A-4491-95C2-763443E4CF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именение образовательных и информационных технологий при выполнении учебного эксперимента в начальной школ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000" y="5013360"/>
            <a:ext cx="655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начальных классов МБО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р-Кюельская С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рофеева Саргылана Вита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информационно-коммуникационных технологий способствует достижению основной цели модернизации образования – улучшения качества обучения, увеличения доступности образования, обеспечения гармоничного развития личности, ориентирующейся в информационном пространстве, приобщенной к информационно-коммуникационным возможностям современных технолог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ревняя мудрост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684360" y="20908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кажи мне, и я забу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жи мне, — я смогу запомн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воль мне это сделать самом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это станет моим на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школьном образовании при переходе на стандарты нового поколения большое внимание уделяется системно-деятельностному подходу к обуч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ффективное решение этой задачи можно обеспечить путём вовлечения школьников в экспериментальную и проектную деятельность с использованием нового современного оборуд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- это способ изучения объектов или процессов природы в специально созданных искусственных услов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опытов, экспериментов является эффективным средством формирования  особенно познавательных УУ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ственно-консультационная группа «Развитие образовательных систем» предлагает учебное оборудование нового поколения для создания непрерывной развивающей образовательно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бразовательные ресурсы для работы на уроках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атериалы и оборудование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09520" y="1670040"/>
            <a:ext cx="2994120" cy="3992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198960" y="1731960"/>
            <a:ext cx="2835000" cy="25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5796000" y="1724040"/>
            <a:ext cx="3024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верка теплоизоляционных свойств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590560" cy="34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108240" y="242100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033960" y="3218040"/>
            <a:ext cx="2725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50:04Z</dcterms:created>
  <dc:creator>Lili</dc:creator>
  <dc:description/>
  <dc:language>en-US</dc:language>
  <cp:lastModifiedBy>Админ</cp:lastModifiedBy>
  <dcterms:modified xsi:type="dcterms:W3CDTF">2018-12-18T10:24:08Z</dcterms:modified>
  <cp:revision>9</cp:revision>
  <dc:subject/>
  <dc:title>Использование ИКТ в начальной школе в условиях введения ФГОС.</dc:title>
</cp:coreProperties>
</file>