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1CA4-D3F5-46D9-B44C-427B3AD9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B84-5E71-4BC5-9DBE-F5C09AA5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320-CF6D-4FFB-8FD2-03D488CF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9F8-0819-4DA4-A604-C6BCF698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046-BBA2-4467-9C35-CF718832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ED4-5413-4C9F-A37D-008FF2A7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918-B2A9-42FA-B63C-491F4C37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062E-4332-477C-9E59-9F6688CB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24C-6E5C-481E-923D-A7136113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37B1-4B6C-446F-ADE9-DCAB3EBA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7D2B-8472-4577-BC39-97A078DE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381-7908-4769-8B5E-82B48D9B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34D5-57C2-4844-ACCA-3FA10A2AD0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рименение образовательных и информационных технологий при выполнении учебного эксперимента в начальной школ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000" y="5013360"/>
            <a:ext cx="655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начальных классов МБО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ар-Кюельская СО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рофеева Саргылана Витал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90360" y="0"/>
            <a:ext cx="923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дрение информационно-коммуникационных технологий способствует достижению основной цели модернизации образования – улучшения качества обучения, увеличения доступности образования, обеспечения гармоничного развития личности, ориентирующейся в информационном пространстве, приобщенной к информационно-коммуникационным возможностям современных технологи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Древняя мудрост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684360" y="209088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кажи мне, и я забу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жи мне, — я смогу запомн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воль мне это сделать самом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это станет моим навсег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временном школьном образовании при переходе на стандарты нового поколения большое внимание уделяется системно-деятельностному подходу к обучен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ффективное решение этой задачи можно обеспечить путём вовлечения школьников в экспериментальную и проектную деятельность с использованием нового современного оборудов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1680" y="1196640"/>
            <a:ext cx="85406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ыт - это способ изучения объектов или процессов природы в специально созданных искусственных услов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опытов, экспериментов является эффективным средством формирования  особенно познавательных УУ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зводственно-консультационная группа «Развитие образовательных систем» предлагает учебное оборудование нового поколения для создания непрерывной развивающей образовательной сре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бразовательные ресурсы для работы на уроках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Материалы и оборудование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209520" y="1670040"/>
            <a:ext cx="2994120" cy="3992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3198960" y="1731960"/>
            <a:ext cx="2835000" cy="257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3"/>
          <a:stretch/>
        </p:blipFill>
        <p:spPr>
          <a:xfrm>
            <a:off x="5796000" y="1724040"/>
            <a:ext cx="30240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роверка теплоизоляционных свойств 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2590560" cy="3457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3108240" y="2421000"/>
            <a:ext cx="2925720" cy="3902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6033960" y="3218040"/>
            <a:ext cx="27259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8:50:04Z</dcterms:created>
  <dc:creator>Lili</dc:creator>
  <dc:description/>
  <dc:language>en-US</dc:language>
  <cp:lastModifiedBy>Админ</cp:lastModifiedBy>
  <dcterms:modified xsi:type="dcterms:W3CDTF">2018-12-18T10:24:08Z</dcterms:modified>
  <cp:revision>9</cp:revision>
  <dc:subject/>
  <dc:title>Использование ИКТ в начальной школе в условиях введения ФГОС.</dc:title>
</cp:coreProperties>
</file>