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B2E-8665-4C6A-B467-43B9B0D6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BA3-2847-4E19-BE36-E47297D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327-96E3-473B-B14D-92A4F950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4B5-6C46-4F93-92E2-4F900F84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0BD-8A63-4645-AF41-B251D7CE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6495-99BB-4E62-9479-56EA62B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79E-7965-493C-A0DC-1FD4A672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62E7-7575-4931-9DCB-990A3DDE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C65-7F4F-4EF1-A262-318EF856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A860-AF6B-48B6-A74D-88719F0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B68-81CD-4FF5-B8E0-A637E7D0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671-E3C5-4100-B866-2EFEDCD6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99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de Lati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de Lati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55B3-71D7-442F-A8C7-065A7A004601}" type="slidenum">
              <a:rPr b="0" lang="ru-RU" sz="1200" spc="-1" strike="noStrike">
                <a:solidFill>
                  <a:srgbClr val="89898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:\Docs\023-1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29160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9"/>
          <p:cNvSpPr txBox="1"/>
          <p:nvPr/>
        </p:nvSpPr>
        <p:spPr>
          <a:xfrm>
            <a:off x="179280" y="1268280"/>
            <a:ext cx="871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Мудрое движение</a:t>
            </a:r>
            <a:endParaRPr b="0" lang="en-US" sz="1800" spc="1" strike="noStrike">
              <a:ln w="9360">
                <a:solidFill>
                  <a:srgbClr val="cc3399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79280" y="6093000"/>
            <a:ext cx="8748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лементы адаптивной физкультуры, как средство создания устойчивого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реса  к учебной деятельности детей в условиях центра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2411280" y="457560"/>
            <a:ext cx="64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е, на первом этапе обучения, многие дети, как правило, испытывают затруднения с письмом: быстро устает рука, теряется рабочая строка, не получается правильное написание букв, нередко встречается «зеркальное» письмо; ребенок не различает «лево», «право», «лист», «страница», «строка», не укладывается в общий темп работы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5950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 это отрицательно сказывается на усвоении программы первого класса!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1"/>
          <a:stretch/>
        </p:blipFill>
        <p:spPr>
          <a:xfrm>
            <a:off x="6588000" y="2852640"/>
            <a:ext cx="235584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2082960" cy="307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250920" y="3573360"/>
            <a:ext cx="66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затруднения обуславливаются неразвитостью мелкой моторики пальцев руки и недостаточно сформировавшимися навыками зрительно-двигательной координации, произвольного внимания, аналитического восприятия, речи, зрительной памяти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372360" y="2781360"/>
            <a:ext cx="2232000" cy="165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556000" cy="1703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>
            <a:off x="6877080" y="189000"/>
            <a:ext cx="150336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5"/>
          <a:stretch/>
        </p:blipFill>
        <p:spPr>
          <a:xfrm>
            <a:off x="395280" y="3141720"/>
            <a:ext cx="2087640" cy="148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2303640" cy="152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7"/>
          <a:stretch/>
        </p:blipFill>
        <p:spPr>
          <a:xfrm>
            <a:off x="3203640" y="5084640"/>
            <a:ext cx="2232000" cy="1503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8"/>
          <a:stretch/>
        </p:blipFill>
        <p:spPr>
          <a:xfrm>
            <a:off x="3132000" y="1628640"/>
            <a:ext cx="222732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"/>
          <p:cNvPicPr/>
          <p:nvPr/>
        </p:nvPicPr>
        <p:blipFill>
          <a:blip r:embed="rId9"/>
          <a:stretch/>
        </p:blipFill>
        <p:spPr>
          <a:xfrm>
            <a:off x="395280" y="333360"/>
            <a:ext cx="173664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7"/>
          <p:cNvSpPr/>
          <p:nvPr/>
        </p:nvSpPr>
        <p:spPr>
          <a:xfrm>
            <a:off x="2195640" y="189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и наши – труженицы. С рождения им нет покоя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 своими руками может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елать много прекрасных и нужных дел!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:\Docs\032-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3933720"/>
            <a:ext cx="1187640" cy="2160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61" name="Picture 2" descr="I:\Docs\032-16.jpg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918560" y="3789360"/>
            <a:ext cx="1225440" cy="223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62" name="Rectangle 8"/>
          <p:cNvSpPr/>
          <p:nvPr/>
        </p:nvSpPr>
        <p:spPr>
          <a:xfrm>
            <a:off x="1476360" y="4507560"/>
            <a:ext cx="64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Руки учат голову, затем поумневшая голова учит руки, а умелые руки снова способствуют развитию мозга», – писал И. П. Павлов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2340000" y="765000"/>
            <a:ext cx="4059360" cy="26924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I:\Docs\032-16.jpg"/>
          <p:cNvPicPr/>
          <p:nvPr/>
        </p:nvPicPr>
        <p:blipFill>
          <a:blip r:embed="rId1"/>
          <a:stretch/>
        </p:blipFill>
        <p:spPr>
          <a:xfrm rot="1627800">
            <a:off x="468000" y="2133360"/>
            <a:ext cx="1147680" cy="2087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65" name="Picture 2" descr="I:\Docs\032-16.jpg"/>
          <p:cNvPicPr/>
          <p:nvPr/>
        </p:nvPicPr>
        <p:blipFill>
          <a:blip r:embed="rId2"/>
          <a:stretch/>
        </p:blipFill>
        <p:spPr>
          <a:xfrm rot="3331200">
            <a:off x="7485840" y="4747320"/>
            <a:ext cx="1176120" cy="2139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66" name="Rectangle 9"/>
          <p:cNvSpPr/>
          <p:nvPr/>
        </p:nvSpPr>
        <p:spPr>
          <a:xfrm>
            <a:off x="539640" y="4364640"/>
            <a:ext cx="41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больших недомоганиях массаж кистей рук может творить чудеса.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11280" y="476280"/>
            <a:ext cx="8280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, как чудесна эта часть тела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и для немых служат вместо языка,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для слепых – средством восприятия вместо глаз.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юда становится понятным высказывание Канта о том,                               чт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рука является вышедшим наружу головным мозгом».</a:t>
            </a:r>
            <a:r>
              <a:rPr b="0" lang="ru-RU" sz="2000" spc="-1" strike="noStrike">
                <a:solidFill>
                  <a:srgbClr val="000000"/>
                </a:solidFill>
                <a:latin typeface="Wide Lati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374652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:\Docs\032-16.jpg"/>
          <p:cNvPicPr/>
          <p:nvPr/>
        </p:nvPicPr>
        <p:blipFill>
          <a:blip r:embed="rId1"/>
          <a:stretch/>
        </p:blipFill>
        <p:spPr>
          <a:xfrm rot="2853600">
            <a:off x="7506720" y="488700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324000" y="476280"/>
            <a:ext cx="807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связь между развитием речи и формированием общей, мелкой и артикуляционной моторики подчеркивается многими специалистами.</a:t>
            </a:r>
            <a:r>
              <a:rPr b="0" lang="ru-RU" sz="2800" spc="-1" strike="noStrike">
                <a:solidFill>
                  <a:srgbClr val="000000"/>
                </a:solidFill>
                <a:latin typeface="Wide Lat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71" name="Picture 2" descr="I:\Docs\032-16.jpg"/>
          <p:cNvPicPr/>
          <p:nvPr/>
        </p:nvPicPr>
        <p:blipFill>
          <a:blip r:embed="rId2"/>
          <a:stretch/>
        </p:blipFill>
        <p:spPr>
          <a:xfrm rot="19151400">
            <a:off x="826920" y="213336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72" name="Picture 2" descr="I:\Docs\032-16.jpg"/>
          <p:cNvPicPr/>
          <p:nvPr/>
        </p:nvPicPr>
        <p:blipFill>
          <a:blip r:embed="rId3"/>
          <a:stretch/>
        </p:blipFill>
        <p:spPr>
          <a:xfrm rot="21309600">
            <a:off x="7885080" y="333000"/>
            <a:ext cx="1009800" cy="1836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5292720" y="2565360"/>
            <a:ext cx="1701720" cy="204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5"/>
          <a:stretch/>
        </p:blipFill>
        <p:spPr>
          <a:xfrm>
            <a:off x="7380360" y="2565360"/>
            <a:ext cx="134280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6"/>
          <a:stretch/>
        </p:blipFill>
        <p:spPr>
          <a:xfrm>
            <a:off x="179280" y="4149720"/>
            <a:ext cx="2448000" cy="182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7"/>
          <a:stretch/>
        </p:blipFill>
        <p:spPr>
          <a:xfrm>
            <a:off x="2916360" y="263700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"/>
          <p:cNvPicPr/>
          <p:nvPr/>
        </p:nvPicPr>
        <p:blipFill>
          <a:blip r:embed="rId8"/>
          <a:stretch/>
        </p:blipFill>
        <p:spPr>
          <a:xfrm>
            <a:off x="2987640" y="4724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9"/>
          <a:stretch/>
        </p:blipFill>
        <p:spPr>
          <a:xfrm>
            <a:off x="5292720" y="4724280"/>
            <a:ext cx="17035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5"/>
          <p:cNvSpPr/>
          <p:nvPr/>
        </p:nvSpPr>
        <p:spPr>
          <a:xfrm>
            <a:off x="2556000" y="1844640"/>
            <a:ext cx="5688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ой пал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удет соответствоват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лов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адонь – туловищ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торой и пятый пальцы – это ру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тий и четвертый – ног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ыльная сторона ладон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ецируется ка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дняя часть туловища, 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нешняя сторона ладони – это спи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льцы рук связаны с мозгом и внутренними органами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105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ое у человека строение?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лова, туловище, две руки, две ноги.</a:t>
            </a:r>
            <a:endParaRPr b="0" lang="en-US" sz="20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250920" y="4405320"/>
            <a:ext cx="1987560" cy="245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D:\Program Files\Book Designer 4.0\TmpOut\im__5.png"/>
          <p:cNvPicPr/>
          <p:nvPr/>
        </p:nvPicPr>
        <p:blipFill>
          <a:blip r:embed="rId2"/>
          <a:stretch/>
        </p:blipFill>
        <p:spPr>
          <a:xfrm>
            <a:off x="395280" y="260280"/>
            <a:ext cx="1857240" cy="3952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I:\Docs\032-16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 rot="20638800">
            <a:off x="7667640" y="259920"/>
            <a:ext cx="1225440" cy="223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84" name="Rectangle 11"/>
          <p:cNvSpPr/>
          <p:nvPr/>
        </p:nvSpPr>
        <p:spPr>
          <a:xfrm>
            <a:off x="2286000" y="48690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ассаж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ольшого пальц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вышает деятельность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головного мозга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казательног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лучшает работу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елудка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реднего – кишечник и позвоночник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езымянного – печени,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изинец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могает работ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ердца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565080" y="19044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МАССАЖ</a:t>
            </a:r>
            <a:endParaRPr b="0" lang="en-US" sz="36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:\Docs\032-16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 rot="2679600">
            <a:off x="7308720" y="4546440"/>
            <a:ext cx="1270080" cy="2311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80000"/>
              </a:srgbClr>
            </a:outerShdw>
          </a:effectLst>
        </p:spPr>
      </p:pic>
      <p:sp>
        <p:nvSpPr>
          <p:cNvPr id="87" name="Rectangle 5"/>
          <p:cNvSpPr/>
          <p:nvPr/>
        </p:nvSpPr>
        <p:spPr>
          <a:xfrm>
            <a:off x="684360" y="260280"/>
            <a:ext cx="81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ссаж можно проводить и с использованием разных предметов, таких как грецкие орехи, каштаны, шестигранный карандаш, массажные мячики, губки, катание мелких предметов (шариков, бус, гороха) подушечками пальцев, между ладоней и по столу ладонями и пальчикам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611280" y="4941720"/>
            <a:ext cx="2520720" cy="168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1042920" y="2565360"/>
            <a:ext cx="2158920" cy="212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4500720" y="4869000"/>
            <a:ext cx="2376360" cy="177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5"/>
          <a:stretch/>
        </p:blipFill>
        <p:spPr>
          <a:xfrm>
            <a:off x="4211640" y="242100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564000" y="1128960"/>
            <a:ext cx="5580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ачале детей необходимо обучать приема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момассажа рук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начинается с легкого растирания подушечек пальцев в направлении от кончиков к ладони одной руки, затем другой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лее проводится растирание ладони сначала одной руки от середины к краям большим пальцем другой руки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сле чего следует комплекс движений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комплекс входят упражнения трех видов: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тыльной стороны кистей рук,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ладоней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массаж пальцев рук.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данном случае используются традиционные для массажа движения – это поглаживание, растирание, разминание, выжимание, надавливание, пощипывание (от периферии к центру), активные и пассивные движения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1749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26028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массаж – один из видов пассивной гимнастики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оказывает тонизирующее действие на центральную нервную систему, улучшает функции рецепторов, проводящих путей.</a:t>
            </a: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054160" cy="2303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0" y="5950080"/>
            <a:ext cx="3780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18-12-18T18:47:17Z</dcterms:modified>
  <cp:revision>29</cp:revision>
  <dc:subject/>
  <dc:title>Слайд 1</dc:title>
</cp:coreProperties>
</file>