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40A-437A-46DF-8FAA-0C2C1AA7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7F2-89CA-4EFC-A6F5-7B0A30B8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350-9087-4F7F-B362-AA231D08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10F-6421-44AF-905A-12572D71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24E-86A7-48F0-88F1-C4EFFA68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B9A-603C-480D-93B7-29FCD006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B50-B888-4520-BAE0-83180264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978-C919-4505-8DB5-510C3985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316-8412-4F60-80F9-1F7AED6D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61D-8E90-44CB-9BF5-0DD87955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16E-79D5-4CFA-A7C9-93EC9EE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6C1-F59B-4DAC-873C-68C0269E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de Lati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de Lati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de Lati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de Lati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de Lati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9570-56C7-4127-8E79-CED7DF40FBFC}" type="slidenum">
              <a:rPr b="0" lang="ru-RU" sz="1200" spc="-1" strike="noStrike">
                <a:solidFill>
                  <a:srgbClr val="898989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:\Docs\023-1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2916360" y="2708280"/>
            <a:ext cx="291600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79280" y="1268280"/>
            <a:ext cx="871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99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3399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Мудрое движение</a:t>
            </a:r>
            <a:endParaRPr b="0" lang="en-US" sz="1800" spc="1" strike="noStrike">
              <a:ln w="9360">
                <a:solidFill>
                  <a:srgbClr val="cc3399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179280" y="6093000"/>
            <a:ext cx="8748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лементы адаптивной физкультуры, как средство создания устойчивого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реса  к учебной деятельности детей в условиях центра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2411280" y="457560"/>
            <a:ext cx="64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коле, на первом этапе обучения, многие дети, как правило, испытывают затруднения с письмом: быстро устает рука, теряется рабочая строка, не получается правильное написание букв, нередко встречается «зеркальное» письмо; ребенок не различает «лево», «право», «лист», «страница», «строка», не укладывается в общий темп работы.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5950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 это отрицательно сказывается на усвоении программы первого класса!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1"/>
          <a:stretch/>
        </p:blipFill>
        <p:spPr>
          <a:xfrm>
            <a:off x="6588000" y="2852640"/>
            <a:ext cx="235584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2082960" cy="307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250920" y="3573360"/>
            <a:ext cx="66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затруднения обуславливаются неразвитостью мелкой моторики пальцев руки и недостаточно сформировавшимися навыками зрительно-двигательной координации, произвольного внимания, аналитического восприятия, речи, зрительной памяти.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372360" y="2781360"/>
            <a:ext cx="2232000" cy="165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156360" y="4797360"/>
            <a:ext cx="2556000" cy="1703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2160360" cy="144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>
            <a:off x="6877080" y="189000"/>
            <a:ext cx="150336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5"/>
          <a:stretch/>
        </p:blipFill>
        <p:spPr>
          <a:xfrm>
            <a:off x="395280" y="3141720"/>
            <a:ext cx="2087640" cy="148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6"/>
          <a:stretch/>
        </p:blipFill>
        <p:spPr>
          <a:xfrm>
            <a:off x="3132000" y="3284640"/>
            <a:ext cx="2303640" cy="152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7"/>
          <a:stretch/>
        </p:blipFill>
        <p:spPr>
          <a:xfrm>
            <a:off x="3203640" y="5084640"/>
            <a:ext cx="2232000" cy="150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/>
          <p:cNvPicPr/>
          <p:nvPr/>
        </p:nvPicPr>
        <p:blipFill>
          <a:blip r:embed="rId8"/>
          <a:stretch/>
        </p:blipFill>
        <p:spPr>
          <a:xfrm>
            <a:off x="3132000" y="1628640"/>
            <a:ext cx="2227320" cy="148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9"/>
          <a:stretch/>
        </p:blipFill>
        <p:spPr>
          <a:xfrm>
            <a:off x="395280" y="333360"/>
            <a:ext cx="1736640" cy="2374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7"/>
          <p:cNvSpPr/>
          <p:nvPr/>
        </p:nvSpPr>
        <p:spPr>
          <a:xfrm>
            <a:off x="2195640" y="189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и наши – труженицы. С рождения им нет покоя.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своими руками может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ть много прекрасных и нужных дел!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:\Docs\032-16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3933720"/>
            <a:ext cx="1187640" cy="2160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61" name="Picture 2" descr="I:\Docs\032-16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918560" y="3789360"/>
            <a:ext cx="1225440" cy="223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62" name="Rectangle 8"/>
          <p:cNvSpPr/>
          <p:nvPr/>
        </p:nvSpPr>
        <p:spPr>
          <a:xfrm>
            <a:off x="1476360" y="4507560"/>
            <a:ext cx="641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уки учат голову, затем поумневшая голова учит руки, а умелые руки снова способствуют развитию мозга», – писал И. П. Павлов.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2340000" y="765000"/>
            <a:ext cx="4059360" cy="26924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I:\Docs\032-16.jpg"/>
          <p:cNvPicPr/>
          <p:nvPr/>
        </p:nvPicPr>
        <p:blipFill>
          <a:blip r:embed="rId1"/>
          <a:stretch/>
        </p:blipFill>
        <p:spPr>
          <a:xfrm rot="1627800">
            <a:off x="468000" y="2133360"/>
            <a:ext cx="1147680" cy="2087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65" name="Picture 2" descr="I:\Docs\032-16.jpg"/>
          <p:cNvPicPr/>
          <p:nvPr/>
        </p:nvPicPr>
        <p:blipFill>
          <a:blip r:embed="rId2"/>
          <a:stretch/>
        </p:blipFill>
        <p:spPr>
          <a:xfrm rot="3331200">
            <a:off x="7485840" y="4747320"/>
            <a:ext cx="1176120" cy="2139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66" name="Rectangle 9"/>
          <p:cNvSpPr/>
          <p:nvPr/>
        </p:nvSpPr>
        <p:spPr>
          <a:xfrm>
            <a:off x="539640" y="4364640"/>
            <a:ext cx="41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больших недомоганиях массаж кистей рук может творить чудеса.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611280" y="476280"/>
            <a:ext cx="8280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тельно, как чудесна эта часть тела!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ки для немых служат вместо языка,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для слепых – средством восприятия вместо глаз.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юда становится понятным высказывание Канта о том,                               чт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рука является вышедшим наружу головным мозгом».</a:t>
            </a:r>
            <a:r>
              <a:rPr b="0" lang="ru-RU" sz="2000" spc="-1" strike="noStrike">
                <a:solidFill>
                  <a:srgbClr val="000000"/>
                </a:solidFill>
                <a:latin typeface="Wide Lati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68" name="Picture 17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37465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:\Docs\032-16.jpg"/>
          <p:cNvPicPr/>
          <p:nvPr/>
        </p:nvPicPr>
        <p:blipFill>
          <a:blip r:embed="rId1"/>
          <a:stretch/>
        </p:blipFill>
        <p:spPr>
          <a:xfrm rot="2853600">
            <a:off x="7506720" y="4887000"/>
            <a:ext cx="1009800" cy="183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70" name="Rectangle 4"/>
          <p:cNvSpPr/>
          <p:nvPr/>
        </p:nvSpPr>
        <p:spPr>
          <a:xfrm>
            <a:off x="324000" y="476280"/>
            <a:ext cx="807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связь между развитием речи и формированием общей, мелкой и артикуляционной моторики подчеркивается многими специалистами.</a:t>
            </a:r>
            <a:r>
              <a:rPr b="0" lang="ru-RU" sz="2800" spc="-1" strike="noStrike">
                <a:solidFill>
                  <a:srgbClr val="000000"/>
                </a:solidFill>
                <a:latin typeface="Wide Lat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71" name="Picture 2" descr="I:\Docs\032-16.jpg"/>
          <p:cNvPicPr/>
          <p:nvPr/>
        </p:nvPicPr>
        <p:blipFill>
          <a:blip r:embed="rId2"/>
          <a:stretch/>
        </p:blipFill>
        <p:spPr>
          <a:xfrm rot="19151400">
            <a:off x="826920" y="2133360"/>
            <a:ext cx="1009800" cy="183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72" name="Picture 2" descr="I:\Docs\032-16.jpg"/>
          <p:cNvPicPr/>
          <p:nvPr/>
        </p:nvPicPr>
        <p:blipFill>
          <a:blip r:embed="rId3"/>
          <a:stretch/>
        </p:blipFill>
        <p:spPr>
          <a:xfrm rot="21309600">
            <a:off x="7885080" y="333000"/>
            <a:ext cx="1009800" cy="183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5292720" y="2565360"/>
            <a:ext cx="1701720" cy="204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5"/>
          <a:stretch/>
        </p:blipFill>
        <p:spPr>
          <a:xfrm>
            <a:off x="7380360" y="2565360"/>
            <a:ext cx="134280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"/>
          <p:cNvPicPr/>
          <p:nvPr/>
        </p:nvPicPr>
        <p:blipFill>
          <a:blip r:embed="rId6"/>
          <a:stretch/>
        </p:blipFill>
        <p:spPr>
          <a:xfrm>
            <a:off x="179280" y="4149720"/>
            <a:ext cx="2448000" cy="182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7"/>
          <a:stretch/>
        </p:blipFill>
        <p:spPr>
          <a:xfrm>
            <a:off x="2916360" y="2637000"/>
            <a:ext cx="1944720" cy="194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"/>
          <p:cNvPicPr/>
          <p:nvPr/>
        </p:nvPicPr>
        <p:blipFill>
          <a:blip r:embed="rId8"/>
          <a:stretch/>
        </p:blipFill>
        <p:spPr>
          <a:xfrm>
            <a:off x="2987640" y="4724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9"/>
          <a:stretch/>
        </p:blipFill>
        <p:spPr>
          <a:xfrm>
            <a:off x="5292720" y="4724280"/>
            <a:ext cx="1703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2556000" y="1844640"/>
            <a:ext cx="5688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ьшой пале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удет соответствова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лов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адонь – туловищ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торой и пятый пальцы – это ру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етий и четвертый – ног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ыльная сторона ладо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оецируется как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дняя часть туловища,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ешняя сторона ладони – это сп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льцы рук связаны с мозгом и внутренними органами.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1052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ое у человека строение?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лова, туловище, две руки, две ноги.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50920" y="4405320"/>
            <a:ext cx="1987560" cy="245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:\Program Files\Book Designer 4.0\TmpOut\im__5.png"/>
          <p:cNvPicPr/>
          <p:nvPr/>
        </p:nvPicPr>
        <p:blipFill>
          <a:blip r:embed="rId2"/>
          <a:stretch/>
        </p:blipFill>
        <p:spPr>
          <a:xfrm>
            <a:off x="395280" y="260280"/>
            <a:ext cx="1857240" cy="3952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I:\Docs\032-16.jpg"/>
          <p:cNvPicPr/>
          <p:nvPr/>
        </p:nvPicPr>
        <p:blipFill>
          <a:blip r:embed="rId3">
            <a:lum bright="70000" contrast="-70000"/>
          </a:blip>
          <a:stretch/>
        </p:blipFill>
        <p:spPr>
          <a:xfrm rot="20638800">
            <a:off x="7667640" y="259920"/>
            <a:ext cx="1225440" cy="223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84" name="Rectangle 11"/>
          <p:cNvSpPr/>
          <p:nvPr/>
        </p:nvSpPr>
        <p:spPr>
          <a:xfrm>
            <a:off x="2286000" y="4869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ассаж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большого пальц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вышает деятельность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оловного мозга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казательно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лучшает работу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желудка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реднего – кишечник и позвоночник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безымянного – печени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изине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могает работ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ердца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565080" y="1904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АССАЖ</a:t>
            </a:r>
            <a:endParaRPr b="0" lang="en-US" sz="36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:\Docs\032-16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 rot="2679600">
            <a:off x="7308720" y="4546440"/>
            <a:ext cx="1270080" cy="2311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87" name="Rectangle 5"/>
          <p:cNvSpPr/>
          <p:nvPr/>
        </p:nvSpPr>
        <p:spPr>
          <a:xfrm>
            <a:off x="684360" y="260280"/>
            <a:ext cx="81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аж можно проводить и с использованием разных предметов, таких как грецкие орехи, каштаны, шестигранный карандаш, массажные мячики, губки, катание мелких предметов (шариков, бус, гороха) подушечками пальцев, между ладоней и по столу ладонями и пальчика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2520720" cy="168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3"/>
          <a:stretch/>
        </p:blipFill>
        <p:spPr>
          <a:xfrm>
            <a:off x="1042920" y="2565360"/>
            <a:ext cx="2158920" cy="2121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4"/>
          <a:stretch/>
        </p:blipFill>
        <p:spPr>
          <a:xfrm>
            <a:off x="4500720" y="4869000"/>
            <a:ext cx="2376360" cy="177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5"/>
          <a:stretch/>
        </p:blipFill>
        <p:spPr>
          <a:xfrm>
            <a:off x="4211640" y="242100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564000" y="1128960"/>
            <a:ext cx="55800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ачале детей необходимо обучать приема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массажа рук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начинается с легкого растирания подушечек пальцев в направлении от кончиков к ладони одной руки, затем другой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ее проводится растирание ладони сначала одной руки от середины к краям большим пальцем другой руки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ле чего следует комплекс движений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комплекс входят упражнения трех видов: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массаж тыльной стороны кистей рук,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массаж ладоней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массаж пальцев рук.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данном случае используются традиционные для массажа движения – это поглаживание, растирание, разминание, выжимание, надавливание, пощипывание (от периферии к центру), активные и пассивные движения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1749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0" y="26028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массаж – один из видов пассивной гимнастик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оказывает тонизирующее действие на центральную нервную систему, улучшает функции рецепторов, проводящих путей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2054160" cy="2303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1"/>
          <p:cNvSpPr/>
          <p:nvPr/>
        </p:nvSpPr>
        <p:spPr>
          <a:xfrm>
            <a:off x="0" y="5950080"/>
            <a:ext cx="3780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18-12-18T18:47:17Z</dcterms:modified>
  <cp:revision>29</cp:revision>
  <dc:subject/>
  <dc:title>Слайд 1</dc:title>
</cp:coreProperties>
</file>