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7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6636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7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6636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8000" y="620280"/>
            <a:ext cx="827892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67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6636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67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6636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000" y="620280"/>
            <a:ext cx="827892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5640" y="1557000"/>
            <a:ext cx="867708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Matreshka"/>
                <a:ea typeface="Arial Unicode MS"/>
              </a:rPr>
              <a:t>Влияние народного искусства на развитие детского творчества</a:t>
            </a:r>
            <a:endParaRPr b="1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47640" y="3357720"/>
            <a:ext cx="7453440" cy="12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Подготовила:</a:t>
            </a:r>
            <a:endParaRPr b="0" lang="en-US" sz="2400" spc="-1" strike="noStrike">
              <a:solidFill>
                <a:srgbClr val="0d0d0d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воспитатель </a:t>
            </a:r>
            <a:endParaRPr b="0" lang="en-US" sz="2400" spc="-1" strike="noStrike">
              <a:solidFill>
                <a:srgbClr val="0d0d0d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Мурыгина Н.М.</a:t>
            </a:r>
            <a:endParaRPr b="0" lang="en-US" sz="2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1442160" y="728640"/>
            <a:ext cx="60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Детский сад № 15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879360" y="4854600"/>
            <a:ext cx="15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Арзамас,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19280" y="728280"/>
            <a:ext cx="7237440" cy="15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родное искусство - неиссякаемый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источник мудрости и красоты, его нужно не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только беречь, но у него следует многому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учиться.                                                                                                                                             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О.С. Попова </a:t>
            </a:r>
            <a:endParaRPr b="1" lang="en-US" sz="1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31640" y="2383920"/>
            <a:ext cx="8280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Calibri"/>
              </a:rPr>
              <a:t>Приобщение к народному искусству — это именно тот «ключик», который раскрывает в детях творческий потенциал, дает реальную возможность адаптироваться им в социальной среде. Народное искусство способствует глубокому воздействию на мир ребенка, обладает нравственной, эстетической, познавательной ценностью, воплощает в себе исторический опыт многих поколений и рассматривается как часть материальной  культуры. </a:t>
            </a:r>
            <a:endParaRPr b="0" lang="en-US" sz="1800" spc="-1" strike="noStrike">
              <a:solidFill>
                <a:srgbClr val="0d0d0d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0d0d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ЦЕЛЬ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Calibri"/>
              </a:rPr>
              <a:t>: формирование творческих способностей, эстетического вкуса у детей через знакомство с народным  искусством.</a:t>
            </a:r>
            <a:endParaRPr b="0" lang="en-US" sz="28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адачи образовательной деятельности  «Изобразительное искусство» в средней группе: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60" y="1520640"/>
            <a:ext cx="900108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5720" indent="-315720">
              <a:spcBef>
                <a:spcPts val="4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Способствовать формированию эмоционально-эстетического чувства, отклика на проявление прекрасного в предметах и явлениях окружающего мира, умения замечать красоту окружающих предметов и объектов природы.</a:t>
            </a: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  <a:p>
            <a:pPr marL="315720" indent="-315720">
              <a:spcBef>
                <a:spcPts val="4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Пробуждать интерес к произведениям народного и профессионального искусства и содействовать формированию опыта восприятия произведений искусства различных видов и жанров, способствовать освоению некоторых средств выразительности изобразительного искусства.</a:t>
            </a: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  <a:p>
            <a:pPr marL="315720" indent="-315720">
              <a:spcBef>
                <a:spcPts val="4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Способствовать развитию художественного восприятия, умения последовательно внимательно рассматривать произведения искусства и предметы окружающего мира; соотносить увиденное с собственным опытом.</a:t>
            </a: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  <a:p>
            <a:pPr marL="315720" indent="-315720">
              <a:spcBef>
                <a:spcPts val="4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Содействовать формированию образных представлений о предметах и явлениях мира и на их основе развивать умения изображать простые предметы и явления в собственной деятельности.</a:t>
            </a: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951280" y="981000"/>
            <a:ext cx="309708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правлен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358920" y="3105000"/>
            <a:ext cx="2592360" cy="1944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здание в группе соответствующей предметно – развивающей среды для развития детского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3708360" y="3105000"/>
            <a:ext cx="2016000" cy="1944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заимодействие с деть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6689880" y="3105000"/>
            <a:ext cx="2022480" cy="1944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заимодействие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Прямая со стрелкой 6"/>
          <p:cNvCxnSpPr>
            <a:endCxn id="85" idx="0"/>
          </p:cNvCxnSpPr>
          <p:nvPr/>
        </p:nvCxnSpPr>
        <p:spPr>
          <a:xfrm flipH="1">
            <a:off x="1655280" y="1895400"/>
            <a:ext cx="1837440" cy="1210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8"/>
          <p:cNvCxnSpPr>
            <a:stCxn id="84" idx="2"/>
          </p:cNvCxnSpPr>
          <p:nvPr/>
        </p:nvCxnSpPr>
        <p:spPr>
          <a:xfrm>
            <a:off x="4500360" y="1895400"/>
            <a:ext cx="108360" cy="1210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10"/>
          <p:cNvCxnSpPr>
            <a:endCxn id="87" idx="0"/>
          </p:cNvCxnSpPr>
          <p:nvPr/>
        </p:nvCxnSpPr>
        <p:spPr>
          <a:xfrm>
            <a:off x="5364000" y="1895400"/>
            <a:ext cx="2337840" cy="1210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85280" y="512640"/>
            <a:ext cx="8280360" cy="9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рганизация развивающей предметно - пространственной среды</a:t>
            </a:r>
            <a:endParaRPr b="0" lang="en-US" sz="2800" spc="-1" strike="noStrike">
              <a:solidFill>
                <a:srgbClr val="0d0d0d"/>
              </a:solidFill>
              <a:latin typeface="Calibri"/>
            </a:endParaRPr>
          </a:p>
        </p:txBody>
      </p:sp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755640" y="1714680"/>
            <a:ext cx="2538360" cy="23018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"/>
          <p:cNvPicPr/>
          <p:nvPr/>
        </p:nvPicPr>
        <p:blipFill>
          <a:blip r:embed="rId2"/>
          <a:stretch/>
        </p:blipFill>
        <p:spPr>
          <a:xfrm>
            <a:off x="4967280" y="1719360"/>
            <a:ext cx="2484360" cy="24130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"/>
          <p:cNvPicPr/>
          <p:nvPr/>
        </p:nvPicPr>
        <p:blipFill>
          <a:blip r:embed="rId3"/>
          <a:stretch/>
        </p:blipFill>
        <p:spPr>
          <a:xfrm>
            <a:off x="2232000" y="4259160"/>
            <a:ext cx="43340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457200"/>
            <a:ext cx="8280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Взаимодействие с детьми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8760" y="1412640"/>
            <a:ext cx="860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d0d0d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Рассказы, беседы                              </a:t>
            </a: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Рассматривание иллюстраций, альбомов</a:t>
            </a: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Использование дидактических игр «Собери матрешку», «Составь узор» и т.д.</a:t>
            </a: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Образовательная деятельность :</a:t>
            </a: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</p:txBody>
      </p:sp>
      <p:pic>
        <p:nvPicPr>
          <p:cNvPr id="97" name="Рисунок 7" descr=""/>
          <p:cNvPicPr/>
          <p:nvPr/>
        </p:nvPicPr>
        <p:blipFill>
          <a:blip r:embed="rId1"/>
          <a:stretch/>
        </p:blipFill>
        <p:spPr>
          <a:xfrm>
            <a:off x="282600" y="3389400"/>
            <a:ext cx="1949400" cy="1515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"/>
          <p:cNvPicPr/>
          <p:nvPr/>
        </p:nvPicPr>
        <p:blipFill>
          <a:blip r:embed="rId2"/>
          <a:stretch/>
        </p:blipFill>
        <p:spPr>
          <a:xfrm>
            <a:off x="2401920" y="4627440"/>
            <a:ext cx="2076480" cy="1522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9" descr=""/>
          <p:cNvPicPr/>
          <p:nvPr/>
        </p:nvPicPr>
        <p:blipFill>
          <a:blip r:embed="rId3"/>
          <a:stretch/>
        </p:blipFill>
        <p:spPr>
          <a:xfrm>
            <a:off x="4648320" y="3305160"/>
            <a:ext cx="2182680" cy="15843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0" descr=""/>
          <p:cNvPicPr/>
          <p:nvPr/>
        </p:nvPicPr>
        <p:blipFill>
          <a:blip r:embed="rId4"/>
          <a:stretch/>
        </p:blipFill>
        <p:spPr>
          <a:xfrm>
            <a:off x="7020000" y="4443480"/>
            <a:ext cx="2012760" cy="17064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1"/>
          <p:cNvSpPr/>
          <p:nvPr/>
        </p:nvSpPr>
        <p:spPr>
          <a:xfrm>
            <a:off x="229320" y="4927680"/>
            <a:ext cx="204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Роспись тарелоч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Хохлом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2451600" y="4103640"/>
            <a:ext cx="187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Элемен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жельской роспис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4829760" y="494496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Дымковская игруш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7097400" y="4146480"/>
            <a:ext cx="203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Хоровод матреше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Arzamas</cp:lastModifiedBy>
  <dcterms:modified xsi:type="dcterms:W3CDTF">2018-12-18T06:45:40Z</dcterms:modified>
  <cp:revision>40</cp:revision>
  <dc:subject/>
  <dc:title>Слайд 1</dc:title>
</cp:coreProperties>
</file>