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A09-DD6D-4411-9DC2-643402E6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7B7-48F5-416E-807B-52100C70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8649C-DE85-48F4-8CF5-137D848F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A7431-DE57-4E3B-BFB8-BBCFDA11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10E5E-89B9-4EDF-94F6-C8018030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765A7-CC06-4B8B-B105-2EF3E81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FE191-3280-4C70-A221-98B25B37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6ECC9-83D3-473B-974C-B0B4B9C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BCEB8-B212-4BEF-84E1-FD4FEE83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3FF1F-3BB9-4C81-A05D-17D91662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F3FF0-7EE1-406A-8CEE-594403F1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D59F0-DDDD-433F-A636-2BAC68FD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680-21EF-420F-815D-CE12D7BB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96F1A-BA21-4F09-9086-A39B6AD7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A0D5D-ED48-4D99-88D4-1502C15A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64EE9-E98B-4885-B37F-FAF3357E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512FB-2590-4FDB-B1F3-9F9BB806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93E87-026B-48E1-8787-E9F8DF1C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7CDEA-40CA-4BE9-BE2B-90ED723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6E221-5142-4998-967D-2A2E4D6E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CE0A8-39E7-4F54-9674-412DFA53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04FBE-3C2F-43B9-8234-89FE9DF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A823A-D6A2-401D-8076-7A814018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85D-3AA0-4336-B439-40E58109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DDC65-080A-4850-9494-C9B5A2C0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9657D-D852-4281-BA7F-F9CA329A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E3818-3D84-4FE0-BB1A-230F1AC5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477BA-DB74-4BA4-9ACF-8828E18B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EA5A4-A1F4-4EED-8F68-ECB2106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7FC4B-5B2F-447A-A420-89EBB2FC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2C3A3-C092-4072-9610-CF81B2E3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4A52F-668A-4ACF-B769-DDA25548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59EFC-20EA-4C08-A477-6D146110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C74EC-73E9-4372-88D4-D28DB55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80DB-D663-47A6-9C1C-86B74077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64974-AB61-46FB-B5A4-43210059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925A1-660E-477A-8364-D989F362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B26DB-E707-4235-BB77-B73E0B8A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1C0C6-464B-4155-A3D9-0CDBD197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850CA-C22C-45B6-8748-CEF63EB1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2C476-1DE9-4793-8156-CEF79848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92131-C8D9-4FED-819B-E29E8D7A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8B9D6-8BBD-4ED9-B539-4B735441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CF3C7-284F-4D32-93AF-1A146929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CA856-66BB-4CA4-BE8F-D513115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3E2-91CC-46AB-931F-F909DFA6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B2A10-37BA-43F7-B272-31643AD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0B46B-D87F-439E-ACBA-D674D150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C245D-86CF-46DA-ACB0-7E3B6A5B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B0B64-77C6-43CB-BB3A-60DBA519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1B5C6-854C-4135-9E06-B4BBF59E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776A-3F55-4768-AA3F-B6E2CD9A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63FC-6A5D-452A-B0B4-6CB33DCD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DA83-F0BC-4C80-AF44-D7C85A0A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95E6-EC5D-4DD8-934C-C474A421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7793-756B-42DC-BB55-C1163EE9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995-CCAF-41C9-B372-8C2EDF61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BCAE-FA64-4DB8-8351-863B9FD3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DB87-AE33-4483-A051-94AE3CF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049B-C0D0-480C-B010-EA1C50A3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6F8D-E2E5-4B31-8EE2-3BA999BC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DE8-5D41-478C-83D5-8B032990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402BB-F485-4371-A60D-C1136302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75B3-D1CC-41E6-B6CB-1E338EC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595B-9E70-430C-A52C-3FAEE391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2B0D-716F-4114-8BF3-ED6406AB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0399-86FD-4BF7-B9D3-6453DE1F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90E-A3BC-4794-ACF5-51893FA7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4293-0D21-4897-8B2A-30806A1C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2A8B-7A74-491B-94A6-20566DF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3443-B7EC-4938-8466-1631373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2ED1-CE3F-4C38-B5F4-F8641D75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32BD-41BD-40F3-86F0-4A964386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6E5A-93DE-464C-A417-43D4A2DE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03B9-22B2-417B-B780-704CFE06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8A76-C1F1-4D10-B919-7A0A394C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386A-21E0-428B-8BCA-26CC437B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0526-B077-42A7-9B96-7D54B837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9F8-4D5F-42CA-804F-8730391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9AEDC-F662-4008-9850-22A7E9BF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3AB7-C0D8-405A-A985-D90FA81F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E599-A6C8-445E-B30E-D744F151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63A8-886A-4FC4-B7F0-52299199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0188-762B-4810-8E4F-AA8153F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CA05-4C57-4448-8A11-F36AB7F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C5146-7024-4E17-A75B-34818F1F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B4F6-8538-4841-B382-4418D17F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37D0-EB20-43F1-9049-C551B3D2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9F2F8-0255-4571-B583-99D6D89D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880-EBF2-43E6-9D4F-862CDE3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9DE48-EEC7-4597-9C5F-E99C5C22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4D2F-4818-4D11-879E-DE8AFFC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8848-ACDC-49CB-827A-7762F9E6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AAF9-FDB9-437A-9F36-21205445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7143-E8A8-48FE-A69A-A011BCD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4647F-0B2E-4DB6-AFE4-D5C4629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FD9A-8DC9-4382-8EB3-EE703724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5EAC7-8F79-4036-8C09-A808CA37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ACEA-322E-4EF9-AC5E-EB93387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CFC5A-6004-4A6B-A9C9-B94BF796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5A0-788C-45C7-9792-41EB8476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7EDD-781E-4FE7-BE2F-B99239BB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849D-DC61-4092-A841-E61D1D3E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FC895-CF62-49AC-91F3-87D7B988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608A0-A9BC-48B1-9256-AC769826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CED9C-7662-4967-AB74-69B0D09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E4A3-BB17-4062-9613-7E3124A6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2A00-C941-4422-AEA5-4E49990E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BF53-7719-4E94-B2D5-EE0166FE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859F-3797-45C5-9B03-E13B37C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C8BC-E48A-402F-A1A3-7ECA037C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C90-E8D1-46D3-A711-C80A5301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82C62-F5F5-4F99-A0A6-7C7081AA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713CF-92EF-49C3-A8A8-5B070CD8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F5A5-E38D-42DB-9771-BD636ED7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968A0-3B58-4276-B8B4-F0145E10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C7E44-30F7-486C-8937-9FA352B3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57C87-9B9B-4F93-BC79-C7D98DBD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C8AC-EF8B-4528-85AA-3285F02E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B5F25-7E4F-4C8F-8021-2C353D3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60FB9-40DA-4EDA-8DF2-3632367E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0589A-DCAC-4C8B-BA6A-6D398E2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B81-887C-4458-9ACF-22C81D2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2769E-7773-4C4C-ACFC-3E527B4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68342-A598-4B6B-A264-9943B105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F79B8-4B8A-46E4-B354-0E20780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9F2B-AABE-4304-AF50-F4D47938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79F5A-852E-406A-A716-6442D3AC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03D1-280F-4E0C-AABA-21B53839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851A6-D250-4744-A716-B138344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C1747-1C02-4870-A24C-D416F3BF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FD5E-B481-4A9E-B565-D217953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5D961-1220-4DF6-8554-2078D042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D23-73E2-4C73-988E-FD50E74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8AC5-2B82-4513-901A-615B1956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18359-D547-441F-90E7-EE7DA12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DF668-2070-47B6-8603-44B161FC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75743-F622-4D47-8A57-522283F0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269CA-FFFC-4250-9899-E9FC2D4B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B1E37-E78A-43E2-90FF-16BC9F8F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EF518-F641-41E6-B17F-F93C240E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B8EAB-5152-4D4C-BC49-E35C17F9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43326-CB7A-4170-80AA-31B034E1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57F41-3B5D-4037-9028-0A07467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E10F-3161-4DB5-B9AA-8557CD06B8A1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B44-8B6F-46FC-BF56-70083CA84DCD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FC48-F5C5-4EFA-A0D7-FBEFC2905502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0754-E703-40A9-BD01-00AE36CCE40B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1E3E-B73A-48AA-BAA2-32A6051ECAD2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E0BE-C59E-421F-962A-4A0D7134D8D0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5CC0-02CA-4E01-B829-C944E55A6A2E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EFBC-2B0A-478E-B6D8-C17734A02491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126E-0D92-496C-8620-44466C88B908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269C-16D8-432D-A9D7-571F2CEF64CF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ED58-DEB6-4999-BC01-F5B5F37F4A39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F83E-C1FE-4AC8-BE3D-BF577D645B78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f6fc6"/>
              </a:solidFill>
              <a:latin typeface="Georgia"/>
            </a:endParaRPr>
          </a:p>
        </p:txBody>
      </p:sp>
      <p:pic>
        <p:nvPicPr>
          <p:cNvPr id="608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37" name="Содержимое 3" descr="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39" name="Содержимое 3" descr="big2787.jpg"/>
          <p:cNvPicPr/>
          <p:nvPr/>
        </p:nvPicPr>
        <p:blipFill>
          <a:blip r:embed="rId1"/>
          <a:stretch/>
        </p:blipFill>
        <p:spPr>
          <a:xfrm>
            <a:off x="-131760" y="0"/>
            <a:ext cx="9371160" cy="7029360"/>
          </a:xfrm>
          <a:prstGeom prst="rect">
            <a:avLst/>
          </a:prstGeom>
          <a:ln w="0">
            <a:noFill/>
          </a:ln>
        </p:spPr>
      </p:pic>
      <p:sp>
        <p:nvSpPr>
          <p:cNvPr id="640" name="TextBox 4"/>
          <p:cNvSpPr/>
          <p:nvPr/>
        </p:nvSpPr>
        <p:spPr>
          <a:xfrm>
            <a:off x="207720" y="333360"/>
            <a:ext cx="87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оспешишь – людей насмешишь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Рисунок 5" descr="Поспешишь_-_людей_насмешишь.jpg"/>
          <p:cNvPicPr/>
          <p:nvPr/>
        </p:nvPicPr>
        <p:blipFill>
          <a:blip r:embed="rId2"/>
          <a:stretch/>
        </p:blipFill>
        <p:spPr>
          <a:xfrm>
            <a:off x="1476360" y="1628640"/>
            <a:ext cx="6257880" cy="45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93680" y="404640"/>
            <a:ext cx="895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ьте слово по подсказкам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) в слове есть окончание и основа. Основа состоит из 3-х частей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) корень, тот же, что и в слове 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бмен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в приставке есть 2 звука 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[э]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которые обозначены буквой 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суффикс тот же, что в слове 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равк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) окончание - первая буква алфавита. Что это за слово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TextBox 3"/>
          <p:cNvSpPr/>
          <p:nvPr/>
        </p:nvSpPr>
        <p:spPr>
          <a:xfrm>
            <a:off x="10282320" y="3789360"/>
            <a:ext cx="25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ПЕРЕМ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281 0.26209 L -0.79514 0.28291 E">
                                      <p:cBhvr>
                                        <p:cTn id="63" dur="2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46" name="Содержимое 3" descr="img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8b7bf"/>
                </a:solidFill>
                <a:latin typeface="Georgia"/>
              </a:rPr>
              <a:t>Домашнее задание</a:t>
            </a:r>
            <a:endParaRPr b="0" lang="en-US" sz="36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ь сказку о частях слов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Рисунок 4" descr="pngtree-holding-pen-picture-png-clipart_3048601.jpg"/>
          <p:cNvPicPr/>
          <p:nvPr/>
        </p:nvPicPr>
        <p:blipFill>
          <a:blip r:embed="rId1"/>
          <a:stretch/>
        </p:blipFill>
        <p:spPr>
          <a:xfrm>
            <a:off x="3995640" y="2781360"/>
            <a:ext cx="4962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Georgia"/>
              </a:rPr>
              <a:t>Пальчиковая гимнастика</a:t>
            </a:r>
            <a:endParaRPr b="0" lang="en-US" sz="36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10" name="Содержимое 3" descr="41ivanova_met.jpg"/>
          <p:cNvPicPr/>
          <p:nvPr/>
        </p:nvPicPr>
        <p:blipFill>
          <a:blip r:embed="rId1"/>
          <a:stretch/>
        </p:blipFill>
        <p:spPr>
          <a:xfrm>
            <a:off x="2484360" y="170028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утка чистописания</a:t>
            </a:r>
            <a:endParaRPr b="0" lang="en-US" sz="49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12" name="Содержимое 4" descr="img26.jpg"/>
          <p:cNvPicPr/>
          <p:nvPr/>
        </p:nvPicPr>
        <p:blipFill>
          <a:blip r:embed="rId1"/>
          <a:stretch/>
        </p:blipFill>
        <p:spPr>
          <a:xfrm>
            <a:off x="1506600" y="1527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8000" y="228240"/>
            <a:ext cx="8928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de-DE" sz="3300" spc="-1" strike="noStrike">
                <a:solidFill>
                  <a:srgbClr val="0070c0"/>
                </a:solidFill>
                <a:latin typeface="Georgia"/>
              </a:rPr>
              <a:t>Обобщение и закрепление изученного </a:t>
            </a:r>
            <a:br>
              <a:rPr sz="3300"/>
            </a:br>
            <a:r>
              <a:rPr b="0" lang="de-DE" sz="3300" spc="-1" strike="noStrike">
                <a:solidFill>
                  <a:srgbClr val="0070c0"/>
                </a:solidFill>
                <a:latin typeface="Georgia"/>
              </a:rPr>
              <a:t>по теме  «Состав слова».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10609560" y="2637000"/>
            <a:ext cx="63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Arial Black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о составе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значимых ча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86 -0.00648 L -1.01632 -0.05899 E">
                                      <p:cBhvr>
                                        <p:cTn id="6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</a:t>
            </a:r>
            <a:endParaRPr b="0" lang="en-US" sz="8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Рисунок 5" descr="large_snowflakes_falling_hg_clr.gif"/>
          <p:cNvPicPr/>
          <p:nvPr/>
        </p:nvPicPr>
        <p:blipFill>
          <a:blip r:embed="rId1"/>
          <a:stretch/>
        </p:blipFill>
        <p:spPr>
          <a:xfrm>
            <a:off x="3132000" y="2924280"/>
            <a:ext cx="272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</a:t>
            </a:r>
            <a:br>
              <a:rPr sz="3600"/>
            </a:br>
            <a:endParaRPr b="0" lang="en-US" sz="60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20" name="Рисунок 2" descr="http://xn--i1abbnckbmcl9fb.xn--p1ai/%D1%81%D1%82%D0%B0%D1%82%D1%8C%D0%B8/519156/img2.jpg"/>
          <p:cNvPicPr/>
          <p:nvPr/>
        </p:nvPicPr>
        <p:blipFill>
          <a:blip r:embed="rId1"/>
          <a:stretch/>
        </p:blipFill>
        <p:spPr>
          <a:xfrm>
            <a:off x="2050920" y="1557360"/>
            <a:ext cx="5085000" cy="4930920"/>
          </a:xfrm>
          <a:prstGeom prst="rect">
            <a:avLst/>
          </a:prstGeom>
          <a:ln w="0">
            <a:noFill/>
          </a:ln>
        </p:spPr>
      </p:pic>
      <p:sp>
        <p:nvSpPr>
          <p:cNvPr id="621" name="TextBox 4"/>
          <p:cNvSpPr/>
          <p:nvPr/>
        </p:nvSpPr>
        <p:spPr>
          <a:xfrm>
            <a:off x="9547560" y="14130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УР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9762120" y="213372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9975960" y="2781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НЕ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7"/>
          <p:cNvSpPr/>
          <p:nvPr/>
        </p:nvSpPr>
        <p:spPr>
          <a:xfrm>
            <a:off x="9908640" y="3500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8"/>
          <p:cNvSpPr/>
          <p:nvPr/>
        </p:nvSpPr>
        <p:spPr>
          <a:xfrm>
            <a:off x="9836280" y="4437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9"/>
          <p:cNvSpPr/>
          <p:nvPr/>
        </p:nvSpPr>
        <p:spPr>
          <a:xfrm>
            <a:off x="10119600" y="53737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ЕЖ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68 0.00463 L -0.79253 0.16192 E">
                                      <p:cBhvr>
                                        <p:cTn id="12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00602 L -0.50764 0.0569 E">
                                      <p:cBhvr>
                                        <p:cTn id="16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-0.00579 L -0.84861 0.20425 E">
                                      <p:cBhvr>
                                        <p:cTn id="20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486 L -0.51736 0.10988 E">
                                      <p:cBhvr>
                                        <p:cTn id="24" dur="2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71 -0.00555 L -0.81458 0.22531 E">
                                      <p:cBhvr>
                                        <p:cTn id="28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36 0.00486 L -0.55295 0.08883 E">
                                      <p:cBhvr>
                                        <p:cTn id="32" dur="2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заимопроверка</a:t>
            </a:r>
            <a:endParaRPr b="0" lang="en-US" sz="4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ушке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л н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ку –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з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очен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ёплой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н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,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убине,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т м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ы тр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ат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Georgia"/>
              </a:rPr>
              <a:t>Найди слово, соответствующие схеме</a:t>
            </a:r>
            <a:endParaRPr b="0" lang="en-US" sz="36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767800" cy="2725920"/>
          </a:xfrm>
          <a:prstGeom prst="rect">
            <a:avLst/>
          </a:prstGeom>
          <a:ln w="0">
            <a:noFill/>
          </a:ln>
        </p:spPr>
      </p:pic>
      <p:sp>
        <p:nvSpPr>
          <p:cNvPr id="631" name="TextBox 3"/>
          <p:cNvSpPr/>
          <p:nvPr/>
        </p:nvSpPr>
        <p:spPr>
          <a:xfrm>
            <a:off x="10226160" y="1844640"/>
            <a:ext cx="180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Н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4"/>
          <p:cNvSpPr/>
          <p:nvPr/>
        </p:nvSpPr>
        <p:spPr>
          <a:xfrm>
            <a:off x="10523160" y="3429000"/>
            <a:ext cx="6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"/>
          <p:cNvSpPr/>
          <p:nvPr/>
        </p:nvSpPr>
        <p:spPr>
          <a:xfrm>
            <a:off x="10499400" y="5229360"/>
            <a:ext cx="65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1 0.03169 L -0.92673 0.23109 E">
                                      <p:cBhvr>
                                        <p:cTn id="38" dur="2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34 0.00023 L -0.59757 -0.01041 E">
                                      <p:cBhvr>
                                        <p:cTn id="42" dur="2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91 -0.01041 L -0.34323 -0.28314 E">
                                      <p:cBhvr>
                                        <p:cTn id="46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35" name="физминутка.wmv" descr=""/>
          <p:cNvPicPr/>
          <p:nvPr/>
        </p:nvPicPr>
        <p:blipFill>
          <a:blip r:embed="rId1"/>
          <a:stretch/>
        </p:blipFill>
        <p:spPr>
          <a:xfrm>
            <a:off x="-947880" y="0"/>
            <a:ext cx="1019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4005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4T06:16:52Z</dcterms:created>
  <dc:creator>БусинкаМалышка</dc:creator>
  <dc:description/>
  <dc:language>en-US</dc:language>
  <cp:lastModifiedBy>БусинкаМалышка</cp:lastModifiedBy>
  <dcterms:modified xsi:type="dcterms:W3CDTF">2018-12-18T06:36:00Z</dcterms:modified>
  <cp:revision>23</cp:revision>
  <dc:subject/>
  <dc:title>Слайд 1</dc:title>
</cp:coreProperties>
</file>