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11C-4C44-4920-8FB5-D6AFF3C1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918-E6D7-4B3D-85E7-2F0A3429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C17C6-FEFE-4694-8018-AF512BF3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E89DF-CEF8-4285-AB25-F51EBB7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379A0-448F-471F-9E3E-63A97767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0C55B-9CBD-423C-A78F-E9A82DE9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A856A-A7B4-4E3A-983B-6A2B9083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1CD28-9963-4F45-9189-D08E1688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3CF65-F071-4B8B-9752-44F39325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7CB43-732C-4850-AF5D-0A140908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65E7F8-CCC1-4A66-9F74-F35EB08D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40FF88-68EC-4D06-8F98-792C7E4F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A65-68B2-45EF-A55A-18EE8E24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18DCD3-57CF-47B9-BB66-3114EC5F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0E3C8-14D9-4759-94D7-F0FFD512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A9527-DEA9-4500-B419-78943A7D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82ACA-51AC-4D9C-ADDC-319E1BAF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7E0CE-60A0-42FE-9E0E-D0DCE454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2C7FA-09C9-4E5D-BF49-A3237C0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6F478-627B-4195-87B7-51EBD194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8CF5F-4BD0-4193-B559-B090B35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D64A5-46CB-4A46-87FE-EE1C3787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7CBB4-E18E-4169-AE10-B1516F93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3F0-0D69-4206-95AD-C6965343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05CEC-6230-408E-B72E-C4F12B64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03EB0-1630-44C2-905A-43B00D56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35B81-B67E-42CC-BC4E-ACE46E96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4697E-19DA-4618-B96F-9C65C951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0741B-8E2B-4FD2-83E1-BD8D7364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5932F-BF46-4CD9-9AEB-7F929BC0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D7311-9345-429A-B6B3-8004AC35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117BB-94FB-41B3-97F7-ECF59251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C5C73-8F30-4467-BA7B-B84C6537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69ECC-9A0C-421B-B3BE-14FE1BD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9C63-AC38-4B74-9CF4-33AD9129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A74A5-07DD-469A-9F88-6D33332D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F0EE0-7D81-4B8E-9757-D8E2D5B8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76F40-8B1F-4787-BCAC-84E925D6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4E6F5E-CE7C-49EE-8691-B17D761D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E6A47-A888-4ACE-84F8-B2405FAD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FD980-F87C-4C06-B850-C7461AD1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26562-810F-4DC4-B708-937D83B3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B1D0D-670F-4F04-89F9-BF9DBB51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BBDF93-6C9F-4DE1-9FDD-47F0E595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37E30-1E12-4FCD-80BC-C7AD6A0B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30F1-7CDE-4B94-BC88-8201940B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E5B30-C06D-4D81-B9CD-866026F4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3E103-D6DE-42C9-9E5C-8B18FFAD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BB2AA-0B09-4102-A313-C7186B9E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B7678-8A0E-46CA-A5AE-EFC67ADF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C372BD-0C43-462A-9106-05F588F5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D2A6-224B-4ECD-8C1E-ACFC82D0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5DA4-A7A6-42D8-B2D9-D455A05B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96A8-5A26-447A-A5A5-91FD6208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CC26-3712-481D-A47B-339D6573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8767-4149-418C-94D9-FE2854A6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82E-72E4-4FC5-9113-BD215A37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50AD-1B14-4A44-94B2-648C91B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4428-1DA4-4C1A-AAE2-047E8C4A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C06F-93E2-401C-B164-D950608C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B3A0-65FA-4D70-B1C3-A98D4C86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E078-1149-499A-B44A-040D42E1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FEAE-A900-457B-B905-9542CB77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0807-C681-4025-95BA-1437BA13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FDF94-A7DD-4A86-B455-0E757294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DF52-C523-45A0-B018-93E3CC6C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CA96-158B-41F6-BE2F-F33EE4A4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852-80D3-427F-9453-0F2EAA9F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AA57-C484-47B4-9184-A5FAE39E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6E6CF-C4B6-4542-91D4-B65C523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73EF-02DB-4657-8DF3-5EE8D52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FC5D-EC1D-469E-8FBF-8C14F9F2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A4295-00B4-431C-B939-D934E874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0E29-2C2C-429D-B8E4-E17CACDF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87E7-10C1-4C03-94FA-BEB0F61F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D700-15B3-4F4A-A939-74FA7C54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C2074-46C4-4E66-A0A2-EAC7EAE0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3C598-6C34-41BA-97AE-6385D237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EE8-9DDD-4882-A2E0-262658AA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268C4-65E1-4485-B7CA-5A9791F9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58BC-C4AD-41E6-A503-A78C03CA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4DC68-B988-45D9-8F6E-C41985FA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98E20-0CAF-4787-8C0A-CE358580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39C45-53B3-4908-8310-9E656EF0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D9B69-D89C-4025-B875-0CAA7701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23BD0-79B0-434B-832D-4FA47A39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439BC-B3B5-46C4-8131-41205DC1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480C2-6513-451B-AC0A-F3FC408B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2C3BB-C147-4E4A-8AF8-7AFAE2AF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A6AC-D62D-4425-B4E9-3B83D9A3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377DB-057B-4EEE-933A-3DF225F8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66351-D87B-4EAF-BCDB-CEA806AE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F3A42-39D7-4B92-9252-6730C63F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AB674-4567-48EB-9542-A778CD5D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5A12B-CCD1-4018-9401-401FE7E4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B2AC9-416B-454B-95BB-E1669F4E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7E4C8-C637-45CC-9D86-237E3F18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456AA-A539-463E-A258-36D8EEC7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0AA69-13DC-4B61-87B8-D0E089A4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67C9-9926-4719-A513-27159DAA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EB5-2C16-401F-9883-2EA12149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249AF-78B8-433B-B9F8-29545B92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72B6A-15DF-4E73-B6FA-BD0DAF46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17B5A-9898-436A-98F1-A42BE88D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3166-53E9-404E-B6A3-B827691E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F1EB-6517-43D1-AD17-D9BAC808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2A249-7E50-4843-9C1F-46A07711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2FE58-58A5-44B1-BDCA-31A16AF5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9BCBC-513E-4566-B53B-7B0C6142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E3668-147F-4594-A5C8-6098CF2C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83007-3838-49E9-85E6-8352970D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FEEE-EF58-4E5C-B460-667E10E2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C3642-8FD3-4864-9CBE-42CB465E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47B51-6E92-472B-8345-374E0188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4C20D-886F-40F5-8FF2-115041D7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A6F5B-359C-4A87-B4D4-D4114FE3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DE829-0235-4089-8FAF-38655E9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CAE77-FA0F-4275-BB75-F7649453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4FE6C-7458-47BC-83BA-F6B2E688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304C8-5065-4849-9322-DC27B88B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64534-82D1-48A6-9070-4C42878A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F0795-5DBF-47DD-97FA-B303F59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1C0-6210-45C6-B594-DF88E97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1535D-EE1B-4318-A616-5DB85B78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6607F-55BB-4209-AE40-10ECDF54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D9516-D04E-4BA1-B7CA-0B2BC920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537A6-87AF-4FBD-8A05-DE76B828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936A9-AABA-4BC3-94B7-6F95F46A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6DC90-2A11-4E36-A3D8-55EE1EB0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DB2DD-0F59-4D53-AE3E-D5F92366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0F0AE-F01C-4F93-9521-3CC430F8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DCB16-4C4F-4780-8E06-295ECA58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507CC-5119-4780-A635-7109E269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D9C-3854-4166-8C75-0EAE7CF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15C39-C73F-4BF8-96DE-3A30233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53431-8740-4813-8747-C2867AC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66F3C-CBD6-476A-8F17-C9376907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1981E-8B52-4586-BCD8-D8D33E1C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F07D4-8F01-4502-8E41-2B8C35DD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12A2C-A647-410B-8968-1DE89615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3EF20-EDCC-4DCC-A14D-661D4411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0B6081-31B1-4BEF-B192-1BF9193B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8F015-B30E-4435-9585-4B1A3D8C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17007-5D9C-4944-9612-2DC71C4F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D147-9546-466E-96C6-6EE9D4008A49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449B-C537-4B64-BA9F-E7467A2A182E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78CA-A07F-4138-AD96-A1703144D9BD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BBED-4982-48E2-87F2-5BC6271EC181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170C-B42D-41B3-8A2A-89F1F8156979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CEC-A2EA-4825-B6B5-D9E1D0307CF6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3DE6-BC1A-402F-AE64-E3331BEF0D36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1F1C-0B05-4596-815A-32D9F1479BA9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1CAC-62DF-450C-A7B9-6992DCFB30F0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0CA0-7A08-4194-9F84-026B6F5AF81D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E0A6-5D3E-40FD-ADD9-6967DD43E109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4ee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15B5-197A-40DC-ADFD-547F4CA59151}" type="slidenum">
              <a:rPr b="0" lang="ru-RU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04617b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f6fc6"/>
              </a:solidFill>
              <a:latin typeface="Georgia"/>
            </a:endParaRPr>
          </a:p>
        </p:txBody>
      </p:sp>
      <p:pic>
        <p:nvPicPr>
          <p:cNvPr id="608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37" name="Содержимое 3" descr="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39" name="Содержимое 3" descr="big2787.jpg"/>
          <p:cNvPicPr/>
          <p:nvPr/>
        </p:nvPicPr>
        <p:blipFill>
          <a:blip r:embed="rId1"/>
          <a:stretch/>
        </p:blipFill>
        <p:spPr>
          <a:xfrm>
            <a:off x="-131760" y="0"/>
            <a:ext cx="9371160" cy="7029360"/>
          </a:xfrm>
          <a:prstGeom prst="rect">
            <a:avLst/>
          </a:prstGeom>
          <a:ln w="0">
            <a:noFill/>
          </a:ln>
        </p:spPr>
      </p:pic>
      <p:sp>
        <p:nvSpPr>
          <p:cNvPr id="640" name="TextBox 4"/>
          <p:cNvSpPr/>
          <p:nvPr/>
        </p:nvSpPr>
        <p:spPr>
          <a:xfrm>
            <a:off x="207720" y="333360"/>
            <a:ext cx="87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Поспешишь – людей насмешишь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Рисунок 5" descr="Поспешишь_-_людей_насмешишь.jpg"/>
          <p:cNvPicPr/>
          <p:nvPr/>
        </p:nvPicPr>
        <p:blipFill>
          <a:blip r:embed="rId2"/>
          <a:stretch/>
        </p:blipFill>
        <p:spPr>
          <a:xfrm>
            <a:off x="1476360" y="1628640"/>
            <a:ext cx="6257880" cy="45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93680" y="404640"/>
            <a:ext cx="895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ьте слово по подсказкам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А) в слове есть окончание и основа. Основа состоит из 3-х частей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Б) корень, тот же, что и в слове 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бмен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в приставке есть 2 звука 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[э]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которые обозначены буквой 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, суффикс тот же, что в слове 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травка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4360" indent="-2343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) окончание - первая буква алфавита. Что это за слово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TextBox 3"/>
          <p:cNvSpPr/>
          <p:nvPr/>
        </p:nvSpPr>
        <p:spPr>
          <a:xfrm>
            <a:off x="10282320" y="3789360"/>
            <a:ext cx="25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ПЕРЕМ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281 0.26209 L -0.79514 0.28291 E">
                                      <p:cBhvr>
                                        <p:cTn id="63" dur="2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46" name="Содержимое 3" descr="img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8b7bf"/>
                </a:solidFill>
                <a:latin typeface="Georgia"/>
              </a:rPr>
              <a:t>Домашнее задание</a:t>
            </a:r>
            <a:endParaRPr b="0" lang="en-US" sz="36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ить сказку о частях слов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Рисунок 4" descr="pngtree-holding-pen-picture-png-clipart_3048601.jpg"/>
          <p:cNvPicPr/>
          <p:nvPr/>
        </p:nvPicPr>
        <p:blipFill>
          <a:blip r:embed="rId1"/>
          <a:stretch/>
        </p:blipFill>
        <p:spPr>
          <a:xfrm>
            <a:off x="3995640" y="2781360"/>
            <a:ext cx="4962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70c0"/>
                </a:solidFill>
                <a:latin typeface="Georgia"/>
              </a:rPr>
              <a:t>Пальчиковая гимнастика</a:t>
            </a:r>
            <a:endParaRPr b="0" lang="en-US" sz="36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10" name="Содержимое 3" descr="41ivanova_met.jpg"/>
          <p:cNvPicPr/>
          <p:nvPr/>
        </p:nvPicPr>
        <p:blipFill>
          <a:blip r:embed="rId1"/>
          <a:stretch/>
        </p:blipFill>
        <p:spPr>
          <a:xfrm>
            <a:off x="2484360" y="170028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утка чистописания</a:t>
            </a:r>
            <a:endParaRPr b="0" lang="en-US" sz="49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12" name="Содержимое 4" descr="img26.jpg"/>
          <p:cNvPicPr/>
          <p:nvPr/>
        </p:nvPicPr>
        <p:blipFill>
          <a:blip r:embed="rId1"/>
          <a:stretch/>
        </p:blipFill>
        <p:spPr>
          <a:xfrm>
            <a:off x="1506600" y="15271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8000" y="228240"/>
            <a:ext cx="8928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de-DE" sz="3300" spc="-1" strike="noStrike">
                <a:solidFill>
                  <a:srgbClr val="0070c0"/>
                </a:solidFill>
                <a:latin typeface="Georgia"/>
              </a:rPr>
              <a:t>Обобщение и закрепление изученного </a:t>
            </a:r>
            <a:br>
              <a:rPr sz="3300"/>
            </a:br>
            <a:r>
              <a:rPr b="0" lang="de-DE" sz="3300" spc="-1" strike="noStrike">
                <a:solidFill>
                  <a:srgbClr val="0070c0"/>
                </a:solidFill>
                <a:latin typeface="Georgia"/>
              </a:rPr>
              <a:t>по теме  «Состав слова».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10609560" y="2637000"/>
            <a:ext cx="63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70c0"/>
                </a:solidFill>
                <a:uFillTx/>
                <a:latin typeface="Arial Black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знания о составе сл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значимых част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86 -0.00648 L -1.01632 -0.05899 E">
                                      <p:cBhvr>
                                        <p:cTn id="6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</a:t>
            </a:r>
            <a:endParaRPr b="0" lang="en-US" sz="8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Рисунок 5" descr="large_snowflakes_falling_hg_clr.gif"/>
          <p:cNvPicPr/>
          <p:nvPr/>
        </p:nvPicPr>
        <p:blipFill>
          <a:blip r:embed="rId1"/>
          <a:stretch/>
        </p:blipFill>
        <p:spPr>
          <a:xfrm>
            <a:off x="3132000" y="2924280"/>
            <a:ext cx="2724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32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</a:t>
            </a:r>
            <a:br>
              <a:rPr sz="3600"/>
            </a:br>
            <a:endParaRPr b="0" lang="en-US" sz="60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20" name="Рисунок 2" descr="http://xn--i1abbnckbmcl9fb.xn--p1ai/%D1%81%D1%82%D0%B0%D1%82%D1%8C%D0%B8/519156/img2.jpg"/>
          <p:cNvPicPr/>
          <p:nvPr/>
        </p:nvPicPr>
        <p:blipFill>
          <a:blip r:embed="rId1"/>
          <a:stretch/>
        </p:blipFill>
        <p:spPr>
          <a:xfrm>
            <a:off x="2050920" y="1557360"/>
            <a:ext cx="5085000" cy="4930920"/>
          </a:xfrm>
          <a:prstGeom prst="rect">
            <a:avLst/>
          </a:prstGeom>
          <a:ln w="0">
            <a:noFill/>
          </a:ln>
        </p:spPr>
      </p:pic>
      <p:sp>
        <p:nvSpPr>
          <p:cNvPr id="621" name="TextBox 4"/>
          <p:cNvSpPr/>
          <p:nvPr/>
        </p:nvSpPr>
        <p:spPr>
          <a:xfrm>
            <a:off x="9547560" y="14130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УР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5"/>
          <p:cNvSpPr/>
          <p:nvPr/>
        </p:nvSpPr>
        <p:spPr>
          <a:xfrm>
            <a:off x="9762120" y="213372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9975960" y="2781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НЕ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7"/>
          <p:cNvSpPr/>
          <p:nvPr/>
        </p:nvSpPr>
        <p:spPr>
          <a:xfrm>
            <a:off x="9908640" y="35002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8"/>
          <p:cNvSpPr/>
          <p:nvPr/>
        </p:nvSpPr>
        <p:spPr>
          <a:xfrm>
            <a:off x="9836280" y="4437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9"/>
          <p:cNvSpPr/>
          <p:nvPr/>
        </p:nvSpPr>
        <p:spPr>
          <a:xfrm>
            <a:off x="10119600" y="537372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ЕЖ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68 0.00463 L -0.79253 0.16192 E">
                                      <p:cBhvr>
                                        <p:cTn id="12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48 -0.00602 L -0.50764 0.0569 E">
                                      <p:cBhvr>
                                        <p:cTn id="16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-0.00579 L -0.84861 0.20425 E">
                                      <p:cBhvr>
                                        <p:cTn id="20" dur="2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486 L -0.51736 0.10988 E">
                                      <p:cBhvr>
                                        <p:cTn id="24" dur="2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71 -0.00555 L -0.81458 0.22531 E">
                                      <p:cBhvr>
                                        <p:cTn id="28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36 0.00486 L -0.55295 0.08883 E">
                                      <p:cBhvr>
                                        <p:cTn id="32" dur="2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заимопроверка</a:t>
            </a:r>
            <a:endParaRPr b="0" lang="en-US" sz="4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ж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ушке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л н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ку –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з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 очен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ёплой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у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же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н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,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убине,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т м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ы тр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ат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5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70c0"/>
                </a:solidFill>
                <a:latin typeface="Georgia"/>
              </a:rPr>
              <a:t>Найди слово, соответствующие схеме</a:t>
            </a:r>
            <a:endParaRPr b="0" lang="en-US" sz="36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767800" cy="2725920"/>
          </a:xfrm>
          <a:prstGeom prst="rect">
            <a:avLst/>
          </a:prstGeom>
          <a:ln w="0">
            <a:noFill/>
          </a:ln>
        </p:spPr>
      </p:pic>
      <p:sp>
        <p:nvSpPr>
          <p:cNvPr id="631" name="TextBox 3"/>
          <p:cNvSpPr/>
          <p:nvPr/>
        </p:nvSpPr>
        <p:spPr>
          <a:xfrm>
            <a:off x="10226160" y="1844640"/>
            <a:ext cx="180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Н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4"/>
          <p:cNvSpPr/>
          <p:nvPr/>
        </p:nvSpPr>
        <p:spPr>
          <a:xfrm>
            <a:off x="10523160" y="3429000"/>
            <a:ext cx="6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"/>
          <p:cNvSpPr/>
          <p:nvPr/>
        </p:nvSpPr>
        <p:spPr>
          <a:xfrm>
            <a:off x="10499400" y="5229360"/>
            <a:ext cx="65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 Black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1 0.03169 L -0.92673 0.23109 E">
                                      <p:cBhvr>
                                        <p:cTn id="38" dur="20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34 0.00023 L -0.59757 -0.01041 E">
                                      <p:cBhvr>
                                        <p:cTn id="42" dur="20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191 -0.01041 L -0.34323 -0.28314 E">
                                      <p:cBhvr>
                                        <p:cTn id="46" dur="2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pic>
        <p:nvPicPr>
          <p:cNvPr id="635" name="физминутка.wmv" descr=""/>
          <p:cNvPicPr/>
          <p:nvPr/>
        </p:nvPicPr>
        <p:blipFill>
          <a:blip r:embed="rId1"/>
          <a:stretch/>
        </p:blipFill>
        <p:spPr>
          <a:xfrm>
            <a:off x="-947880" y="0"/>
            <a:ext cx="1019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4005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4T06:16:52Z</dcterms:created>
  <dc:creator>БусинкаМалышка</dc:creator>
  <dc:description/>
  <dc:language>en-US</dc:language>
  <cp:lastModifiedBy>БусинкаМалышка</cp:lastModifiedBy>
  <dcterms:modified xsi:type="dcterms:W3CDTF">2018-12-18T06:36:00Z</dcterms:modified>
  <cp:revision>23</cp:revision>
  <dc:subject/>
  <dc:title>Слайд 1</dc:title>
</cp:coreProperties>
</file>