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4774B-81B5-44EB-8E69-1A06AA6E00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D8687-D3E3-47A2-B95C-839A9D912D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234C-E310-4ABB-86ED-547196212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D83C-9C90-4E5B-96B4-F8D1342C2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216E-6CBB-4AF7-A946-5D6EFEF40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3D02-F0CC-4BC7-B587-48AE98DFF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0625-D35A-4969-A9E8-83D97A550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E93C-9D3E-42F6-811D-D195C0EA2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2292-D4A3-44AA-9950-64FCC045C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CBC3-A36A-4B90-9B50-3349696B8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EDB5-498E-42C5-A046-1647755CF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0243-2454-4596-84C9-0A9748BE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EF6D-98F0-4558-94AD-2D2D0702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B683-9D93-4DDF-8A4D-5ED02243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52D37-6D47-48DE-8357-F3C08B079AA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Box 5" descr=""/>
          <p:cNvPicPr/>
          <p:nvPr/>
        </p:nvPicPr>
        <p:blipFill>
          <a:blip r:embed="rId1"/>
          <a:stretch/>
        </p:blipFill>
        <p:spPr>
          <a:xfrm>
            <a:off x="-115920" y="828720"/>
            <a:ext cx="5583240" cy="4681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J:\Дедушка\DSC_5466.JPG"/>
          <p:cNvPicPr/>
          <p:nvPr/>
        </p:nvPicPr>
        <p:blipFill>
          <a:blip r:embed="rId2"/>
          <a:stretch/>
        </p:blipFill>
        <p:spPr>
          <a:xfrm>
            <a:off x="5580000" y="1444680"/>
            <a:ext cx="3227400" cy="486252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468360" y="5229360"/>
            <a:ext cx="316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р презентации: Зубков Георгий, 4 клас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D:\Users\ЮРИЙ\Desktop\123.jpg"/>
          <p:cNvPicPr/>
          <p:nvPr/>
        </p:nvPicPr>
        <p:blipFill>
          <a:blip r:embed="rId3"/>
          <a:stretch/>
        </p:blipFill>
        <p:spPr>
          <a:xfrm>
            <a:off x="0" y="272880"/>
            <a:ext cx="9144000" cy="70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5920" y="1052640"/>
            <a:ext cx="822960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дость от Победы была безграничной. День 9 Мая навсегда вошел в историю народа, как день Великой Победы над страшным врагом. Но не смогли пройти бесследно жуткие раны, нанесенные этой войной. Война унесла почти 27 миллионов человеческих жизн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йна для моего прадедушки закончилась только в конце 1945 года. Так как по образованию он был бухгалтером, его оставили в одном из советских гарнизонов на территории Германии, где он служил по своей гражданской профессии, помогая налаживать уже мирную жизнь на освобожденных от фашизма территория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3" descr="D:\Users\ЮРИЙ\Desktop\86541968_lenta2-449x243-custom.png"/>
          <p:cNvPicPr/>
          <p:nvPr/>
        </p:nvPicPr>
        <p:blipFill>
          <a:blip r:embed="rId1"/>
          <a:stretch/>
        </p:blipFill>
        <p:spPr>
          <a:xfrm>
            <a:off x="395280" y="3860640"/>
            <a:ext cx="7921800" cy="282924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2"/>
          <p:cNvSpPr/>
          <p:nvPr/>
        </p:nvSpPr>
        <p:spPr>
          <a:xfrm>
            <a:off x="1702800" y="333360"/>
            <a:ext cx="578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Долгожданная Поб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427280" y="549360"/>
            <a:ext cx="439236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йна сблизила людей. Сплотившись, народ стал сильнее и положил конец кровопролитной бойне. Более 7 млн. воинов были награждены за мужество, храбрость и героизм, а 11 358 человек были удостоены звания Героя Советского Союз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й прадедушка также награжден орденами и медалями, среди них: Медаль за победу над Германией в Великой Отечественной войне 1941-1945, Орден Отечественной войны, Медаль Жукова  и это лишь некоторые его  награды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ждый год, на 9 мая  прадедушка получает поздравления из Кремля  от Президента Российской Федерации и премьер-министра, а также поздравления от губернатора Саратовской обла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Объект 4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3220920" cy="5908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J:\150px-Order_of_the_Patriotic_War_(1st_class).png"/>
          <p:cNvPicPr/>
          <p:nvPr/>
        </p:nvPicPr>
        <p:blipFill>
          <a:blip r:embed="rId2"/>
          <a:stretch/>
        </p:blipFill>
        <p:spPr>
          <a:xfrm>
            <a:off x="1979640" y="1341360"/>
            <a:ext cx="190512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24000" y="475920"/>
            <a:ext cx="79200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удьба прадедушки после войны сложилась благополучно. В 1946 году он вернулся на Родину, в г. Вольск. Там он женился, устроился в шиферный цех завода «Большевик», где проработал до 1986 года, после чего ушел на пенсию в возрасте 74 ле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егодня мой прадедушка уважаемый в городе человек и местный старожил. У него есть две дочери Надежда и Зоя, внуки, внучки, правнуки и правнучки. Его жизнь продолжается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Рисунок 1" descr="10"/>
          <p:cNvPicPr/>
          <p:nvPr/>
        </p:nvPicPr>
        <p:blipFill>
          <a:blip r:embed="rId1"/>
          <a:stretch/>
        </p:blipFill>
        <p:spPr>
          <a:xfrm>
            <a:off x="3492360" y="2787480"/>
            <a:ext cx="4680000" cy="3525840"/>
          </a:xfrm>
          <a:prstGeom prst="rect">
            <a:avLst/>
          </a:prstGeom>
          <a:ln w="0">
            <a:noFill/>
          </a:ln>
        </p:spPr>
      </p:pic>
      <p:sp>
        <p:nvSpPr>
          <p:cNvPr id="82" name="TextBox 3"/>
          <p:cNvSpPr/>
          <p:nvPr/>
        </p:nvSpPr>
        <p:spPr>
          <a:xfrm>
            <a:off x="1116000" y="4016520"/>
            <a:ext cx="2160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р презентации: Георгий Зубков с прадедушкой Сергеем Михайловичем, патриотом и простым гражданином своей стра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484360" y="620280"/>
            <a:ext cx="5904000" cy="25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d0d0d"/>
                </a:solidFill>
                <a:latin typeface="Calibri"/>
              </a:rPr>
              <a:t>	</a:t>
            </a:r>
            <a:r>
              <a:rPr b="0" lang="en-US" sz="1900" spc="-1" strike="noStrike">
                <a:solidFill>
                  <a:srgbClr val="0d0d0d"/>
                </a:solidFill>
                <a:latin typeface="Calibri"/>
              </a:rPr>
              <a:t>5 </a:t>
            </a:r>
            <a:r>
              <a:rPr b="0" lang="ru-RU" sz="1900" spc="-1" strike="noStrike">
                <a:solidFill>
                  <a:srgbClr val="0d0d0d"/>
                </a:solidFill>
                <a:latin typeface="Calibri"/>
              </a:rPr>
              <a:t>октября, когда вся страна поздравляет учителей с их профессиональным праздником,  я вспоминаю своего прадедушку Пыжова Сергея Михаиловича, который всегда является примером для меня.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d0d0d"/>
                </a:solidFill>
                <a:latin typeface="Calibri"/>
              </a:rPr>
              <a:t>	</a:t>
            </a:r>
            <a:r>
              <a:rPr b="0" lang="ru-RU" sz="1900" spc="-1" strike="noStrike">
                <a:solidFill>
                  <a:srgbClr val="0d0d0d"/>
                </a:solidFill>
                <a:latin typeface="Calibri"/>
              </a:rPr>
              <a:t>Он родился 5 октября 1912 года в Саратовской области, в селе Булгаковка, в семье крестьянина. В этом году ему исполнилось 100 лет. Сейчас он живет в городе Вольске. 5 октября 2012 про него написали в газете «Вольская жизнь»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J:\diplom-021.jpg"/>
          <p:cNvPicPr/>
          <p:nvPr/>
        </p:nvPicPr>
        <p:blipFill>
          <a:blip r:embed="rId1"/>
          <a:stretch/>
        </p:blipFill>
        <p:spPr>
          <a:xfrm>
            <a:off x="3564000" y="3284640"/>
            <a:ext cx="4105080" cy="3251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D:\Users\ЮРИЙ\Desktop\lenta.gif"/>
          <p:cNvPicPr/>
          <p:nvPr/>
        </p:nvPicPr>
        <p:blipFill>
          <a:blip r:embed="rId2"/>
          <a:stretch/>
        </p:blipFill>
        <p:spPr>
          <a:xfrm>
            <a:off x="324000" y="353880"/>
            <a:ext cx="1812600" cy="61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6920" y="25992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Детст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94920" y="1341360"/>
            <a:ext cx="806436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тец Пыжова Сергея Михайловича Михаил Андреевич погиб на фронте в 1914 году,  прадедушку с братом воспитывали его мама Пыжова Матрена Павлова и старый дед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адедушка окончил четыре класса начальной школы, после чего работал в поле, а через несколько лет, с приходом  Советской власти,  их семью раскулачили, лишив всего, чем они жил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ни покинули родное село и  уехали  в город Вольск, расположенный на  реке Волге. Там он устроился на работу в местный дом отдыха. 14 марта 1934 года его призвали в армию, где он прослужил 3 года в 3-ей роте  107 Владимирского полка  Забайкальского военного округа, в городе Чите. Служил он командиром пулеметного расчет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J:\Дедушка\DSC_5313.JPG"/>
          <p:cNvPicPr/>
          <p:nvPr/>
        </p:nvPicPr>
        <p:blipFill>
          <a:blip r:embed="rId1"/>
          <a:srcRect l="8714" t="7795" r="6442" b="10608"/>
          <a:stretch/>
        </p:blipFill>
        <p:spPr>
          <a:xfrm>
            <a:off x="2627280" y="4127400"/>
            <a:ext cx="4003560" cy="2557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C:\Documents and Settings\Admin\Мои документы\Мои рисунки\Дедушка\DSC_5320.JPG"/>
          <p:cNvPicPr/>
          <p:nvPr/>
        </p:nvPicPr>
        <p:blipFill>
          <a:blip r:embed="rId1"/>
          <a:srcRect l="0" t="-615" r="0" b="0"/>
          <a:stretch/>
        </p:blipFill>
        <p:spPr>
          <a:xfrm>
            <a:off x="179280" y="906480"/>
            <a:ext cx="5184720" cy="3241800"/>
          </a:xfrm>
          <a:prstGeom prst="rect">
            <a:avLst/>
          </a:prstGeom>
          <a:ln w="0">
            <a:noFill/>
          </a:ln>
        </p:spPr>
      </p:pic>
      <p:pic>
        <p:nvPicPr>
          <p:cNvPr id="59" name="TextBox 4" descr=""/>
          <p:cNvPicPr/>
          <p:nvPr/>
        </p:nvPicPr>
        <p:blipFill>
          <a:blip r:embed="rId2"/>
          <a:stretch/>
        </p:blipFill>
        <p:spPr>
          <a:xfrm>
            <a:off x="109440" y="4475160"/>
            <a:ext cx="4523040" cy="1981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C:\Documents and Settings\Admin\Мои документы\Мои рисунки\Дедушка\DSC_5443.JPG"/>
          <p:cNvPicPr/>
          <p:nvPr/>
        </p:nvPicPr>
        <p:blipFill>
          <a:blip r:embed="rId3"/>
          <a:stretch/>
        </p:blipFill>
        <p:spPr>
          <a:xfrm rot="196200">
            <a:off x="5289120" y="1009800"/>
            <a:ext cx="3699000" cy="55497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00" y="122040"/>
            <a:ext cx="90360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Советско-финляндская вой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39280" y="1267920"/>
            <a:ext cx="4248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В 1939 году прадедушка ушел на фронт. Шла русско-финляндская война. Сегодня  он мало помнит о той войне. Единственное, о чем он рассказывает – это о сильных морозах и бедности Советской армии. Финны были оснащены гораздо лучше. Красной армии катастрофически не хватало теплой одежды и обув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За день до окончания войны прадедушка получил ранение: осколок снаряда попал ему в лицо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Многие знакомые прадедушки погибли на той войне: кто-то от пули, кто-то от страшных холод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Придя с фронта, прадедушка пошел учиться на бухгалтера в Вольское училище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e3640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e3640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e3640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http://lh3.ggpht.com/-ev9SkZMRPq0/TtXE0ggjkZI/AAAAAAAAMTk/El21krCx458/imgb543392a1a78ac8c122c2a8e7addc7ae.jpg"/>
          <p:cNvPicPr/>
          <p:nvPr/>
        </p:nvPicPr>
        <p:blipFill>
          <a:blip r:embed="rId1"/>
          <a:stretch/>
        </p:blipFill>
        <p:spPr>
          <a:xfrm>
            <a:off x="5219640" y="1197000"/>
            <a:ext cx="3421080" cy="51642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036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Великая Отечественная вой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19664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В первый же день войны вечером 22 июня 1941 года прадедушку направили на фронт. Он служил командиром отделения 467 стрелкового полка в звании младшего сержанта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42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Шел август 1941 года. Прадедушке дали задание отнести важные документы из одной части в другую. Дорога пролегала через поле. В тот момент, когда он шел по полю, над ним внезапно пронеслись немецкие самолеты. Один спикировал прямо на прадедушку, и он сумел разглядеть сидевшего в кабине пилота. Прадедушка лег в рожь, летчик открыл огонь. Все пули пролетели мимо живой мишени, а прадедушка добежал до леса, где встретил советских солдат которые поведали ему, что этой части больше нет – она уничтожена.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Содержимое 4" descr="июнь 1941.jpg"/>
          <p:cNvPicPr/>
          <p:nvPr/>
        </p:nvPicPr>
        <p:blipFill>
          <a:blip r:embed="rId1">
            <a:lum bright="50000"/>
          </a:blip>
          <a:stretch/>
        </p:blipFill>
        <p:spPr>
          <a:xfrm>
            <a:off x="4859280" y="4292640"/>
            <a:ext cx="3575160" cy="2378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394920" y="1341360"/>
            <a:ext cx="705636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Встал вопрос о том, что делать дальше. Вдруг поблизости послышались немецкие голоса – это фашисты прочесывали лес. Тогда прадедушка и его товарищи спрятались в блиндаже и не были замечены. Через несколько дней они вышли к советской части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Войска, в числе которых находился прадедушка, расположились в лесной ложбине. На рассвете, когда все спали, фашисты внезапно напали, расстреляли спящих солдат. Прадедушке удалось чудом избежать гибели. Измученный и голодный он вышел к деревне, в которой были немецкие войска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Он постучал в крайнюю избу, дверь открыла молодая женщина. Солдат попросил ее о спасении и ночлеге. Она его впустила и накормила, позволила остаться на ночь, а утром фашисты взяли его в плен. Это было утро 13 августа 1941 года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Сначала он попал в концентрационный лагерь Освенцим, где пробыл до середины сентября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036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Пле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D:\Users\ЮРИЙ\Desktop\123.jpg"/>
          <p:cNvPicPr/>
          <p:nvPr/>
        </p:nvPicPr>
        <p:blipFill>
          <a:blip r:embed="rId1"/>
          <a:stretch/>
        </p:blipFill>
        <p:spPr>
          <a:xfrm>
            <a:off x="7812000" y="0"/>
            <a:ext cx="1152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539640" y="807840"/>
            <a:ext cx="806472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Из воспоминани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того  месяца: был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холодно, пленны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почти не кормил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Немцы редко бросал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в толпу нескольк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буханок хлеб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Однажды пленны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построили и поделил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на две групп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Одну группу, куда попал и мой прадедушка, вывезли на работы в Германию, а вторую группу отправили в газовую камер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Жизнь в Германии была тяжелая. Прадедушка работал на железной дороге, на станции Шверин. Работали по двадцать человек в группе: утрамбовывали щебенку, меняли рельсы и шпалы. Пленных фактически не кормили. Им приходилось есть одну трав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http://war2.name/wp-content/uploads/2010/04/aushvic.jpg"/>
          <p:cNvPicPr/>
          <p:nvPr/>
        </p:nvPicPr>
        <p:blipFill>
          <a:blip r:embed="rId1"/>
          <a:stretch/>
        </p:blipFill>
        <p:spPr>
          <a:xfrm>
            <a:off x="3780000" y="907920"/>
            <a:ext cx="4622760" cy="2936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395280" y="765000"/>
            <a:ext cx="42480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ru-RU" sz="1700" spc="-1" strike="noStrike">
                <a:solidFill>
                  <a:srgbClr val="404040"/>
                </a:solidFill>
                <a:latin typeface="Calibri"/>
              </a:rPr>
              <a:t>Иногда удавалось своровать картофель в моменты, когда немцы грузили его  и отправляли своим. Одежду и обувь им не выдавали. Поэтому они вынуждены были раздевать умерших товарищей. Прадедушкина бригада построила 14 км железнодорожного  полотна в  обе  стороны от станции Шверин до Мальхова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ru-RU" sz="1700" spc="-1" strike="noStrike">
                <a:solidFill>
                  <a:srgbClr val="404040"/>
                </a:solidFill>
                <a:latin typeface="Calibri"/>
              </a:rPr>
              <a:t>В конце  1944 года прадедушка сбежал из концлагеря, воспользовавшись невнимательностью надзирателей, в момент, когда их вели  с работ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ru-RU" sz="1700" spc="-1" strike="noStrike">
                <a:solidFill>
                  <a:srgbClr val="404040"/>
                </a:solidFill>
                <a:latin typeface="Calibri"/>
              </a:rPr>
              <a:t>Прадедушка  бежал на восток, навстречу нашим войскам, прошел проверку и был зачислен в действующую армию. Победу встретил на реке Эльбе, где  Советские войска соединились с союзниками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25"/>
              </a:spcBef>
              <a:buClr>
                <a:srgbClr val="e3640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C:\Documents and Settings\Admin\Мои документы\Мои рисунки\Дедушка\концлагерь.jpg"/>
          <p:cNvPicPr/>
          <p:nvPr/>
        </p:nvPicPr>
        <p:blipFill>
          <a:blip r:embed="rId1"/>
          <a:stretch/>
        </p:blipFill>
        <p:spPr>
          <a:xfrm>
            <a:off x="4859280" y="177336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07:18:30Z</dcterms:created>
  <dc:creator>Admin</dc:creator>
  <dc:description/>
  <dc:language>en-US</dc:language>
  <cp:lastModifiedBy>Ученик</cp:lastModifiedBy>
  <dcterms:modified xsi:type="dcterms:W3CDTF">2018-12-19T10:41:16Z</dcterms:modified>
  <cp:revision>89</cp:revision>
  <dc:subject/>
  <dc:title>Человек века</dc:title>
</cp:coreProperties>
</file>