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CFD-BDF3-4489-9D6E-B996D4A4C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D9C4-60CB-45FA-AE40-2846EA45A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2B9-BE4D-48A4-86A6-A6D05A94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D23-2BCD-4DFF-AA15-08779C0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079-03BC-436E-8526-673D6F06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FE8-A7D0-4817-976B-0D4C7986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537-E482-4037-A09C-1B6F0E5C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E31-80D5-4176-8B8B-F27A96B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72C-DE98-478E-BCC3-E7C973A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684-901C-4A8D-AFE4-D9746B2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600-490E-4A5E-807D-EFAF14B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955-75D9-4B63-8BC6-57560B1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18C-396F-47BC-A08A-A284A23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AC0-9D06-4B0A-BB17-7EB31B4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48EE-1245-473B-9DB7-A74154905C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5" descr=""/>
          <p:cNvPicPr/>
          <p:nvPr/>
        </p:nvPicPr>
        <p:blipFill>
          <a:blip r:embed="rId1"/>
          <a:stretch/>
        </p:blipFill>
        <p:spPr>
          <a:xfrm>
            <a:off x="-115920" y="828720"/>
            <a:ext cx="5583240" cy="46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J:\Дедушка\DSC_5466.JPG"/>
          <p:cNvPicPr/>
          <p:nvPr/>
        </p:nvPicPr>
        <p:blipFill>
          <a:blip r:embed="rId2"/>
          <a:stretch/>
        </p:blipFill>
        <p:spPr>
          <a:xfrm>
            <a:off x="5580000" y="1444680"/>
            <a:ext cx="3227400" cy="4862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68360" y="5229360"/>
            <a:ext cx="31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презентации: Зубков Георгий, 4 кла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:\Users\ЮРИЙ\Desktop\123.jpg"/>
          <p:cNvPicPr/>
          <p:nvPr/>
        </p:nvPicPr>
        <p:blipFill>
          <a:blip r:embed="rId3"/>
          <a:stretch/>
        </p:blipFill>
        <p:spPr>
          <a:xfrm>
            <a:off x="0" y="272880"/>
            <a:ext cx="914400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920" y="105264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ость от Победы была безграничной. День 9 Мая навсегда вошел в историю народа, как день Великой Победы над страшным врагом. Но не смогли пройти бесследно жуткие раны, нанесенные этой войной. Война унесла почти 27 миллионов человеческих жиз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йна для моего прадедушки закончилась только в конце 1945 года. Так как по образованию он был бухгалтером, его оставили в одном из советских гарнизонов на территории Германии, где он служил по своей гражданской профессии, помогая налаживать уже мирную жизнь на освобожденных от фашизма территор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D:\Users\ЮРИЙ\Desktop\86541968_lenta2-449x243-custom.png"/>
          <p:cNvPicPr/>
          <p:nvPr/>
        </p:nvPicPr>
        <p:blipFill>
          <a:blip r:embed="rId1"/>
          <a:stretch/>
        </p:blipFill>
        <p:spPr>
          <a:xfrm>
            <a:off x="395280" y="3860640"/>
            <a:ext cx="7921800" cy="28292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702800" y="333360"/>
            <a:ext cx="57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лгожданная Поб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427280" y="549360"/>
            <a:ext cx="4392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сблизила людей. Сплотившись, народ стал сильнее и положил конец кровопролитной бойне. Более 7 млн. воинов были награждены за мужество, храбрость и героизм, а 11 358 человек были удостоены звания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прадедушка также награжден орденами и медалями, среди них: Медаль за победу над Германией в Великой Отечественной войне 1941-1945, Орден Отечественной войны, Медаль Жукова  и это лишь некоторые его  нагр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год, на 9 мая  прадедушка получает поздравления из Кремля  от Президента Российской Федерации и премьер-министра, а также поздравления от губернатор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220920" cy="590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:\150px-Order_of_the_Patriotic_War_(1st_class).png"/>
          <p:cNvPicPr/>
          <p:nvPr/>
        </p:nvPicPr>
        <p:blipFill>
          <a:blip r:embed="rId2"/>
          <a:stretch/>
        </p:blipFill>
        <p:spPr>
          <a:xfrm>
            <a:off x="1979640" y="1341360"/>
            <a:ext cx="1905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475920"/>
            <a:ext cx="7920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дьба прадедушки после войны сложилась благополучно. В 1946 году он вернулся на Родину, в г. Вольск. Там он женился, устроился в шиферный цех завода «Большевик», где проработал до 1986 года, после чего ушел на пенсию в возрасте 74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ой прадедушка уважаемый в городе человек и местный старожил. У него есть две дочери Надежда и Зоя, внуки, внучки, правнуки и правнучки. Его жизнь продолжаетс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10"/>
          <p:cNvPicPr/>
          <p:nvPr/>
        </p:nvPicPr>
        <p:blipFill>
          <a:blip r:embed="rId1"/>
          <a:stretch/>
        </p:blipFill>
        <p:spPr>
          <a:xfrm>
            <a:off x="3492360" y="2787480"/>
            <a:ext cx="4680000" cy="3525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116000" y="4016520"/>
            <a:ext cx="216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презентации: Георгий Зубков с прадедушкой Сергеем Михайловичем, патриотом и простым гражданином своей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484360" y="620280"/>
            <a:ext cx="59040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d0d0d"/>
                </a:solidFill>
                <a:latin typeface="Calibri"/>
              </a:rPr>
              <a:t>5 </a:t>
            </a: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октября, когда вся страна поздравляет учителей с их профессиональным праздником,  я вспоминаю своего прадедушку Пыжова Сергея Михаиловича, который всегда является примером для меня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Он родился 5 октября 1912 года в Саратовской области, в селе Булгаковка, в семье крестьянина. В этом году ему исполнилось 100 лет. Сейчас он живет в городе Вольске. 5 октября 2012 про него написали в газете «Вольская жизнь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J:\diplom-021.jpg"/>
          <p:cNvPicPr/>
          <p:nvPr/>
        </p:nvPicPr>
        <p:blipFill>
          <a:blip r:embed="rId1"/>
          <a:stretch/>
        </p:blipFill>
        <p:spPr>
          <a:xfrm>
            <a:off x="3564000" y="3284640"/>
            <a:ext cx="4105080" cy="325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Users\ЮРИЙ\Desktop\lenta.gif"/>
          <p:cNvPicPr/>
          <p:nvPr/>
        </p:nvPicPr>
        <p:blipFill>
          <a:blip r:embed="rId2"/>
          <a:stretch/>
        </p:blipFill>
        <p:spPr>
          <a:xfrm>
            <a:off x="324000" y="353880"/>
            <a:ext cx="18126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920" y="1341360"/>
            <a:ext cx="806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ец Пыжова Сергея Михайловича Михаил Андреевич погиб на фронте в 1914 году,  прадедушку с братом воспитывали его мама Пыжова Матрена Павлова и старый д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дедушка окончил четыре класса начальной школы, после чего работал в поле, а через несколько лет, с приходом  Советской власти,  их семью раскулачили, лишив всего, чем они жи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и покинули родное село и  уехали  в город Вольск, расположенный на  реке Волге. Там он устроился на работу в местный дом отдыха. 14 марта 1934 года его призвали в армию, где он прослужил 3 года в 3-ей роте  107 Владимирского полка  Забайкальского военного округа, в городе Чите. Служил он командиром пулеметного расч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J:\Дедушка\DSC_5313.JPG"/>
          <p:cNvPicPr/>
          <p:nvPr/>
        </p:nvPicPr>
        <p:blipFill>
          <a:blip r:embed="rId1"/>
          <a:srcRect l="8714" t="7795" r="6442" b="10608"/>
          <a:stretch/>
        </p:blipFill>
        <p:spPr>
          <a:xfrm>
            <a:off x="2627280" y="4127400"/>
            <a:ext cx="4003560" cy="25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\Мои документы\Мои рисунки\Дедушка\DSC_5320.JPG"/>
          <p:cNvPicPr/>
          <p:nvPr/>
        </p:nvPicPr>
        <p:blipFill>
          <a:blip r:embed="rId1"/>
          <a:srcRect l="0" t="-615" r="0" b="0"/>
          <a:stretch/>
        </p:blipFill>
        <p:spPr>
          <a:xfrm>
            <a:off x="179280" y="906480"/>
            <a:ext cx="5184720" cy="32418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2"/>
          <a:stretch/>
        </p:blipFill>
        <p:spPr>
          <a:xfrm>
            <a:off x="109440" y="4475160"/>
            <a:ext cx="452304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Мои документы\Мои рисунки\Дедушка\DSC_5443.JPG"/>
          <p:cNvPicPr/>
          <p:nvPr/>
        </p:nvPicPr>
        <p:blipFill>
          <a:blip r:embed="rId3"/>
          <a:stretch/>
        </p:blipFill>
        <p:spPr>
          <a:xfrm rot="196200">
            <a:off x="5289120" y="1009800"/>
            <a:ext cx="3699000" cy="554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" y="122040"/>
            <a:ext cx="9036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ветско-финляндская 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280" y="1267920"/>
            <a:ext cx="42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В 1939 году прадедушка ушел на фронт. Шла русско-финляндская война. Сегодня  он мало помнит о той войне. Единственное, о чем он рассказывает – это о сильных морозах и бедности Советской армии. Финны были оснащены гораздо лучше. Красной армии катастрофически не хватало теплой одежды и обу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За день до окончания войны прадедушка получил ранение: осколок снаряда попал ему в лиц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Многие знакомые прадедушки погибли на той войне: кто-то от пули, кто-то от страшных хол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идя с фронта, прадедушка пошел учиться на бухгалтера в Вольское училищ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lh3.ggpht.com/-ev9SkZMRPq0/TtXE0ggjkZI/AAAAAAAAMTk/El21krCx458/imgb543392a1a78ac8c122c2a8e7addc7ae.jpg"/>
          <p:cNvPicPr/>
          <p:nvPr/>
        </p:nvPicPr>
        <p:blipFill>
          <a:blip r:embed="rId1"/>
          <a:stretch/>
        </p:blipFill>
        <p:spPr>
          <a:xfrm>
            <a:off x="5219640" y="1197000"/>
            <a:ext cx="3421080" cy="5164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966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ервый же день войны вечером 22 июня 1941 года прадедушку направили на фронт. Он служил командиром отделения 467 стрелкового полка в звании младшего сержан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Шел август 1941 года. Прадедушке дали задание отнести важные документы из одной части в другую. Дорога пролегала через поле. В тот момент, когда он шел по полю, над ним внезапно пронеслись немецкие самолеты. Один спикировал прямо на прадедушку, и он сумел разглядеть сидевшего в кабине пилота. Прадедушка лег в рожь, летчик открыл огонь. Все пули пролетели мимо живой мишени, а прадедушка добежал до леса, где встретил советских солдат которые поведали ему, что этой части больше нет – она уничтожена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июнь 1941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4859280" y="4292640"/>
            <a:ext cx="3575160" cy="23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4920" y="1341360"/>
            <a:ext cx="7056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стал вопрос о том, что делать дальше. Вдруг поблизости послышались немецкие голоса – это фашисты прочесывали лес. Тогда прадедушка и его товарищи спрятались в блиндаже и не были замечены. Через несколько дней они вышли к советской час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йска, в числе которых находился прадедушка, расположились в лесной ложбине. На рассвете, когда все спали, фашисты внезапно напали, расстреляли спящих солдат. Прадедушке удалось чудом избежать гибели. Измученный и голодный он вышел к деревне, в которой были немецкие войс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н постучал в крайнюю избу, дверь открыла молодая женщина. Солдат попросил ее о спасении и ночлеге. Она его впустила и накормила, позволила остаться на ночь, а утром фашисты взяли его в плен. Это было утро 13 августа 1941 год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начала он попал в концентрационный лагерь Освенцим, где пробыл до середины сентябр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D:\Users\ЮРИЙ\Desktop\123.jpg"/>
          <p:cNvPicPr/>
          <p:nvPr/>
        </p:nvPicPr>
        <p:blipFill>
          <a:blip r:embed="rId1"/>
          <a:stretch/>
        </p:blipFill>
        <p:spPr>
          <a:xfrm>
            <a:off x="7812000" y="0"/>
            <a:ext cx="11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807840"/>
            <a:ext cx="8064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Из воспомина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того  месяца: бы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холодно, пле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очти не корми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емцы редко брос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 толпу нескольк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уханок хлеб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днажды пле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остроили и подел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а две групп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дну группу, куда попал и мой прадедушка, вывезли на работы в Германию, а вторую группу отправили в газовую ка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Жизнь в Германии была тяжелая. Прадедушка работал на железной дороге, на станции Шверин. Работали по двадцать человек в группе: утрамбовывали щебенку, меняли рельсы и шпалы. Пленных фактически не кормили. Им приходилось есть одну тра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war2.name/wp-content/uploads/2010/04/aushvic.jpg"/>
          <p:cNvPicPr/>
          <p:nvPr/>
        </p:nvPicPr>
        <p:blipFill>
          <a:blip r:embed="rId1"/>
          <a:stretch/>
        </p:blipFill>
        <p:spPr>
          <a:xfrm>
            <a:off x="3780000" y="907920"/>
            <a:ext cx="4622760" cy="293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5280" y="765000"/>
            <a:ext cx="4248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Иногда удавалось своровать картофель в моменты, когда немцы грузили его  и отправляли своим. Одежду и обувь им не выдавали. Поэтому они вынуждены были раздевать умерших товарищей. Прадедушкина бригада построила 14 км железнодорожного  полотна в  обе  стороны от станции Шверин до Мальхо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В конце  1944 года прадедушка сбежал из концлагеря, воспользовавшись невнимательностью надзирателей, в момент, когда их вели  с работ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Прадедушка  бежал на восток, навстречу нашим войскам, прошел проверку и был зачислен в действующую армию. Победу встретил на реке Эльбе, где  Советские войска соединились с союзник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\Мои документы\Мои рисунки\Дедушка\концлагерь.jpg"/>
          <p:cNvPicPr/>
          <p:nvPr/>
        </p:nvPicPr>
        <p:blipFill>
          <a:blip r:embed="rId1"/>
          <a:stretch/>
        </p:blipFill>
        <p:spPr>
          <a:xfrm>
            <a:off x="4859280" y="1773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18:30Z</dcterms:created>
  <dc:creator>Admin</dc:creator>
  <dc:description/>
  <dc:language>en-US</dc:language>
  <cp:lastModifiedBy>Ученик</cp:lastModifiedBy>
  <dcterms:modified xsi:type="dcterms:W3CDTF">2018-12-19T10:41:16Z</dcterms:modified>
  <cp:revision>89</cp:revision>
  <dc:subject/>
  <dc:title>Человек века</dc:title>
</cp:coreProperties>
</file>