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81D7-05FD-45E6-B11D-07B83F637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577188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1320" y="5352480"/>
            <a:ext cx="577188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9D6D-925E-431F-B538-70CFE68B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29080" y="253980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1320" y="535248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529080" y="535248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2C4C-2F93-41EB-B8B5-62B850D04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185832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522880" y="2539800"/>
            <a:ext cx="185832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474440" y="2539800"/>
            <a:ext cx="185832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71320" y="5352480"/>
            <a:ext cx="185832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522880" y="5352480"/>
            <a:ext cx="185832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474440" y="5352480"/>
            <a:ext cx="185832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F572-CE08-4BAC-8FA7-4F7C58FC9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0478-3D29-457F-AFA1-4D2EB8829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71320" y="2539800"/>
            <a:ext cx="5771880" cy="53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D0DB6-8D54-46BF-AAA0-2AD04D49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5771880" cy="53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1D237-C09B-4335-BB16-372795E4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2816640" cy="53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29080" y="2539800"/>
            <a:ext cx="2816640" cy="53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8858-9729-41D3-A39C-02B62E94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4C20-AE71-4167-BE98-423EDCAF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71320" y="711000"/>
            <a:ext cx="57718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0722-8445-4DBD-B2DB-7C21ECE0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29080" y="2539800"/>
            <a:ext cx="2816640" cy="53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71320" y="535248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0807-B545-4556-8286-FD230CDC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71320" y="2539800"/>
            <a:ext cx="5771880" cy="53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B87D-A809-4A7F-B7D8-D4A55DA2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2816640" cy="53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29080" y="253980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29080" y="535248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ECBD-E141-4502-91E4-B85DE8D3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29080" y="253980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71320" y="5352480"/>
            <a:ext cx="577188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99579-947D-49D8-B3E3-064664F0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577188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71320" y="5352480"/>
            <a:ext cx="577188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C115-B5CD-49D3-8A8A-830E3E0B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29080" y="253980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320" y="535248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529080" y="535248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3866-936C-40D7-BC89-A7849FD49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185832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522880" y="2539800"/>
            <a:ext cx="185832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474440" y="2539800"/>
            <a:ext cx="185832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71320" y="5352480"/>
            <a:ext cx="185832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522880" y="5352480"/>
            <a:ext cx="185832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474440" y="5352480"/>
            <a:ext cx="185832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8660-0854-46B1-BF71-6C1F55009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5771880" cy="53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96EF-CF45-468C-9901-523059AA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2816640" cy="53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29080" y="2539800"/>
            <a:ext cx="2816640" cy="53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99EB-E30A-4AD9-8A1A-6836F4AF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E35D-F617-4A65-B978-BB2D3F04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1320" y="711000"/>
            <a:ext cx="57718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376F-7A03-462D-8267-4558FE8E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29080" y="2539800"/>
            <a:ext cx="2816640" cy="53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71320" y="535248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B999-B537-4A5E-81DB-E92C1F19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2816640" cy="53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29080" y="253980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529080" y="535248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9FF3-1095-4770-AD42-6E45E59D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29080" y="253980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71320" y="5352480"/>
            <a:ext cx="577188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9AFB-4B9B-4BA0-809A-D7BA3636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320" y="2539800"/>
            <a:ext cx="5771880" cy="53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1680" y="8521560"/>
            <a:ext cx="1542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14240" y="853884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43320" y="8534160"/>
            <a:ext cx="1199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1500-2E29-4103-ADF8-76ACEB240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27080" y="304920"/>
            <a:ext cx="6616800" cy="8127360"/>
            <a:chOff x="127080" y="304920"/>
            <a:chExt cx="6616800" cy="8127360"/>
          </a:xfrm>
        </p:grpSpPr>
        <p:sp>
          <p:nvSpPr>
            <p:cNvPr id="6" name=""/>
            <p:cNvSpPr/>
            <p:nvPr/>
          </p:nvSpPr>
          <p:spPr>
            <a:xfrm>
              <a:off x="127080" y="304920"/>
              <a:ext cx="6616800" cy="8127360"/>
            </a:xfrm>
            <a:custGeom>
              <a:avLst/>
              <a:gdLst>
                <a:gd name="textAreaLeft" fmla="*/ 213840 w 6616800"/>
                <a:gd name="textAreaRight" fmla="*/ 6402960 w 6616800"/>
                <a:gd name="textAreaTop" fmla="*/ 213840 h 8127360"/>
                <a:gd name="textAreaBottom" fmla="*/ 7913520 h 8127360"/>
              </a:gdLst>
              <a:ahLst/>
              <a:rect l="textAreaLeft" t="textAreaTop" r="textAreaRight" b="textAreaBottom"/>
              <a:pathLst>
                <a:path w="21600" h="26531">
                  <a:moveTo>
                    <a:pt x="2386" y="0"/>
                  </a:moveTo>
                  <a:arcTo wR="2386" hR="2386" stAng="16200000" swAng="-5400000"/>
                  <a:lnTo>
                    <a:pt x="0" y="24145"/>
                  </a:lnTo>
                  <a:arcTo wR="2386" hR="2386" stAng="10800000" swAng="-5400000"/>
                  <a:lnTo>
                    <a:pt x="19214" y="26531"/>
                  </a:lnTo>
                  <a:arcTo wR="2386" hR="2386" stAng="5400000" swAng="-5400000"/>
                  <a:lnTo>
                    <a:pt x="21600" y="2386"/>
                  </a:lnTo>
                  <a:arcTo wR="2386" hR="2386" stAng="0" swAng="-5400000"/>
                  <a:close/>
                </a:path>
              </a:pathLst>
            </a:cu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2400" y="2279520"/>
              <a:ext cx="577116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1360" y="507960"/>
            <a:ext cx="6515280" cy="7518600"/>
          </a:xfrm>
          <a:custGeom>
            <a:avLst/>
            <a:gdLst>
              <a:gd name="textAreaLeft" fmla="*/ 150840 w 6515280"/>
              <a:gd name="textAreaRight" fmla="*/ 6364440 w 6515280"/>
              <a:gd name="textAreaTop" fmla="*/ 150840 h 7518600"/>
              <a:gd name="textAreaBottom" fmla="*/ 7367760 h 7518600"/>
            </a:gdLst>
            <a:ahLst/>
            <a:rect l="textAreaLeft" t="textAreaTop" r="textAreaRight" b="textAreaBottom"/>
            <a:pathLst>
              <a:path w="21600" h="24926">
                <a:moveTo>
                  <a:pt x="1709" y="0"/>
                </a:moveTo>
                <a:arcTo wR="1709" hR="1709" stAng="16200000" swAng="-5400000"/>
                <a:lnTo>
                  <a:pt x="0" y="23217"/>
                </a:lnTo>
                <a:arcTo wR="1709" hR="1709" stAng="10800000" swAng="-5400000"/>
                <a:lnTo>
                  <a:pt x="19891" y="24926"/>
                </a:lnTo>
                <a:arcTo wR="1709" hR="1709" stAng="5400000" swAng="-5400000"/>
                <a:lnTo>
                  <a:pt x="21600" y="1709"/>
                </a:lnTo>
                <a:arcTo wR="1709" hR="1709" stAng="0" swAng="-5400000"/>
                <a:close/>
              </a:path>
            </a:pathLst>
          </a:cu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6240" y="652320"/>
            <a:ext cx="6325920" cy="6357960"/>
          </a:xfrm>
          <a:custGeom>
            <a:avLst/>
            <a:gdLst>
              <a:gd name="textAreaLeft" fmla="*/ 135360 w 6325920"/>
              <a:gd name="textAreaRight" fmla="*/ 6190560 w 6325920"/>
              <a:gd name="textAreaTop" fmla="*/ 135360 h 6357960"/>
              <a:gd name="textAreaBottom" fmla="*/ 6222600 h 6357960"/>
            </a:gdLst>
            <a:ahLst/>
            <a:rect l="textAreaLeft" t="textAreaTop" r="textAreaRight" b="textAreaBottom"/>
            <a:pathLst>
              <a:path w="21600" h="21709">
                <a:moveTo>
                  <a:pt x="1579" y="0"/>
                </a:moveTo>
                <a:arcTo wR="1579" hR="1579" stAng="16200000" swAng="-5400000"/>
                <a:lnTo>
                  <a:pt x="0" y="20130"/>
                </a:lnTo>
                <a:arcTo wR="1579" hR="1579" stAng="10800000" swAng="-5400000"/>
                <a:lnTo>
                  <a:pt x="20021" y="21709"/>
                </a:lnTo>
                <a:arcTo wR="1579" hR="1579" stAng="5400000" swAng="-5400000"/>
                <a:lnTo>
                  <a:pt x="21600" y="1579"/>
                </a:lnTo>
                <a:arcTo wR="1579" hR="157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28880" y="4451400"/>
            <a:ext cx="4800600" cy="3048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143000"/>
            <a:ext cx="582912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571680" y="8521560"/>
            <a:ext cx="1542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514240" y="8521560"/>
            <a:ext cx="217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5143320" y="8521560"/>
            <a:ext cx="1199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832B-4308-46C8-B3F7-7CFFBE029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66"/>
                </a:solidFill>
                <a:latin typeface="Arial Black"/>
              </a:rPr>
              <a:t>Моя профессиональная позиция в условиях реализации КПМО на региональном уровне</a:t>
            </a:r>
            <a:br>
              <a:rPr sz="2000"/>
            </a:br>
            <a:r>
              <a:rPr b="0" lang="en-US" sz="2000" spc="-1" strike="noStrike">
                <a:solidFill>
                  <a:srgbClr val="336666"/>
                </a:solidFill>
                <a:latin typeface="Arial Black"/>
              </a:rPr>
              <a:t>(Сколько  ТЫ стоишь , учитель?)</a:t>
            </a: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5771880" cy="53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етер в лицо…Обжигает? Освежает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ерехватывает дыхание? Поторапливает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Блоковская революция ,не правда ли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ПМО- ЭТО  РЕВОЛЮЦИЯ В ОБРАЗОВАНИ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ля меня – это ветер, но какой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« Ветер перемен,- кто-то подскажет и будет прав,- «курицей через сугроб» не  переметнешься, пора меняться.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«Перехватывает дыхание»,- проворчит  другой и вспомнит статью, прочитанную в Интернете о том , как финские школьники «показали класс»,  заняв первые места в олимпиадах . Американский журналист, решивший узнать « военную тайну», был удивлен, когда услышал «откровение»:  «Мы переняли опыт советской России.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« Поторапливает! У нас самые умные дети, но применить свои знания они не могут»,- с сожалением вздохнут треть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Торопиться ,по-моему , нужно всем, но не «державным шагом», потому что трудно лететь по «проспектам» образования, не замечая ,как пыхтит « товар» за  компьютером( не отстать бы от времени), как родители и дети обсуждают заработную плату  учителя и сколько стоит душа «Вовочки»…Сколько ТЫ стоишь , учител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ы  очень регулятивны: есть документы - нужно исполнять! Сознание учительского долга  так дорого стоит!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01:48:26Z</dcterms:created>
  <dc:creator>Роман</dc:creator>
  <dc:description/>
  <dc:language>en-US</dc:language>
  <cp:lastModifiedBy>Роман</cp:lastModifiedBy>
  <dcterms:modified xsi:type="dcterms:W3CDTF">2008-10-08T01:52:24Z</dcterms:modified>
  <cp:revision>2</cp:revision>
  <dc:subject/>
  <dc:title>Моя профессиональная позиция в условиях реализации КПМО на региональном уровне (Сколько  ТЫ стоишь , учитель?)</dc:title>
</cp:coreProperties>
</file>