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97C-9DCB-461C-B246-76B1CD6F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7B5-6F6C-4351-B8F3-71E44BD0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588-5C11-45EC-AB15-17A39DCD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ABF-99EC-4BC6-810D-A2FC61B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6DED-82E0-45D3-881C-C8416944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B11-7734-4E97-851E-A0D84E48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6CE1-8DA5-42EF-A57A-E4E63A9D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6CE4-02A5-4FE5-84AB-D6553776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F3D-2C7A-4E8E-8FF5-2B9B215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BE7-D4C7-4A35-B58B-5C9F7049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6E66-DD36-41D9-93ED-BFD0201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817-1250-4129-A8C6-9760A9F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1A2-7F01-424E-A755-7BB9B330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9376-8E96-497D-B94D-988B2295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7F5-6351-4F1D-AFDD-E47BFAD6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75D-831D-4C2D-9EE9-EA4E18F6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2288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74440" y="253980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132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2288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74440" y="5352480"/>
            <a:ext cx="185832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DF2F-4210-4D6C-B393-0696DE57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5D9-9755-4628-9D11-F094BD4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AE6-5D6C-439A-A44A-77AB18A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C24-390F-4FEF-B27B-0C94CA4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1320" y="711000"/>
            <a:ext cx="577188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29B0-C5FC-4B00-849B-A98778D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902-C9CA-49BF-A65C-B44697A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29080" y="535248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CDD-DCCD-4BAC-90DC-F9804496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29080" y="2539800"/>
            <a:ext cx="281664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320" y="5352480"/>
            <a:ext cx="5771880" cy="25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306-B5FA-4953-A8D2-4B142DA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853884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43320" y="8534160"/>
            <a:ext cx="1199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4C93-427B-47E9-AEE8-38061B63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7080" y="304920"/>
            <a:ext cx="6616800" cy="8127360"/>
            <a:chOff x="127080" y="304920"/>
            <a:chExt cx="6616800" cy="8127360"/>
          </a:xfrm>
        </p:grpSpPr>
        <p:sp>
          <p:nvSpPr>
            <p:cNvPr id="6" name=""/>
            <p:cNvSpPr/>
            <p:nvPr/>
          </p:nvSpPr>
          <p:spPr>
            <a:xfrm>
              <a:off x="127080" y="304920"/>
              <a:ext cx="6616800" cy="8127360"/>
            </a:xfrm>
            <a:custGeom>
              <a:avLst/>
              <a:gdLst>
                <a:gd name="textAreaLeft" fmla="*/ 213840 w 6616800"/>
                <a:gd name="textAreaRight" fmla="*/ 6402960 w 6616800"/>
                <a:gd name="textAreaTop" fmla="*/ 213840 h 8127360"/>
                <a:gd name="textAreaBottom" fmla="*/ 7913520 h 8127360"/>
              </a:gdLst>
              <a:ahLst/>
              <a:rect l="textAreaLeft" t="textAreaTop" r="textAreaRight" b="textAreaBottom"/>
              <a:pathLst>
                <a:path w="21600" h="26531">
                  <a:moveTo>
                    <a:pt x="2386" y="0"/>
                  </a:moveTo>
                  <a:arcTo wR="2386" hR="2386" stAng="16200000" swAng="-5400000"/>
                  <a:lnTo>
                    <a:pt x="0" y="24145"/>
                  </a:lnTo>
                  <a:arcTo wR="2386" hR="2386" stAng="10800000" swAng="-5400000"/>
                  <a:lnTo>
                    <a:pt x="19214" y="26531"/>
                  </a:lnTo>
                  <a:arcTo wR="2386" hR="2386" stAng="5400000" swAng="-5400000"/>
                  <a:lnTo>
                    <a:pt x="21600" y="2386"/>
                  </a:lnTo>
                  <a:arcTo wR="2386" hR="2386" stAng="0" swAng="-5400000"/>
                  <a:close/>
                </a:path>
              </a:pathLst>
            </a:cu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2400" y="2279520"/>
              <a:ext cx="577116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1360" y="507960"/>
            <a:ext cx="6515280" cy="7518600"/>
          </a:xfrm>
          <a:custGeom>
            <a:avLst/>
            <a:gdLst>
              <a:gd name="textAreaLeft" fmla="*/ 150840 w 6515280"/>
              <a:gd name="textAreaRight" fmla="*/ 6364440 w 6515280"/>
              <a:gd name="textAreaTop" fmla="*/ 150840 h 7518600"/>
              <a:gd name="textAreaBottom" fmla="*/ 7367760 h 7518600"/>
            </a:gdLst>
            <a:ahLst/>
            <a:rect l="textAreaLeft" t="textAreaTop" r="textAreaRight" b="textAreaBottom"/>
            <a:pathLst>
              <a:path w="21600" h="24926">
                <a:moveTo>
                  <a:pt x="1709" y="0"/>
                </a:moveTo>
                <a:arcTo wR="1709" hR="1709" stAng="16200000" swAng="-5400000"/>
                <a:lnTo>
                  <a:pt x="0" y="23217"/>
                </a:lnTo>
                <a:arcTo wR="1709" hR="1709" stAng="10800000" swAng="-5400000"/>
                <a:lnTo>
                  <a:pt x="19891" y="24926"/>
                </a:lnTo>
                <a:arcTo wR="1709" hR="1709" stAng="5400000" swAng="-5400000"/>
                <a:lnTo>
                  <a:pt x="21600" y="1709"/>
                </a:lnTo>
                <a:arcTo wR="1709" hR="1709" stAng="0" swAng="-5400000"/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240" y="652320"/>
            <a:ext cx="6325920" cy="6357960"/>
          </a:xfrm>
          <a:custGeom>
            <a:avLst/>
            <a:gdLst>
              <a:gd name="textAreaLeft" fmla="*/ 135360 w 6325920"/>
              <a:gd name="textAreaRight" fmla="*/ 6190560 w 6325920"/>
              <a:gd name="textAreaTop" fmla="*/ 135360 h 6357960"/>
              <a:gd name="textAreaBottom" fmla="*/ 6222600 h 6357960"/>
            </a:gdLst>
            <a:ahLst/>
            <a:rect l="textAreaLeft" t="textAreaTop" r="textAreaRight" b="textAreaBottom"/>
            <a:pathLst>
              <a:path w="21600" h="21709">
                <a:moveTo>
                  <a:pt x="1579" y="0"/>
                </a:moveTo>
                <a:arcTo wR="1579" hR="1579" stAng="16200000" swAng="-5400000"/>
                <a:lnTo>
                  <a:pt x="0" y="20130"/>
                </a:lnTo>
                <a:arcTo wR="1579" hR="1579" stAng="10800000" swAng="-5400000"/>
                <a:lnTo>
                  <a:pt x="20021" y="21709"/>
                </a:lnTo>
                <a:arcTo wR="1579" hR="1579" stAng="5400000" swAng="-5400000"/>
                <a:lnTo>
                  <a:pt x="21600" y="1579"/>
                </a:lnTo>
                <a:arcTo wR="1579" hR="1579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28880" y="4451400"/>
            <a:ext cx="480060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143000"/>
            <a:ext cx="5829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571680" y="8521560"/>
            <a:ext cx="1542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514240" y="852156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5143320" y="8521560"/>
            <a:ext cx="119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37D0-2AC9-446D-8B82-D4FE67F49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711000"/>
            <a:ext cx="577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Моя профессиональная позиция в условиях реализации КПМО на региональном уровне</a:t>
            </a:r>
            <a:br>
              <a:rPr sz="2000"/>
            </a:br>
            <a:r>
              <a:rPr b="0" lang="en-US" sz="2000" spc="-1" strike="noStrike">
                <a:solidFill>
                  <a:srgbClr val="336666"/>
                </a:solidFill>
                <a:latin typeface="Arial Black"/>
              </a:rPr>
              <a:t>(Сколько  ТЫ стоишь , учитель?)</a:t>
            </a:r>
            <a:endParaRPr b="0" lang="en-US" sz="2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2539800"/>
            <a:ext cx="577188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етер в лицо…Обжигает? Освежа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хватывает дыхание? Поторапливает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оковская революция ,не правда л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ПМО- ЭТО  РЕВОЛЮЦИЯ В ОБРАЗОВАН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меня – это ветер, но какой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 Ветер перемен,- кто-то подскажет и будет прав,- «курицей через сугроб» не  переметнешься, пора меняться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Перехватывает дыхание»,- проворчит  другой и вспомнит статью, прочитанную в Интернете о том , как финские школьники «показали класс»,  заняв первые места в олимпиадах . Американский журналист, решивший узнать « военную тайну», был удивлен, когда услышал «откровение»:  «Мы переняли опыт советской России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 Поторапливает! У нас самые умные дети, но применить свои знания они не могут»,- с сожалением вздохнут треть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опиться ,по-моему , нужно всем, но не «державным шагом», потому что трудно лететь по «проспектам» образования, не замечая ,как пыхтит « товар» за  компьютером( не отстать бы от времени), как родители и дети обсуждают заработную плату  учителя и сколько стоит душа «Вовочки»…Сколько ТЫ стоишь , учител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  очень регулятивны: есть документы - нужно исполнять! Сознание учительского долга  так дорого стоит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1:48:26Z</dcterms:created>
  <dc:creator>Роман</dc:creator>
  <dc:description/>
  <dc:language>en-US</dc:language>
  <cp:lastModifiedBy>Роман</cp:lastModifiedBy>
  <dcterms:modified xsi:type="dcterms:W3CDTF">2008-10-08T01:52:24Z</dcterms:modified>
  <cp:revision>2</cp:revision>
  <dc:subject/>
  <dc:title>Моя профессиональная позиция в условиях реализации КПМО на региональном уровне (Сколько  ТЫ стоишь , учитель?)</dc:title>
</cp:coreProperties>
</file>