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742-38D3-4CD1-B606-760FF835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923-EEAD-4F5E-834E-BDE8A34F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9AE-1499-4582-82AD-1B5591E5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E19-5D31-42F5-9191-EB988B8A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BB9-1511-477B-8632-30326B8A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55F-36F2-42A4-84B5-ED217C7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560-5BBE-41DD-ACAC-DAF7DCF1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C91-ABA5-44FC-AD44-C3E63F4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F9A-27E8-47DF-94E3-E4112FB1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847-431A-4E03-880E-A88918A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1C0-1442-4054-A1B7-A652F5C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2EE-4D66-46AC-978E-7420FA6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ED3-A53B-408F-860D-4CACB8B62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Dr.Kompoff</cp:lastModifiedBy>
  <dcterms:modified xsi:type="dcterms:W3CDTF">2017-04-15T10:00:25Z</dcterms:modified>
  <cp:revision>17</cp:revision>
  <dc:subject/>
  <dc:title>Слайд 1</dc:title>
</cp:coreProperties>
</file>