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5.jpeg" ContentType="image/jpeg"/>
  <Override PartName="/ppt/media/image14.jpeg" ContentType="image/jpeg"/>
  <Override PartName="/ppt/media/sound003.wav" ContentType="audio/x-wav"/>
  <Override PartName="/ppt/media/image7.jpeg" ContentType="image/jpeg"/>
  <Override PartName="/ppt/media/image6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sound002.wav" ContentType="audio/x-wav"/>
  <Override PartName="/ppt/media/image12.jpeg" ContentType="image/jpeg"/>
  <Override PartName="/ppt/media/image13.png" ContentType="image/png"/>
  <Override PartName="/ppt/media/sound001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1674-8FD9-425D-949D-0D344699C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4FD-BFAF-4678-AFEF-4D43B88EF1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EC6-E709-4C52-BDF8-60053EA6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808-578A-4AF1-BB8E-E59EEF29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33F-3832-436D-AD06-4102CDF2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971-E6F8-4288-9F57-C733663F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A6B-CA61-4635-B8BB-29EF362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968-F88C-4A27-A86D-53A935CF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E54-4EF9-4699-A274-1421FB1D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710-032D-4D77-8805-FCEF46CC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4B2-9E7A-4002-A2A2-E3C3F125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44D-20A8-4568-8B9D-31E71AC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5CA-B932-4705-BDB9-C750010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657-790D-4007-B754-F168CBB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F00-0087-4BB4-9CD4-C6FCCA86E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ound003.wav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ound002.wav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 с родителями 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-828720" y="907920"/>
            <a:ext cx="7632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луб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рапия семьёй»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и воспитатели 2-ой группы                        компенсирующей направленност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кина Г.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ндаренко А.Ю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6804000" y="2340000"/>
            <a:ext cx="21812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0" y="0"/>
            <a:ext cx="91440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2 «Наша семья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проблемы семь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детско-родительских отношени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участников в групп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еседа о записях в дневнике «Эмоций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о такое семья и какой она должна быть (деление коллектива родителей на подгруппы. Обсуждение темы в течение 15минут) Требования к выступлению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ть определение семь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сновные требования к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суждение вышеуказанной тем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ини-сочинение: «Каким видят моего ребёнка другие»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им я хочу видеть своего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ссказы о проблемах ребёнк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гра «Семья должна быть…» (по итогам второго зада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: Родители становятся в круг, а воспитатель с мячом в руках в середине круга. Воспитатель говорит слова «Семья должна быть…» и, давая определения семьи, бросает, по очереди, мяч участникам. Например: Полная, неполная, благополучная, неблагополучная и т.д. Если определение положительное – участник ловит мяч, если же неположительное – то не лови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Анкетирование родителей по теме «Человек будущег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1.Мини-сочинение «Роль и положение ребёнка (ИМЯ )в нашей семье. 2.Принести рисунки детей на тему «Моя семья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395280" y="189000"/>
            <a:ext cx="7777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емья должна быть…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итогам второго задания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игры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тановятся в круг, а воспитатель с мячом в руках в середине круга. Воспитатель говорит слова «Семья должна быть…» и, давая определения семьи, бросает, по очереди, мяч участникам. Например: Полная, неполная, благополучная, неблагополучная и т.д. Если определение положительное – участник ловит мяч, если же неположительное – то не лови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3059280" y="3683160"/>
            <a:ext cx="3168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768320" y="1714680"/>
          <a:ext cx="5407200" cy="4525920"/>
        </p:xfrm>
        <a:graphic>
          <a:graphicData uri="http://schemas.openxmlformats.org/drawingml/2006/table">
            <a:tbl>
              <a:tblPr/>
              <a:tblGrid>
                <a:gridCol w="2703600"/>
                <a:gridCol w="2703600"/>
              </a:tblGrid>
              <a:tr h="7538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существительны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лагательны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76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76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01" name="Rectangle 1"/>
          <p:cNvSpPr/>
          <p:nvPr/>
        </p:nvSpPr>
        <p:spPr>
          <a:xfrm>
            <a:off x="1187280" y="383760"/>
            <a:ext cx="97250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ни-тест «Мой ребенок, какой он?»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Фамилия, им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539640" y="0"/>
            <a:ext cx="936144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Человек будущего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фамилию, имя, возраст ребёнка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ерты характера нравятся в вашем ребёнк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стность, доброта, скромность.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Ваш ребёнок скромный,     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ый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ведите пример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является товарищество в Вашем ребёнк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ведите пример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Вы отводите ребёнку на семейном совет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носится Ваш ребёнок к близким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ме, папе, бабушке и т.д.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и Ваш ребёнок аккуратно кушать и пользоваться столовыми приборами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воспитываете у ребёнка умение вести себя в общественных местах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традиции есть в Вашей семь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детей на тему «моя семь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4824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0" y="115920"/>
            <a:ext cx="903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№3   «Конфликты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епощение, объединение участников в групп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негативного опыта общения с детьм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образов. Решение конфликтных ситуац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кажи другому комплимент» (раскрепощение, объединение, создание хорошего настроения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домашнего задания. Высказывания, обмен мнениями на тему «Роль и положение ребёнка в семье». Рассматривание и обсуждение рисунков детей на тему «Моя семья». (Приглашается психолог, кот. Обобщает и даёт характеристику каждому рисунку с психологической точки зре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о конфликтах с детьми. Тест «Возникает ли у Вас конфликт с ребёнком, если…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Как поступят родители?» (Проигрывание возможных вариантов негативного решения конфликтной ситуации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е проигрывание конфликта с позитивным решение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Описать в дневнике реальную конфликтную ситуацию в семье, кот. Произошла с Вашим ребёнком, и способы Вашего решения этого конфликта. А также, описать какие эмоции Вы испытывали в начале конфликта и в его конце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8000" y="115920"/>
            <a:ext cx="885672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зникает ли у Вас конфликт с ребёнком, если…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ребёнка купить игрушку в игрушечном отделе Вами отвергае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ишли вечером за ребёнком в д/с без угощения (конфет, шоколадки и т. д.)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обещали ребёнку придти за ним в д/с пораньше, но не смогл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иготовили ребёнку одежду, в которой он пойдёт в д/с, а ребёнок не согласен с Вашим выбором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ребёнка - пригласить вечером домой своих друзей из группы, для совместных игр. Эти планы не совпадают с Вашими. Вы наметили посетить парикмахерскую (Супермаркет, подругу…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етских игрушек в доме Вас раздражает, Вы решаете избавиться от части игрушек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ласково – уменьшительно называете ребёнка, всячески преобразовывая его имя. Например: Сергуня, Серенький, Серж и т. д., а ребёнку это не нрави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у разработала воспитатель Примакина Г.И.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79280" y="549360"/>
            <a:ext cx="896472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4 «Грустный – радостный день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епощение, объединение участников в групп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негативного, позитивного опыта общения с ребёнк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ум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Продолжи фразу» (Объединение) Например: У меня сегодня хорошее и …….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гра «Одна минута на разговор» (Вербальная активность, раскрепоще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суждение домашнего задания (15минут. Одно – два выступле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Этюд-беседа «Самый грустный день с моим ребёнком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тюд-беседа «Самый весёлый день с моим ребёнком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гровые тесты на умение общать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Записать в дневник наблюдения о том, в каких случаях Ваш ребёнок бывает грустным, что его огорчает. И в каких – радостный, что ему поднимает настрое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сты на умение общ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216000" y="981000"/>
            <a:ext cx="871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крет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желание общаться с участниками игры; преодолевать застенчивость; находить различные способы для достижения своей цел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ем участникам ведущий раздаёт небольшие предметы: пуговичку, брошку, маленькую игрушку,… . Это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кр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астники объединяются в пары. Они должны уговорить друг друга показать свой «секрет»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должны придумать как можно больше способов уговаривания (угадывать; говорить комплименты; обещать угощение; не верить, что в кулачке что-то есть, …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саж чувствами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 участниками игры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адятся "цепочкой» (в затылок друг другу), подушечки пальцев упираются в спину впередисидящего. По сигналу ведущего участники изображают подушечками пальцев различные чувства: радость, злость, страх, любовь и т. п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сть всегда будет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 участниками игры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рассказывает о том, что один маленький мальчик придумал такие слова: «Пусть всегда будет солнце, пусть всегда будет небо, пусть всегда будет мама, пусть всегда буду я!». После этого ведущий предлагает придумать каждому свое самое заветное «ПУСТЬ». Все участники хором кричат: "Пусть всегда будет ... », а один из участников добавляет свое желание, затем то же самое проводится для всех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179280" y="189000"/>
            <a:ext cx="87138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5 «Настроен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участников в групп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евербальных средств общ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Продолжение фразы» (Объедине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 о настроении детей. Обсуждение термина и понятия «настроение». Совместное составление «Эмоционального словаря» (Определения: радость, горе, страх, интерес и т.д.)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суждение домашнего задания. Дискусси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актическое групповое упражнение (Каждый рисует настроение: брови, нос, овал, рот и передаёт другому для отгадывания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ображение настроения мимикой (используются рисунки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дома один час в день разговаривать с ребёнком при помощи мимики, жестов(развитие мимики и пантомимики, развитие взаимопонимания).Занесение результатов в дневни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611280" y="1413000"/>
            <a:ext cx="82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Семейный клуб - одна из наиболее эффективных форм работы с семьей, которая позволяет реализовать потребность в установлении взаимопонимания между педагогами и родителями в пространстве ДОУ, обмениваться эмоциями, знаниями, опытом так, чтобы педагог не навязывал свою точку зрения, а давал возможность каждому родителю принять активное участие в обсуждении актуальных пробле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179280" y="293760"/>
            <a:ext cx="8713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жн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рисуй, отгадай настро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7450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250920" y="115920"/>
            <a:ext cx="8713800" cy="67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6 «Образ матери и отц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ъединение, раскрепощение участников в групп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формирование родительских стереотипов развития адекватного восприятия родительской роли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знакомление с детскими играм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Поприветствуй соседа жестом, мимикой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Этюд-беседа «Идеальные мать и отец»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обрать 10 прилагательных и 10 существительных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Этюд-беседа «Плохие мать и отец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обрать 10 прилагательных и 10 существительных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говор о себе, как матери, об отце. Принятие себя, развитие в себе родительской роли (Особенно актуально для молодых семей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екторий-практикум на тему: «Знакомство с играми, развивающими восприятие, коммуникативность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Написать сочинение «Какая я мать(отец), плохая или идеальная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о себе, как матери, об отце. Принятие себя, развитие в себе родительской ро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актуально для молодых семе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6325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развивающие восприятие и комуникативность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1"/>
          <p:cNvSpPr/>
          <p:nvPr/>
        </p:nvSpPr>
        <p:spPr>
          <a:xfrm>
            <a:off x="108000" y="1125360"/>
            <a:ext cx="86407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ambria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ПАРОВОЗИК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ль водящего — «паровозика» назначается ребенок по желанию. Остальные дети выстраиваются друг за другом,  сцепляются руками и передвигаются вместе в направлении, которое выбирает «паровозик». Основная задача — следовать друг за другом, не разъединяясь. Если кто-то из детей отцепляет руки, то «паровозик» останавливается, «поезд» ремонтируют, а «сломанный» вагончик отправляется в «депо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гра «ПАРОВОЗИК С КЛОУНАМИ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и превращаются в « поезд », в котором едут « клоуны ». «Клоуны» любят баловаться, веселиться, прыгать, поэтому «поезд» по сигналу взрослого (гудок) останавливается, «вагончики» разъезжаются в разные стороны, дети падают. Основная задача — при падении быть внимательным к окружающим детям, стараться их не задеть. После того как «поезд» отремонтируют, игра продолжае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гра «КТО ПОЗВАЛ?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оят в кругу. Один из играющих встает в центр круга и закрывает глаза. Ведущий подходит и притрагивается к кому- либо из участников игры. Тот громко называет имя водящего. Ведущий: «Кто позвал тебя?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, стоящий в кругу, называет имя товарища. Игра продолжается до тех пор, пока все дети не побывают в роли отгадывающего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этой игры дети лучше узнают друг друга и запоминают имена. Игра способствует сближению ребят, развивает внимание, память, упражняет слуховой анализатор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гра «ИГОЛОЧКА И НИТОЧКА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игры становятся друг за другом. Первый — «иголочка». Он бегает, меняя направление. Остальные бегут за ним, стараясь не отставать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0" y="115920"/>
            <a:ext cx="9036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7 «Семейный досуг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понимания, используя невербальные средства общения (мимику, жесты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образов общения в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детскими игра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Где мы были мы не скажем, а что делали покажем» (Мимика, пантомимика, взаимопонима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суждение домашнего задания (консультация психолога на тему «Какая я мать(отец), плохая или идеальная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седа на тему «Досуг в семье и в гостях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олевое использование ярких образов. Проигрывание ситуации: Капризный гость…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авшаяся рыбалка………Встреча Нового года………Приезд любимой тёти  и  т.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екторий тема: «Знакомство с играми, способствующими эмоциональному сближению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Придумать сценарий проведения Дня Рождения Вашего ребёнка (Участие всех членов семьи обязательно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способствующие эмоциональному сближению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1"/>
          <p:cNvSpPr/>
          <p:nvPr/>
        </p:nvSpPr>
        <p:spPr>
          <a:xfrm>
            <a:off x="250920" y="112536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саж чувствами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о сверстника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адятся "цепочкой» (в затылок друг другу), подушечки пальцев упираются в спину впередисидящего ребенка. По сигналу ведущего дети изображают подушечками пальцев различные чувства: радость, злость, страх, любовь и т. п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улкан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о сверстника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ребят - "вулкан» - садится на корточки в центр круга. Он спит. Затем он начинает тихо гудеть и медленно поднимается - просыпается. Группа помогает ему гудеть глухими утробными звуками - звуками земли. Затем он резко подскакивает, поднимая руки вверх, как будто выбрасывает все, что ему не нужно, потом опять постепенно засыпает. После того, как ребенок возвращается в круг; ведущий спрашивает у него, что он выбрасывал, - может быть, это были ненужные чувства, мысли, а может быть, что-то другое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324000" y="115920"/>
            <a:ext cx="83516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8 «Наказания и поощрения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евербальных средств общ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декватных форм применения наказания и поощрения дет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патии в ситуации осуждения и оправда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играми, развитие интереса к совместным играм с деть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Этюды: «Дерево», «Памятник», «Бросание горячей картошк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скуссия на тему: «Наказание и поощрение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суждение домашнего задания, обмен опытом о проведении Дня Рождения ребёнка. Беседа на тему: «проведение Дня Рождения ребёнка, как средство поощрения его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гра «Суд» (Упражнение для группового тренинга)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ощущений, эмоций, кот. Испытывает человек, обвиняемый в чём-либо, и человек осуждающ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родителей на вопросы анкет: «Наказание», «Поощрение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орий. Тема: «Знакомство с играми, развивающими речь и мышление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Провести «День ненаказания». Отразить результаты в дневник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468720" y="115560"/>
            <a:ext cx="91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развивающие речь и мышление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79280" y="1125360"/>
            <a:ext cx="8640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гра «Подбери пару к слову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 внимания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ышления и речи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мяч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ети встают в круг. Воспитатель с мячом - в центре круга, он бросает мяч одному из детей и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Игрушка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Ребенок должен поймать мяч и назвать,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например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укла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гра «Что это? Кто это?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 мышления и речи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24 предметные картинк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Дети делятся на две команды. Садятся за столы на удалении друг от друга. Каждой команде раздаются одинаковые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комплект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 картинок с изображением овощей, фруктов, животных и т. д. Дети поочередно дают описание одной из картинок. Если описание правильное и картинка угадывается, то её откладывают в пользу отгадавших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гра «Разложи картинки по группам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навыков анализа и синтеза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однос с двенадцатью картинками. Которые можно разделить на четыре группы, например,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вощи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лук, морковь, капуста;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фрукт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яблоко, груша, персик;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осуд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чашка, тарелка, чайник; инструменты – молоток, пила, лопата и т. д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Перед каждым ребенком находится поднос с двенадцатью предметными картинками. Воспитатель предлагает детям разделить все картинки на четыре группы.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(</a:t>
            </a:r>
            <a:r>
              <a:rPr b="1" i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Комплекты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 картинок у детей разные)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79280" y="260280"/>
            <a:ext cx="8713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9 «Домашние обязанност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декватного восприятия домашних обязанност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распределять домашние обязанности между всеми членами семь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играми, развитие интереса к совместным играм с деть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Узнай сказочного героя по описанию» (Отражение в образе черт характера)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я на тему: «Домашние обязанности». (Какие они бывают, их цель, кто их выполняет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вание негативных и позитивных образ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тему: «Умеет ли ваш ребёнок трудиться?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ь домашние обязанности Вашего ребёнка и Ваши. Путём счёта обязанностей определить, у кого из членов семьи их больше всего. Отразить это в дневник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ребёнка на тему: «Как я убираю игрушк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324000" y="260280"/>
            <a:ext cx="8424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Arial"/>
                <a:ea typeface="Times New Roman"/>
              </a:rPr>
              <a:t>По данным социально-психологических и социально-педагогических исследований, тенденции, происходящие в семейных отношениях (отделение молодой семьи от старшего поколения, сокращение числа детей, финансовые затруднения, нестабильность) приводят к уменьшению педагогического потенциала семьи, снижению уровня педагогической компетентности и психолого-педагогической культуры, недостаточному выполнению воспитательных функций родителями, эмоциональному неблагополучию детей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Arial"/>
                <a:ea typeface="Times New Roman"/>
              </a:rPr>
              <a:t>Поэтому, сложившуюся ситуацию наиболее целесообразно постепенно менять, направив на установление более тесных неформальных контактов между педагогами ДОУ и семьями воспитанников, на решение задач повышения педагогической компетентности родителей, через апробацию новых форм партнерских отношений. Одна из эффективных форм психолого-педагогического сопровождения семей – организация в ДОУ клубов разной направленности. Среди основных направлений их деятельности – пропаганда семейного воспитания, повышение компетентности родителей в вопросах развития детей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86518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ет ли ваш ребёнок трудиться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4920" y="620640"/>
            <a:ext cx="44625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225000"/>
              <a:buFont typeface="Times New Roman"/>
              <a:buAutoNum type="arabicPeriod"/>
              <a:tabLst>
                <a:tab algn="l" pos="1036954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ёнок убирает дома свои игрушк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все игрушки убирает с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а, но в том случае, если ему пообещали за это конфету.(игрушку, новое платье и т. 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бирает, в том случае, если ему помогает взрослы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 настроению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Никогда не убирает, это делает взрослы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ёнок, во время уборки квартиры, изъявляет желание вам помочь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всегд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олько если я его об этом попрош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ногда, если нельзя смотреть телевизор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икогд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Есть ли у вашего ребёнка обязанность, которую выполняет только он? Например: встряхнуть половичок, протереть полку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есть.(приведите пример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т, ему ещё рано поручать самостоятельные дел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готовите обед. Ваш ребёнок Вам помогае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он чистит лук, наливает воду, моет овощи и т. 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а, мы вместе обсуждаем рецепты, но к продуктам он не прикасаетс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т, это слишком опасно. Пускай подрастё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ет, не проявляет интерес к приготовлению пищ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Нет, мальчики не должны заниматься женской работой.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ваясь на прогулку, Ваш ребёнок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лностью одевается самостоятельно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евается сам, но просит помощи при завязывании шнур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ет одеться сам, но предпочитает, чтобы его одел взрослы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ам одеваться не умее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видите, что, выполняя трудовое поручение,  ребёнок испытывает затрудн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ы сделаете эту работу за него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 покажите, как нужно сделать, а затем, ребёнок сам выполняет работ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 поможете ребёнку совет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ы не помогаете ребёнку, давая ему возможность самому найти пути решения проблем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ли Ваш ребёнок, выполняя трудовое поручение, говорит: «Я сам»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часто.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сегда, даже если не получаетс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икогда.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1036954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4720" y="620280"/>
            <a:ext cx="4041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езультаты анкетирования родителей на тему: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Умеет ли Ваш ребёнок трудиться?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анкетировании приняли участие 12 родителей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. На первый вопрос-                                 5. На пятый вопрос-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6 ответов                                                 а) 3 отве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1                                                               б) 3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) 1                                                               в) 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) 4                                                          6. На шестой вопрос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. На второй вопрос-                                       а) Ни одного ответа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11 ответов                                                б) 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1                                                                в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3. На третий вопрос-                                        г) 1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7 ответов                                             7. На седьмой вопрос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5                                                                а) 4 отве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4. На четвёртый вопрос-                                  б) 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8 отве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)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нкетирование показало, что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олько 30% родителей акцентируют внимание на трудовом воспитании ребён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то самостоятельные трудовые обязанности у ребён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ебёнок активно участвует в уборке дома, приготовлении обеда и т. 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амостоятельно одевается, ухаживает за одежд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одители поощряют ребёнк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60% родителей относятся с недостаточным вниманием к формированию трудовых навыков. Не обращают внимания на формирование самостоятельности у ребёнк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3. 10% родителей никак не формируют трудовые навыки детей, считая,       что он ещё мал и всё успеет наверстать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250920" y="18900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  №10 «Родные трудности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понима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ональной и интеллектуальной сферы в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реса к совместной творческой деятельности в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увства другого». (Взаимопонима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я на тему: «Как я отношусь к трудностям другого члена семьи (жены, мужа, детей)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на тему: «Что такое «семейный совет» и нужен ли он?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по выше указанной теме. (Анкета прилагаетс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чётный гость» (упражнение для тренинга обще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орий. Тема: «Домашний театр, его ценность для позитивного внутрисемейного общения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1"/>
          <p:cNvSpPr/>
          <p:nvPr/>
        </p:nvSpPr>
        <p:spPr>
          <a:xfrm>
            <a:off x="0" y="115920"/>
            <a:ext cx="8964720" cy="67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у составила воспитатель Примакина Г. И. 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Семейный совет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ли в Вашей семье «семейный совет»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знаю что это такое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часто собирается Ваш «семейный совет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ждую неделю, по воскресенья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ждый месяц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-2 раза в год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мере необходимост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обирается совсем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обсуждается на «семейном совете» чаще всего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ездка в отпуск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хождение выхода из конфликтной ситуаци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ожение денег в крупную покупку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семейного торжеств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ждение недостойного поступка члена семьи (в том числе и ребёнка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ное. Привести пример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то чаще всего является лидером при решении вопросов на «семейном совете»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душка (бабушка) он самый старший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па - он самый главный(приносит больше всех денег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ю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ма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ёнок (он единственный, всё делается на благо ребёнка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принимается совместно, всеми членами семь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ужен ли вообще «семейный совет» и зачем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а ли вам помощь воспитателя, психолога в организации и проведении «семейного совета»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ой форме Вы хотели бы получить помощь по этому      вопрос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ые беседы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ультаци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инар – практикум в коллективе родителей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художественной и научной литературы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ие формы работы (укажите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четный гость»     (тренинг общения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1"/>
          <p:cNvSpPr/>
          <p:nvPr/>
        </p:nvSpPr>
        <p:spPr>
          <a:xfrm>
            <a:off x="108000" y="549360"/>
            <a:ext cx="8856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ели: утвердить право личности на уважение группы, установить симпатии и антипатии отдельных членов группы. Для выполнения этого упражнения следует выбрать именно того, кто малозаметен в группе, т. е. не принадлежит к числу ее „звезд"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дущий объясняет сущность игры: «Сейчас один из вас на время покинет помещение и подождет за дверью, пока его не вызовут. Из остальных мы выберем семь человек в состав жюри, которое будет оценивать (по пятибалльной шкале) последующее поведение каждого участника игры. Задача вот в чем: человек за дверью — наш почетный гость. Вообразим себе, что он иностранец, друг нашей страны, внесший определенный вклад в развитие сердечных отношений между своим и нашим народами. Он может заранее выбрать для себя любую национальную принадлежность. Кто-то вызовется быть сопровождающим лицом и заодно переводчиком нашего почетного гостя: он-то и введет его в комнату. Далее каждый из вас постарается пожать руку гостю, о чем-то спросить, что-то рассказать, в общем, сделать так, чтобы он не скучал. Члены жюри, принимая решения независимо друг от друга, снижают оценку тем, кто поведет себя с гостем слишком сухо или слишком фамильярно, подобострастно или грубо, скованно или развязно. Развязных можно вывести из игры. По оценкам членов жюри будет выведена средняя арифметическая оценка для каждого участника взаимодействия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дущий вместе с группой определяет членов жюри и сопровождающее лицо, а затем отсылает за дверь протагониста, выбранного по своему усмотрению. Сопровождающее лицо покидает комнату, чтобы через минуту ввести в нее „гостя". Протагониста окружают кольцом, в произвольном порядке усаживаясь вокруг него. Очередность контакта с ним не имеет значения, но все участники игры должны этот контакт осуществить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ведомо комические эффекты (типа имитации гостем „чужестранного языка" и необычного стиля общения) развлекают группу, но не лишают происходящее должной серьезности. Примечательно, что участники, которых по тем или иным причинам задевает выражение знаков внимания данному протагонисту, пытаются вложить в свою показную приветливость немалую долю издевки. Возможность „кольнуть" протагониста они ставят выше хорошей оценки жюри. Заметив это, ведущий должен в конце занятия иронически прокомментировать подобное поведение.Содержание реплик гостю (и реплик с его стороны) можно не продумывать заранее, положившись на импровизационные способности играющих. Приводим типичную выдержку из стенограммы занят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ость (он „нигериец"): «Ургуру-бургуру-нда-нга… Сорри, не знай русска язык…»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еводчик: «Наш гость передает вам традиционное нигерийское приветствие и просит извинить за то, что не говорит по-русски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частник встречи: «Хм! Мог бы и выучиться». (Общий смех.) Ведущий: «Стоп! Разве такая реплика соответствует задаче игры? Вдобавок гость знает хотя бы несколько русских слов, а знаете ли вы хоть слово по-нигерийски?.. Он мог бы объясниться с вами и по-английски, а как насчет вас?.. При повторении подобного выпада вы будете выведены из игры». (Показывается желтая карточка.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250920" y="189000"/>
            <a:ext cx="8642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л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 №11 «Заключен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отнош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 клуба за го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ыбери друга» (на выражение положительных эмоций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 клуба за го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е сочинения на тему «Что мне и моей семье дало посещение клуба «Терапия семьёй»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родителей по работе клуба на следующий учебный год. (Формы, методы, темы, организации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е родителями анкет-предложений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существление преемственности ГДОУ и семь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"/>
          <p:cNvSpPr/>
          <p:nvPr/>
        </p:nvSpPr>
        <p:spPr>
          <a:xfrm>
            <a:off x="611280" y="1484280"/>
            <a:ext cx="624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внимание родителей к деятельности ГДОУ и, в частности, групп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ть родителей в коллекти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родителей сознание того, что они полноправные члены ГДОУ (группы), способные решать различные задачи по воспитанию и обучению их дет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родителей понятие, что семья – это главная ценность для ребёнк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родителей на проблемы детей.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164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клуба спланирована на один учебный год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едания клуба проводится один раз в месяц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заседаниях участвуют родители, воспитатели(логопед ,психолог, старший воспитатель и медики - по мере необходимости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1" descr=""/>
          <p:cNvPicPr/>
          <p:nvPr/>
        </p:nvPicPr>
        <p:blipFill>
          <a:blip r:embed="rId1"/>
          <a:stretch/>
        </p:blipFill>
        <p:spPr>
          <a:xfrm>
            <a:off x="2916360" y="3284640"/>
            <a:ext cx="31320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взаимодействия всех участников клуб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1"/>
          <p:cNvSpPr/>
          <p:nvPr/>
        </p:nvSpPr>
        <p:spPr>
          <a:xfrm>
            <a:off x="395280" y="1844640"/>
            <a:ext cx="756144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ровольное участие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назидательност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етствуется любая степень активност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симальная обратная связь между всеми участниками клуб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 Гибкость построения каждого заседа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68360" y="333360"/>
            <a:ext cx="79912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ябр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1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комство со всеми участниками клуб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ъединение участников в группу. Создание позитивной атмосфер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ктивизация проблем детско–родительских отнош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. Представление каждого родителя (заполнение анкеты «Знакомство»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видов занятий: а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(круглый стол, лекционные, практические, в форме дискуссий, занятия-практикумы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дгрупповые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ндивидуальные (занятие одного родителя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видуально заполняется бланк с желаемыми формами занят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а «Кто позвал?». Закрепление знания имён участник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ини-сочинение «Моё отношение к детскому саду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едение дневника – фиксировать эмоциональное ощущение семьи, настрое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нятию прилагается анкета «Знакомство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тест «Кто я?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108000" y="0"/>
            <a:ext cx="410364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Знакомство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т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ы по знаку зодиак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 Вас образование и кем работает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жизненный девиз, кредо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любит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не любит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 хобб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меч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187200" y="1397160"/>
          <a:ext cx="4535640" cy="5400360"/>
        </p:xfrm>
        <a:graphic>
          <a:graphicData uri="http://schemas.openxmlformats.org/drawingml/2006/table">
            <a:tbl>
              <a:tblPr/>
              <a:tblGrid>
                <a:gridCol w="2266920"/>
                <a:gridCol w="2268720"/>
              </a:tblGrid>
              <a:tr h="12459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существитель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лагатель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0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0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3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1"/>
          <p:cNvSpPr/>
          <p:nvPr/>
        </p:nvSpPr>
        <p:spPr>
          <a:xfrm>
            <a:off x="518760" y="2520"/>
            <a:ext cx="3967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ни-тест «Кто я?»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Фамилия, имя, отчеств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6" name="Рисунок 5" descr=""/>
          <p:cNvPicPr/>
          <p:nvPr/>
        </p:nvPicPr>
        <p:blipFill>
          <a:blip r:embed="rId1"/>
          <a:stretch/>
        </p:blipFill>
        <p:spPr>
          <a:xfrm>
            <a:off x="6300720" y="2627280"/>
            <a:ext cx="23972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0:15Z</dcterms:created>
  <dc:creator>Аня</dc:creator>
  <dc:description/>
  <dc:language>en-US</dc:language>
  <cp:lastModifiedBy>Галина</cp:lastModifiedBy>
  <dcterms:modified xsi:type="dcterms:W3CDTF">2018-12-19T08:45:49Z</dcterms:modified>
  <cp:revision>84</cp:revision>
  <dc:subject/>
  <dc:title>Дикие животные   «жители леса»  часть 1</dc:title>
</cp:coreProperties>
</file>