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15.jpeg" ContentType="image/jpeg"/>
  <Override PartName="/ppt/media/image14.jpeg" ContentType="image/jpeg"/>
  <Override PartName="/ppt/media/sound003.wav" ContentType="audio/x-wav"/>
  <Override PartName="/ppt/media/image7.jpeg" ContentType="image/jpeg"/>
  <Override PartName="/ppt/media/image6.png" ContentType="image/png"/>
  <Override PartName="/ppt/media/image3.gif" ContentType="image/gif"/>
  <Override PartName="/ppt/media/image1.jpeg" ContentType="image/jpeg"/>
  <Override PartName="/ppt/media/image4.gif" ContentType="image/gif"/>
  <Override PartName="/ppt/media/image9.jpeg" ContentType="image/jpeg"/>
  <Override PartName="/ppt/media/image11.jpeg" ContentType="image/jpeg"/>
  <Override PartName="/ppt/media/sound002.wav" ContentType="audio/x-wav"/>
  <Override PartName="/ppt/media/image12.jpeg" ContentType="image/jpeg"/>
  <Override PartName="/ppt/media/image13.png" ContentType="image/png"/>
  <Override PartName="/ppt/media/sound001.wav" ContentType="audio/x-wav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30BC-E8E1-466F-BF6A-F9FEB2C8C2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9DF9-226A-46D5-9930-54C7C58B1CF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33FF-D66B-455A-959C-EFBEE893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9490-68D7-4B38-844B-4CA73514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E4AF-DB31-4E14-B94D-966A84FEA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0B37-8C2B-4407-89D2-1A7BA229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318F-B823-48D6-A54C-C9CC9366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CDF2-7F10-4DDB-B42D-5676FB41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69D4-3302-4B0D-9920-878F7719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DF7D-CCA1-42DA-842A-4AFCBFDC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5AB2-0EEA-4ACD-97D6-6AAB9590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4732-DE86-4D6C-BDF5-D0091692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D4A8-7CD8-4888-A9AF-AC30DCDD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7624-6B5F-4E90-B48F-BDD0B67D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57120" y="4078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4160" y="17146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5712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4160" y="4078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13956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22000" y="17146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5712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13956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922000" y="4078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2840-4832-4FBE-A86A-8A7ABD1BE5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Admin\Рабочий стол\угадай\Синий.gif"/>
          <p:cNvPicPr/>
          <p:nvPr/>
        </p:nvPicPr>
        <p:blipFill>
          <a:blip r:embed="rId10"/>
          <a:stretch/>
        </p:blipFill>
        <p:spPr>
          <a:xfrm>
            <a:off x="6175440" y="6500880"/>
            <a:ext cx="1673280" cy="357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grpSp>
        <p:nvGrpSpPr>
          <p:cNvPr id="101" name="Скругленный прямоугольник 13"/>
          <p:cNvGrpSpPr/>
          <p:nvPr/>
        </p:nvGrpSpPr>
        <p:grpSpPr>
          <a:xfrm>
            <a:off x="208080" y="1206360"/>
            <a:ext cx="8582040" cy="5297760"/>
            <a:chOff x="208080" y="1206360"/>
            <a:chExt cx="8582040" cy="5297760"/>
          </a:xfrm>
        </p:grpSpPr>
        <p:pic>
          <p:nvPicPr>
            <p:cNvPr id="102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208080" y="1206360"/>
              <a:ext cx="8582040" cy="529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73040" y="1473120"/>
              <a:ext cx="8055000" cy="47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grpSp>
        <p:nvGrpSpPr>
          <p:cNvPr id="149" name="Скругленный прямоугольник 13"/>
          <p:cNvGrpSpPr/>
          <p:nvPr/>
        </p:nvGrpSpPr>
        <p:grpSpPr>
          <a:xfrm>
            <a:off x="208080" y="1206360"/>
            <a:ext cx="8582040" cy="5297760"/>
            <a:chOff x="208080" y="1206360"/>
            <a:chExt cx="8582040" cy="5297760"/>
          </a:xfrm>
        </p:grpSpPr>
        <p:pic>
          <p:nvPicPr>
            <p:cNvPr id="150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208080" y="1206360"/>
              <a:ext cx="8582040" cy="529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73040" y="1473120"/>
              <a:ext cx="8055000" cy="47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grpSp>
        <p:nvGrpSpPr>
          <p:cNvPr id="197" name="Скругленный прямоугольник 13"/>
          <p:cNvGrpSpPr/>
          <p:nvPr/>
        </p:nvGrpSpPr>
        <p:grpSpPr>
          <a:xfrm>
            <a:off x="208080" y="1206360"/>
            <a:ext cx="8582040" cy="5297760"/>
            <a:chOff x="208080" y="1206360"/>
            <a:chExt cx="8582040" cy="5297760"/>
          </a:xfrm>
        </p:grpSpPr>
        <p:pic>
          <p:nvPicPr>
            <p:cNvPr id="198" name="Скругленный 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208080" y="1206360"/>
              <a:ext cx="8582040" cy="529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473040" y="1473120"/>
              <a:ext cx="8055000" cy="47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3"/>
          <a:stretch/>
        </p:blipFill>
        <p:spPr>
          <a:xfrm>
            <a:off x="7715160" y="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C:\Documents and Settings\Admin\Мои документы\Мои рисунки\Анимашки\Бабочки жучки и т п\borb30.gif"/>
          <p:cNvPicPr/>
          <p:nvPr/>
        </p:nvPicPr>
        <p:blipFill>
          <a:blip r:embed="rId4"/>
          <a:stretch/>
        </p:blipFill>
        <p:spPr>
          <a:xfrm>
            <a:off x="7500960" y="4643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C:\Documents and Settings\Admin\Мои документы\Мои рисунки\Анимашки\цветочки\cvetok42.gif"/>
          <p:cNvPicPr/>
          <p:nvPr/>
        </p:nvPicPr>
        <p:blipFill>
          <a:blip r:embed="rId5"/>
          <a:stretch/>
        </p:blipFill>
        <p:spPr>
          <a:xfrm>
            <a:off x="3714840" y="5186520"/>
            <a:ext cx="2000160" cy="16714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C:\Documents and Settings\Admin\Мои документы\Мои рисунки\Анимашки\Бабочки жучки и т п\166.gif"/>
          <p:cNvPicPr/>
          <p:nvPr/>
        </p:nvPicPr>
        <p:blipFill>
          <a:blip r:embed="rId6"/>
          <a:stretch/>
        </p:blipFill>
        <p:spPr>
          <a:xfrm>
            <a:off x="5643720" y="5783400"/>
            <a:ext cx="1361880" cy="10746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C:\Documents and Settings\Admin\Мои документы\Мои рисунки\Анимашки\цветочки\cvetok42.gif"/>
          <p:cNvPicPr/>
          <p:nvPr/>
        </p:nvPicPr>
        <p:blipFill>
          <a:blip r:embed="rId7"/>
          <a:stretch/>
        </p:blipFill>
        <p:spPr>
          <a:xfrm>
            <a:off x="7786800" y="6000840"/>
            <a:ext cx="1025280" cy="8571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C:\Documents and Settings\Admin\Мои документы\Мои рисунки\Анимашки\Бабочки жучки и т п\166.gif"/>
          <p:cNvPicPr/>
          <p:nvPr/>
        </p:nvPicPr>
        <p:blipFill>
          <a:blip r:embed="rId8"/>
          <a:stretch/>
        </p:blipFill>
        <p:spPr>
          <a:xfrm>
            <a:off x="2428920" y="5726160"/>
            <a:ext cx="1433520" cy="1131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C:\Documents and Settings\Admin\Мои документы\Мои рисунки\Анимашки\цветочки\cvetok42.gif"/>
          <p:cNvPicPr/>
          <p:nvPr/>
        </p:nvPicPr>
        <p:blipFill>
          <a:blip r:embed="rId9"/>
          <a:stretch/>
        </p:blipFill>
        <p:spPr>
          <a:xfrm>
            <a:off x="142920" y="6072120"/>
            <a:ext cx="941400" cy="7858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35712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sound003.wav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ound002.wav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sound001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работы с родителями 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Прямоугольник 2"/>
          <p:cNvSpPr/>
          <p:nvPr/>
        </p:nvSpPr>
        <p:spPr>
          <a:xfrm>
            <a:off x="-828720" y="907920"/>
            <a:ext cx="76327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02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102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102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ый клуб 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102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ерапия семьёй»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102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102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102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ли воспитатели 2-ой группы                        компенсирующей направленности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102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кина Г.И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1028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ндаренко А.Ю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82" name="Рисунок 1" descr=""/>
          <p:cNvPicPr/>
          <p:nvPr/>
        </p:nvPicPr>
        <p:blipFill>
          <a:blip r:embed="rId1"/>
          <a:stretch/>
        </p:blipFill>
        <p:spPr>
          <a:xfrm>
            <a:off x="6804000" y="2340000"/>
            <a:ext cx="218124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2"/>
          <p:cNvSpPr/>
          <p:nvPr/>
        </p:nvSpPr>
        <p:spPr>
          <a:xfrm>
            <a:off x="0" y="0"/>
            <a:ext cx="9144000" cy="66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ь 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едание №2 «Наша семья»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проблемы семь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детско-родительских отношений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ие участников в группу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Беседа о записях в дневнике «Эмоций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Что такое семья и какой она должна быть (деление коллектива родителей на подгруппы. Обсуждение темы в течение 15минут) Требования к выступлению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ать определение семь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сновные требования к семье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бсуждение вышеуказанной темы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ини-сочинение: «Каким видят моего ребёнка другие»,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им я хочу видеть своего ребёнка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Рассказы о проблемах ребёнка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Игра «Семья должна быть…» (по итогам второго задания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игры: Родители становятся в круг, а воспитатель с мячом в руках в середине круга. Воспитатель говорит слова «Семья должна быть…» и, давая определения семьи, бросает, по очереди, мяч участникам. Например: Полная, неполная, благополучная, неблагополучная и т.д. Если определение положительное – участник ловит мяч, если же неположительное – то не ловит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Анкетирование родителей по теме «Человек будущего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1.Мини-сочинение «Роль и положение ребёнка (ИМЯ )в нашей семье. 2.Принести рисунки детей на тему «Моя семья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Прямоугольник 1"/>
          <p:cNvSpPr/>
          <p:nvPr/>
        </p:nvSpPr>
        <p:spPr>
          <a:xfrm>
            <a:off x="395280" y="189000"/>
            <a:ext cx="77770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Семья должна быть…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итогам второго задания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а игры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становятся в круг, а воспитатель с мячом в руках в середине круга. Воспитатель говорит слова «Семья должна быть…» и, давая определения семьи, бросает, по очереди, мяч участникам. Например: Полная, неполная, благополучная, неблагополучная и т.д. Если определение положительное – участник ловит мяч, если же неположительное – то не ловит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99" name="Рисунок 2" descr=""/>
          <p:cNvPicPr/>
          <p:nvPr/>
        </p:nvPicPr>
        <p:blipFill>
          <a:blip r:embed="rId1"/>
          <a:stretch/>
        </p:blipFill>
        <p:spPr>
          <a:xfrm>
            <a:off x="3059280" y="3683160"/>
            <a:ext cx="31683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1768320" y="1714680"/>
          <a:ext cx="5407200" cy="4525920"/>
        </p:xfrm>
        <a:graphic>
          <a:graphicData uri="http://schemas.openxmlformats.org/drawingml/2006/table">
            <a:tbl>
              <a:tblPr/>
              <a:tblGrid>
                <a:gridCol w="2703600"/>
                <a:gridCol w="2703600"/>
              </a:tblGrid>
              <a:tr h="753840"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 существительны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лагательны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8000"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6200"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7640"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8000"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6200"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7640"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6200"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8000"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6200"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8000"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401" name="Rectangle 1"/>
          <p:cNvSpPr/>
          <p:nvPr/>
        </p:nvSpPr>
        <p:spPr>
          <a:xfrm>
            <a:off x="1187280" y="383760"/>
            <a:ext cx="972504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ни-тест «Мой ребенок, какой он?»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Фамилия, имя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_________________________________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"/>
          <p:cNvSpPr/>
          <p:nvPr/>
        </p:nvSpPr>
        <p:spPr>
          <a:xfrm>
            <a:off x="539640" y="0"/>
            <a:ext cx="9361440" cy="64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а для родителей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ме: «Человек будущего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ть фамилию, имя, возраст ребёнка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черты характера нравятся в вашем ребёнке?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стность, доброта, скромность.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е ли Вы, что Ваш ребёнок скромный,         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ливый?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ведите пример)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является товарищество в Вашем ребёнке?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ведите пример)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роль Вы отводите ребёнку на семейном совете?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тносится Ваш ребёнок к близким?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аме, папе, бабушке и т.д.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 ли Ваш ребёнок аккуратно кушать и пользоваться столовыми приборами?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воспитываете у ребёнка умение вести себя в общественных местах?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34272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традиции есть в Вашей семье?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ки детей на тему «моя семья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Рисунок 3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48243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1"/>
          <p:cNvSpPr/>
          <p:nvPr/>
        </p:nvSpPr>
        <p:spPr>
          <a:xfrm>
            <a:off x="0" y="115920"/>
            <a:ext cx="903600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ябрь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едание№3   «Конфликты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епощение, объединение участников в группу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негативного опыта общения с детьми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озитивных образов. Решение конфликтных ситуаций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Скажи другому комплимент» (раскрепощение, объединение, создание хорошего настроения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домашнего задания. Высказывания, обмен мнениями на тему «Роль и положение ребёнка в семье». Рассматривание и обсуждение рисунков детей на тему «Моя семья». (Приглашается психолог, кот. Обобщает и даёт характеристику каждому рисунку с психологической точки зрения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о конфликтах с детьми. Тест «Возникает ли у Вас конфликт с ребёнком, если…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Как поступят родители?» (Проигрывание возможных вариантов негативного решения конфликтной ситуации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евое проигрывание конфликта с позитивным решением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 Описать в дневнике реальную конфликтную ситуацию в семье, кот. Произошла с Вашим ребёнком, и способы Вашего решения этого конфликта. А также, описать какие эмоции Вы испытывали в начале конфликта и в его конце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1"/>
          <p:cNvSpPr/>
          <p:nvPr/>
        </p:nvSpPr>
        <p:spPr>
          <a:xfrm>
            <a:off x="108000" y="115920"/>
            <a:ext cx="8856720" cy="66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а для родителей.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зникает ли у Вас конфликт с ребёнком, если…»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е ребёнка купить игрушку в игрушечном отделе Вами отвергается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пришли вечером за ребёнком в д/с без угощения (конфет, шоколадки и т. д.)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пообещали ребёнку придти за ним в д/с пораньше, но не смогли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приготовили ребёнку одежду, в которой он пойдёт в д/с, а ребёнок не согласен с Вашим выбором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ы ребёнка - пригласить вечером домой своих друзей из группы, для совместных игр. Эти планы не совпадают с Вашими. Вы наметили посетить парикмахерскую (Супермаркет, подругу…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етских игрушек в доме Вас раздражает, Вы решаете избавиться от части игрушек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ласково – уменьшительно называете ребёнка, всячески преобразовывая его имя. Например: Сергуня, Серенький, Серж и т. д., а ребёнку это не нравится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нкету разработала воспитатель Примакина Г.И.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1"/>
          <p:cNvSpPr/>
          <p:nvPr/>
        </p:nvSpPr>
        <p:spPr>
          <a:xfrm>
            <a:off x="179280" y="549360"/>
            <a:ext cx="8964720" cy="68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абрь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едание №4 «Грустный – радостный день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епощение, объединение участников в группу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ция негативного, позитивного опыта общения с ребёнком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коммуникативных умений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Игра «Продолжи фразу» (Объединение) Например: У меня сегодня хорошее и …….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гра «Одна минута на разговор» (Вербальная активность, раскрепощение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суждение домашнего задания (15минут. Одно – два выступления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Этюд-беседа «Самый грустный день с моим ребёнком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Этюд-беседа «Самый весёлый день с моим ребёнком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Игровые тесты на умение общатьс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 Записать в дневник наблюдения о том, в каких случаях Ваш ребёнок бывает грустным, что его огорчает. И в каких – радостный, что ему поднимает настроение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тесты на умение обща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Прямоугольник 2"/>
          <p:cNvSpPr/>
          <p:nvPr/>
        </p:nvSpPr>
        <p:spPr>
          <a:xfrm>
            <a:off x="216000" y="981000"/>
            <a:ext cx="8712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екрет»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ормировать желание общаться с участниками игры; преодолевать застенчивость; находить различные способы для достижения своей цели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игры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сем участникам ведущий раздаёт небольшие предметы: пуговичку, брошку, маленькую игрушку,… . Это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кре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Участники объединяются в пары. Они должны уговорить друг друга показать свой «секрет»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должны придумать как можно больше способов уговаривания (угадывать; говорить комплименты; обещать угощение; не верить, что в кулачке что-то есть, …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ссаж чувствами»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содействовать улучшению общения с участниками игры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садятся "цепочкой» (в затылок друг другу), подушечки пальцев упираются в спину впередисидящего. По сигналу ведущего участники изображают подушечками пальцев различные чувства: радость, злость, страх, любовь и т. п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сть всегда будет»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содействовать улучшению общения с участниками игры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й рассказывает о том, что один маленький мальчик придумал такие слова: «Пусть всегда будет солнце, пусть всегда будет небо, пусть всегда будет мама, пусть всегда буду я!». После этого ведущий предлагает придумать каждому свое самое заветное «ПУСТЬ». Все участники хором кричат: "Пусть всегда будет ... », а один из участников добавляет свое желание, затем то же самое проводится для всех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Прямоугольник 1"/>
          <p:cNvSpPr/>
          <p:nvPr/>
        </p:nvSpPr>
        <p:spPr>
          <a:xfrm>
            <a:off x="179280" y="189000"/>
            <a:ext cx="871380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варь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едание №5 «Настроение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ение участников в группу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невербальных средств общени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Игра «Продолжение фразы» (Объединение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Беседа о настроении детей. Обсуждение термина и понятия «настроение». Совместное составление «Эмоционального словаря» (Определения: радость, горе, страх, интерес и т.д.)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суждение домашнего задания. Дискуссия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актическое групповое упражнение (Каждый рисует настроение: брови, нос, овал, рот и передаёт другому для отгадывания.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зображение настроения мимикой (используются рисунки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 дома один час в день разговаривать с ребёнком при помощи мимики, жестов(развитие мимики и пантомимики, развитие взаимопонимания).Занесение результатов в дневник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1"/>
          <p:cNvSpPr/>
          <p:nvPr/>
        </p:nvSpPr>
        <p:spPr>
          <a:xfrm>
            <a:off x="611280" y="1413000"/>
            <a:ext cx="828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1"/>
                </a:solidFill>
                <a:latin typeface="Arial"/>
                <a:ea typeface="Times New Roman"/>
              </a:rPr>
              <a:t>• </a:t>
            </a:r>
            <a:r>
              <a:rPr b="0" lang="ru-RU" sz="2400" spc="-1" strike="noStrike">
                <a:solidFill>
                  <a:srgbClr val="111111"/>
                </a:solidFill>
                <a:latin typeface="Arial"/>
                <a:ea typeface="Times New Roman"/>
              </a:rPr>
              <a:t>Семейный клуб - одна из наиболее эффективных форм работы с семьей, которая позволяет реализовать потребность в установлении взаимопонимания между педагогами и родителями в пространстве ДОУ, обмениваться эмоциями, знаниями, опытом так, чтобы педагог не навязывал свою точку зрения, а давал возможность каждому родителю принять активное участие в обсуждении актуальных проблем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Рисунок 2" descr=""/>
          <p:cNvPicPr/>
          <p:nvPr/>
        </p:nvPicPr>
        <p:blipFill>
          <a:blip r:embed="rId1"/>
          <a:stretch/>
        </p:blipFill>
        <p:spPr>
          <a:xfrm>
            <a:off x="179280" y="293760"/>
            <a:ext cx="87138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ое упражнени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рисуй, отгадай настроени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Рисунок 2" descr=""/>
          <p:cNvPicPr/>
          <p:nvPr/>
        </p:nvPicPr>
        <p:blipFill>
          <a:blip r:embed="rId1"/>
          <a:stretch/>
        </p:blipFill>
        <p:spPr>
          <a:xfrm>
            <a:off x="2627280" y="2708280"/>
            <a:ext cx="374508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рямоугольник 1"/>
          <p:cNvSpPr/>
          <p:nvPr/>
        </p:nvSpPr>
        <p:spPr>
          <a:xfrm>
            <a:off x="250920" y="115920"/>
            <a:ext cx="8713800" cy="67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враль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едание №6 «Образ матери и отца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ъединение, раскрепощение участников в группы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еформирование родительских стереотипов развития адекватного восприятия родительской роли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знакомление с детскими играми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Игра «Поприветствуй соседа жестом, мимикой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Этюд-беседа «Идеальные мать и отец»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обрать 10 прилагательных и 10 существительных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Этюд-беседа «Плохие мать и отец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обрать 10 прилагательных и 10 существительных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Разговор о себе, как матери, об отце. Принятие себя, развитие в себе родительской роли (Особенно актуально для молодых семей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Лекторий-практикум на тему: «Знакомство с играми, развивающими восприятие, коммуникативность ребёнка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 Написать сочинение «Какая я мать(отец), плохая или идеальная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 о себе, как матери, об отце. Принятие себя, развитие в себе родительской рол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собенно актуально для молодых семей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Рисунок 1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563256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578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развивающие восприятие и комуникативность ребе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Прямоугольник 1"/>
          <p:cNvSpPr/>
          <p:nvPr/>
        </p:nvSpPr>
        <p:spPr>
          <a:xfrm>
            <a:off x="108000" y="1125360"/>
            <a:ext cx="864072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00000"/>
                </a:solidFill>
                <a:uFillTx/>
                <a:latin typeface="Cambria"/>
                <a:ea typeface="Times New Roman"/>
              </a:rPr>
              <a:t> </a:t>
            </a:r>
            <a:r>
              <a:rPr b="0" lang="ru-RU" sz="1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«ПАРОВОЗИК»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оль водящего — «паровозика» назначается ребенок по желанию. Остальные дети выстраиваются друг за другом,  сцепляются руками и передвигаются вместе в направлении, которое выбирает «паровозик». Основная задача — следовать друг за другом, не разъединяясь. Если кто-то из детей отцепляет руки, то «паровозик» останавливается, «поезд» ремонтируют, а «сломанный» вагончик отправляется в «депо»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Игра «ПАРОВОЗИК С КЛОУНАМИ»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дети превращаются в « поезд », в котором едут « клоуны ». «Клоуны» любят баловаться, веселиться, прыгать, поэтому «поезд» по сигналу взрослого (гудок) останавливается, «вагончики» разъезжаются в разные стороны, дети падают. Основная задача — при падении быть внимательным к окружающим детям, стараться их не задеть. После того как «поезд» отремонтируют, игра продолжается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Игра «КТО ПОЗВАЛ?»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тоят в кругу. Один из играющих встает в центр круга и закрывает глаза. Ведущий подходит и притрагивается к кому- либо из участников игры. Тот громко называет имя водящего. Ведущий: «Кто позвал тебя?»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, стоящий в кругу, называет имя товарища. Игра продолжается до тех пор, пока все дети не побывают в роли отгадывающего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этой игры дети лучше узнают друг друга и запоминают имена. Игра способствует сближению ребят, развивает внимание, память, упражняет слуховой анализатор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Игра «ИГОЛОЧКА И НИТОЧКА»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игры становятся друг за другом. Первый — «иголочка». Он бегает, меняя направление. Остальные бегут за ним, стараясь не отставать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Прямоугольник 1"/>
          <p:cNvSpPr/>
          <p:nvPr/>
        </p:nvSpPr>
        <p:spPr>
          <a:xfrm>
            <a:off x="0" y="115920"/>
            <a:ext cx="90360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т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едание №7 «Семейный досуг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заимопонимания, используя невербальные средства общения (мимику, жесты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озитивных образов общения в семье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с детскими играм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Игра «Где мы были мы не скажем, а что делали покажем» (Мимика, пантомимика, взаимопонимание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суждение домашнего задания (консультация психолога на тему «Какая я мать(отец), плохая или идеальная»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Беседа на тему «Досуг в семье и в гостях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олевое использование ярких образов. Проигрывание ситуации: Капризный гость…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давшаяся рыбалка………Встреча Нового года………Приезд любимой тёти  и  т.д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Лекторий тема: «Знакомство с играми, способствующими эмоциональному сближению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 Придумать сценарий проведения Дня Рождения Вашего ребёнка (Участие всех членов семьи обязательно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6868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, способствующие эмоциональному сближению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Прямоугольник 1"/>
          <p:cNvSpPr/>
          <p:nvPr/>
        </p:nvSpPr>
        <p:spPr>
          <a:xfrm>
            <a:off x="250920" y="1125360"/>
            <a:ext cx="871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ссаж чувствами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содействовать улучшению общения со сверстникам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адятся "цепочкой» (в затылок друг другу), подушечки пальцев упираются в спину впередисидящего ребенка. По сигналу ведущего дети изображают подушечками пальцев различные чувства: радость, злость, страх, любовь и т. п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улкан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содействовать улучшению общения со сверстникам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ребят - "вулкан» - садится на корточки в центр круга. Он спит. Затем он начинает тихо гудеть и медленно поднимается - просыпается. Группа помогает ему гудеть глухими утробными звуками - звуками земли. Затем он резко подскакивает, поднимая руки вверх, как будто выбрасывает все, что ему не нужно, потом опять постепенно засыпает. После того, как ребенок возвращается в круг; ведущий спрашивает у него, что он выбрасывал, - может быть, это были ненужные чувства, мысли, а может быть, что-то другое?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1"/>
          <p:cNvSpPr/>
          <p:nvPr/>
        </p:nvSpPr>
        <p:spPr>
          <a:xfrm>
            <a:off x="324000" y="115920"/>
            <a:ext cx="835164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 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едание №8 «Наказания и поощрения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невербальных средств общени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адекватных форм применения наказания и поощрения детей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эмпатии в ситуации осуждения и оправдани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с играми, развитие интереса к совместным играм с детьм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Этюды: «Дерево», «Памятник», «Бросание горячей картошки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искуссия на тему: «Наказание и поощрение ребёнка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суждение домашнего задания, обмен опытом о проведении Дня Рождения ребёнка. Беседа на тему: «проведение Дня Рождения ребёнка, как средство поощрения его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гра «Суд» (Упражнение для группового тренинга)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ощущений, эмоций, кот. Испытывает человек, обвиняемый в чём-либо, и человек осуждающий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родителей на вопросы анкет: «Наказание», «Поощрение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торий. Тема: «Знакомство с играми, развивающими речь и мышление ребёнка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 Провести «День ненаказания». Отразить результаты в дневнике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-468720" y="115560"/>
            <a:ext cx="91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, развивающие речь и мышление ребё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Прямоугольник 2"/>
          <p:cNvSpPr/>
          <p:nvPr/>
        </p:nvSpPr>
        <p:spPr>
          <a:xfrm>
            <a:off x="179280" y="1125360"/>
            <a:ext cx="86407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Игра «Подбери пару к слову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</a:t>
            </a:r>
            <a:r>
              <a:rPr b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развитие внимания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, </a:t>
            </a:r>
            <a:r>
              <a:rPr b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мышления и речи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Оборудование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мяч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Дети встают в круг. Воспитатель с мячом - в центре круга, он бросает мяч одному из детей и 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говорит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Игрушка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 Ребенок должен поймать мяч и назвать, 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например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Кукла»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Игра «Что это? Кто это?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</a:t>
            </a:r>
            <a:r>
              <a:rPr b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развитие мышления и речи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Оборудование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24 предметные картинки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Calibri"/>
              </a:rPr>
              <a:t>Дети делятся на две команды. Садятся за столы на удалении друг от друга. Каждой команде раздаются одинаковые </a:t>
            </a:r>
            <a:r>
              <a:rPr b="1" lang="ru-RU" sz="1600" spc="-1" strike="noStrike">
                <a:solidFill>
                  <a:srgbClr val="111111"/>
                </a:solidFill>
                <a:latin typeface="Times New Roman"/>
                <a:ea typeface="Calibri"/>
              </a:rPr>
              <a:t>комплект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Calibri"/>
              </a:rPr>
              <a:t> картинок с изображением овощей, фруктов, животных и т. д. Дети поочередно дают описание одной из картинок. Если описание правильное и картинка угадывается, то её откладывают в пользу отгадавших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Игра «Разложи картинки по группам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</a:t>
            </a:r>
            <a:r>
              <a:rPr b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развитие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навыков анализа и синтеза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Оборудование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поднос с двенадцатью картинками. Которые можно разделить на четыре группы, например, 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овощи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лук, морковь, капуста; 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фрукты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яблоко, груша, персик; </a:t>
            </a:r>
            <a:r>
              <a:rPr b="0" lang="ru-RU" sz="16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посуда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чашка, тарелка, чайник; инструменты – молоток, пила, лопата и т. д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Calibri"/>
              </a:rPr>
              <a:t>Перед каждым ребенком находится поднос с двенадцатью предметными картинками. Воспитатель предлагает детям разделить все картинки на четыре группы.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Calibri"/>
              </a:rPr>
              <a:t>(</a:t>
            </a:r>
            <a:r>
              <a:rPr b="1" i="1" lang="ru-RU" sz="1600" spc="-1" strike="noStrike">
                <a:solidFill>
                  <a:srgbClr val="111111"/>
                </a:solidFill>
                <a:latin typeface="Times New Roman"/>
                <a:ea typeface="Calibri"/>
              </a:rPr>
              <a:t>Комплекты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Calibri"/>
              </a:rPr>
              <a:t> картинок у детей разные)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Прямоугольник 1"/>
          <p:cNvSpPr/>
          <p:nvPr/>
        </p:nvSpPr>
        <p:spPr>
          <a:xfrm>
            <a:off x="179280" y="260280"/>
            <a:ext cx="87138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едание №9 «Домашние обязанности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адекватного восприятия домашних обязанностей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мений распределять домашние обязанности между всеми членами семь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с играми, развитие интереса к совместным играм с детьми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Узнай сказочного героя по описанию» (Отражение в образе черт характера)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уссия на тему: «Домашние обязанности». (Какие они бывают, их цель, кто их выполняет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грывание негативных и позитивных образов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родителей на тему: «Умеет ли ваш ребёнок трудиться?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ить домашние обязанности Вашего ребёнка и Ваши. Путём счёта обязанностей определить, у кого из членов семьи их больше всего. Отразить это в дневнике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ребёнка на тему: «Как я убираю игрушки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оугольник 1"/>
          <p:cNvSpPr/>
          <p:nvPr/>
        </p:nvSpPr>
        <p:spPr>
          <a:xfrm>
            <a:off x="324000" y="260280"/>
            <a:ext cx="8424720" cy="50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1"/>
                </a:solidFill>
                <a:latin typeface="Arial"/>
                <a:ea typeface="Times New Roman"/>
              </a:rPr>
              <a:t>Актуальность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Arial"/>
                <a:ea typeface="Times New Roman"/>
              </a:rPr>
              <a:t>По данным социально-психологических и социально-педагогических исследований, тенденции, происходящие в семейных отношениях (отделение молодой семьи от старшего поколения, сокращение числа детей, финансовые затруднения, нестабильность) приводят к уменьшению педагогического потенциала семьи, снижению уровня педагогической компетентности и психолого-педагогической культуры, недостаточному выполнению воспитательных функций родителями, эмоциональному неблагополучию детей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Arial"/>
                <a:ea typeface="Times New Roman"/>
              </a:rPr>
              <a:t>Поэтому, сложившуюся ситуацию наиболее целесообразно постепенно менять, направив на установление более тесных неформальных контактов между педагогами ДОУ и семьями воспитанников, на решение задач повышения педагогической компетентности родителей, через апробацию новых форм партнерских отношений. Одна из эффективных форм психолого-педагогического сопровождения семей – организация в ДОУ клубов разной направленности. Среди основных направлений их деятельности – пропаганда семейного воспитания, повышение компетентности родителей в вопросах развития детей дошкольного возраста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4560" y="274320"/>
            <a:ext cx="865188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а для родителей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меет ли ваш ребёнок трудиться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4920" y="620640"/>
            <a:ext cx="44625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225000"/>
              <a:buFont typeface="Times New Roman"/>
              <a:buAutoNum type="arabicPeriod"/>
              <a:tabLst>
                <a:tab algn="l" pos="1036954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 ребёнок убирает дома свои игрушки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а, все игрушки убирает с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Да, но в том случае, если ему пообещали за это конфету.(игрушку, новое платье и т. д.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Убирает, в том случае, если ему помогает взрослы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По настроению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Никогда не убирает, это делает взрослы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 ребёнок, во время уборки квартиры, изъявляет желание вам помочь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а, всегд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Только если я его об этом попрошу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Иногда, если нельзя смотреть телевизор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Никогд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Есть ли у вашего ребёнка обязанность, которую выполняет только он? Например: встряхнуть половичок, протереть полку и т.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а, есть.(приведите пример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Нет, ему ещё рано поручать самостоятельные дел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готовите обед. Ваш ребёнок Вам помогает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а, он чистит лук, наливает воду, моет овощи и т. 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Да, мы вместе обсуждаем рецепты, но к продуктам он не прикасаетс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Нет, это слишком опасно. Пускай подрастё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Нет, не проявляет интерес к приготовлению пищ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Нет, мальчики не должны заниматься женской работой.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 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ваясь на прогулку, Ваш ребёнок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олностью одевается самостоятельно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девается сам, но просит помощи при завязывании шнур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Может одеться сам, но предпочитает, чтобы его одел взрослы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ам одеваться не умее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 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видите, что, выполняя трудовое поручение,  ребёнок испытывает затрудне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ы сделаете эту работу за него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ы покажите, как нужно сделать, а затем, ребёнок сам выполняет работу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ы поможете ребёнку совето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Вы не помогаете ребёнку, давая ему возможность самому найти пути решения проблем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  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ли Ваш ребёнок, выполняя трудовое поручение, говорит: «Я сам»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Не часто.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сегда, даже если не получаетс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Никогда.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ff"/>
              </a:buClr>
              <a:buFont typeface="Arial"/>
              <a:buChar char="•"/>
              <a:tabLst>
                <a:tab algn="l" pos="103695480"/>
              </a:tabLst>
            </a:pPr>
            <a:r>
              <a:rPr b="0" lang="ru-RU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ff"/>
              </a:buClr>
              <a:buFont typeface="Arial"/>
              <a:buChar char="•"/>
              <a:tabLst>
                <a:tab algn="l" pos="1036954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44720" y="620280"/>
            <a:ext cx="40417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Результаты анкетирования родителей на тему: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«Умеет ли Ваш ребёнок трудиться?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 анкетировании приняли участие 12 родителей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1. На первый вопрос-                                 5. На пятый вопрос-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) 6 ответов                                                 а) 3 ответ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б) 1                                                               б) 3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) 1                                                               в) 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) 4                                                          6. На шестой вопрос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2. На второй вопрос-                                       а) Ни одного ответа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) 11 ответов                                                б) 9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б) 1                                                                в)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3. На третий вопрос-                                        г) 1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) 7 ответов                                             7. На седьмой вопрос-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б) 5                                                                а) 4 ответ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4. На четвёртый вопрос-                                  б) 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) 8 ответов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б) 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)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нкетирование показало, что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Только 30% родителей акцентируют внимание на трудовом воспитании ребёнк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―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Это самостоятельные трудовые обязанности у ребёнк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―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ребёнок активно участвует в уборке дома, приготовлении обеда и т. д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―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амостоятельно одевается, ухаживает за одеждой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―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Родители поощряют ребёнк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60% родителей относятся с недостаточным вниманием к формированию трудовых навыков. Не обращают внимания на формирование самостоятельности у ребёнк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3. 10% родителей никак не формируют трудовые навыки детей, считая,       что он ещё мал и всё успеет наверстать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Прямоугольник 1"/>
          <p:cNvSpPr/>
          <p:nvPr/>
        </p:nvSpPr>
        <p:spPr>
          <a:xfrm>
            <a:off x="250920" y="189000"/>
            <a:ext cx="8642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едание   №10 «Родные трудности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заимопонимания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эмоциональной и интеллектуальной сферы в семье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нтереса к совместной творческой деятельности в семье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Чувства другого». (Взаимопонимание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уссия на тему: «Как я отношусь к трудностям другого члена семьи (жены, мужа, детей)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на тему: «Что такое «семейный совет» и нужен ли он?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родителей по выше указанной теме. (Анкета прилагается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Почётный гость» (упражнение для тренинга общения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торий. Тема: «Домашний театр, его ценность для позитивного внутрисемейного общения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Прямоугольник 1"/>
          <p:cNvSpPr/>
          <p:nvPr/>
        </p:nvSpPr>
        <p:spPr>
          <a:xfrm>
            <a:off x="0" y="115920"/>
            <a:ext cx="8964720" cy="67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у составила воспитатель Примакина Г. И. 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а «Семейный совет»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ли в Вашей семье «семейный совет»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т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знаю что это такое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часто собирается Ваш «семейный совет»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ждую неделю, по воскресеньям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ждый месяц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-2 раза в год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 мере необходимости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собирается совсем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Что обсуждается на «семейном совете» чаще всего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ездка в отпуск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хождение выхода из конфликтной ситуации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ложение денег в крупную покупку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дение семейного торжества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суждение недостойного поступка члена семьи (в том числе и ребёнка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ное. Привести пример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то чаще всего является лидером при решении вопросов на «семейном совете»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душка (бабушка) он самый старший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па - он самый главный(приносит больше всех денег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мью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ма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бёнок (он единственный, всё делается на благо ребёнка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шение принимается совместно, всеми членами семьи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ужен ли вообще «семейный совет» и зачем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а ли вам помощь воспитателя, психолога в организации и проведении «семейного совета»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т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 какой форме Вы хотели бы получить помощь по этому      вопросу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дивидуальные беседы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ультации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минар – практикум в коллективе родителей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ение художественной и научной литературы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ругие формы работы (укажите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Почетный гость»     (тренинг общения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Прямоугольник 1"/>
          <p:cNvSpPr/>
          <p:nvPr/>
        </p:nvSpPr>
        <p:spPr>
          <a:xfrm>
            <a:off x="108000" y="549360"/>
            <a:ext cx="8856720" cy="64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Цели: утвердить право личности на уважение группы, установить симпатии и антипатии отдельных членов группы. Для выполнения этого упражнения следует выбрать именно того, кто малозаметен в группе, т. е. не принадлежит к числу ее „звезд"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едущий объясняет сущность игры: «Сейчас один из вас на время покинет помещение и подождет за дверью, пока его не вызовут. Из остальных мы выберем семь человек в состав жюри, которое будет оценивать (по пятибалльной шкале) последующее поведение каждого участника игры. Задача вот в чем: человек за дверью — наш почетный гость. Вообразим себе, что он иностранец, друг нашей страны, внесший определенный вклад в развитие сердечных отношений между своим и нашим народами. Он может заранее выбрать для себя любую национальную принадлежность. Кто-то вызовется быть сопровождающим лицом и заодно переводчиком нашего почетного гостя: он-то и введет его в комнату. Далее каждый из вас постарается пожать руку гостю, о чем-то спросить, что-то рассказать, в общем, сделать так, чтобы он не скучал. Члены жюри, принимая решения независимо друг от друга, снижают оценку тем, кто поведет себя с гостем слишком сухо или слишком фамильярно, подобострастно или грубо, скованно или развязно. Развязных можно вывести из игры. По оценкам членов жюри будет выведена средняя арифметическая оценка для каждого участника взаимодействия»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едущий вместе с группой определяет членов жюри и сопровождающее лицо, а затем отсылает за дверь протагониста, выбранного по своему усмотрению. Сопровождающее лицо покидает комнату, чтобы через минуту ввести в нее „гостя". Протагониста окружают кольцом, в произвольном порядке усаживаясь вокруг него. Очередность контакта с ним не имеет значения, но все участники игры должны этот контакт осуществить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Заведомо комические эффекты (типа имитации гостем „чужестранного языка" и необычного стиля общения) развлекают группу, но не лишают происходящее должной серьезности. Примечательно, что участники, которых по тем или иным причинам задевает выражение знаков внимания данному протагонисту, пытаются вложить в свою показную приветливость немалую долю издевки. Возможность „кольнуть" протагониста они ставят выше хорошей оценки жюри. Заметив это, ведущий должен в конце занятия иронически прокомментировать подобное поведение.Содержание реплик гостю (и реплик с его стороны) можно не продумывать заранее, положившись на импровизационные способности играющих. Приводим типичную выдержку из стенограммы занятия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Гость (он „нигериец"): «Ургуру-бургуру-нда-нга… Сорри, не знай русска язык…»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ереводчик: «Наш гость передает вам традиционное нигерийское приветствие и просит извинить за то, что не говорит по-русски»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Участник встречи: «Хм! Мог бы и выучиться». (Общий смех.) Ведущий: «Стоп! Разве такая реплика соответствует задаче игры? Вдобавок гость знает хотя бы несколько русских слов, а знаете ли вы хоть слово по-нигерийски?.. Он мог бы объясниться с вами и по-английски, а как насчет вас?.. При повторении подобного выпада вы будете выведены из игры». (Показывается желтая карточка.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Прямоугольник 1"/>
          <p:cNvSpPr/>
          <p:nvPr/>
        </p:nvSpPr>
        <p:spPr>
          <a:xfrm>
            <a:off x="250920" y="189000"/>
            <a:ext cx="86421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ль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едание  №11 «Заключение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заимоотношений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 работы клуба за год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Выбери друга» (на выражение положительных эмоций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ние итогов работы клуба за год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ние сочинения на тему «Что мне и моей семье дало посещение клуба «Терапия семьёй»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я родителей по работе клуба на следующий учебный год. (Формы, методы, темы, организации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ние родителями анкет-предложений.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0504d"/>
              </a:solidFill>
              <a:latin typeface="Calibri"/>
            </a:endParaRPr>
          </a:p>
        </p:txBody>
      </p:sp>
      <p:pic>
        <p:nvPicPr>
          <p:cNvPr id="438" name="Рисунок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435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существление преемственности ГДОУ и семь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Прямоугольник 1"/>
          <p:cNvSpPr/>
          <p:nvPr/>
        </p:nvSpPr>
        <p:spPr>
          <a:xfrm>
            <a:off x="611280" y="1484280"/>
            <a:ext cx="6246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ь внимание родителей к деятельности ГДОУ и, в частности, группы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ить родителей в коллектив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 родителей сознание того, что они полноправные члены ГДОУ (группы), способные решать различные задачи по воспитанию и обучению их детей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 родителей понятие, что семья – это главная ценность для ребёнка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 родителей на проблемы детей. 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816444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а клуба спланирована на один учебный год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седания клуба проводится один раз в месяц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заседаниях участвуют родители, воспитатели(логопед ,психолог, старший воспитатель и медики - по мере необходимости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Рисунок 1" descr=""/>
          <p:cNvPicPr/>
          <p:nvPr/>
        </p:nvPicPr>
        <p:blipFill>
          <a:blip r:embed="rId1"/>
          <a:stretch/>
        </p:blipFill>
        <p:spPr>
          <a:xfrm>
            <a:off x="2916360" y="3284640"/>
            <a:ext cx="3132000" cy="21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взаимодействия всех участников клуб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Прямоугольник 1"/>
          <p:cNvSpPr/>
          <p:nvPr/>
        </p:nvSpPr>
        <p:spPr>
          <a:xfrm>
            <a:off x="395280" y="1844640"/>
            <a:ext cx="756144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бровольное участие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сутствие назидательности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ветствуется любая степень активности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ксимальная обратная связь между всеми участниками клуб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.  Гибкость построения каждого заседания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оугольник 1"/>
          <p:cNvSpPr/>
          <p:nvPr/>
        </p:nvSpPr>
        <p:spPr>
          <a:xfrm>
            <a:off x="468360" y="333360"/>
            <a:ext cx="7991280" cy="61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тябрь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едание №1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Знакомство со всеми участниками клуба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бъединение участников в группу. Создание позитивной атмосферы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Активизация проблем детско–родительских отношений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. Представление каждого родителя (заполнение анкеты «Знакомство»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видов занятий: а)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ые (круглый стол, лекционные, практические, в форме дискуссий, занятия-практикумы)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дгрупповые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Индивидуальные (занятие одного родителя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уги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дивидуально заполняется бланк с желаемыми формами занятий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гра «Кто позвал?». Закрепление знания имён участников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ини-сочинение «Моё отношение к детскому саду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машнее задание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едение дневника – фиксировать эмоциональное ощущение семьи, настроение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занятию прилагается анкета «Знакомство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-тест «Кто я?»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Прямоугольник 1"/>
          <p:cNvSpPr/>
          <p:nvPr/>
        </p:nvSpPr>
        <p:spPr>
          <a:xfrm>
            <a:off x="108000" y="0"/>
            <a:ext cx="4103640" cy="63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а «Знакомство»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, имя, отчество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лет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Вы по знаку зодиака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у Вас образование и кем работаете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 жизненный девиз, кредо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ы любите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ы не любите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е хобби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а мечт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"/>
          <p:cNvGraphicFramePr/>
          <p:nvPr/>
        </p:nvGraphicFramePr>
        <p:xfrm>
          <a:off x="187200" y="1397160"/>
          <a:ext cx="4535640" cy="5400360"/>
        </p:xfrm>
        <a:graphic>
          <a:graphicData uri="http://schemas.openxmlformats.org/drawingml/2006/table">
            <a:tbl>
              <a:tblPr/>
              <a:tblGrid>
                <a:gridCol w="2266920"/>
                <a:gridCol w="2268720"/>
              </a:tblGrid>
              <a:tr h="124596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 существительны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лагательны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616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400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616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580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616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400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616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580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436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580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56880" marR="56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395" name="Rectangle 1"/>
          <p:cNvSpPr/>
          <p:nvPr/>
        </p:nvSpPr>
        <p:spPr>
          <a:xfrm>
            <a:off x="518760" y="2520"/>
            <a:ext cx="39679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Мини-тест «Кто я?»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Фамилия, имя, отчество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_________________________________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96" name="Рисунок 5" descr=""/>
          <p:cNvPicPr/>
          <p:nvPr/>
        </p:nvPicPr>
        <p:blipFill>
          <a:blip r:embed="rId1"/>
          <a:stretch/>
        </p:blipFill>
        <p:spPr>
          <a:xfrm>
            <a:off x="6300720" y="2627280"/>
            <a:ext cx="239724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5:10:15Z</dcterms:created>
  <dc:creator>Аня</dc:creator>
  <dc:description/>
  <dc:language>en-US</dc:language>
  <cp:lastModifiedBy>Галина</cp:lastModifiedBy>
  <dcterms:modified xsi:type="dcterms:W3CDTF">2018-12-19T08:45:49Z</dcterms:modified>
  <cp:revision>84</cp:revision>
  <dc:subject/>
  <dc:title>Дикие животные   «жители леса»  часть 1</dc:title>
</cp:coreProperties>
</file>