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C64-FC01-4588-9C78-289AE0F2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C17-0F21-4CE7-851E-0C703783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000-EF40-46B5-8F5E-1E2B799C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0FC-5D17-4E61-9C0C-76696639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765-760E-4E41-BD40-FA415533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EBB-7887-4FBA-83BA-8E68992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01C-EE17-4E42-ADFF-C19916F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3F3-BB92-4D33-9E14-D752AF04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D83-5D5A-4D6A-94AB-05ADD35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CD2-97A5-4FD8-A942-AC65742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D62-DDEE-412A-946E-A060D6E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9C1-855D-42C7-A218-D49DF31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0DC-5490-488A-9E19-79C7B4B523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724800" y="3141720"/>
            <a:ext cx="1680840" cy="243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511400" y="3668040"/>
            <a:ext cx="1379520" cy="52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актический семинар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42960" y="3714840"/>
            <a:ext cx="628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Тема: “Развитие речевой деятельности дошколь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в организации педагогического процесс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4572000" y="5715000"/>
            <a:ext cx="3714840" cy="6429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ший воспита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тисова Светла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15"/>
          <p:cNvGrpSpPr/>
          <p:nvPr/>
        </p:nvGrpSpPr>
        <p:grpSpPr>
          <a:xfrm>
            <a:off x="275040" y="5013360"/>
            <a:ext cx="1895040" cy="1649880"/>
            <a:chOff x="275040" y="5013360"/>
            <a:chExt cx="1895040" cy="1649880"/>
          </a:xfrm>
        </p:grpSpPr>
        <p:sp>
          <p:nvSpPr>
            <p:cNvPr id="58" name="Rectangle 10"/>
            <p:cNvSpPr/>
            <p:nvPr/>
          </p:nvSpPr>
          <p:spPr>
            <a:xfrm rot="771600">
              <a:off x="539280" y="551628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rot="20950800">
              <a:off x="1258920" y="551628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" name="Группа 14"/>
            <p:cNvGrpSpPr/>
            <p:nvPr/>
          </p:nvGrpSpPr>
          <p:grpSpPr>
            <a:xfrm>
              <a:off x="275040" y="6025320"/>
              <a:ext cx="1895040" cy="637920"/>
              <a:chOff x="275040" y="6025320"/>
              <a:chExt cx="1895040" cy="637920"/>
            </a:xfrm>
          </p:grpSpPr>
          <p:sp>
            <p:nvSpPr>
              <p:cNvPr id="61" name="Rectangle 8"/>
              <p:cNvSpPr/>
              <p:nvPr/>
            </p:nvSpPr>
            <p:spPr>
              <a:xfrm rot="20806800">
                <a:off x="324000" y="6092280"/>
                <a:ext cx="647640" cy="503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000099"/>
                  </a:gs>
                  <a:gs pos="100000">
                    <a:srgbClr val="ff9900"/>
                  </a:gs>
                </a:gsLst>
                <a:lin ang="619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33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9"/>
              <p:cNvSpPr/>
              <p:nvPr/>
            </p:nvSpPr>
            <p:spPr>
              <a:xfrm>
                <a:off x="900000" y="6092640"/>
                <a:ext cx="647640" cy="503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e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 rot="737400">
                <a:off x="1476000" y="6092640"/>
                <a:ext cx="647640" cy="503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66"/>
                    </a:solidFill>
                    <a:latin typeface="Arial"/>
                  </a:rPr>
                  <a:t>Д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Rectangle 15"/>
            <p:cNvSpPr/>
            <p:nvPr/>
          </p:nvSpPr>
          <p:spPr>
            <a:xfrm>
              <a:off x="1042920" y="501336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 семинара: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400" y="2143080"/>
            <a:ext cx="811188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здание информационного пространства для обмена педагогическим опытом и повы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рофессиональной компетент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мастерства педагогов ДО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 развитию речи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214200" y="214200"/>
            <a:ext cx="8783640" cy="6553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7000920" y="4500720"/>
            <a:ext cx="1285920" cy="185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2[1]"/>
          <p:cNvPicPr/>
          <p:nvPr/>
        </p:nvPicPr>
        <p:blipFill>
          <a:blip r:embed="rId2"/>
          <a:stretch/>
        </p:blipFill>
        <p:spPr>
          <a:xfrm rot="16605000">
            <a:off x="7569720" y="4876200"/>
            <a:ext cx="11448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99"/>
              </a:gs>
              <a:gs pos="100000">
                <a:srgbClr val="66ccff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85880" y="2214720"/>
            <a:ext cx="771516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развитие речев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побуждать педагогов ДОУ к мыслительной и практической деятельности по овладению технологий проектирования и моделирования педагогического процесса по реализации комплексных задач речевого развития дошкольник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углубить представления о содержании речевого развития на основе современной парадигмы развивающего личностного ориентирован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2286000" y="1428840"/>
            <a:ext cx="366408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: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9"/>
          <p:cNvSpPr txBox="1"/>
          <p:nvPr/>
        </p:nvSpPr>
        <p:spPr>
          <a:xfrm>
            <a:off x="1571760" y="1428840"/>
            <a:ext cx="571500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b6c5ff"/>
                    </a:gs>
                    <a:gs pos="100000">
                      <a:srgbClr val="b6c5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10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b6c5ff"/>
                    </a:gs>
                    <a:gs pos="100000">
                      <a:srgbClr val="b6c5ff"/>
                    </a:gs>
                  </a:gsLst>
                  <a:lin ang="5400000"/>
                </a:gradFill>
                <a:latin typeface="Arial"/>
              </a:rPr>
              <a:t>__ _____ ____________ </a:t>
            </a:r>
            <a:endParaRPr b="1" lang="en-US" sz="1800" spc="1" strike="noStrike">
              <a:ln w="1044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b6c5ff"/>
                  </a:gs>
                  <a:gs pos="100000">
                    <a:srgbClr val="b6c5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5" name="Picture 6" descr="Книга"/>
          <p:cNvPicPr/>
          <p:nvPr/>
        </p:nvPicPr>
        <p:blipFill>
          <a:blip r:embed="rId2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642960" y="2428920"/>
            <a:ext cx="77151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e6"/>
                </a:solidFill>
                <a:uFillTx/>
                <a:latin typeface="Arial"/>
              </a:rPr>
              <a:t>Мнемотехника – это «техника запомина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0000e6"/>
                </a:solidFill>
                <a:uFillTx/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 – искусство запоминания, совокупность приемов и способов, облегчающих запоминание и увеличивающих объем памяти путем образования искусственных ассоци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0000e6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 -  это схема, в ко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заложена определен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7_0064"/>
          <p:cNvPicPr/>
          <p:nvPr/>
        </p:nvPicPr>
        <p:blipFill>
          <a:blip r:embed="rId3"/>
          <a:srcRect l="0" t="0" r="-332" b="0"/>
          <a:stretch/>
        </p:blipFill>
        <p:spPr>
          <a:xfrm>
            <a:off x="7000920" y="4357800"/>
            <a:ext cx="1285920" cy="185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92[1]"/>
          <p:cNvPicPr/>
          <p:nvPr/>
        </p:nvPicPr>
        <p:blipFill>
          <a:blip r:embed="rId4"/>
          <a:stretch/>
        </p:blipFill>
        <p:spPr>
          <a:xfrm rot="16605000">
            <a:off x="7569720" y="4876200"/>
            <a:ext cx="1144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14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92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356760" y="35712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2" descr="http://detsad-kalinka.ru/wp-content/uploads/2016/01/mnemotablicy-3.jpg"/>
          <p:cNvPicPr/>
          <p:nvPr/>
        </p:nvPicPr>
        <p:blipFill>
          <a:blip r:embed="rId3"/>
          <a:stretch/>
        </p:blipFill>
        <p:spPr>
          <a:xfrm>
            <a:off x="142920" y="14292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images.myshared.ru/9/898529/slide_9.jpg"/>
          <p:cNvPicPr/>
          <p:nvPr/>
        </p:nvPicPr>
        <p:blipFill>
          <a:blip r:embed="rId1"/>
          <a:stretch/>
        </p:blipFill>
        <p:spPr>
          <a:xfrm>
            <a:off x="21420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ds04.infourok.ru/uploads/ex/03e4/0009181b-3cbf64a2/img15.jpg"/>
          <p:cNvPicPr/>
          <p:nvPr/>
        </p:nvPicPr>
        <p:blipFill>
          <a:blip r:embed="rId1"/>
          <a:srcRect l="14835" t="3297" r="15110" b="3297"/>
          <a:stretch/>
        </p:blipFill>
        <p:spPr>
          <a:xfrm>
            <a:off x="1500120" y="285840"/>
            <a:ext cx="6072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3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106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356760" y="42840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Содержимое 2"/>
          <p:cNvSpPr/>
          <p:nvPr/>
        </p:nvSpPr>
        <p:spPr>
          <a:xfrm>
            <a:off x="357120" y="1500120"/>
            <a:ext cx="82155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деева С.И. отмечает, что “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ой образовательной ситуации, любого занятия в дошкольном образовательном учреждении педаг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во-первых, продумывать организацию разных способ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зросло-детской и детской совмес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во-вторых, видеть ресурсы разных этапов занятия для развития коммуникативной компетентности детей 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4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119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3"/>
            <p:cNvSpPr/>
            <p:nvPr/>
          </p:nvSpPr>
          <p:spPr>
            <a:xfrm>
              <a:off x="356760" y="42840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4" descr="7_0064"/>
          <p:cNvPicPr/>
          <p:nvPr/>
        </p:nvPicPr>
        <p:blipFill>
          <a:blip r:embed="rId3"/>
          <a:srcRect l="0" t="0" r="-332" b="0"/>
          <a:stretch/>
        </p:blipFill>
        <p:spPr>
          <a:xfrm>
            <a:off x="6215040" y="3143160"/>
            <a:ext cx="1604880" cy="232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92[1]"/>
          <p:cNvPicPr/>
          <p:nvPr/>
        </p:nvPicPr>
        <p:blipFill>
          <a:blip r:embed="rId4"/>
          <a:stretch/>
        </p:blipFill>
        <p:spPr>
          <a:xfrm rot="16605000">
            <a:off x="6939720" y="3739320"/>
            <a:ext cx="1379520" cy="5270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пасибо за внимание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Пользователь Windows</cp:lastModifiedBy>
  <dcterms:modified xsi:type="dcterms:W3CDTF">2018-12-06T05:44:22Z</dcterms:modified>
  <cp:revision>16</cp:revision>
  <dc:subject/>
  <dc:title>Слайд 1</dc:title>
</cp:coreProperties>
</file>