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F47-0A80-4E93-8FA7-275D66E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F2F-A615-44ED-9822-C9C4A57D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A23-F144-4A92-AF18-29185AE4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11B-A982-4EF3-8466-A1269171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7B2-A7CD-402F-9D13-1D2A3BF5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FDC-7E14-4550-801B-718E05AE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247-22CF-4E84-B7CE-EF82A5D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DB4-71F8-4783-B8AE-FE0D09D4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B07-87C5-4DAD-8F49-EB0C5AED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B3E-CBE4-429F-87D6-F519608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58F-1F08-4994-8346-15CF38A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D68-7CD7-4ADC-B336-CE12828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949F-2D6D-4586-9B25-04C6C87E1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2286000" y="1000080"/>
            <a:ext cx="4572000" cy="3841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по ПДД «Правила дорожного движения – нужно знать всем, без исключения!»</a:t>
            </a:r>
            <a:br>
              <a:rPr sz="5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2714760" y="5000760"/>
            <a:ext cx="4608360" cy="7920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готовила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илк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8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286000" y="797040"/>
            <a:ext cx="5643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3 этап: «Заключитель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 Анализ полученных результатов и обобщение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 Проведение развлечения «Красный, желтый, зеленый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Презентация для детей других групп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7"/>
          <p:cNvSpPr/>
          <p:nvPr/>
        </p:nvSpPr>
        <p:spPr>
          <a:xfrm>
            <a:off x="1785960" y="71424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8" descr="1544369215699_58.jpg"/>
          <p:cNvPicPr/>
          <p:nvPr/>
        </p:nvPicPr>
        <p:blipFill>
          <a:blip r:embed="rId2"/>
          <a:stretch/>
        </p:blipFill>
        <p:spPr>
          <a:xfrm>
            <a:off x="1000080" y="1214280"/>
            <a:ext cx="4724280" cy="2608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1544546234723_62.jpg"/>
          <p:cNvPicPr/>
          <p:nvPr/>
        </p:nvPicPr>
        <p:blipFill>
          <a:blip r:embed="rId3"/>
          <a:stretch/>
        </p:blipFill>
        <p:spPr>
          <a:xfrm>
            <a:off x="2571840" y="3071880"/>
            <a:ext cx="5548320" cy="3120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9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2000160" y="71424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идактически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1544369249773_57.jpg"/>
          <p:cNvPicPr/>
          <p:nvPr/>
        </p:nvPicPr>
        <p:blipFill>
          <a:blip r:embed="rId2"/>
          <a:stretch/>
        </p:blipFill>
        <p:spPr>
          <a:xfrm>
            <a:off x="1071720" y="1500120"/>
            <a:ext cx="4444920" cy="2500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1544369018850_55.jpg"/>
          <p:cNvPicPr/>
          <p:nvPr/>
        </p:nvPicPr>
        <p:blipFill>
          <a:blip r:embed="rId3"/>
          <a:stretch/>
        </p:blipFill>
        <p:spPr>
          <a:xfrm>
            <a:off x="4143240" y="3500280"/>
            <a:ext cx="4071960" cy="2768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4"/>
          <p:cNvSpPr/>
          <p:nvPr/>
        </p:nvSpPr>
        <p:spPr>
          <a:xfrm>
            <a:off x="1143000" y="7142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бразо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7" descr="1544368994857_49.jpg"/>
          <p:cNvPicPr/>
          <p:nvPr/>
        </p:nvPicPr>
        <p:blipFill>
          <a:blip r:embed="rId2"/>
          <a:stretch/>
        </p:blipFill>
        <p:spPr>
          <a:xfrm>
            <a:off x="857160" y="121428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1544369028650_56.jpg"/>
          <p:cNvPicPr/>
          <p:nvPr/>
        </p:nvPicPr>
        <p:blipFill>
          <a:blip r:embed="rId3"/>
          <a:stretch/>
        </p:blipFill>
        <p:spPr>
          <a:xfrm>
            <a:off x="4214880" y="3643200"/>
            <a:ext cx="407196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143000" y="71424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Центр ПД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9" descr="1544369202387_60.jpg"/>
          <p:cNvPicPr/>
          <p:nvPr/>
        </p:nvPicPr>
        <p:blipFill>
          <a:blip r:embed="rId2"/>
          <a:stretch/>
        </p:blipFill>
        <p:spPr>
          <a:xfrm>
            <a:off x="1714680" y="1500120"/>
            <a:ext cx="6143400" cy="4259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835280" y="98100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357200" y="901440"/>
            <a:ext cx="68151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Итоги рабо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Дети ориентированы в том, что машины движутся по проезжей части улицы, а пешеходы по троту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 Знают о назначении светоф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Хорошо ориентируются в пространстве справа, слева, вперёд, назад, вверх, вни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Имеют представление о видах транспорта, об особенностях их пере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Знают, какие правила безопасного поведения необходимо соблюдать на дор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Дети знают, в каком городе живут и какой у них адрес, безопасный путь от детского сада до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Ориентированы в том, что на дорогах расположено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ного дорожных зна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- Знают, называют и объясняют назначение этих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знаков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1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1835280" y="981000"/>
            <a:ext cx="575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Желаем всем безопасных доро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Будьте воспит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5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>
            <a:off x="1403280" y="1413000"/>
            <a:ext cx="6551640" cy="2376360"/>
          </a:xfrm>
          <a:prstGeom prst="bevel">
            <a:avLst>
              <a:gd name="adj" fmla="val 12500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6"/>
          <p:cNvSpPr/>
          <p:nvPr/>
        </p:nvSpPr>
        <p:spPr>
          <a:xfrm>
            <a:off x="2286000" y="18572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268360" y="2103480"/>
            <a:ext cx="5688360" cy="48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Проект посвящен актуальной проблеме - воспитанию у детей дошкольного возраста навыков безопасного поведения на улицах города. Актуальность проекта связана еще и с тем, что у детей этого возраста отсутствует защитная психологическая реакция на дорожную обстановку, которая свойственна взрослым. Желание постоянно открывать что-то новое, непосредственность часто ставят их перед реальными опасностями, в частности на улицах. Формирование у детей навыков осознанного безопасного поведения на улицах города реализуется через активную деятельность всех участников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1692360" y="620640"/>
            <a:ext cx="5400720" cy="1143000"/>
          </a:xfrm>
          <a:prstGeom prst="horizontalScroll">
            <a:avLst>
              <a:gd name="adj" fmla="val 12500"/>
            </a:avLst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2286000" y="119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6" descr=""/>
          <p:cNvPicPr/>
          <p:nvPr/>
        </p:nvPicPr>
        <p:blipFill>
          <a:blip r:embed="rId2"/>
          <a:stretch/>
        </p:blipFill>
        <p:spPr>
          <a:xfrm>
            <a:off x="1908000" y="835200"/>
            <a:ext cx="5626440" cy="701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1187280" y="1628640"/>
            <a:ext cx="684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Цель. Создать условия для изучения детьми правил дорожного движения через оформление предметно-развивающей среды, чтение художественной литературы, организацию игров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1285920" y="928800"/>
            <a:ext cx="671508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Тип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Вид проекта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: информационно -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ознава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Сроки реализации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              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раткосроч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622440"/>
            <a:ext cx="6278400" cy="9745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1"/>
          <p:cNvSpPr/>
          <p:nvPr/>
        </p:nvSpPr>
        <p:spPr>
          <a:xfrm>
            <a:off x="2124000" y="4653000"/>
            <a:ext cx="230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Ро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12"/>
          <p:cNvSpPr/>
          <p:nvPr/>
        </p:nvSpPr>
        <p:spPr>
          <a:xfrm>
            <a:off x="5364000" y="4724280"/>
            <a:ext cx="2737080" cy="843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Воспит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3"/>
          <p:cNvSpPr/>
          <p:nvPr/>
        </p:nvSpPr>
        <p:spPr>
          <a:xfrm>
            <a:off x="3348000" y="2133720"/>
            <a:ext cx="29304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Де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Двойная стрелка вверх/вниз 14"/>
          <p:cNvSpPr/>
          <p:nvPr/>
        </p:nvSpPr>
        <p:spPr>
          <a:xfrm rot="2336400">
            <a:off x="3924360" y="3284640"/>
            <a:ext cx="484200" cy="1216080"/>
          </a:xfrm>
          <a:prstGeom prst="up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Двойная стрелка вверх/вниз 16"/>
          <p:cNvSpPr/>
          <p:nvPr/>
        </p:nvSpPr>
        <p:spPr>
          <a:xfrm rot="19027800">
            <a:off x="5651280" y="3284280"/>
            <a:ext cx="485640" cy="1216080"/>
          </a:xfrm>
          <a:prstGeom prst="upDown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979640" y="1700280"/>
            <a:ext cx="595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1071720" y="714240"/>
            <a:ext cx="6858000" cy="44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Образов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-закрепить у детей знание некоторых дорожных знаков. научить понимать их схематическое изображение для правильной ориентации на улицах и дорогах. Обучать безопасному поведению в дорожной сре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Развивающи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- расширять словарный запас детей по дорожной лексике, развивать воображение и умение переносить знакомые образы в новую творческую ситуац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Воспитательные 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   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- воспитывать дисциплинированность и сознательное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выполнение правил дорожного движения, культуру поведения в дорожно- транспортном процессе, активизировать работу по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0" lang="ru-RU" sz="1600" spc="-1" strike="noStrike">
                <a:solidFill>
                  <a:srgbClr val="7030a0"/>
                </a:solidFill>
                <a:latin typeface="Arial"/>
              </a:rPr>
              <a:t>пропаганде правил дорожного движения и безопасного образа жизни среди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9"/>
          <p:cNvSpPr/>
          <p:nvPr/>
        </p:nvSpPr>
        <p:spPr>
          <a:xfrm>
            <a:off x="1428840" y="78588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Работа с родител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2143080" y="1714680"/>
            <a:ext cx="5786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апки – передви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"Безопасность на дорог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Консультация  о правилах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Я - пассажи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амятка родител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Как обучить ребёнка правилам поведения на улице»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Ребёнок переходит улиц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одительское собр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«Дети и дорог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1428840" y="785880"/>
            <a:ext cx="61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2143080" y="1714680"/>
            <a:ext cx="5786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1428840" y="474840"/>
            <a:ext cx="657216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1 этап: «Подготовительный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 Подбор детской и методической литературы, наглядного материала (иллюстрации, фотографии, зарисовки); дидактических игр,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 Подготовка материала для продуктив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Подбор информации через интернет (правила поведения детей на дорога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. Пополнение предметно-развив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5. Встреча с родителями «Знакомство с проекто</a:t>
            </a:r>
            <a:r>
              <a:rPr b="0" lang="ru-RU" sz="1800" spc="-1" strike="noStrike">
                <a:solidFill>
                  <a:srgbClr val="7030a0"/>
                </a:solidFill>
                <a:latin typeface="Arial"/>
              </a:rPr>
              <a:t>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3" name="Picture 2" descr="C:\Users\Samsung\Desktop\фон пдд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Прямоугольник 10"/>
          <p:cNvSpPr/>
          <p:nvPr/>
        </p:nvSpPr>
        <p:spPr>
          <a:xfrm>
            <a:off x="4013280" y="3244680"/>
            <a:ext cx="1206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9"/>
          <p:cNvSpPr/>
          <p:nvPr/>
        </p:nvSpPr>
        <p:spPr>
          <a:xfrm>
            <a:off x="1143000" y="571680"/>
            <a:ext cx="678672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 этап: «Основной»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. Бес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2. Художественное твор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3. Составление творческих расск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4. Чтение художественной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5. Загадывание загадок, рассматривание иллюстр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6. Конкур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8. Организация сюжетно-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9. Дидактиче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10. Подвиж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9:10:41Z</dcterms:created>
  <dc:creator>132</dc:creator>
  <dc:description/>
  <dc:language>en-US</dc:language>
  <cp:lastModifiedBy>дом</cp:lastModifiedBy>
  <dcterms:modified xsi:type="dcterms:W3CDTF">2018-12-18T09:30:03Z</dcterms:modified>
  <cp:revision>49</cp:revision>
  <dc:subject/>
  <dc:title>Министерство образования и науки Российской Федерации Федеральное агентство по образованию Межрегиональный институт повышения квалификации специалистов начального профессионального образования  ПРЕЗЕНТАЦИЯ  занятия в подготовительной группе по ПДД «Правила пешеходов и пассажиров» (для слушателей курсов Межрегионального института повышения квалификации педагогов г. Казани)                                                                Подготовили и провели:                                                               Бурнаева Е.И.,                                                                              воспитатель МДОУ № 19 г. Лениногорск,                                                                 Яганова Р.М.,                                                 воспитатель МДОУ № 17 г. Лениногорск.  Казань, 2010г.</dc:title>
</cp:coreProperties>
</file>