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689-7337-43A2-A277-709FDDBA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11E-F14F-4885-A653-9CAB766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37B-E989-4ABE-B717-AFBDC396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770-92C2-445F-B1E4-CEBDB0B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3ED-808E-4086-8D80-ADC2B109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6C0-2DAD-49A5-BDB8-660D8C9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335-B5ED-4703-BB01-848D8F4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53F-2B7C-4B85-BB0C-3157379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2F2-EB88-48AF-B76B-C51FD157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921-14C7-4E27-ACB1-09894B5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96C-D3EB-492E-AEAB-3A2234BA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209-DCC6-4EF8-98FC-B7343C1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7EE-384C-4196-81A3-F609A58E1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286000" y="1000080"/>
            <a:ext cx="4572000" cy="3841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по ПДД «Правила дорожного движения – нужно знать всем, без исключения!»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2714760" y="5000760"/>
            <a:ext cx="4608360" cy="7920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илк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86000" y="797040"/>
            <a:ext cx="5643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3 этап: «Заключитель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Анализ полученных результатов и обобщение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Проведение развлечения «Красный, желтый, зелены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Презентация для детей других групп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1785960" y="71424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8" descr="1544369215699_58.jpg"/>
          <p:cNvPicPr/>
          <p:nvPr/>
        </p:nvPicPr>
        <p:blipFill>
          <a:blip r:embed="rId2"/>
          <a:stretch/>
        </p:blipFill>
        <p:spPr>
          <a:xfrm>
            <a:off x="1000080" y="1214280"/>
            <a:ext cx="4724280" cy="2608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1544546234723_62.jpg"/>
          <p:cNvPicPr/>
          <p:nvPr/>
        </p:nvPicPr>
        <p:blipFill>
          <a:blip r:embed="rId3"/>
          <a:stretch/>
        </p:blipFill>
        <p:spPr>
          <a:xfrm>
            <a:off x="2571840" y="3071880"/>
            <a:ext cx="554832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000160" y="7142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1544369249773_57.jpg"/>
          <p:cNvPicPr/>
          <p:nvPr/>
        </p:nvPicPr>
        <p:blipFill>
          <a:blip r:embed="rId2"/>
          <a:stretch/>
        </p:blipFill>
        <p:spPr>
          <a:xfrm>
            <a:off x="1071720" y="1500120"/>
            <a:ext cx="444492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1544369018850_55.jpg"/>
          <p:cNvPicPr/>
          <p:nvPr/>
        </p:nvPicPr>
        <p:blipFill>
          <a:blip r:embed="rId3"/>
          <a:stretch/>
        </p:blipFill>
        <p:spPr>
          <a:xfrm>
            <a:off x="4143240" y="3500280"/>
            <a:ext cx="4071960" cy="2768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143000" y="714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бразо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7" descr="1544368994857_49.jpg"/>
          <p:cNvPicPr/>
          <p:nvPr/>
        </p:nvPicPr>
        <p:blipFill>
          <a:blip r:embed="rId2"/>
          <a:stretch/>
        </p:blipFill>
        <p:spPr>
          <a:xfrm>
            <a:off x="857160" y="1214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1544369028650_56.jpg"/>
          <p:cNvPicPr/>
          <p:nvPr/>
        </p:nvPicPr>
        <p:blipFill>
          <a:blip r:embed="rId3"/>
          <a:stretch/>
        </p:blipFill>
        <p:spPr>
          <a:xfrm>
            <a:off x="4214880" y="364320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143000" y="714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Центр ПД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1544369202387_60.jpg"/>
          <p:cNvPicPr/>
          <p:nvPr/>
        </p:nvPicPr>
        <p:blipFill>
          <a:blip r:embed="rId2"/>
          <a:stretch/>
        </p:blipFill>
        <p:spPr>
          <a:xfrm>
            <a:off x="1714680" y="1500120"/>
            <a:ext cx="6143400" cy="425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835280" y="98100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357200" y="901440"/>
            <a:ext cx="6815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тоги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Дети ориентированы в том, что машины движутся по проезжей части улицы, а пешеходы по троту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 Знают о назначении светоф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Хорошо ориентируются в пространстве справа, слева, вперёд, назад, вверх,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Имеют представление о видах транспорта, об особенностях их пере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Знают, какие правила безопасного поведения необходимо соблюдать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Дети знают, в каком городе живут и какой у них адрес, безопасный путь от детского сада до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Ориентированы в том, что на дорогах расположен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ного дорожных зна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Знают, называют и объясняют назначение эти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наков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835280" y="981000"/>
            <a:ext cx="575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Желаем всем безопасных дор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Будьте воспит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1403280" y="1413000"/>
            <a:ext cx="6551640" cy="2376360"/>
          </a:xfrm>
          <a:prstGeom prst="bevel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286000" y="1857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68360" y="2103480"/>
            <a:ext cx="568836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оект посвящен актуальной проблеме - воспитанию у детей дошкольного возраста навыков безопасного поведения на улицах города. Актуальность проекта связана еще и с тем, что у детей этого возраста отсутствует защитная психологическая реакция на дорожную обстановку, которая свойственна взрослым. Желание постоянно открывать что-то новое, непосредственность часто ставят их перед реальными опасностями, в частности на улицах. Формирование у детей навыков осознанного безопасного поведения на улицах города реализуется через активную деятельность всех участников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692360" y="620640"/>
            <a:ext cx="5400720" cy="11430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286000" y="119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6" descr=""/>
          <p:cNvPicPr/>
          <p:nvPr/>
        </p:nvPicPr>
        <p:blipFill>
          <a:blip r:embed="rId2"/>
          <a:stretch/>
        </p:blipFill>
        <p:spPr>
          <a:xfrm>
            <a:off x="1908000" y="835200"/>
            <a:ext cx="5626440" cy="701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1187280" y="1628640"/>
            <a:ext cx="684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Цель. Создать условия для изучения детьми правил дорожного движения через оформление предметно-развивающей среды, чтение художественной литературы, организацию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1285920" y="928800"/>
            <a:ext cx="67150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Тип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ид проекта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: информационно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ознава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роки реализации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раткоср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622440"/>
            <a:ext cx="6278400" cy="974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1"/>
          <p:cNvSpPr/>
          <p:nvPr/>
        </p:nvSpPr>
        <p:spPr>
          <a:xfrm>
            <a:off x="2124000" y="4653000"/>
            <a:ext cx="230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2"/>
          <p:cNvSpPr/>
          <p:nvPr/>
        </p:nvSpPr>
        <p:spPr>
          <a:xfrm>
            <a:off x="5364000" y="4724280"/>
            <a:ext cx="2737080" cy="843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3"/>
          <p:cNvSpPr/>
          <p:nvPr/>
        </p:nvSpPr>
        <p:spPr>
          <a:xfrm>
            <a:off x="3348000" y="2133720"/>
            <a:ext cx="2930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войная стрелка вверх/вниз 14"/>
          <p:cNvSpPr/>
          <p:nvPr/>
        </p:nvSpPr>
        <p:spPr>
          <a:xfrm rot="2336400">
            <a:off x="3924360" y="3284640"/>
            <a:ext cx="484200" cy="121608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ая стрелка вверх/вниз 16"/>
          <p:cNvSpPr/>
          <p:nvPr/>
        </p:nvSpPr>
        <p:spPr>
          <a:xfrm rot="19027800">
            <a:off x="5651280" y="3284280"/>
            <a:ext cx="485640" cy="12160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979640" y="1700280"/>
            <a:ext cx="595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1071720" y="714240"/>
            <a:ext cx="685800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закрепить у детей знание некоторых дорожных знаков. научить понимать их схематическое изображение для правильной ориентации на улицах и дорогах. Обучать безопасному поведению в дорожно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Развива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 расширять словарный запас детей по дорожной лексике, развивать воображение и умение переносить знакомые образы в новую творческую ситу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Воспит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 воспитывать дисциплинированность и сознательное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ыполнение правил дорожного движения, культуру поведения в дорожно- транспортном процессе, активизировать работу по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опаганде правил дорожного движения и безопасного образа жизни сред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1428840" y="78588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абота с родите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143080" y="1714680"/>
            <a:ext cx="5786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апки – передви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"Безопасность на дорог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Консультация  о правилах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Я - пассаж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амятка родите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Как обучить ребёнка правилам поведения на улице»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Ребёнок переходит улиц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Дети и доро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1428840" y="785880"/>
            <a:ext cx="61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2143080" y="1714680"/>
            <a:ext cx="5786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428840" y="474840"/>
            <a:ext cx="657216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 этап: «Подготовительный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Подбор детской и методической литературы, наглядного материала (иллюстрации, фотографии, зарисовки); дидактических игр,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Подготовка материала для продук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Подбор информации через интернет (правила поведения детей на дорог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Пополнение предметно-развив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. Встреча с родителями «Знакомство с проекто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1143000" y="571680"/>
            <a:ext cx="678672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 этап: «Основной»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 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Составление творческих расс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. Загадывание загадок, рассматривание иллюстр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6. Конку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8. Организация сюжетно-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9. 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0. Подвиж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10:41Z</dcterms:created>
  <dc:creator>132</dc:creator>
  <dc:description/>
  <dc:language>en-US</dc:language>
  <cp:lastModifiedBy>дом</cp:lastModifiedBy>
  <dcterms:modified xsi:type="dcterms:W3CDTF">2018-12-18T09:30:03Z</dcterms:modified>
  <cp:revision>49</cp:revision>
  <dc:subject/>
  <dc:title>Министерство образования и науки Российской Федерации Федеральное агентство по образованию Межрегиональный институт повышения квалификации специалистов начального профессионального образования  ПРЕЗЕНТАЦИЯ  занятия в подготовительной группе по ПДД «Правила пешеходов и пассажиров» (для слушателей курсов Межрегионального института повышения квалификации педагогов г. Казани)                                                                Подготовили и провели:                                                               Бурнаева Е.И.,                                                                              воспитатель МДОУ № 19 г. Лениногорск,                                                                 Яганова Р.М.,                                                 воспитатель МДОУ № 17 г. Лениногорск.  Казань, 2010г.</dc:title>
</cp:coreProperties>
</file>