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6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31B-9D9F-484A-B87B-979A2108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62A-3309-4BBA-B274-2C0F8117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D7C-B9F4-4F61-8539-604FB9ED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4A49-3777-4644-9AD3-531F3DDC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8899-D5A5-430E-930A-8DA2F2C6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A1DB-0B37-43B9-9CAC-8D1324D5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36A4-DBFF-40E0-92C9-8450399F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DC3A-570A-40CE-BF69-F91FD7FA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930F-48EC-4EDA-B977-A72DD987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CFF2-4D83-4AF1-88CC-642CB17E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85C4-AAF1-4355-9013-8A534618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F0E6-3C5A-47F4-B208-F1E9AFF9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0E7E-7B68-4444-8747-B4A39F69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5F10-4902-4C87-B30E-BA42408F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936E-0A83-45D8-9800-86D7BE31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5A96-5048-41E8-BBE3-BA21D0AB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5A73-CC19-42D2-B333-4888C901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E20E7-8D56-44ED-81F5-069EBFC3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56A67-5E0F-416E-8BFC-4D56AF58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FB3D-5064-4992-A8CF-123475D8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52327-C119-45CD-8CAA-E388E439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04488-6D61-4F92-9A0C-F6E12316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037B-C850-43A1-BA2E-0832A510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610B0-20DA-4DE5-9BC4-39D132E6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1B0A0-B48C-435F-A2CE-CD26A563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6D966-F002-45B4-84A8-CD8A0C15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F7F43-F9B7-4E9F-B760-2C5206E1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57634-1B11-4259-A3D7-F61EA3CF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08734-8855-49FA-A5E1-F4260BA0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29932-57F6-4079-9066-591BD7B5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F0E56-4218-457F-9792-9F7BE865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C7CEE-B450-453F-8910-15542086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48E26-895B-4332-A777-A26F493B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6135-9B32-4D14-BBFC-9DEF8644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D3475-5B03-46A2-A65C-293D2B3D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AA05F-32E4-4E90-A3FD-C48FE75A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15486-BC7F-49FF-9BE1-92776678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31FB5-85E0-4026-AB6D-21602E8B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4DB0B-7C5B-4845-BC0F-FAE97C30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BB110-87A5-48B3-ACCC-9090174B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0DF37-3A5E-4A72-81C7-8F13092F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D19E5-CE04-4DF0-8C21-326C131D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E6A0F-7226-431F-BE60-A2C6BFC5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C72-A70D-4C3A-B4D3-644CA2AF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D671-8AE9-4E1E-9AAD-2E72C5DA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1DFF-4EC7-4C45-89AC-24C24737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74FB-918F-42D4-9A12-B3E0A5A7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B5BC-E40F-4286-8519-1793B7D2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4620-860C-4DD3-AB04-671533C48F8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C:\Documents and Settings\Admin\Рабочий стол\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Admin\Рабочий стол\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\Рабочий стол\2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9A2D-2472-4827-962A-7010EFF08B4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Admin\Рабочий стол\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Admin\Рабочий стол\3.jpg"/>
          <p:cNvPicPr/>
          <p:nvPr/>
        </p:nvPicPr>
        <p:blipFill>
          <a:blip r:embed="rId4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27D1-2EFA-4B70-9E20-9EBB4271F0F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Documents and Settings\Admin\Рабочий стол\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F3D9-66A9-4BEE-AD9F-664283FA61A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019160" y="2467080"/>
            <a:ext cx="6940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естиногие и восьминог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клас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К Перспекти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2" descr="http://cdn01.ru/files/users/images/9d/61/9d6124f60ef110d17a4198b2b0e18713.jpg"/>
          <p:cNvPicPr/>
          <p:nvPr/>
        </p:nvPicPr>
        <p:blipFill>
          <a:blip r:embed="rId1"/>
          <a:stretch/>
        </p:blipFill>
        <p:spPr>
          <a:xfrm>
            <a:off x="539640" y="260280"/>
            <a:ext cx="7993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Итак, шестиногими мы называем насекомых, а восьминогими –пауков. Постепенное исчезновение насекомых - одно из осенних явлений в  живой природ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http://zoofirma.ru/images/stories/2012/08/2/1.jpg"/>
          <p:cNvPicPr/>
          <p:nvPr/>
        </p:nvPicPr>
        <p:blipFill>
          <a:blip r:embed="rId2"/>
          <a:stretch/>
        </p:blipFill>
        <p:spPr>
          <a:xfrm>
            <a:off x="611280" y="1484280"/>
            <a:ext cx="799308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6" descr="http://webmechta.com/f/poznay-mir/kuznechik.jpg"/>
          <p:cNvPicPr/>
          <p:nvPr/>
        </p:nvPicPr>
        <p:blipFill>
          <a:blip r:embed="rId2"/>
          <a:stretch/>
        </p:blipFill>
        <p:spPr>
          <a:xfrm>
            <a:off x="468360" y="1773360"/>
            <a:ext cx="1942920" cy="1871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http://ekogradmoscow.ru/images/dorji2/shmel-nasekomoe-obraz-zhizni-i-sreda-obitaniya-shmelya-1.jpg"/>
          <p:cNvPicPr/>
          <p:nvPr/>
        </p:nvPicPr>
        <p:blipFill>
          <a:blip r:embed="rId3"/>
          <a:stretch/>
        </p:blipFill>
        <p:spPr>
          <a:xfrm>
            <a:off x="755640" y="4149720"/>
            <a:ext cx="2664000" cy="1467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http://mybutterfly.ru/media/1/r_16.jpg"/>
          <p:cNvPicPr/>
          <p:nvPr/>
        </p:nvPicPr>
        <p:blipFill>
          <a:blip r:embed="rId4"/>
          <a:stretch/>
        </p:blipFill>
        <p:spPr>
          <a:xfrm>
            <a:off x="6012000" y="1916280"/>
            <a:ext cx="2493720" cy="1657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http://3.bp.blogspot.com/-cZCLj9YSCGc/UkVcc8aREzI/AAAAAAAAALg/w0jPcUvewgY/s1600/16518.jpg"/>
          <p:cNvPicPr/>
          <p:nvPr/>
        </p:nvPicPr>
        <p:blipFill>
          <a:blip r:embed="rId5"/>
          <a:stretch/>
        </p:blipFill>
        <p:spPr>
          <a:xfrm>
            <a:off x="4211640" y="4005360"/>
            <a:ext cx="2232000" cy="1439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://www.colors.life/upload/blogs/44/c7/44c783124523a33e79ce7cc7b5bb94c9_RSZ_690.jpg"/>
          <p:cNvPicPr/>
          <p:nvPr/>
        </p:nvPicPr>
        <p:blipFill>
          <a:blip r:embed="rId6"/>
          <a:stretch/>
        </p:blipFill>
        <p:spPr>
          <a:xfrm>
            <a:off x="3059280" y="1844640"/>
            <a:ext cx="230472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Шестиногие и восьминогие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2" descr="http://www.colors.life/upload/blogs/44/c7/44c783124523a33e79ce7cc7b5bb94c9_RSZ_690.jpg"/>
          <p:cNvPicPr/>
          <p:nvPr/>
        </p:nvPicPr>
        <p:blipFill>
          <a:blip r:embed="rId2"/>
          <a:stretch/>
        </p:blipFill>
        <p:spPr>
          <a:xfrm>
            <a:off x="4716360" y="2349360"/>
            <a:ext cx="3527640" cy="3743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http://3.bp.blogspot.com/-cZCLj9YSCGc/UkVcc8aREzI/AAAAAAAAALg/w0jPcUvewgY/s1600/16518.jpg"/>
          <p:cNvPicPr/>
          <p:nvPr/>
        </p:nvPicPr>
        <p:blipFill>
          <a:blip r:embed="rId3"/>
          <a:stretch/>
        </p:blipFill>
        <p:spPr>
          <a:xfrm>
            <a:off x="539640" y="2276640"/>
            <a:ext cx="3527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6" descr="http://webmechta.com/f/poznay-mir/kuznechik.jpg"/>
          <p:cNvPicPr/>
          <p:nvPr/>
        </p:nvPicPr>
        <p:blipFill>
          <a:blip r:embed="rId2"/>
          <a:stretch/>
        </p:blipFill>
        <p:spPr>
          <a:xfrm>
            <a:off x="539640" y="1268280"/>
            <a:ext cx="2376720" cy="1873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http://ekogradmoscow.ru/images/dorji2/shmel-nasekomoe-obraz-zhizni-i-sreda-obitaniya-shmelya-1.jpg"/>
          <p:cNvPicPr/>
          <p:nvPr/>
        </p:nvPicPr>
        <p:blipFill>
          <a:blip r:embed="rId3"/>
          <a:stretch/>
        </p:blipFill>
        <p:spPr>
          <a:xfrm>
            <a:off x="3132000" y="1268280"/>
            <a:ext cx="2664000" cy="1800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http://mybutterfly.ru/media/1/r_16.jpg"/>
          <p:cNvPicPr/>
          <p:nvPr/>
        </p:nvPicPr>
        <p:blipFill>
          <a:blip r:embed="rId4"/>
          <a:stretch/>
        </p:blipFill>
        <p:spPr>
          <a:xfrm>
            <a:off x="6156360" y="1197000"/>
            <a:ext cx="2492280" cy="1655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http://3.bp.blogspot.com/-cZCLj9YSCGc/UkVcc8aREzI/AAAAAAAAALg/w0jPcUvewgY/s1600/16518.jpg"/>
          <p:cNvPicPr/>
          <p:nvPr/>
        </p:nvPicPr>
        <p:blipFill>
          <a:blip r:embed="rId5"/>
          <a:stretch/>
        </p:blipFill>
        <p:spPr>
          <a:xfrm>
            <a:off x="539640" y="306864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6" descr="http://animalsglobe.ru/wp-content/uploads/2012/04/pavliniy-glaz1.jpg"/>
          <p:cNvPicPr/>
          <p:nvPr/>
        </p:nvPicPr>
        <p:blipFill>
          <a:blip r:embed="rId6"/>
          <a:stretch/>
        </p:blipFill>
        <p:spPr>
          <a:xfrm>
            <a:off x="3059280" y="3141720"/>
            <a:ext cx="2665080" cy="180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2" descr="http://macroclub.ru/gallery/data/507/2848.jpg"/>
          <p:cNvPicPr/>
          <p:nvPr/>
        </p:nvPicPr>
        <p:blipFill>
          <a:blip r:embed="rId7"/>
          <a:stretch/>
        </p:blipFill>
        <p:spPr>
          <a:xfrm>
            <a:off x="6156360" y="3213000"/>
            <a:ext cx="237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тром стрекоза проснулась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янулась, улыбнулась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 - росой она умылась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а - изящно покружилась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и нагнулась и присела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четыре – полетел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реки остановилась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д водою закружилас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2" descr="http://poleznee.net/wp-content/uploads/2014/10/Kto-takaia-Strekoza-2.jpg"/>
          <p:cNvPicPr/>
          <p:nvPr/>
        </p:nvPicPr>
        <p:blipFill>
          <a:blip r:embed="rId2"/>
          <a:stretch/>
        </p:blipFill>
        <p:spPr>
          <a:xfrm>
            <a:off x="5940360" y="1700280"/>
            <a:ext cx="2784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http://www.aqualover.ru/wp-content/uploads/2014/02/21413.jpg"/>
          <p:cNvPicPr/>
          <p:nvPr/>
        </p:nvPicPr>
        <p:blipFill>
          <a:blip r:embed="rId2"/>
          <a:stretch/>
        </p:blipFill>
        <p:spPr>
          <a:xfrm>
            <a:off x="468360" y="1628640"/>
            <a:ext cx="8136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1" descr=""/>
          <p:cNvPicPr/>
          <p:nvPr/>
        </p:nvPicPr>
        <p:blipFill>
          <a:blip r:embed="rId1"/>
          <a:stretch/>
        </p:blipFill>
        <p:spPr>
          <a:xfrm>
            <a:off x="5003640" y="189000"/>
            <a:ext cx="3889440" cy="64800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2"/>
          <p:cNvSpPr/>
          <p:nvPr/>
        </p:nvSpPr>
        <p:spPr>
          <a:xfrm>
            <a:off x="324000" y="189000"/>
            <a:ext cx="424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вращение стрекоз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еполно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знечики, сверчки, тараканы, клопы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Рисунок 1" descr=""/>
          <p:cNvPicPr/>
          <p:nvPr/>
        </p:nvPicPr>
        <p:blipFill>
          <a:blip r:embed="rId1"/>
          <a:stretch/>
        </p:blipFill>
        <p:spPr>
          <a:xfrm>
            <a:off x="4211640" y="3240"/>
            <a:ext cx="4681440" cy="65214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"/>
          <p:cNvSpPr/>
          <p:nvPr/>
        </p:nvSpPr>
        <p:spPr>
          <a:xfrm>
            <a:off x="324000" y="189000"/>
            <a:ext cx="424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вращение бабочк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олное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чёлы, осы, муравьи, жуки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17:57:25Z</dcterms:created>
  <dc:creator>Танюша</dc:creator>
  <dc:description/>
  <dc:language>en-US</dc:language>
  <cp:lastModifiedBy>www.PHILka.RU</cp:lastModifiedBy>
  <dcterms:modified xsi:type="dcterms:W3CDTF">2018-12-20T12:24:22Z</dcterms:modified>
  <cp:revision>49</cp:revision>
  <dc:subject/>
  <dc:title>Слайд 1</dc:title>
</cp:coreProperties>
</file>