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096-6A01-4313-9E01-0A9030A1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E11-2334-4885-9F97-84BF8BE3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E51-A1AE-467A-9B06-7239FF1D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E6C-B5C1-4DB2-8A76-7BA23B88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DC86-016E-4B11-B55A-1632D67E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3FE6-B05B-44D8-8BB1-CC898CC5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5B41-1CB6-4CA9-B9AD-6D038612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2697-5C01-4259-ABBB-9B89B054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2794-D587-4254-9E18-E6CA9385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257A-4134-4255-9915-9814DD71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0F39-CC8F-4378-A5CE-CDCC9C76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2B7-C1F0-4BC3-86D9-14763F50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6A5C-C1FF-4197-B75F-64FEFF7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EBFF-7708-4D28-938F-FE1011F4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0A10-8E54-4B5C-B53E-7E152764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E078-FB07-46CF-B710-8A2947A6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15B9-C596-415F-8728-1A5F83F2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9C75-F6BE-492F-825B-D6E44001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48CF-0EAE-4F67-A765-2A8F0376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8D69B-A7C2-47B7-BF52-E5BFD9F0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29E5-1689-4D4C-B42F-0E30B7F4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58D15-FE21-4300-934E-E660CED1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64B-5BF6-4790-9A72-D63AECDE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B88F-BE1D-4806-A9A0-CC9F2EB9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D3B45-0AFF-4A6D-85B4-BE33233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9B34C-043B-4A73-A12B-0A407FA2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FD282-8FE4-4906-938E-0FB76EE1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6CFA-5052-409B-82C4-86C08948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AC9F-5ACA-4E2C-BA6B-9E886CBE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B7D5-E857-4770-803E-C372955B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682CC-666B-4C17-B918-A5A5DDF6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883D-5598-41D2-8BA4-014FA6FE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39650-C753-47B6-94C5-4152C102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2FB-8EA5-4B87-856A-962DB4C3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6F8C-DE90-4E17-A6A4-BCB4D615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9B76D-B180-4084-9FB9-F9050AD1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C8A6D-032B-48F7-9529-54B2A492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1848-0AD2-48ED-BCAC-C4BE64EC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B581-488D-4D17-904A-5719C7A1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08579-0080-41CE-9F15-F3640A01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8648-FBCF-4DF4-B6A7-4D9249A3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F1926-B97B-45DD-88A3-80E9F3BC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83A0-3684-481E-9C5F-190D0C47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852-EF60-4258-8733-77EC3E37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6A5-8133-4AE1-A50B-6DBE8F04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BB1-DD9C-44A8-A0A9-EED47A5A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BFA-C8C2-48BB-B349-F5D59EAC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6A6-9506-4FEB-9D19-D6AB0A4A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4D5D-345B-4A4D-985E-FCC6CE62B30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Documents and Settings\Admin\Рабочий стол\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\Рабочий стол\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2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EE78-FD34-4F60-9F54-0E1D63B8FD5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\Рабочий стол\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Admin\Рабочий стол\3.jp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03A5-3081-4491-81D3-D75A3953EEB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Admin\Рабочий стол\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6B71-D896-4C5D-AC67-EA02CFB8193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019160" y="2467080"/>
            <a:ext cx="694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стиногие и восьминог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К Перспекти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2" descr="http://cdn01.ru/files/users/images/9d/61/9d6124f60ef110d17a4198b2b0e18713.jpg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так, шестиногими мы называем насекомых, а восьминогими –пауков. Постепенное исчезновение насекомых - одно из осенних явлений в  живой природ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http://zoofirma.ru/images/stories/2012/08/2/1.jpg"/>
          <p:cNvPicPr/>
          <p:nvPr/>
        </p:nvPicPr>
        <p:blipFill>
          <a:blip r:embed="rId2"/>
          <a:stretch/>
        </p:blipFill>
        <p:spPr>
          <a:xfrm>
            <a:off x="611280" y="1484280"/>
            <a:ext cx="799308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6" descr="http://webmechta.com/f/poznay-mir/kuznechik.jpg"/>
          <p:cNvPicPr/>
          <p:nvPr/>
        </p:nvPicPr>
        <p:blipFill>
          <a:blip r:embed="rId2"/>
          <a:stretch/>
        </p:blipFill>
        <p:spPr>
          <a:xfrm>
            <a:off x="468360" y="1773360"/>
            <a:ext cx="194292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http://ekogradmoscow.ru/images/dorji2/shmel-nasekomoe-obraz-zhizni-i-sreda-obitaniya-shmelya-1.jpg"/>
          <p:cNvPicPr/>
          <p:nvPr/>
        </p:nvPicPr>
        <p:blipFill>
          <a:blip r:embed="rId3"/>
          <a:stretch/>
        </p:blipFill>
        <p:spPr>
          <a:xfrm>
            <a:off x="755640" y="4149720"/>
            <a:ext cx="2664000" cy="146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http://mybutterfly.ru/media/1/r_16.jpg"/>
          <p:cNvPicPr/>
          <p:nvPr/>
        </p:nvPicPr>
        <p:blipFill>
          <a:blip r:embed="rId4"/>
          <a:stretch/>
        </p:blipFill>
        <p:spPr>
          <a:xfrm>
            <a:off x="6012000" y="1916280"/>
            <a:ext cx="2493720" cy="1657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http://3.bp.blogspot.com/-cZCLj9YSCGc/UkVcc8aREzI/AAAAAAAAALg/w0jPcUvewgY/s1600/16518.jpg"/>
          <p:cNvPicPr/>
          <p:nvPr/>
        </p:nvPicPr>
        <p:blipFill>
          <a:blip r:embed="rId5"/>
          <a:stretch/>
        </p:blipFill>
        <p:spPr>
          <a:xfrm>
            <a:off x="4211640" y="4005360"/>
            <a:ext cx="2232000" cy="1439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www.colors.life/upload/blogs/44/c7/44c783124523a33e79ce7cc7b5bb94c9_RSZ_690.jpg"/>
          <p:cNvPicPr/>
          <p:nvPr/>
        </p:nvPicPr>
        <p:blipFill>
          <a:blip r:embed="rId6"/>
          <a:stretch/>
        </p:blipFill>
        <p:spPr>
          <a:xfrm>
            <a:off x="3059280" y="1844640"/>
            <a:ext cx="23047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Шестиногие и восьминоги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2" descr="http://www.colors.life/upload/blogs/44/c7/44c783124523a33e79ce7cc7b5bb94c9_RSZ_690.jpg"/>
          <p:cNvPicPr/>
          <p:nvPr/>
        </p:nvPicPr>
        <p:blipFill>
          <a:blip r:embed="rId2"/>
          <a:stretch/>
        </p:blipFill>
        <p:spPr>
          <a:xfrm>
            <a:off x="4716360" y="2349360"/>
            <a:ext cx="3527640" cy="3743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http://3.bp.blogspot.com/-cZCLj9YSCGc/UkVcc8aREzI/AAAAAAAAALg/w0jPcUvewgY/s1600/16518.jpg"/>
          <p:cNvPicPr/>
          <p:nvPr/>
        </p:nvPicPr>
        <p:blipFill>
          <a:blip r:embed="rId3"/>
          <a:stretch/>
        </p:blipFill>
        <p:spPr>
          <a:xfrm>
            <a:off x="539640" y="2276640"/>
            <a:ext cx="3527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6" descr="http://webmechta.com/f/poznay-mir/kuznechik.jpg"/>
          <p:cNvPicPr/>
          <p:nvPr/>
        </p:nvPicPr>
        <p:blipFill>
          <a:blip r:embed="rId2"/>
          <a:stretch/>
        </p:blipFill>
        <p:spPr>
          <a:xfrm>
            <a:off x="539640" y="1268280"/>
            <a:ext cx="2376720" cy="187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ekogradmoscow.ru/images/dorji2/shmel-nasekomoe-obraz-zhizni-i-sreda-obitaniya-shmelya-1.jpg"/>
          <p:cNvPicPr/>
          <p:nvPr/>
        </p:nvPicPr>
        <p:blipFill>
          <a:blip r:embed="rId3"/>
          <a:stretch/>
        </p:blipFill>
        <p:spPr>
          <a:xfrm>
            <a:off x="3132000" y="1268280"/>
            <a:ext cx="2664000" cy="1800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http://mybutterfly.ru/media/1/r_16.jpg"/>
          <p:cNvPicPr/>
          <p:nvPr/>
        </p:nvPicPr>
        <p:blipFill>
          <a:blip r:embed="rId4"/>
          <a:stretch/>
        </p:blipFill>
        <p:spPr>
          <a:xfrm>
            <a:off x="6156360" y="1197000"/>
            <a:ext cx="2492280" cy="165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http://3.bp.blogspot.com/-cZCLj9YSCGc/UkVcc8aREzI/AAAAAAAAALg/w0jPcUvewgY/s1600/16518.jpg"/>
          <p:cNvPicPr/>
          <p:nvPr/>
        </p:nvPicPr>
        <p:blipFill>
          <a:blip r:embed="rId5"/>
          <a:stretch/>
        </p:blipFill>
        <p:spPr>
          <a:xfrm>
            <a:off x="539640" y="306864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http://animalsglobe.ru/wp-content/uploads/2012/04/pavliniy-glaz1.jpg"/>
          <p:cNvPicPr/>
          <p:nvPr/>
        </p:nvPicPr>
        <p:blipFill>
          <a:blip r:embed="rId6"/>
          <a:stretch/>
        </p:blipFill>
        <p:spPr>
          <a:xfrm>
            <a:off x="3059280" y="3141720"/>
            <a:ext cx="2665080" cy="180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http://macroclub.ru/gallery/data/507/2848.jpg"/>
          <p:cNvPicPr/>
          <p:nvPr/>
        </p:nvPicPr>
        <p:blipFill>
          <a:blip r:embed="rId7"/>
          <a:stretch/>
        </p:blipFill>
        <p:spPr>
          <a:xfrm>
            <a:off x="6156360" y="321300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ром стрекоза проснула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янулась, улыбнулас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 - росой она умыла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а - изящно покружила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и нагнулась и присела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четыре – полетел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реки остановила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д водою закружи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http://poleznee.net/wp-content/uploads/2014/10/Kto-takaia-Strekoza-2.jpg"/>
          <p:cNvPicPr/>
          <p:nvPr/>
        </p:nvPicPr>
        <p:blipFill>
          <a:blip r:embed="rId2"/>
          <a:stretch/>
        </p:blipFill>
        <p:spPr>
          <a:xfrm>
            <a:off x="5940360" y="1700280"/>
            <a:ext cx="2784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http://www.aqualover.ru/wp-content/uploads/2014/02/21413.jpg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"/>
          <p:cNvPicPr/>
          <p:nvPr/>
        </p:nvPicPr>
        <p:blipFill>
          <a:blip r:embed="rId1"/>
          <a:stretch/>
        </p:blipFill>
        <p:spPr>
          <a:xfrm>
            <a:off x="5003640" y="189000"/>
            <a:ext cx="3889440" cy="6480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324000" y="18900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ращение стрекоз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епол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знечики, сверчки, тараканы, клопы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1" descr=""/>
          <p:cNvPicPr/>
          <p:nvPr/>
        </p:nvPicPr>
        <p:blipFill>
          <a:blip r:embed="rId1"/>
          <a:stretch/>
        </p:blipFill>
        <p:spPr>
          <a:xfrm>
            <a:off x="4211640" y="3240"/>
            <a:ext cx="4681440" cy="6521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324000" y="189000"/>
            <a:ext cx="42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ращение бабоч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лно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чёлы, осы, муравьи, жуки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7:57:25Z</dcterms:created>
  <dc:creator>Танюша</dc:creator>
  <dc:description/>
  <dc:language>en-US</dc:language>
  <cp:lastModifiedBy>www.PHILka.RU</cp:lastModifiedBy>
  <dcterms:modified xsi:type="dcterms:W3CDTF">2018-12-20T12:24:22Z</dcterms:modified>
  <cp:revision>49</cp:revision>
  <dc:subject/>
  <dc:title>Слайд 1</dc:title>
</cp:coreProperties>
</file>