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9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618-8F34-428E-9F30-3309471A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D1F-F962-4574-A700-8877EC3D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2B1-DA68-4DD0-8C7A-2EF5EE75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0AD-FD75-4DF7-92C1-6CB4998A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6B0-4385-435B-BFD2-99F3FAB6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F28-4C19-4DE1-AE15-74865471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DFF-40A5-4963-8858-0615DB5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25E8-840E-401A-9C54-7459A2AB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013-05D5-42A2-BB50-8750B4E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7A8-519D-41AF-AA4D-FA42604F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0CB-8C82-4D53-B2DC-7BF4C9A3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E73-8E66-4525-9E75-13598A6F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BE73-DD53-47B4-9633-22BF4D8E3A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Тема исследова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844640"/>
            <a:ext cx="6400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Воспитание подростков на принципах культуры мира в детском общественном объединении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Эпова С.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дагог МАУ ДО ДД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Маленький принц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Пылкова А.А., доцент педагогического института ТОГУ, к.к.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1680" y="228600"/>
          <a:ext cx="8540640" cy="66452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106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зн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мог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- ав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8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нимание личностной и обществен-ной значимости развития культуры ми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проявляет интереса к миротворческой деятельности, пассивно участвует в предлагаемых формах объединения, представления о культуре мира находятся на обыденном уровне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бретает индивидуальный опыт миротворческой активности в избранных формах, формирует самостоятельный подход в преодолении агрессии, конфликта чаще под внешним воздействием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леченность миротворческой деятельностью носит устойчивый характер, активно участвует в акциях, дискуссиях, научно-практических конференциях по проблемам культуры мира, проявляет инициативу, предъявляет к себе требования широкого нравственного план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ервое условие гипотезы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1320" y="1676160"/>
            <a:ext cx="729468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здание миротворческого культурно-воспитательного пространства детского объедин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учение ценностной сферы участников эксперимент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1700280"/>
          <a:ext cx="8540640" cy="4422600"/>
        </p:xfrm>
        <a:graphic>
          <a:graphicData uri="http://schemas.openxmlformats.org/drawingml/2006/table">
            <a:tbl>
              <a:tblPr/>
              <a:tblGrid>
                <a:gridCol w="1707840"/>
                <a:gridCol w="546120"/>
                <a:gridCol w="581040"/>
                <a:gridCol w="581040"/>
                <a:gridCol w="567000"/>
                <a:gridCol w="533160"/>
                <a:gridCol w="608040"/>
                <a:gridCol w="585720"/>
                <a:gridCol w="560520"/>
                <a:gridCol w="561960"/>
                <a:gridCol w="533520"/>
                <a:gridCol w="587160"/>
                <a:gridCol w="587520"/>
              </a:tblGrid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тивная деятельно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01680" y="228600"/>
          <a:ext cx="8540640" cy="6256440"/>
        </p:xfrm>
        <a:graphic>
          <a:graphicData uri="http://schemas.openxmlformats.org/drawingml/2006/table">
            <a:tbl>
              <a:tblPr/>
              <a:tblGrid>
                <a:gridCol w="1708200"/>
                <a:gridCol w="546120"/>
                <a:gridCol w="581040"/>
                <a:gridCol w="581040"/>
                <a:gridCol w="566640"/>
                <a:gridCol w="533520"/>
                <a:gridCol w="607680"/>
                <a:gridCol w="586080"/>
                <a:gridCol w="560160"/>
                <a:gridCol w="561960"/>
                <a:gridCol w="533520"/>
                <a:gridCol w="587520"/>
                <a:gridCol w="587160"/>
              </a:tblGrid>
              <a:tr h="14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доровь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11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есная работ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1680" y="228600"/>
          <a:ext cx="8540640" cy="5923080"/>
        </p:xfrm>
        <a:graphic>
          <a:graphicData uri="http://schemas.openxmlformats.org/drawingml/2006/table">
            <a:tbl>
              <a:tblPr/>
              <a:tblGrid>
                <a:gridCol w="1708200"/>
                <a:gridCol w="546120"/>
                <a:gridCol w="581040"/>
                <a:gridCol w="581040"/>
                <a:gridCol w="566640"/>
                <a:gridCol w="533520"/>
                <a:gridCol w="607680"/>
                <a:gridCol w="586080"/>
                <a:gridCol w="560160"/>
                <a:gridCol w="561960"/>
                <a:gridCol w="533520"/>
                <a:gridCol w="587520"/>
                <a:gridCol w="587160"/>
              </a:tblGrid>
              <a:tr h="13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в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ная жиз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1680" y="228600"/>
          <a:ext cx="8540640" cy="5877000"/>
        </p:xfrm>
        <a:graphic>
          <a:graphicData uri="http://schemas.openxmlformats.org/drawingml/2006/table">
            <a:tbl>
              <a:tblPr/>
              <a:tblGrid>
                <a:gridCol w="1708200"/>
                <a:gridCol w="546120"/>
                <a:gridCol w="581040"/>
                <a:gridCol w="581040"/>
                <a:gridCol w="566640"/>
                <a:gridCol w="533520"/>
                <a:gridCol w="607680"/>
                <a:gridCol w="586080"/>
                <a:gridCol w="560160"/>
                <a:gridCol w="561960"/>
                <a:gridCol w="533520"/>
                <a:gridCol w="587520"/>
                <a:gridCol w="587160"/>
              </a:tblGrid>
              <a:tr h="13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зь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1680" y="228600"/>
          <a:ext cx="8540640" cy="5870520"/>
        </p:xfrm>
        <a:graphic>
          <a:graphicData uri="http://schemas.openxmlformats.org/drawingml/2006/table">
            <a:tbl>
              <a:tblPr/>
              <a:tblGrid>
                <a:gridCol w="1708200"/>
                <a:gridCol w="546120"/>
                <a:gridCol w="581040"/>
                <a:gridCol w="581040"/>
                <a:gridCol w="566640"/>
                <a:gridCol w="533520"/>
                <a:gridCol w="607680"/>
                <a:gridCol w="586080"/>
                <a:gridCol w="560160"/>
                <a:gridCol w="561960"/>
                <a:gridCol w="533520"/>
                <a:gridCol w="587520"/>
                <a:gridCol w="587160"/>
              </a:tblGrid>
              <a:tr h="13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частье семь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01680" y="228600"/>
          <a:ext cx="8540640" cy="6154560"/>
        </p:xfrm>
        <a:graphic>
          <a:graphicData uri="http://schemas.openxmlformats.org/drawingml/2006/table">
            <a:tbl>
              <a:tblPr/>
              <a:tblGrid>
                <a:gridCol w="1708200"/>
                <a:gridCol w="546120"/>
                <a:gridCol w="581040"/>
                <a:gridCol w="581040"/>
                <a:gridCol w="566640"/>
                <a:gridCol w="533520"/>
                <a:gridCol w="607680"/>
                <a:gridCol w="586080"/>
                <a:gridCol w="560160"/>
                <a:gridCol w="561960"/>
                <a:gridCol w="533520"/>
                <a:gridCol w="587520"/>
                <a:gridCol w="587160"/>
              </a:tblGrid>
              <a:tr h="1312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33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н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е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чень 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жное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знь других людей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ное сосуществ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Уровень предпочтения подростками ценности «Жизнь других людей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971640" y="2060640"/>
          <a:ext cx="712944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060640"/>
                    <a:ext cx="71294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Уровень предпочтения подростками ценности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Мирное существование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1476360" y="1935000"/>
          <a:ext cx="6551640" cy="41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35000"/>
                    <a:ext cx="6551640" cy="41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уществующее противоречие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бъективная востребованность подходов, методов, форм, средств воспитания подростков в детском общественном объединении на принципах культуры мира решения этой проблемы в практике, определяемая общими тенденциями гуманизации образования с одной сторон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едостаток  наличных знаний о сущности,, содержании, и организации воспитательного процесса, осуществляемого в детских сообществах миротворческой направленности, их влияния на личностное развитие, нравственное становление школьников, с друг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инамика изменений уровней общей агрессии и эмпат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1680" y="1676520"/>
          <a:ext cx="8540640" cy="4701960"/>
        </p:xfrm>
        <a:graphic>
          <a:graphicData uri="http://schemas.openxmlformats.org/drawingml/2006/table">
            <a:tbl>
              <a:tblPr/>
              <a:tblGrid>
                <a:gridCol w="2541600"/>
                <a:gridCol w="3097080"/>
                <a:gridCol w="29019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общей агресси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7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9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1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7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ень эмпатии по показателю эмпатийной тенденци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4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8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7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9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1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торое условие гипотез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трудничество как содружество и сотворчество подростков и взрослых в процессе воспитания на принципах культуры ми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Объект 2" descr=""/>
          <p:cNvPicPr/>
          <p:nvPr/>
        </p:nvPicPr>
        <p:blipFill>
          <a:blip r:embed="rId1"/>
          <a:stretch/>
        </p:blipFill>
        <p:spPr>
          <a:xfrm>
            <a:off x="5219640" y="1390680"/>
            <a:ext cx="316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учение уровня самооценки по методике И.Я. Киселёв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01680" y="1676520"/>
          <a:ext cx="8540640" cy="332892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110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4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0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2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9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2–С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38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9 балл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95280" y="5229360"/>
          <a:ext cx="8424720" cy="10080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глядно это отражено в диаграмме 3, иллюстрирующей сравнительную динамику роста среднего показателя самооценки в обеих групп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инамика роста среднего показателя самооценки в группах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Object 6"/>
          <p:cNvGraphicFramePr/>
          <p:nvPr/>
        </p:nvGraphicFramePr>
        <p:xfrm>
          <a:off x="324000" y="1484280"/>
          <a:ext cx="8281800" cy="363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28180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68360" y="5013360"/>
          <a:ext cx="7991280" cy="161604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ние изменения уровня тревожности подростков организовывало нами по методике Ч.Д. Спилбергера. Для большей иллюстративности сравнительные данные первого и второго срезов в обеих группах отражены нами в таблице 15 и диаграмме 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учение уровня тревожности подростков в группа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1680" y="1676520"/>
          <a:ext cx="8540640" cy="4422600"/>
        </p:xfrm>
        <a:graphic>
          <a:graphicData uri="http://schemas.openxmlformats.org/drawingml/2006/table">
            <a:tbl>
              <a:tblPr/>
              <a:tblGrid>
                <a:gridCol w="2254320"/>
                <a:gridCol w="1944720"/>
                <a:gridCol w="1511280"/>
                <a:gridCol w="1368360"/>
                <a:gridCol w="146196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тревожнос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туацион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чностная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упп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2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2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1 – С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5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32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82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4 балл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инамика изменений ситуационной и личностной тревожност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9" name="Object 6"/>
          <p:cNvGraphicFramePr/>
          <p:nvPr/>
        </p:nvGraphicFramePr>
        <p:xfrm>
          <a:off x="611280" y="1974960"/>
          <a:ext cx="7848360" cy="38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74960"/>
                    <a:ext cx="784836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Третье условие гипотез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168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пользование целевой образовательной программы детского общественного объединения в воспитании подростков на принципах культуры ми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9" descr="новый-8"/>
          <p:cNvPicPr/>
          <p:nvPr/>
        </p:nvPicPr>
        <p:blipFill>
          <a:blip r:embed="rId1"/>
          <a:stretch/>
        </p:blipFill>
        <p:spPr>
          <a:xfrm>
            <a:off x="5651640" y="1413000"/>
            <a:ext cx="3093840" cy="213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новый-9"/>
          <p:cNvPicPr/>
          <p:nvPr/>
        </p:nvPicPr>
        <p:blipFill>
          <a:blip r:embed="rId2"/>
          <a:stretch/>
        </p:blipFill>
        <p:spPr>
          <a:xfrm>
            <a:off x="468360" y="3635280"/>
            <a:ext cx="3406680" cy="246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новый-7"/>
          <p:cNvPicPr/>
          <p:nvPr/>
        </p:nvPicPr>
        <p:blipFill>
          <a:blip r:embed="rId3"/>
          <a:stretch/>
        </p:blipFill>
        <p:spPr>
          <a:xfrm>
            <a:off x="4211640" y="3213000"/>
            <a:ext cx="3038400" cy="224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новый-6"/>
          <p:cNvPicPr/>
          <p:nvPr/>
        </p:nvPicPr>
        <p:blipFill>
          <a:blip r:embed="rId4"/>
          <a:stretch/>
        </p:blipFill>
        <p:spPr>
          <a:xfrm>
            <a:off x="6012000" y="4724280"/>
            <a:ext cx="2879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Динамика</a:t>
            </a: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личностного развития подростка при реализации программы</a:t>
            </a:r>
            <a:br>
              <a:rPr sz="1800"/>
            </a:br>
            <a:r>
              <a:rPr b="0" lang="ru-RU" sz="1800" spc="-1" strike="noStrike">
                <a:solidFill>
                  <a:srgbClr val="b7e7ff"/>
                </a:solidFill>
                <a:latin typeface="Arial"/>
              </a:rPr>
              <a:t> «Я и культура мира» в условиях детского общественного объединения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1680" y="1413000"/>
          <a:ext cx="8540640" cy="5445000"/>
        </p:xfrm>
        <a:graphic>
          <a:graphicData uri="http://schemas.openxmlformats.org/drawingml/2006/table">
            <a:tbl>
              <a:tblPr/>
              <a:tblGrid>
                <a:gridCol w="2135160"/>
                <a:gridCol w="1990800"/>
                <a:gridCol w="2279520"/>
                <a:gridCol w="213516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 - АВТОР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  МОГУ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ВОР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амоопределение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  ЗНАЮ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амоутверждение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ие духовные и культурные ценности мира я выбираю?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Я  ХОЧУ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НО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амопознание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мне стать человеком мира?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оиски себя)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 мне понима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 в себе, между друзьями, обществе, планете?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й Мир окружает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ня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ково моё пред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начение в эт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р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инамика изменения уровня экспериментальных показателе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1680" y="1676520"/>
          <a:ext cx="8518320" cy="4559040"/>
        </p:xfrm>
        <a:graphic>
          <a:graphicData uri="http://schemas.openxmlformats.org/drawingml/2006/table">
            <a:tbl>
              <a:tblPr/>
              <a:tblGrid>
                <a:gridCol w="1677960"/>
                <a:gridCol w="1224000"/>
                <a:gridCol w="1081080"/>
                <a:gridCol w="1079280"/>
                <a:gridCol w="1152720"/>
                <a:gridCol w="1150920"/>
                <a:gridCol w="1152360"/>
              </a:tblGrid>
              <a:tr h="84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ответствие образу «человека мира»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(8 чел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5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(5 чел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1680" y="228600"/>
          <a:ext cx="8540640" cy="5870520"/>
        </p:xfrm>
        <a:graphic>
          <a:graphicData uri="http://schemas.openxmlformats.org/drawingml/2006/table">
            <a:tbl>
              <a:tblPr/>
              <a:tblGrid>
                <a:gridCol w="1682640"/>
                <a:gridCol w="1227240"/>
                <a:gridCol w="1084320"/>
                <a:gridCol w="1081080"/>
                <a:gridCol w="1155600"/>
                <a:gridCol w="1154160"/>
                <a:gridCol w="11556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6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ес к саморазвитию согласно образу «человека мира»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0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5 чел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облема исследова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ы теоретические основы и педагогические условия, способствующие успешному воспитанию подростков на принципах культуры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01680" y="228600"/>
          <a:ext cx="8540640" cy="5870520"/>
        </p:xfrm>
        <a:graphic>
          <a:graphicData uri="http://schemas.openxmlformats.org/drawingml/2006/table">
            <a:tbl>
              <a:tblPr/>
              <a:tblGrid>
                <a:gridCol w="1682640"/>
                <a:gridCol w="1227240"/>
                <a:gridCol w="1084320"/>
                <a:gridCol w="1081080"/>
                <a:gridCol w="1155600"/>
                <a:gridCol w="1154160"/>
                <a:gridCol w="11556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сперимента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ая групп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36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ес к общественной деятельности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1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 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7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з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6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8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9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2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 чел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Динамика изменений высокого (1.1.) и низкого (1.2.) уровней показателя соответствия образу «человека мира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4" name="Object 9"/>
          <p:cNvGraphicFramePr/>
          <p:nvPr/>
        </p:nvGraphicFramePr>
        <p:xfrm>
          <a:off x="611280" y="2133720"/>
          <a:ext cx="3816360" cy="261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3816360" cy="26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7"/>
          <p:cNvGraphicFramePr/>
          <p:nvPr/>
        </p:nvGraphicFramePr>
        <p:xfrm>
          <a:off x="5219640" y="2205000"/>
          <a:ext cx="3564000" cy="2535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205000"/>
                    <a:ext cx="356400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4797360"/>
            <a:ext cx="854064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мечание к графику 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экспериментальная групп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контрольная групп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– июль 2002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 – май 2003 год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 – май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5280" y="1700280"/>
          <a:ext cx="8209080" cy="28872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28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Line 51"/>
          <p:cNvSpPr/>
          <p:nvPr/>
        </p:nvSpPr>
        <p:spPr>
          <a:xfrm>
            <a:off x="3708360" y="5373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3492360" y="5661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Динамика изменений высокого (1.1.) и низкого (1.2.) уровней мотивации к саморазвитию согласно образу «человека мира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чание к графику 2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еримента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онтро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– июль 200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– май 2003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– май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8"/>
          <p:cNvGraphicFramePr/>
          <p:nvPr/>
        </p:nvGraphicFramePr>
        <p:xfrm>
          <a:off x="665280" y="1695600"/>
          <a:ext cx="3467160" cy="209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695600"/>
                    <a:ext cx="3467160" cy="20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9"/>
          <p:cNvGraphicFramePr/>
          <p:nvPr/>
        </p:nvGraphicFramePr>
        <p:xfrm>
          <a:off x="684360" y="4076640"/>
          <a:ext cx="3439800" cy="214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076640"/>
                    <a:ext cx="343980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Line 10"/>
          <p:cNvSpPr/>
          <p:nvPr/>
        </p:nvSpPr>
        <p:spPr>
          <a:xfrm>
            <a:off x="5219640" y="278136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5219640" y="3500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9280" y="1700280"/>
          <a:ext cx="505080" cy="4465440"/>
        </p:xfrm>
        <a:graphic>
          <a:graphicData uri="http://schemas.openxmlformats.org/drawingml/2006/table">
            <a:tbl>
              <a:tblPr/>
              <a:tblGrid>
                <a:gridCol w="505080"/>
              </a:tblGrid>
              <a:tr h="44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Arial"/>
              </a:rPr>
              <a:t>Динамика изменений высокого (1.1) и низкого (1.2.) уровней интереса к общественной деятельности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2"/>
          <a:stretch/>
        </p:blipFill>
        <p:spPr>
          <a:xfrm>
            <a:off x="1042920" y="4292640"/>
            <a:ext cx="2846520" cy="2135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0" y="1916280"/>
            <a:ext cx="419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чание к графику 3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еримента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онтрольная груп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– июль 200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– май 2003 год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– май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5651640" y="299736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5724360" y="3716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1628640"/>
          <a:ext cx="500040" cy="4896000"/>
        </p:xfrm>
        <a:graphic>
          <a:graphicData uri="http://schemas.openxmlformats.org/drawingml/2006/table">
            <a:tbl>
              <a:tblPr/>
              <a:tblGrid>
                <a:gridCol w="500040"/>
              </a:tblGrid>
              <a:tr h="48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опросы дальнейшего изучения проблем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учреждений дополнительного образования в контексте культуры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льтура мира как цель средство и результат воспитательного процесса в учрежд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етическое обоснование и проверка на практике совокупности педагогических условий, способствующих воспитанию подростков на принципах культуры ми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ыявить имеющиеся в философии, педагогике и психологии подходы к пониманию феноменов «культура мира», «воспитание на принципах культуры мира», «педагогика мира», «детское общественное объединение», «миротворческое культурно-воспитательное пространств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Теоретически обосновать и проверить опытно-экспериментальным путем совокупность педагогических условий, определяющих активизацию процесса воспитания подростков на принципах культуры мира в детском общественном объедине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ервое защищаемое положение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оспитание в детском общественном объединении на принципах культуры мира - это организация целенаправленных действий и отношений на приоритетах миролюбия, толерантности, ненасилия, диалога через активизацию социальной деятельности и творческой активности личности, создание миротворческого культурно и социально значимого взаимодействия субъектов воспитательного процесс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ает первую задачу исслед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Характеристика уровней проявления критериев эффективности  </a:t>
            </a: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воспитания на принципах культуры мир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01680" y="1676520"/>
          <a:ext cx="8540640" cy="48686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1474560"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ткая характеристика проявлен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зн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могу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- автор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ждения подростк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способен воспринимать разные точки зрения, слабое понимание жестокости и бессмысленности агрессивной войны, насилия, проявляет закрытость в общении, дает оценки – ярлык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являет интерес к культуре мира, усваивает различные взгляды и позиции, формирует собственную точку зрения, осознаёт ценность человеческой жизни и достоинства мира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ет аргументировано отстаивать свою точку зрения, владеет умениями оперировать фактами, гипотезами, предположениями и критически их оценивать, проявляет самостоятельность в публичных выступления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1680" y="228600"/>
          <a:ext cx="8540640" cy="639612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з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зна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мог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сокий уров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- ав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енение личностных показател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адекватная само-оценка (завышенная, заниженная), слабо развита эмпатия и толерантность, повышенная чувствительность и ранимость в отношении собственных переживаний, холодность и неумение сопереживать други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оценка подвержена неустойчивости, проявление эмпатии и толерантности носят избранный характер, стремиться к равноправным отношениям в общении, но избегает конфликтов, уходит от решения сложных пробл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ет адекватную самооценку, не имеет агрессии, высокий уровень эмпатии и толерантности, дружелюбие и сочувствие проявляет в отношении всех людей, занимается самовоспитанием и самопознани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7:42:45Z</dcterms:created>
  <dc:creator>Мартышка</dc:creator>
  <dc:description/>
  <dc:language>en-US</dc:language>
  <cp:lastModifiedBy>Элеонора</cp:lastModifiedBy>
  <dcterms:modified xsi:type="dcterms:W3CDTF">2018-12-20T06:26:06Z</dcterms:modified>
  <cp:revision>10</cp:revision>
  <dc:subject/>
  <dc:title>Тема исследования</dc:title>
</cp:coreProperties>
</file>