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gif" ContentType="image/gif"/>
  <Override PartName="/ppt/media/image5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6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734-DF05-402B-B876-AA8A8160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AF6-4EB1-45A8-A305-3474F155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7E1-5799-4A83-BD75-92C33C1D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774-35BE-40BB-948B-63E5246D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696A-269B-4362-945F-E4C123D4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B5D4-1E01-442A-A551-C7A50039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2EA4-80E8-4237-9C38-3BCA5FB3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7C26-855C-4056-A9C5-4B81BB7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89E4-1147-4445-87DD-78D2ACBE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8C70-0A0E-4968-8F4A-E2BFD5F9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E348-8820-4964-A5AA-8E365E4B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CAA-8DC2-4167-BDF7-D4181EC7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DFC0-3370-44AC-894A-E9FF0754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5F63-B0AB-4051-B86A-29FC6153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3D19-F28E-4CF2-BBBA-C7D42CFC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4F0A-E8C9-487E-9C95-FB431107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82C6-AAF5-41C1-97F1-A2C33768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835-31FB-4D51-82FF-E9297EBA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843-3BA6-45CB-8999-45510CA2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D79-476C-4011-A263-5935098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239-D791-4BF8-B9BA-66085DB7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920-DE8A-4D66-A392-0175675A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56D-4058-4EE5-9835-298CC2E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0BA-F3F6-486B-A842-38397E92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92BB-236D-420A-9794-26F27B23E8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5259-BCEE-4687-9C0C-32B87BE58C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400800" cy="2016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ДРАВСТВУЙТЕ 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об этикете приветствий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ru-RU" sz="1400" spc="-1" strike="noStrike" u="sng">
                <a:solidFill>
                  <a:srgbClr val="3333cc"/>
                </a:solidFill>
                <a:uFillTx/>
                <a:latin typeface="Arial"/>
              </a:rPr>
              <a:t>оставитель: Эпова С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и сейчас … Посмотрите вокруг. Вот прошли военные – приветствуют друг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тились двое мужчин – обменялись рукопожат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, наверное, долго не виделись – об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от девчонки: налетели друг на дружку – чмок-чмок, потараторили и разбежа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5" descr="219325"/>
          <p:cNvPicPr/>
          <p:nvPr/>
        </p:nvPicPr>
        <p:blipFill>
          <a:blip r:embed="rId1"/>
          <a:stretch/>
        </p:blipFill>
        <p:spPr>
          <a:xfrm>
            <a:off x="6516720" y="4076640"/>
            <a:ext cx="2370240" cy="2521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2"/>
          <a:stretch/>
        </p:blipFill>
        <p:spPr>
          <a:xfrm>
            <a:off x="2843280" y="4365720"/>
            <a:ext cx="1857240" cy="178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484360" y="189000"/>
            <a:ext cx="6400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– разному отмечают люди самое простое и самое частое событие в соей жизни – встречу с други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ё-таки общее тут 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лониться от приветствия или не ответить на него во все времена и у всех народов считалось верхом невоспитанности и неуважения к окружающ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 в поклоне, в коротких словах привета заключено очень большое и важное содержание: «Я тебя вижу, человек. Ты мне приятен. Знай, что я тебя уважаю и хочу, чтобы и ты ко мне хорошо относился. Я желаю тебе всего самого доброго: здоровья, мира, веселья, счастья».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что означает  простое, обыкнов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РАВСТВУЙ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028000" y="5157720"/>
            <a:ext cx="8650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411280" y="404640"/>
            <a:ext cx="6732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лонившись, мы друг другу сказ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были совсем незнак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собого тем мы друг другу сказ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«здравствуйте», больше ведь мы ничего не сказ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го же на капельку солнца прибавилось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го же на капельку счастья прибавилось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го же на капельку радостней сделалась жиз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039160" y="5248440"/>
            <a:ext cx="110484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ДРАВСТВУЙТ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95280" y="1773000"/>
            <a:ext cx="5903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и привычно звучит для нас это слово. И так же легко не задерживаясь мы отвечаем: «Здравствуйт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редставляю ваше удивление, если 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было таким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ли вы сегодня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так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доров ли ваш скот?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кот с рыбой"/>
          <p:cNvPicPr/>
          <p:nvPr/>
        </p:nvPicPr>
        <p:blipFill>
          <a:blip r:embed="rId1"/>
          <a:stretch/>
        </p:blipFill>
        <p:spPr>
          <a:xfrm>
            <a:off x="5796000" y="292428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Друзья"/>
          <p:cNvPicPr/>
          <p:nvPr/>
        </p:nvPicPr>
        <p:blipFill>
          <a:blip r:embed="rId2"/>
          <a:stretch/>
        </p:blipFill>
        <p:spPr>
          <a:xfrm>
            <a:off x="5435640" y="4292640"/>
            <a:ext cx="345744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68360" y="40464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едь это тоже приветствия. Именно такими фразами обменивались жители Древнего Китая и Монголии, Египта. На первый взгляд кажется немного  смешно, но если подумать, то легко можно доказать, что выражение «здоров ли ваш скот?» равно «здравствуй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у жизни монгола-кочевника в старые времена составляло его стад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ы животные – хватает еды –всё благополучно в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 скот от хвори или бескормицы – и у людей голод, болезни, см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и получается, что пожелать здоровья рогатым кормильцам скотовода – всё равно, что пожелать здоровья ему самому и его близ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68360" y="189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ми только приветствиями не пользуются люд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лют! Чао! Салам Алейку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у ду ю 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ми «Я вас (тебя) виж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иваются при встрече  зул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Рисунок1"/>
          <p:cNvPicPr/>
          <p:nvPr/>
        </p:nvPicPr>
        <p:blipFill>
          <a:blip r:embed="rId1"/>
          <a:stretch/>
        </p:blipFill>
        <p:spPr>
          <a:xfrm>
            <a:off x="2987640" y="2565360"/>
            <a:ext cx="511344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68000" y="260280"/>
            <a:ext cx="6472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лемя других жителей Африки изобрело  приветствия на все случаи жиз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уше – работающ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уаре – уста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урин – путешествен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валейо - чужестран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tn071"/>
          <p:cNvPicPr/>
          <p:nvPr/>
        </p:nvPicPr>
        <p:blipFill>
          <a:blip r:embed="rId1"/>
          <a:stretch/>
        </p:blipFill>
        <p:spPr>
          <a:xfrm>
            <a:off x="6372360" y="907920"/>
            <a:ext cx="2292120" cy="1735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age001"/>
          <p:cNvPicPr/>
          <p:nvPr/>
        </p:nvPicPr>
        <p:blipFill>
          <a:blip r:embed="rId2"/>
          <a:stretch/>
        </p:blipFill>
        <p:spPr>
          <a:xfrm>
            <a:off x="5435640" y="2565360"/>
            <a:ext cx="1244520" cy="146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Tsarevna_Lebed"/>
          <p:cNvPicPr/>
          <p:nvPr/>
        </p:nvPicPr>
        <p:blipFill>
          <a:blip r:embed="rId3"/>
          <a:stretch/>
        </p:blipFill>
        <p:spPr>
          <a:xfrm>
            <a:off x="6443640" y="39337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Kocshey1"/>
          <p:cNvPicPr/>
          <p:nvPr/>
        </p:nvPicPr>
        <p:blipFill>
          <a:blip r:embed="rId4"/>
          <a:stretch/>
        </p:blipFill>
        <p:spPr>
          <a:xfrm>
            <a:off x="5651640" y="5157720"/>
            <a:ext cx="130644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68360" y="-360"/>
            <a:ext cx="6400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особые приветствия для сидящего, стоящего, лежащего, счастливого, несчастно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яете, каково приходится маленьким африканцам, пока они всё это выуч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учитель"/>
          <p:cNvPicPr/>
          <p:nvPr/>
        </p:nvPicPr>
        <p:blipFill>
          <a:blip r:embed="rId1"/>
          <a:stretch/>
        </p:blipFill>
        <p:spPr>
          <a:xfrm>
            <a:off x="3780000" y="907920"/>
            <a:ext cx="35416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4994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едь нельзя перепутать. Это издавна считалось невоспитан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таких путаниках на Руси, например, даже присказка ход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Где пень – тут челом, где люди – тут мимо, а где собаки дерутся – тут: « бог на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Винни Пух думает"/>
          <p:cNvPicPr/>
          <p:nvPr/>
        </p:nvPicPr>
        <p:blipFill>
          <a:blip r:embed="rId1"/>
          <a:stretch/>
        </p:blipFill>
        <p:spPr>
          <a:xfrm>
            <a:off x="4932360" y="2637000"/>
            <a:ext cx="1368360" cy="144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0011"/>
          <p:cNvPicPr/>
          <p:nvPr/>
        </p:nvPicPr>
        <p:blipFill>
          <a:blip r:embed="rId2"/>
          <a:srcRect l="50147" t="29246" r="0" b="0"/>
          <a:stretch/>
        </p:blipFill>
        <p:spPr>
          <a:xfrm>
            <a:off x="2268360" y="3284640"/>
            <a:ext cx="2953080" cy="303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KIDS01"/>
          <p:cNvPicPr/>
          <p:nvPr/>
        </p:nvPicPr>
        <p:blipFill>
          <a:blip r:embed="rId3"/>
          <a:stretch/>
        </p:blipFill>
        <p:spPr>
          <a:xfrm>
            <a:off x="5364000" y="4365720"/>
            <a:ext cx="32403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08 0.02566 L -0.5158 0.52231 E">
                                      <p:cBhvr>
                                        <p:cTn id="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340000" y="188640"/>
            <a:ext cx="6480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, жесты, которыми издавна обменивались люди разных стран в момент приветствия, ещё разнообразн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кланялись в поя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падали на колени и ударялись о землю лбом (били чело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и подносили руку ко лбу и к серд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ёртые прикасались но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е показывали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6327720" y="3544920"/>
            <a:ext cx="2816280" cy="3313080"/>
            <a:chOff x="6327720" y="3544920"/>
            <a:chExt cx="2816280" cy="3313080"/>
          </a:xfrm>
        </p:grpSpPr>
        <p:pic>
          <p:nvPicPr>
            <p:cNvPr id="108" name="Picture 9" descr="0022"/>
            <p:cNvPicPr/>
            <p:nvPr/>
          </p:nvPicPr>
          <p:blipFill>
            <a:blip r:embed="rId1"/>
            <a:stretch/>
          </p:blipFill>
          <p:spPr>
            <a:xfrm>
              <a:off x="6327720" y="3544920"/>
              <a:ext cx="202248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0" descr="0025"/>
            <p:cNvPicPr/>
            <p:nvPr/>
          </p:nvPicPr>
          <p:blipFill>
            <a:blip r:embed="rId2"/>
            <a:stretch/>
          </p:blipFill>
          <p:spPr>
            <a:xfrm>
              <a:off x="7120080" y="3905280"/>
              <a:ext cx="202392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1" descr="0025"/>
            <p:cNvPicPr/>
            <p:nvPr/>
          </p:nvPicPr>
          <p:blipFill>
            <a:blip r:embed="rId3"/>
            <a:stretch/>
          </p:blipFill>
          <p:spPr>
            <a:xfrm>
              <a:off x="7120080" y="3905280"/>
              <a:ext cx="2023920" cy="295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12" descr="Свиток"/>
          <p:cNvPicPr/>
          <p:nvPr/>
        </p:nvPicPr>
        <p:blipFill>
          <a:blip r:embed="rId4"/>
          <a:stretch/>
        </p:blipFill>
        <p:spPr>
          <a:xfrm>
            <a:off x="5580000" y="2637000"/>
            <a:ext cx="2667240" cy="93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1" descr="8"/>
          <p:cNvPicPr/>
          <p:nvPr/>
        </p:nvPicPr>
        <p:blipFill>
          <a:blip r:embed="rId1"/>
          <a:stretch/>
        </p:blipFill>
        <p:spPr>
          <a:xfrm>
            <a:off x="4643280" y="2276640"/>
            <a:ext cx="1295640" cy="1584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570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еры королевских гвардий звонко щёлкали каблуками  и роняли, словно подрубленную, голову на гру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светские дамы  приседали в глубоком реверан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лестные мушкетёры, изящно склонившись, помахивали своими великолепными шляп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цари поднимали забрала тяжёлых шлемов и стягивали боевые рукав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ы Древнего Рима обнажали обритые голо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1" descr="Книга-кошелёк"/>
          <p:cNvPicPr/>
          <p:nvPr/>
        </p:nvPicPr>
        <p:blipFill>
          <a:blip r:embed="rId2"/>
          <a:stretch/>
        </p:blipFill>
        <p:spPr>
          <a:xfrm>
            <a:off x="7380360" y="2133720"/>
            <a:ext cx="14508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0:58:13Z</dcterms:created>
  <dc:creator>школа35</dc:creator>
  <dc:description/>
  <dc:language>en-US</dc:language>
  <cp:lastModifiedBy>Элеонора</cp:lastModifiedBy>
  <dcterms:modified xsi:type="dcterms:W3CDTF">2018-12-20T00:26:42Z</dcterms:modified>
  <cp:revision>36</cp:revision>
  <dc:subject/>
  <dc:title>ДЕНЬ ПРИВЕТСТВИЙ</dc:title>
</cp:coreProperties>
</file>