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7.gif" ContentType="image/gif"/>
  <Override PartName="/ppt/media/image5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6.jpeg" ContentType="image/jpeg"/>
  <Override PartName="/ppt/media/image1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CDE3-EA66-453A-AAA1-B2AC872FA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A009-BB1A-4E78-B96B-5E142F1A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BFA8-6E98-4B05-863A-2A69524EF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7B78-552F-4B64-861B-2E15DD023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046D-0FB4-41E5-9AD0-B7D6B6C40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E8E3-BEFF-4BBF-877C-06E9A2D5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D54F-AE0C-4C71-B2C2-1C868DFE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78A8-81EA-4420-BB72-3A94ECC2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38187-D0EA-4F71-A182-5805CB63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9A5EA-E4D2-4A9F-87A1-DC74CF08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7EC87-E742-45EA-9E9B-D6DC68EF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184C-9339-4373-A617-468287BD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44EC-773B-450F-A6E3-F6C624C9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2089-1C94-407A-92B8-69386C93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12A10-C36B-4FB4-8747-C1634B14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15DB-06B2-4B87-A7E5-9A35E77B4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B695A-D1C5-4621-9B38-F74EADC64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A547-36FA-41D4-94EA-9ABDD79F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1620-FB01-4251-84E5-14C3ED07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D345-9899-4DFD-A796-E49219AF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5A91-C424-4031-BA88-F7FE91EB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825E-0306-4F7C-B6D7-4CDBD659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E717-4CBE-4218-BE58-2632715B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308F-621C-4395-AB2C-62A1C1FD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94AA-8BC4-4F7B-AA95-DFCAA4609E3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6C6B-636F-460B-BD8C-354A936EA92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547640" y="2276640"/>
            <a:ext cx="6400800" cy="2016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ЗДРАВСТВУЙТЕ !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ли об этикете приветствий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4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3333cc"/>
                </a:solidFill>
                <a:uFillTx/>
                <a:latin typeface="Arial"/>
              </a:rPr>
              <a:t>C</a:t>
            </a:r>
            <a:r>
              <a:rPr b="0" lang="ru-RU" sz="1400" spc="-1" strike="noStrike" u="sng">
                <a:solidFill>
                  <a:srgbClr val="3333cc"/>
                </a:solidFill>
                <a:uFillTx/>
                <a:latin typeface="Arial"/>
              </a:rPr>
              <a:t>оставитель: Эпова С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124000" y="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 и сейчас … Посмотрите вокруг. Вот прошли военные – приветствуют друг друг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ретились двое мужчин – обменялись рукопожат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нщины, наверное, долго не виделись – обним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вот девчонки: налетели друг на дружку – чмок-чмок, потараторили и разбежали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5" descr="219325"/>
          <p:cNvPicPr/>
          <p:nvPr/>
        </p:nvPicPr>
        <p:blipFill>
          <a:blip r:embed="rId1"/>
          <a:stretch/>
        </p:blipFill>
        <p:spPr>
          <a:xfrm>
            <a:off x="6516720" y="4076640"/>
            <a:ext cx="2370240" cy="2521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"/>
          <p:cNvPicPr/>
          <p:nvPr/>
        </p:nvPicPr>
        <p:blipFill>
          <a:blip r:embed="rId2"/>
          <a:stretch/>
        </p:blipFill>
        <p:spPr>
          <a:xfrm>
            <a:off x="2843280" y="4365720"/>
            <a:ext cx="1857240" cy="178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484360" y="189000"/>
            <a:ext cx="6400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– разному отмечают люди самое простое и самое частое событие в соей жизни – встречу с другим челове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всё-таки общее тут е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клониться от приветствия или не ответить на него во все времена и у всех народов считалось верхом невоспитанности и неуважения к окружающ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дь в поклоне, в коротких словах привета заключено очень большое и важное содержание: «Я тебя вижу, человек. Ты мне приятен. Знай, что я тебя уважаю и хочу, чтобы и ты ко мне хорошо относился. Я желаю тебе всего самого доброго: здоровья, мира, веселья, счастья».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т что означает  простое, обыкновен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РАВСТВУЙ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8028000" y="5157720"/>
            <a:ext cx="86508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411280" y="404640"/>
            <a:ext cx="673272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ДРАВСТВУЙТ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лонившись, мы друг другу сказал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тя были совсем незнако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равствуй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особого тем мы друг другу сказа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о «здравствуйте», больше ведь мы ничего не сказ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чего же на капельку солнца прибавилось в ми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чего же на капельку счастья прибавилось в ми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чего же на капельку радостней сделалась жизн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8039160" y="5248440"/>
            <a:ext cx="1104840" cy="160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ЗДРАВСТВУЙТЕ!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95280" y="1773000"/>
            <a:ext cx="59036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гко и привычно звучит для нас это слово. И так же легко не задерживаясь мы отвечаем: «Здравствуйте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представляю ваше удивление, если 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 было таким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Ели вы сегодня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 таки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Здоров ли ваш скот?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кот с рыбой"/>
          <p:cNvPicPr/>
          <p:nvPr/>
        </p:nvPicPr>
        <p:blipFill>
          <a:blip r:embed="rId1"/>
          <a:stretch/>
        </p:blipFill>
        <p:spPr>
          <a:xfrm>
            <a:off x="5796000" y="2924280"/>
            <a:ext cx="1800360" cy="1368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Друзья"/>
          <p:cNvPicPr/>
          <p:nvPr/>
        </p:nvPicPr>
        <p:blipFill>
          <a:blip r:embed="rId2"/>
          <a:stretch/>
        </p:blipFill>
        <p:spPr>
          <a:xfrm>
            <a:off x="5435640" y="4292640"/>
            <a:ext cx="3457440" cy="24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268360" y="404640"/>
            <a:ext cx="6400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ведь это тоже приветствия. Именно такими фразами обменивались жители Древнего Китая и Монголии, Египта. На первый взгляд кажется немного  смешно, но если подумать, то легко можно доказать, что выражение «здоров ли ваш скот?» равно «здравствуйт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у жизни монгола-кочевника в старые времена составляло его стад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оровы животные – хватает еды –всё благополучно в сем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л скот от хвори или бескормицы – и у людей голод, болезни, смер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т и получается, что пожелать здоровья рогатым кормильцам скотовода – всё равно, что пожелать здоровья ему самому и его близк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268360" y="1890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ми только приветствиями не пользуются люд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лют! Чао! Салам Алейкум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у ду ю ду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ами «Я вас (тебя) вижу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мениваются при встрече  зулу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Рисунок1"/>
          <p:cNvPicPr/>
          <p:nvPr/>
        </p:nvPicPr>
        <p:blipFill>
          <a:blip r:embed="rId1"/>
          <a:stretch/>
        </p:blipFill>
        <p:spPr>
          <a:xfrm>
            <a:off x="2987640" y="2565360"/>
            <a:ext cx="511344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268000" y="260280"/>
            <a:ext cx="6472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племя других жителей Африки изобрело  приветствия на все случаи жиз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уше – работающе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уаре – уставше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урин – путешественни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валейо - чужестран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antn071"/>
          <p:cNvPicPr/>
          <p:nvPr/>
        </p:nvPicPr>
        <p:blipFill>
          <a:blip r:embed="rId1"/>
          <a:stretch/>
        </p:blipFill>
        <p:spPr>
          <a:xfrm>
            <a:off x="6372360" y="907920"/>
            <a:ext cx="2292120" cy="1735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image001"/>
          <p:cNvPicPr/>
          <p:nvPr/>
        </p:nvPicPr>
        <p:blipFill>
          <a:blip r:embed="rId2"/>
          <a:stretch/>
        </p:blipFill>
        <p:spPr>
          <a:xfrm>
            <a:off x="5435640" y="2565360"/>
            <a:ext cx="1244520" cy="1465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Tsarevna_Lebed"/>
          <p:cNvPicPr/>
          <p:nvPr/>
        </p:nvPicPr>
        <p:blipFill>
          <a:blip r:embed="rId3"/>
          <a:stretch/>
        </p:blipFill>
        <p:spPr>
          <a:xfrm>
            <a:off x="6443640" y="3933720"/>
            <a:ext cx="1523880" cy="1371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Kocshey1"/>
          <p:cNvPicPr/>
          <p:nvPr/>
        </p:nvPicPr>
        <p:blipFill>
          <a:blip r:embed="rId4"/>
          <a:stretch/>
        </p:blipFill>
        <p:spPr>
          <a:xfrm>
            <a:off x="5651640" y="5157720"/>
            <a:ext cx="1306440" cy="154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68360" y="-360"/>
            <a:ext cx="64008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ть особые приветствия для сидящего, стоящего, лежащего, счастливого, несчастного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тавляете, каково приходится маленьким африканцам, пока они всё это выуча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учитель"/>
          <p:cNvPicPr/>
          <p:nvPr/>
        </p:nvPicPr>
        <p:blipFill>
          <a:blip r:embed="rId1"/>
          <a:stretch/>
        </p:blipFill>
        <p:spPr>
          <a:xfrm>
            <a:off x="3780000" y="907920"/>
            <a:ext cx="3541680" cy="35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268360" y="260280"/>
            <a:ext cx="649944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ведь нельзя перепутать. Это издавна считалось невоспитанн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 таких путаниках на Руси, например, даже присказка ход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 Где пень – тут челом, где люди – тут мимо, а где собаки дерутся – тут: « бог на помощ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Винни Пух думает"/>
          <p:cNvPicPr/>
          <p:nvPr/>
        </p:nvPicPr>
        <p:blipFill>
          <a:blip r:embed="rId1"/>
          <a:stretch/>
        </p:blipFill>
        <p:spPr>
          <a:xfrm>
            <a:off x="4932360" y="2637000"/>
            <a:ext cx="1368360" cy="1441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0011"/>
          <p:cNvPicPr/>
          <p:nvPr/>
        </p:nvPicPr>
        <p:blipFill>
          <a:blip r:embed="rId2"/>
          <a:srcRect l="50147" t="29246" r="0" b="0"/>
          <a:stretch/>
        </p:blipFill>
        <p:spPr>
          <a:xfrm>
            <a:off x="2268360" y="3284640"/>
            <a:ext cx="2953080" cy="3038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KIDS01"/>
          <p:cNvPicPr/>
          <p:nvPr/>
        </p:nvPicPr>
        <p:blipFill>
          <a:blip r:embed="rId3"/>
          <a:stretch/>
        </p:blipFill>
        <p:spPr>
          <a:xfrm>
            <a:off x="5364000" y="4365720"/>
            <a:ext cx="3240360" cy="22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108 0.02566 L -0.5158 0.52231 E">
                                      <p:cBhvr>
                                        <p:cTn id="9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340000" y="188640"/>
            <a:ext cx="6480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ижения, жесты, которыми издавна обменивались люди разных стран в момент приветствия, ещё разнообразне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и кланялись в поя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угие падали на колени и ударялись о землю лбом (били челом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ьи подносили руку ко лбу и к серд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ёртые прикасались нос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е показывали язы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8"/>
          <p:cNvGrpSpPr/>
          <p:nvPr/>
        </p:nvGrpSpPr>
        <p:grpSpPr>
          <a:xfrm>
            <a:off x="6327720" y="3544920"/>
            <a:ext cx="2816280" cy="3313080"/>
            <a:chOff x="6327720" y="3544920"/>
            <a:chExt cx="2816280" cy="3313080"/>
          </a:xfrm>
        </p:grpSpPr>
        <p:pic>
          <p:nvPicPr>
            <p:cNvPr id="108" name="Picture 9" descr="0022"/>
            <p:cNvPicPr/>
            <p:nvPr/>
          </p:nvPicPr>
          <p:blipFill>
            <a:blip r:embed="rId1"/>
            <a:stretch/>
          </p:blipFill>
          <p:spPr>
            <a:xfrm>
              <a:off x="6327720" y="3544920"/>
              <a:ext cx="2022480" cy="295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10" descr="0025"/>
            <p:cNvPicPr/>
            <p:nvPr/>
          </p:nvPicPr>
          <p:blipFill>
            <a:blip r:embed="rId2"/>
            <a:stretch/>
          </p:blipFill>
          <p:spPr>
            <a:xfrm>
              <a:off x="7120080" y="3905280"/>
              <a:ext cx="2023920" cy="295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1" descr="0025"/>
            <p:cNvPicPr/>
            <p:nvPr/>
          </p:nvPicPr>
          <p:blipFill>
            <a:blip r:embed="rId3"/>
            <a:stretch/>
          </p:blipFill>
          <p:spPr>
            <a:xfrm>
              <a:off x="7120080" y="3905280"/>
              <a:ext cx="2023920" cy="2952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1" name="Picture 12" descr="Свиток"/>
          <p:cNvPicPr/>
          <p:nvPr/>
        </p:nvPicPr>
        <p:blipFill>
          <a:blip r:embed="rId4"/>
          <a:stretch/>
        </p:blipFill>
        <p:spPr>
          <a:xfrm>
            <a:off x="5580000" y="2637000"/>
            <a:ext cx="2667240" cy="93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1" descr="8"/>
          <p:cNvPicPr/>
          <p:nvPr/>
        </p:nvPicPr>
        <p:blipFill>
          <a:blip r:embed="rId1"/>
          <a:stretch/>
        </p:blipFill>
        <p:spPr>
          <a:xfrm>
            <a:off x="4643280" y="2276640"/>
            <a:ext cx="1295640" cy="1584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68360" y="260280"/>
            <a:ext cx="657072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ицеры королевских гвардий звонко щёлкали каблуками  и роняли, словно подрубленную, голову на груд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икосветские дамы  приседали в глубоком реверан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лестные мушкетёры, изящно склонившись, помахивали своими великолепными шляп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ыцари поднимали забрала тяжёлых шлемов и стягивали боевые рукав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ы Древнего Рима обнажали обритые голов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1" descr="Книга-кошелёк"/>
          <p:cNvPicPr/>
          <p:nvPr/>
        </p:nvPicPr>
        <p:blipFill>
          <a:blip r:embed="rId2"/>
          <a:stretch/>
        </p:blipFill>
        <p:spPr>
          <a:xfrm>
            <a:off x="7380360" y="2133720"/>
            <a:ext cx="1450800" cy="17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00:58:13Z</dcterms:created>
  <dc:creator>школа35</dc:creator>
  <dc:description/>
  <dc:language>en-US</dc:language>
  <cp:lastModifiedBy>Элеонора</cp:lastModifiedBy>
  <dcterms:modified xsi:type="dcterms:W3CDTF">2018-12-20T00:26:42Z</dcterms:modified>
  <cp:revision>36</cp:revision>
  <dc:subject/>
  <dc:title>ДЕНЬ ПРИВЕТСТВИЙ</dc:title>
</cp:coreProperties>
</file>