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1B4-CE89-4949-9B98-6B198CB2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BBE-667B-4E25-83B4-88400437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70F-7034-4E1B-952A-AE8E679C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21B-8535-4C5F-8E9C-A27CE783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5136-C5B1-4B34-A779-C6517BAC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C06-30C6-40A6-9F09-71D2296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5AAE-9A7B-448A-8248-4F7798E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9561-7268-4A2D-94AD-936765C9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C556-BF5E-42EF-A562-62E43F05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F3B-4409-4985-9072-551A2354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1A7F-F6F6-4219-8A68-A73172B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0BC-FECC-4663-B02F-E958F163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0CAF-6F0B-4DA1-B226-94AE96E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A4EF-616F-465B-8FE6-779B8E5C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66D-F20E-4D25-BA0B-003075E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6C5-C573-4C19-925C-5F0AD84C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BE5F-2897-4C1A-B97A-78841B75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36C44-7D3C-4B86-A806-F8DF7364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92C97-50F0-46A5-BD7B-9A4CFCA1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BA41E-DBDB-40AE-9408-7219078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E64B5-6321-47AD-95DC-EB3E80D0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C5C36-3B2E-478D-8232-E31F10BB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A66-2470-4D78-8CCF-02B255BB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601E7-75C9-4E29-94B1-B9E1FB4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2E5DA-D372-4D86-AECA-4A50D51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BC61C-3107-4783-BCB8-C01BBC0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F78E7-301E-4BBA-8B66-4203D1A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FBB39-0B68-4A99-AA04-6A56470E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5ED3A-DE9B-4C67-B078-1591F8DC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A68C4-9CFA-43FB-B88C-E24A1020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8109F-692F-4B0F-920D-E4FD8726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59247-ECA9-4A26-AB39-DA84A10B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15355-FD36-4B63-A179-2B6A8449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1EA-FE22-41DE-B38A-D57651E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29270-2793-4149-9F61-BC9E926E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64795-87F1-426B-B046-C7C4CD56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FB54A-C80C-4260-82E9-81BF9758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43995-96A5-47E5-879A-1733B4EC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B11F2-53D7-4D63-B888-FEB3D00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23162-4F4C-4B2B-A2C2-A39D2FE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2214B-60ED-445C-8574-DD0803C7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2AB2D-4CD3-4E95-A058-C311877B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D5AB7-E48B-4DC1-9075-A2CFC4B5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A5031-D720-416A-A2E6-6E1E92EA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0A6-8288-4C18-982C-76DC5476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0F470-E0D2-43E3-A029-5B93979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01307-1250-4649-9B3C-4261C9A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280FA-34EA-4114-A8EF-2FC1CFE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FA940-5315-4E60-BD03-5BD6EF4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40D8C-9708-497A-86B1-6BD79EDB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B46C9-473B-4855-809B-071B1B7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3957D-17A1-43ED-944E-B82D5AA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C904F-0430-45A7-AC79-6D2DC7F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0188E-8F23-40FD-B327-C50AC42D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4E272-45CC-4D0F-84CF-B31A8DB9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C3E-9AF0-468C-89E2-800225E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26384-D645-4214-9FC8-FA7A4999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2433-9ECE-46C8-A1D3-1EFC5634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E920-3F51-401F-B6E7-88CCF8B3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73D0-987A-47EC-B96A-8DAE76CB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72F1-8319-4FA8-981A-676232E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520C8-56E2-4528-AF9E-FECA5BC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84FDD-E6BF-412D-B7E1-6C959AAB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FCD76-955A-4A32-BB8C-39B0658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AFCAE-C77F-4646-AEBE-39E6D2C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18561-BA3C-406F-8D4D-4844868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206-582E-41E6-979B-1C118C9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DDBE-3DD2-40FE-8075-472DA10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6DC00-E7F2-4AD0-BE74-B020D655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23B6-125D-47BE-BDE9-837268DD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F1551-3B16-4963-919D-03C66031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44CCA-2810-4FC3-976C-66134A28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DFC9D-7E70-46F7-9944-FDE63D40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C20D1-3C77-4A30-A50A-77D40E83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4021F-6CC5-4622-97FF-E97DC209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50C3E-15F5-44F9-9EA8-78C1FB7A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BB3F1-D88A-4A4F-B3A6-DA675660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39C-47DD-4285-99F0-6BB6AC21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6FB3B-71A9-4F31-BB9C-94D58A8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92997-B86A-454E-906E-A8D25ACA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18178-65D5-4854-B5E2-02ADE3E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C1917-53E4-47F0-8CF1-F3B8B6BC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ABDA5-C408-46D2-95F3-24489512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F54B-686C-4E1E-8B0D-D343F37A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80DBF-EEFF-4199-A957-EC33CBEC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2E48-17AB-4E82-BF0D-74054872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542B8-4B6D-4805-B596-FAFBF03B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9CB7-AE75-42A3-BB8A-BFA0E8B3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999-4E90-4337-8151-2FC8A35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54BBF-D27A-4DC8-9493-465D133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26927-4368-4B9B-8D69-E9A62D9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4A9C-F2D6-4F9B-9A82-9D5772C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B139-84F5-4119-8880-131850A8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48184-2623-44D6-8047-265295FB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8098-8532-4493-AE55-E51206E4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1F574-E449-4078-AFBE-65A1F368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0771-23EF-4308-B997-8BA3DAD861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1150-B32A-4E4D-B7EA-4DC59F5A31E2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1D5D-C936-4073-BEB8-AA9B097D49C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0A5-0D84-4377-9DCE-ED2C3DE05E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47F-0E81-4B0A-A4F7-F828E9F798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46D2-B136-4C27-95E8-A95B88D5DACD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35AB-7121-42E9-BBE0-A1333F97525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45C2-2155-48D8-B852-75CD1FB0A1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63_&#1075;&#1086;&#1076;" TargetMode="External"/><Relationship Id="rId2" Type="http://schemas.openxmlformats.org/officeDocument/2006/relationships/hyperlink" Target="http://ru.wikipedia.org/wiki/&#1046;&#1080;&#1090;&#1080;&#1077;_&#1086;&#1076;&#1085;&#1086;&#1081;_&#1073;&#1072;&#1073;&#1099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70_&#1075;&#1086;&#1076;" TargetMode="External"/><Relationship Id="rId2" Type="http://schemas.openxmlformats.org/officeDocument/2006/relationships/hyperlink" Target="http://ru.wikipedia.org/wiki/&#1050;&#1072;&#1090;&#1082;&#1086;&#1074;,_&#1052;&#1080;&#1093;&#1072;&#1080;&#1083;_&#1053;&#1080;&#1082;&#1080;&#1092;&#1086;&#1088;&#1086;&#1074;&#1080;&#1095;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7;&#1077;&#1095;&#1072;&#1090;&#1083;&#1077;&#1085;&#1085;&#1099;&#1081;_&#1072;&#1085;&#1075;&#1077;&#1083;" TargetMode="External"/><Relationship Id="rId2" Type="http://schemas.openxmlformats.org/officeDocument/2006/relationships/hyperlink" Target="http://ru.wikipedia.org/wiki/&#1054;&#1095;&#1072;&#1088;&#1086;&#1074;&#1072;&#1085;&#1085;&#1099;&#1081;_&#1089;&#1090;&#1088;&#1072;&#1085;&#1085;&#1080;&#1082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0;&#1082;&#1086;&#1083;&#1072;&#1081;_I" TargetMode="External"/><Relationship Id="rId2" Type="http://schemas.openxmlformats.org/officeDocument/2006/relationships/hyperlink" Target="http://ru.wikipedia.org/wiki/&#1050;&#1072;&#1088;&#1083;_&#1041;&#1088;&#1102;&#1083;&#1083;&#1086;&#1074;" TargetMode="External"/><Relationship Id="rId3" Type="http://schemas.openxmlformats.org/officeDocument/2006/relationships/hyperlink" Target="http://ru.wikipedia.org/wiki/1917_&#1075;&#1086;&#1076;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89" TargetMode="External"/><Relationship Id="rId2" Type="http://schemas.openxmlformats.org/officeDocument/2006/relationships/hyperlink" Target="http://ru.wikipedia.org/wiki/1848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84;&#1099;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41_&#1075;&#1086;&#1076;" TargetMode="External"/><Relationship Id="rId2" Type="http://schemas.openxmlformats.org/officeDocument/2006/relationships/hyperlink" Target="http://ru.wikipedia.org/wiki/1847_&#1075;&#1086;&#1076;" TargetMode="External"/><Relationship Id="rId3" Type="http://schemas.openxmlformats.org/officeDocument/2006/relationships/hyperlink" Target="http://ru.wikipedia.org/wiki/1848_&#1075;&#1086;&#1076;" TargetMode="External"/><Relationship Id="rId4" Type="http://schemas.openxmlformats.org/officeDocument/2006/relationships/hyperlink" Target="http://ru.wikipedia.org/wiki/&#1040;&#1083;&#1092;&#1077;&#1088;&#1100;&#1077;&#1074;,_&#1057;&#1077;&#1088;&#1075;&#1077;&#1081;_&#1055;&#1077;&#1090;&#1088;&#1086;&#1074;&#1080;&#1095;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7_&#1075;&#1086;&#1076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3;&#1080;&#1082;&#1086;&#1083;&#1086;-&#1056;&#1072;&#1081;&#1089;&#1082;&#1086;&#1077;&amp;action=edit&amp;redlink=1" TargetMode="External"/><Relationship Id="rId2" Type="http://schemas.openxmlformats.org/officeDocument/2006/relationships/hyperlink" Target="http://ru.wikipedia.org/wiki/&#1043;&#1086;&#1088;&#1086;&#1076;&#1080;&#1097;&#1077;&#1085;&#1089;&#1082;&#1080;&#1081;_&#1091;&#1077;&#1079;&#1076;" TargetMode="External"/><Relationship Id="rId3" Type="http://schemas.openxmlformats.org/officeDocument/2006/relationships/hyperlink" Target="http://ru.wikipedia.org/wiki/&#1055;&#1077;&#1085;&#1079;&#1072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51280" y="475920"/>
            <a:ext cx="52927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75f55"/>
                </a:solidFill>
                <a:latin typeface="Calibri"/>
              </a:rPr>
              <a:t>Николай </a:t>
            </a:r>
            <a:br>
              <a:rPr sz="6600"/>
            </a:br>
            <a:r>
              <a:rPr b="0" lang="ru-RU" sz="6600" spc="-1" strike="noStrike">
                <a:solidFill>
                  <a:srgbClr val="775f55"/>
                </a:solidFill>
                <a:latin typeface="Calibri"/>
              </a:rPr>
              <a:t>Семёнович </a:t>
            </a:r>
            <a:br>
              <a:rPr sz="6600"/>
            </a:br>
            <a:r>
              <a:rPr b="0" lang="ru-RU" sz="6600" spc="-1" strike="noStrike">
                <a:solidFill>
                  <a:srgbClr val="775f55"/>
                </a:solidFill>
                <a:latin typeface="Calibri"/>
              </a:rPr>
              <a:t>Лесков</a:t>
            </a:r>
            <a:endParaRPr b="0" lang="en-US" sz="6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50560" y="5157360"/>
            <a:ext cx="7993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ила: учитель русского языка и литературы МБОУ «Мещеринская СОШ№2» Дюкова Оксана Васильев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4" descr="Nikolay_Leskov"/>
          <p:cNvPicPr/>
          <p:nvPr/>
        </p:nvPicPr>
        <p:blipFill>
          <a:blip r:embed="rId1"/>
          <a:stretch/>
        </p:blipFill>
        <p:spPr>
          <a:xfrm>
            <a:off x="250920" y="260280"/>
            <a:ext cx="3816360" cy="525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отрудничество с газетами и журналами г.Санкт-Петербург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94920" y="1714680"/>
            <a:ext cx="8450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чале своей литературной карьеры Н. С. Лесков сотрудничал со многими петербургскими газетами и журналами, более всего печатаясь в «Отечественных записках», в «Русской речи» и «Северной пчеле». В «Отечественных записках» были напечатаны «Очерки винокуренной промышленности», считающиеся его первой крупной публик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150"/>
          <p:cNvPicPr/>
          <p:nvPr/>
        </p:nvPicPr>
        <p:blipFill>
          <a:blip r:embed="rId1"/>
          <a:stretch/>
        </p:blipFill>
        <p:spPr>
          <a:xfrm>
            <a:off x="642960" y="3214800"/>
            <a:ext cx="2590920" cy="3141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DDCC-0-0039-0831-0"/>
          <p:cNvPicPr/>
          <p:nvPr/>
        </p:nvPicPr>
        <p:blipFill>
          <a:blip r:embed="rId2"/>
          <a:stretch/>
        </p:blipFill>
        <p:spPr>
          <a:xfrm>
            <a:off x="6143760" y="3286080"/>
            <a:ext cx="2447640" cy="3068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OtechZapiski"/>
          <p:cNvPicPr/>
          <p:nvPr/>
        </p:nvPicPr>
        <p:blipFill>
          <a:blip r:embed="rId3"/>
          <a:stretch/>
        </p:blipFill>
        <p:spPr>
          <a:xfrm>
            <a:off x="3500280" y="3357720"/>
            <a:ext cx="2305080" cy="30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ервая пове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1640" y="2143080"/>
            <a:ext cx="4273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63 год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журнале «Библиотека для чтения» была напечатана повесть «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Житие одной баб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» (1863). При жизни писателя произведение не переиздавалось и вышло затем лишь в 1924 году в измененном виде под заголовком «Амур в лапоточках. Крестьянский роман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5" descr="amur-v-lapotochkah-krestyanskiy-roman-id133329"/>
          <p:cNvPicPr/>
          <p:nvPr/>
        </p:nvPicPr>
        <p:blipFill>
          <a:blip r:embed="rId3"/>
          <a:stretch/>
        </p:blipFill>
        <p:spPr>
          <a:xfrm>
            <a:off x="214200" y="1790640"/>
            <a:ext cx="4427640" cy="506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ервый роман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438440" y="1785600"/>
            <a:ext cx="413388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70 год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. С. Лесков опубликовал роман «На ножах». Лесков был недоволен романом, впоследствии называя его своим наихудшим произведением.Кроме того, неприятный осадок у писателя оставили и постоянные споры с 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М. Н. Катковы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который раз за разом требовал переделывать и редактировать законченный вариан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" descr="110px-At_Daggers_Drawn_1885"/>
          <p:cNvPicPr/>
          <p:nvPr/>
        </p:nvPicPr>
        <p:blipFill>
          <a:blip r:embed="rId3"/>
          <a:stretch/>
        </p:blipFill>
        <p:spPr>
          <a:xfrm>
            <a:off x="357120" y="1785960"/>
            <a:ext cx="3745080" cy="4857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«Левша»-сказ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642840" y="1714680"/>
            <a:ext cx="50720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дним из самых ярких образов в галерее лесковских «праведников» стал Левша («Сказ о тульском косом левше и о стальной блохе», 1881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Левша» подвергся сокрушительной критике, Лескова обвинили в национализме, сочли чрезмерно мрачным изображение жизни русского народа. Н. С. Лесков отвечал, что «принизить русский народ или польстить ему» никак не входило в его намер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5" descr="311-1"/>
          <p:cNvPicPr/>
          <p:nvPr/>
        </p:nvPicPr>
        <p:blipFill>
          <a:blip r:embed="rId1"/>
          <a:stretch/>
        </p:blipFill>
        <p:spPr>
          <a:xfrm>
            <a:off x="428760" y="1857240"/>
            <a:ext cx="2990880" cy="44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305-1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ворческая копил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920" y="1714320"/>
            <a:ext cx="8594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872 году был написан, а год спустя опубликован рассказ Н. С. Лескова «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Запечатленный анге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ом же году вышла повесть «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Очарованный странник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», произведение свободных форм, не имевшее законченного сюже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галереи ярких положительных персонажей было продолжено писателем в сборнике рассказов, вышедшем под общим названием «Праведники» («Фигура», «Человек на часах», «Несмертельный Голован» и др.) Как отмечали впоследствии критики, лесковских праведников объединяют «прямодушие, бесстрашие, обостренная совестливость, неспособность примириться со зл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оздние произведения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360" y="1714680"/>
            <a:ext cx="83772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90-х годах Лесков в своём творчестве стал ещё более резко публицистичен, чем прежде: его рассказы и повести в последние годы жизни носили остро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тирический характ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атание в журнале «Русская мысль» романа «Чертовы куклы», прототипами двух главных героев которого были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Николай 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художник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К. Брюлл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было приостановлено цензурой. Не смог опубликовать Лесков и повесть «Заячий ремиз» — ни в «Русской мысли», ни в «Вестнике Европы»: она была напечатана лишь посл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1917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и одно крупное позднее произведение писателя (включая романы «Соколий перелет» и «Незаметный след») не было опубликовано пол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мерть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57480" y="1714320"/>
            <a:ext cx="39877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мер Николай Семенович Лесков 5 марта (по старому стилю — 21 февраля) 1895 года в Петербурге, от очередного приступа астмы, мучившей его последние пять лет жизни. Похоронен Николай Лесков на Волковом кладбище в Санкт-Петербург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11"/>
          <p:cNvPicPr/>
          <p:nvPr/>
        </p:nvPicPr>
        <p:blipFill>
          <a:blip r:embed="rId1"/>
          <a:stretch/>
        </p:blipFill>
        <p:spPr>
          <a:xfrm>
            <a:off x="395280" y="1571760"/>
            <a:ext cx="4105440" cy="49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ом-музей Н.С.Леск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7720" y="157140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 1974 году в Орле открыт дом-музей Н. С. Лесков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4" descr="r_683968_08lh1lidgkjx7lxbe8g0"/>
          <p:cNvPicPr/>
          <p:nvPr/>
        </p:nvPicPr>
        <p:blipFill>
          <a:blip r:embed="rId1"/>
          <a:stretch/>
        </p:blipFill>
        <p:spPr>
          <a:xfrm>
            <a:off x="1714680" y="2571840"/>
            <a:ext cx="6357600" cy="338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абочее место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  <a:ea typeface="Arial"/>
              </a:rPr>
              <a:t>В рабочем кабинете Лескова – многочисленные старинные часы, бесчисленные портреты, картины в снимках и оригиналах, на столах множество ламп, масса безделу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587b695bbeef061dd701200dadde3ca9"/>
          <p:cNvPicPr/>
          <p:nvPr/>
        </p:nvPicPr>
        <p:blipFill>
          <a:blip r:embed="rId1"/>
          <a:stretch/>
        </p:blipFill>
        <p:spPr>
          <a:xfrm>
            <a:off x="2071800" y="3357720"/>
            <a:ext cx="4890960" cy="31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7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траницы биографии Н.С.Леско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Franklin Gothic Heavy"/>
              </a:rPr>
              <a:t>Николай Семёнович Лесков родился 4 февраля 1831 года в селе Горохово Орловского уез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1" descr="iCATUH7Z8"/>
          <p:cNvPicPr/>
          <p:nvPr/>
        </p:nvPicPr>
        <p:blipFill>
          <a:blip r:embed="rId4"/>
          <a:stretch/>
        </p:blipFill>
        <p:spPr>
          <a:xfrm>
            <a:off x="0" y="1916280"/>
            <a:ext cx="5508720" cy="41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амятник Н.С.Лесков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4920" y="1571400"/>
            <a:ext cx="84502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 1981 году, в честь 150-летия со дня рождения писателя в Орле установлен памятник Лескову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857160" y="2500200"/>
            <a:ext cx="7534440" cy="409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одители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91306"/>
                </a:solidFill>
                <a:latin typeface="Calibri"/>
              </a:rPr>
              <a:t>Отец- Семён Дмитриевич Лесков</a:t>
            </a:r>
            <a:r>
              <a:rPr b="0" lang="ru-RU" sz="2900" spc="-1" strike="noStrike">
                <a:solidFill>
                  <a:srgbClr val="191306"/>
                </a:solidFill>
                <a:latin typeface="Calibri"/>
              </a:rPr>
              <a:t> (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789</a:t>
            </a: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—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1848</a:t>
            </a: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91306"/>
                </a:solidFill>
                <a:latin typeface="Times New Roman"/>
                <a:ea typeface="Times New Roman"/>
              </a:rPr>
              <a:t>выходец из духовной среды. Порвав с духовной средой, он поступил на службу в Орловскую уголовную палату, где дослужился до чинов, дававших право на потомственное дворянство, и по свидетельству современников, приобрёл репутацию проницательного следователя, способного распутывать сложные дел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85800" y="1213920"/>
            <a:ext cx="4559400" cy="52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306"/>
                </a:solidFill>
                <a:latin typeface="Calibri"/>
              </a:rPr>
              <a:t>Мать- Мария Петровна Лескова (урожд. Алферьева) была дочерью обедневшего московского дворянина. Одна из её сестёр была замужем за состоятельным орловским помещиком, другая — за англичанином, управлявшим несколькими поместьями в разных губерния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9" descr="0007-007-Marja-Petrovna-Leskova-mat-pisatelja"/>
          <p:cNvPicPr/>
          <p:nvPr/>
        </p:nvPicPr>
        <p:blipFill>
          <a:blip r:embed="rId1"/>
          <a:stretch/>
        </p:blipFill>
        <p:spPr>
          <a:xfrm>
            <a:off x="500040" y="928800"/>
            <a:ext cx="3892680" cy="4954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етство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92000" y="1714320"/>
            <a:ext cx="8352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306"/>
                </a:solidFill>
                <a:latin typeface="Calibri"/>
              </a:rPr>
              <a:t>Раннее детство Н. С. Лескова прошло в  г.Орле. После 1839 года, когда отец покинул службу (из-за ссоры с начальством, чем, по словам Лескова, навлек на себя гнев губернатора), семья — супруга, трое сыновей и две дочери — переехала в село Панино (Панин хутор) неподалёку от города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Кромы</a:t>
            </a:r>
            <a:r>
              <a:rPr b="0" lang="ru-RU" sz="2800" spc="-1" strike="noStrike">
                <a:solidFill>
                  <a:srgbClr val="191306"/>
                </a:solidFill>
                <a:latin typeface="Calibri"/>
              </a:rPr>
              <a:t>. Здесь, как вспоминал будущий писатель, и состоялось его знакомство с народным языком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родолжение дела отц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0920" y="1499760"/>
            <a:ext cx="85946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август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41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десятилетнем возрасте Н. С. Лесков поступил в первый класс Орловской губернской гимназии, где учился плохо: через пять лет он получил свидетельство об окончании лишь двух клас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юн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1847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сков поступил на службу в ту же палату уголовного суда, где работал его отец, на должность канцелярского служителя 2-го разряда. После смерти отца от холеры (в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1848 год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Николай Семёнович получил очередное повышение по службе, став помощником столоначальника Орловской палаты уголовного суда, а в декабре 1849 года по собственному прошению — перемещение в штат Киевской казенной палаты. Он переехал в Киев, где жил у своего дяди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4"/>
              </a:rPr>
              <a:t>С. П. Алферье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Первая работа. Проявление творческих  способностей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779640" y="1785960"/>
            <a:ext cx="50655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57 году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сков уволился со службы и начал работать в компании мужа своей тетки А. Я. Шкотта (Скотта) «Шкотт и Вилькенс». Лесков приобрёл огромный практический опыт и знания в многочисленных областях промышленности и сельского хозяйства. При этом по делам фирмы Лесков постоянно отправлялся в «странствования по России», что также способствовало его знакомству с языком и бытом разных областей страны. «…Это самые лучшие годы моей жизни, когда я много видел и жил легко», — позже вспоминал Н. С. Лес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4" descr="Leskov1"/>
          <p:cNvPicPr/>
          <p:nvPr/>
        </p:nvPicPr>
        <p:blipFill>
          <a:blip r:embed="rId2"/>
          <a:stretch/>
        </p:blipFill>
        <p:spPr>
          <a:xfrm>
            <a:off x="214200" y="1785960"/>
            <a:ext cx="3602160" cy="471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Начало литературной деятельност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4360" y="1643040"/>
            <a:ext cx="81612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1860 года он жил с семьей в сел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Николо-Райск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Городищенского уез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нзенской губернии и в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Пенз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Здесь он впервые взялся за пер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том 1860 года он вернулся в Киев, где занялся журналистской и литературной деятельностью. Через полгода он переехал в Петербур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ервые неудач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71960" y="1689120"/>
            <a:ext cx="48513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ков начал печататься сравнительно поздно — на двадцать шестом году жизни, поместив несколько заметок в газете «Санкт-Петербургские ведомости» (1859—1860), несколько статей в киевских изданиях «Современная медицина» и «Указатель экономический». Статьи Лескова, обличавшие коррупцию полицейских врачей, привели к конфликту с сослуживцами: в результате организованной ими провокации Лесков, проводивший служебное расследование, был обвинен во взяточничестве и вынужден был оставить службу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4" descr="Nikolai_Leskov_1860"/>
          <p:cNvPicPr/>
          <p:nvPr/>
        </p:nvPicPr>
        <p:blipFill>
          <a:blip r:embed="rId1"/>
          <a:stretch/>
        </p:blipFill>
        <p:spPr>
          <a:xfrm>
            <a:off x="250920" y="1500120"/>
            <a:ext cx="3671640" cy="4160880"/>
          </a:xfrm>
          <a:prstGeom prst="rect">
            <a:avLst/>
          </a:prstGeom>
          <a:ln w="0">
            <a:noFill/>
          </a:ln>
        </p:spPr>
      </p:pic>
      <p:sp>
        <p:nvSpPr>
          <p:cNvPr id="375" name="WordArt 5"/>
          <p:cNvSpPr txBox="1"/>
          <p:nvPr/>
        </p:nvSpPr>
        <p:spPr>
          <a:xfrm>
            <a:off x="684360" y="5805360"/>
            <a:ext cx="273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0 г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0:34:48Z</dcterms:created>
  <dc:creator>Алёна</dc:creator>
  <dc:description/>
  <dc:language>en-US</dc:language>
  <cp:lastModifiedBy>Пользователь Windows</cp:lastModifiedBy>
  <dcterms:modified xsi:type="dcterms:W3CDTF">2018-12-21T20:16:17Z</dcterms:modified>
  <cp:revision>9</cp:revision>
  <dc:subject/>
  <dc:title>Николай Семёнович Лесков</dc:title>
</cp:coreProperties>
</file>