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F94-A5E9-4834-8BD1-093636BC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170-4FFB-40EE-BF46-2C96F46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17D-32CF-4128-BCDD-F0BBAB98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FE43-7077-4E6C-9CED-DCB2EE1F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2FBA-D3B4-4FE3-8F0E-136CAB53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BF8F-F3B9-4C9C-8AFD-B55C6419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5442-98DB-4892-B429-FDABAA4E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7CB4-FE88-4ABF-B7BF-E53424F6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6E95-D908-4EC8-928B-49D3B75F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753E-78CE-4FCF-84F2-85B5F9B5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E989-7A4A-46E8-8002-36E1B5AE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D71-D45F-49CC-93B0-09CD5844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1F59-C3F7-4DA5-B7FB-0E0C0872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2F9C-062C-4CE8-ADF3-775E3801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0F8B-03F0-4019-87DE-91860150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6A92-B4A3-4A90-A46C-F5CFEE44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1CD2-A5E9-49AC-9A22-D86858D2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5B3A6-6E4B-4E0B-A01D-A3A4730C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1BDA6-D871-42E2-A688-7B015C1A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ED2B5-8DE9-45EA-A820-167211D5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31174-0947-45CE-B6AC-17E76A58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FBD2D-7F4F-4330-BCF4-059235C1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1DC-D634-41CA-8E15-2F5E07D4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633E5-0F33-466A-8DEE-4AE43D4A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CA759-102B-488E-8E34-7EEAF37B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A6F0A-3FEF-4DEC-A9A3-C830B1D9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081BF-278E-48BF-A476-7B179ED5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EC588-3C20-4B5C-B64A-5733FC04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80CAE-B27B-49ED-A7D9-C10F48D9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1BA19-5B91-406A-9F10-0112692E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89469-83A9-4C65-9401-AC5D4031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8106F-C3EB-41E1-9FB9-B6E98DAE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FB080-4DFA-4A95-9417-99BE336D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0E0-3326-479F-B07B-E4310922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33024-FE8F-43A4-BFAD-DD87CB66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F7F3A-7175-4D45-9696-D56DFBA9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C0298D-7EA2-4D03-A9FA-C0F04139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EB5828-958F-480F-B884-A3C0D572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239D85-FAD0-4D46-AD6A-EA91483D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E0819-BE12-4033-9C74-BEC5E21F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D15047-2FC8-4CB0-9C89-C563244C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D4636-9F8D-4976-8751-161A58AC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00FD61-17B6-45DF-A9CF-A894BDC4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B65128-267E-4442-B820-BCFAF7D2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32C-C956-46A9-B70B-D0BA5D6A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B33E4-0F97-431E-9241-E994D4C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5F3FDF-DD8F-41C3-A386-8BA2D94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FED1E1-18F7-4814-9FCE-C4969CF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C289F-6C10-4D9E-AEC0-BC001139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D67CE-673B-46C0-BFD3-B173C2EB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996E8-28F2-4945-AC63-779E222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563D6-83AD-4817-AC8A-54F1DDEF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1AEAC-FB5A-4D43-A90D-7F05413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B0727-C303-4DC9-B741-CCB3E55E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7D73A-1026-4CA2-A1DF-81075D1F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73A-335F-463F-81F2-4EB4D097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3144C-CB76-4DB7-B085-6E06E2CD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DE7CA-57A4-442F-993F-4713363B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25DBE-082C-4446-BDDF-4847D231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7C2D7-DB0B-484B-9B63-26DE1E68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2287-C3A2-4457-8E61-12B11BD3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1DA42-9CA4-417B-9869-83CC968B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25D18-8C71-4231-9D0A-AA961930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D458-7623-4DAB-963B-178AF56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5CE5-E875-45C8-B0ED-024DE27A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DBF7-3D81-4CF9-9DF1-C8685F14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0E8-6C33-4430-8E6E-A118547B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6829-3DE1-43CF-9577-B2AE4ECC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DA6DD-0839-4646-80B2-58C7EF01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D8E32-27F2-489D-A2BF-4A1BDAC2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B8132-4FED-462A-BE8D-CAE60B52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71E4D-1A37-4578-B0AD-5D5FC4B7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6E4F7-BDCE-4F8D-AF7A-707BCAEC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E3F63-63DF-403C-9605-65F0D9C1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66CC4-4E7A-4359-9C2C-18069A67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09C09-86BC-4AD5-A490-ADA6CD08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49E3E-687C-4A20-B5C6-F55A1F11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154-CE5B-44CE-AAC1-F9A967B6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349E68-1040-4D6F-A4C8-65A2D1BC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71C5E3-134B-45DF-8EF0-AD53C77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1CFA1-BF6B-44B6-8EE5-B1A12381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8BFAD-5E28-43D5-A08E-4A3B35E9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6A930-3EC4-4252-AC5A-B8BB87E3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21535-8324-4D3A-9ADB-2F288D7C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92D5D-B1CF-4C88-9AB4-72A97994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9B9D0-63C5-448C-86B6-92D3EACE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26D53-4B60-4F8A-89C0-AFAF414E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BD3DB-4A40-4598-9174-05D666C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B50-D0D5-4811-A877-D46AB274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5FB08-C641-4613-AD88-57E7281C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65E54-9DFF-4120-ACAF-72107197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A6679-1519-4B91-8576-ABD94A40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664D-605C-49DC-BA70-5FFA2E9E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6CB17-B13B-451B-A909-8F031E2D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F5474-A498-47AD-B6D1-81F2B3B1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FFBCC-744B-40EB-BB34-6887171E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7E4E-3552-40DE-A1AF-DC3F5BF4F3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868-A611-4F9C-B640-7F797391A220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F839-6A27-4BD5-99A8-51AE12C2AA1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7D9E-603C-48EA-9027-319B0FAAE91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F425-5B42-4EAD-A3AA-44FFDF84302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A70B-6E2A-48E6-B7A0-7862C60DDA29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887B-A2B7-4769-B582-64957C396191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F338-ED86-494F-8664-4B07BAD56A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63_&#1075;&#1086;&#1076;" TargetMode="External"/><Relationship Id="rId2" Type="http://schemas.openxmlformats.org/officeDocument/2006/relationships/hyperlink" Target="http://ru.wikipedia.org/wiki/&#1046;&#1080;&#1090;&#1080;&#1077;_&#1086;&#1076;&#1085;&#1086;&#1081;_&#1073;&#1072;&#1073;&#1099;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70_&#1075;&#1086;&#1076;" TargetMode="External"/><Relationship Id="rId2" Type="http://schemas.openxmlformats.org/officeDocument/2006/relationships/hyperlink" Target="http://ru.wikipedia.org/wiki/&#1050;&#1072;&#1090;&#1082;&#1086;&#1074;,_&#1052;&#1080;&#1093;&#1072;&#1080;&#1083;_&#1053;&#1080;&#1082;&#1080;&#1092;&#1086;&#1088;&#1086;&#1074;&#1080;&#1095;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72;&#1087;&#1077;&#1095;&#1072;&#1090;&#1083;&#1077;&#1085;&#1085;&#1099;&#1081;_&#1072;&#1085;&#1075;&#1077;&#1083;" TargetMode="External"/><Relationship Id="rId2" Type="http://schemas.openxmlformats.org/officeDocument/2006/relationships/hyperlink" Target="http://ru.wikipedia.org/wiki/&#1054;&#1095;&#1072;&#1088;&#1086;&#1074;&#1072;&#1085;&#1085;&#1099;&#1081;_&#1089;&#1090;&#1088;&#1072;&#1085;&#1085;&#1080;&#1082;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80;&#1082;&#1086;&#1083;&#1072;&#1081;_I" TargetMode="External"/><Relationship Id="rId2" Type="http://schemas.openxmlformats.org/officeDocument/2006/relationships/hyperlink" Target="http://ru.wikipedia.org/wiki/&#1050;&#1072;&#1088;&#1083;_&#1041;&#1088;&#1102;&#1083;&#1083;&#1086;&#1074;" TargetMode="External"/><Relationship Id="rId3" Type="http://schemas.openxmlformats.org/officeDocument/2006/relationships/hyperlink" Target="http://ru.wikipedia.org/wiki/1917_&#1075;&#1086;&#1076;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images.yandex.ru/" TargetMode="External"/><Relationship Id="rId3" Type="http://schemas.openxmlformats.org/officeDocument/2006/relationships/hyperlink" Target="http://images.yandex.ru/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789" TargetMode="External"/><Relationship Id="rId2" Type="http://schemas.openxmlformats.org/officeDocument/2006/relationships/hyperlink" Target="http://ru.wikipedia.org/wiki/1848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86;&#1084;&#1099;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41_&#1075;&#1086;&#1076;" TargetMode="External"/><Relationship Id="rId2" Type="http://schemas.openxmlformats.org/officeDocument/2006/relationships/hyperlink" Target="http://ru.wikipedia.org/wiki/1847_&#1075;&#1086;&#1076;" TargetMode="External"/><Relationship Id="rId3" Type="http://schemas.openxmlformats.org/officeDocument/2006/relationships/hyperlink" Target="http://ru.wikipedia.org/wiki/1848_&#1075;&#1086;&#1076;" TargetMode="External"/><Relationship Id="rId4" Type="http://schemas.openxmlformats.org/officeDocument/2006/relationships/hyperlink" Target="http://ru.wikipedia.org/wiki/&#1040;&#1083;&#1092;&#1077;&#1088;&#1100;&#1077;&#1074;,_&#1057;&#1077;&#1088;&#1075;&#1077;&#1081;_&#1055;&#1077;&#1090;&#1088;&#1086;&#1074;&#1080;&#1095;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7_&#1075;&#1086;&#1076;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3;&#1080;&#1082;&#1086;&#1083;&#1086;-&#1056;&#1072;&#1081;&#1089;&#1082;&#1086;&#1077;&amp;action=edit&amp;redlink=1" TargetMode="External"/><Relationship Id="rId2" Type="http://schemas.openxmlformats.org/officeDocument/2006/relationships/hyperlink" Target="http://ru.wikipedia.org/wiki/&#1043;&#1086;&#1088;&#1086;&#1076;&#1080;&#1097;&#1077;&#1085;&#1089;&#1082;&#1080;&#1081;_&#1091;&#1077;&#1079;&#1076;" TargetMode="External"/><Relationship Id="rId3" Type="http://schemas.openxmlformats.org/officeDocument/2006/relationships/hyperlink" Target="http://ru.wikipedia.org/wiki/&#1055;&#1077;&#1085;&#1079;&#1072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51280" y="475920"/>
            <a:ext cx="52927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75f55"/>
                </a:solidFill>
                <a:latin typeface="Calibri"/>
              </a:rPr>
              <a:t>Николай </a:t>
            </a:r>
            <a:br>
              <a:rPr sz="6600"/>
            </a:br>
            <a:r>
              <a:rPr b="0" lang="ru-RU" sz="6600" spc="-1" strike="noStrike">
                <a:solidFill>
                  <a:srgbClr val="775f55"/>
                </a:solidFill>
                <a:latin typeface="Calibri"/>
              </a:rPr>
              <a:t>Семёнович </a:t>
            </a:r>
            <a:br>
              <a:rPr sz="6600"/>
            </a:br>
            <a:r>
              <a:rPr b="0" lang="ru-RU" sz="6600" spc="-1" strike="noStrike">
                <a:solidFill>
                  <a:srgbClr val="775f55"/>
                </a:solidFill>
                <a:latin typeface="Calibri"/>
              </a:rPr>
              <a:t>Лесков</a:t>
            </a:r>
            <a:endParaRPr b="0" lang="en-US" sz="6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50560" y="5157360"/>
            <a:ext cx="799308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ила: учитель русского языка и литературы МБОУ «Мещеринская СОШ№2» Дюкова Оксана Васильев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4" descr="Nikolay_Leskov"/>
          <p:cNvPicPr/>
          <p:nvPr/>
        </p:nvPicPr>
        <p:blipFill>
          <a:blip r:embed="rId1"/>
          <a:stretch/>
        </p:blipFill>
        <p:spPr>
          <a:xfrm>
            <a:off x="250920" y="260280"/>
            <a:ext cx="3816360" cy="525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Сотрудничество с газетами и журналами г.Санкт-Петербурга.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94920" y="1714680"/>
            <a:ext cx="84502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чале своей литературной карьеры Н. С. Лесков сотрудничал со многими петербургскими газетами и журналами, более всего печатаясь в «Отечественных записках», в «Русской речи» и «Северной пчеле». В «Отечественных записках» были напечатаны «Очерки винокуренной промышленности», считающиеся его первой крупной публикаци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4" descr="150"/>
          <p:cNvPicPr/>
          <p:nvPr/>
        </p:nvPicPr>
        <p:blipFill>
          <a:blip r:embed="rId1"/>
          <a:stretch/>
        </p:blipFill>
        <p:spPr>
          <a:xfrm>
            <a:off x="642960" y="3214800"/>
            <a:ext cx="2590920" cy="31417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DDCC-0-0039-0831-0"/>
          <p:cNvPicPr/>
          <p:nvPr/>
        </p:nvPicPr>
        <p:blipFill>
          <a:blip r:embed="rId2"/>
          <a:stretch/>
        </p:blipFill>
        <p:spPr>
          <a:xfrm>
            <a:off x="6143760" y="3286080"/>
            <a:ext cx="2447640" cy="30686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OtechZapiski"/>
          <p:cNvPicPr/>
          <p:nvPr/>
        </p:nvPicPr>
        <p:blipFill>
          <a:blip r:embed="rId3"/>
          <a:stretch/>
        </p:blipFill>
        <p:spPr>
          <a:xfrm>
            <a:off x="3500280" y="3357720"/>
            <a:ext cx="2305080" cy="3068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8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ервая пове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1640" y="2143080"/>
            <a:ext cx="4273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863 год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журнале «Библиотека для чтения» была напечатана повесть «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Житие одной баб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» (1863). При жизни писателя произведение не переиздавалось и вышло затем лишь в 1924 году в измененном виде под заголовком «Амур в лапоточках. Крестьянский роман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5" descr="amur-v-lapotochkah-krestyanskiy-roman-id133329"/>
          <p:cNvPicPr/>
          <p:nvPr/>
        </p:nvPicPr>
        <p:blipFill>
          <a:blip r:embed="rId3"/>
          <a:stretch/>
        </p:blipFill>
        <p:spPr>
          <a:xfrm>
            <a:off x="214200" y="1790640"/>
            <a:ext cx="4427640" cy="506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ервый роман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438440" y="1785600"/>
            <a:ext cx="413388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870 год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Н. С. Лесков опубликовал роман «На ножах». Лесков был недоволен романом, впоследствии называя его своим наихудшим произведением.Кроме того, неприятный осадок у писателя оставили и постоянные споры с 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М. Н. Катковы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который раз за разом требовал переделывать и редактировать законченный вариан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" descr="110px-At_Daggers_Drawn_1885"/>
          <p:cNvPicPr/>
          <p:nvPr/>
        </p:nvPicPr>
        <p:blipFill>
          <a:blip r:embed="rId3"/>
          <a:stretch/>
        </p:blipFill>
        <p:spPr>
          <a:xfrm>
            <a:off x="357120" y="1785960"/>
            <a:ext cx="3745080" cy="4857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«Левша»-сказ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642840" y="1714680"/>
            <a:ext cx="507204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дним из самых ярких образов в галерее лесковских «праведников» стал Левша («Сказ о тульском косом левше и о стальной блохе», 1881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Левша» подвергся сокрушительной критике, Лескова обвинили в национализме, сочли чрезмерно мрачным изображение жизни русского народа. Н. С. Лесков отвечал, что «принизить русский народ или польстить ему» никак не входило в его намере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5" descr="311-1"/>
          <p:cNvPicPr/>
          <p:nvPr/>
        </p:nvPicPr>
        <p:blipFill>
          <a:blip r:embed="rId1"/>
          <a:stretch/>
        </p:blipFill>
        <p:spPr>
          <a:xfrm>
            <a:off x="428760" y="1857240"/>
            <a:ext cx="2990880" cy="44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4" descr="305-1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Творческая копилк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50920" y="1714320"/>
            <a:ext cx="85946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1872 году был написан, а год спустя опубликован рассказ Н. С. Лескова «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Запечатленный анге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том же году вышла повесть «</a:t>
            </a:r>
            <a:r>
              <a:rPr b="0" lang="ru-RU" sz="26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Очарованный странник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», произведение свободных форм, не имевшее законченного сюже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галереи ярких положительных персонажей было продолжено писателем в сборнике рассказов, вышедшем под общим названием «Праведники» («Фигура», «Человек на часах», «Несмертельный Голован» и др.) Как отмечали впоследствии критики, лесковских праведников объединяют «прямодушие, бесстрашие, обостренная совестливость, неспособность примириться со зл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оздние произведения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360" y="1714680"/>
            <a:ext cx="83772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1890-х годах Лесков в своём творчестве стал ещё более резко публицистичен, чем прежде: его рассказы и повести в последние годы жизни носили остро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тирический характ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чатание в журнале «Русская мысль» романа «Чертовы куклы», прототипами двух главных героев которого были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Николай 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художник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К. Брюлл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было приостановлено цензурой. Не смог опубликовать Лесков и повесть «Заячий ремиз» — ни в «Русской мысли», ни в «Вестнике Европы»: она была напечатана лишь после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1917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Ни одно крупное позднее произведение писателя (включая романы «Соколий перелет» и «Незаметный след») не было опубликовано пол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Смерть писат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57480" y="1714320"/>
            <a:ext cx="398772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мер Николай Семенович Лесков 5 марта (по старому стилю — 21 февраля) 1895 года в Петербурге, от очередного приступа астмы, мучившей его последние пять лет жизни. Похоронен Николай Лесков на Волковом кладбище в Санкт-Петербурге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11"/>
          <p:cNvPicPr/>
          <p:nvPr/>
        </p:nvPicPr>
        <p:blipFill>
          <a:blip r:embed="rId1"/>
          <a:stretch/>
        </p:blipFill>
        <p:spPr>
          <a:xfrm>
            <a:off x="395280" y="1571760"/>
            <a:ext cx="4105440" cy="4952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Дом-музей Н.С.Леск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7720" y="1571400"/>
            <a:ext cx="80074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В 1974 году в Орле открыт дом-музей Н. С. Лескова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4" descr="r_683968_08lh1lidgkjx7lxbe8g0"/>
          <p:cNvPicPr/>
          <p:nvPr/>
        </p:nvPicPr>
        <p:blipFill>
          <a:blip r:embed="rId1"/>
          <a:stretch/>
        </p:blipFill>
        <p:spPr>
          <a:xfrm>
            <a:off x="1714680" y="2571840"/>
            <a:ext cx="6357600" cy="338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Рабочее место писат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Arial"/>
                <a:ea typeface="Arial"/>
              </a:rPr>
              <a:t>В рабочем кабинете Лескова – многочисленные старинные часы, бесчисленные портреты, картины в снимках и оригиналах, на столах множество ламп, масса безделуш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4" descr="587b695bbeef061dd701200dadde3ca9"/>
          <p:cNvPicPr/>
          <p:nvPr/>
        </p:nvPicPr>
        <p:blipFill>
          <a:blip r:embed="rId1"/>
          <a:stretch/>
        </p:blipFill>
        <p:spPr>
          <a:xfrm>
            <a:off x="2071800" y="3357720"/>
            <a:ext cx="4890960" cy="31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>
            <a:hlinkClick r:id="rId2"/>
          </p:cNvPr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7">
            <a:hlinkClick r:id="rId3"/>
          </p:cNvPr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траницы биографии Н.С.Лесков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21640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Franklin Gothic Heavy"/>
              </a:rPr>
              <a:t>Николай Семёнович Лесков родился 4 февраля 1831 года в селе Горохово Орловского уез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21" descr="iCATUH7Z8"/>
          <p:cNvPicPr/>
          <p:nvPr/>
        </p:nvPicPr>
        <p:blipFill>
          <a:blip r:embed="rId4"/>
          <a:stretch/>
        </p:blipFill>
        <p:spPr>
          <a:xfrm>
            <a:off x="0" y="1916280"/>
            <a:ext cx="5508720" cy="410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амятник Н.С.Лесков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94920" y="1571400"/>
            <a:ext cx="84502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В 1981 году, в честь 150-летия со дня рождения писателя в Орле установлен памятник Лескову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857160" y="2500200"/>
            <a:ext cx="7534440" cy="409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Родители писат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91306"/>
                </a:solidFill>
                <a:latin typeface="Calibri"/>
              </a:rPr>
              <a:t>Отец- Семён Дмитриевич Лесков</a:t>
            </a:r>
            <a:r>
              <a:rPr b="0" lang="ru-RU" sz="2900" spc="-1" strike="noStrike">
                <a:solidFill>
                  <a:srgbClr val="191306"/>
                </a:solidFill>
                <a:latin typeface="Calibri"/>
              </a:rPr>
              <a:t> (</a:t>
            </a: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789</a:t>
            </a: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—</a:t>
            </a: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1848</a:t>
            </a:r>
            <a:r>
              <a:rPr b="0" lang="ru-RU" sz="29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91306"/>
                </a:solidFill>
                <a:latin typeface="Times New Roman"/>
                <a:ea typeface="Times New Roman"/>
              </a:rPr>
              <a:t>выходец из духовной среды. Порвав с духовной средой, он поступил на службу в Орловскую уголовную палату, где дослужился до чинов, дававших право на потомственное дворянство, и по свидетельству современников, приобрёл репутацию проницательного следователя, способного распутывать сложные дел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85800" y="1213920"/>
            <a:ext cx="4559400" cy="523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306"/>
                </a:solidFill>
                <a:latin typeface="Calibri"/>
              </a:rPr>
              <a:t>Мать- Мария Петровна Лескова (урожд. Алферьева) была дочерью обедневшего московского дворянина. Одна из её сестёр была замужем за состоятельным орловским помещиком, другая — за англичанином, управлявшим несколькими поместьями в разных губерния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Picture 9" descr="0007-007-Marja-Petrovna-Leskova-mat-pisatelja"/>
          <p:cNvPicPr/>
          <p:nvPr/>
        </p:nvPicPr>
        <p:blipFill>
          <a:blip r:embed="rId1"/>
          <a:stretch/>
        </p:blipFill>
        <p:spPr>
          <a:xfrm>
            <a:off x="500040" y="928800"/>
            <a:ext cx="3892680" cy="4954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Детство писат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92000" y="1714320"/>
            <a:ext cx="8352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91306"/>
                </a:solidFill>
                <a:latin typeface="Calibri"/>
              </a:rPr>
              <a:t>Раннее детство Н. С. Лескова прошло в  г.Орле. После 1839 года, когда отец покинул службу (из-за ссоры с начальством, чем, по словам Лескова, навлек на себя гнев губернатора), семья — супруга, трое сыновей и две дочери — переехала в село Панино (Панин хутор) неподалёку от города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Кромы</a:t>
            </a:r>
            <a:r>
              <a:rPr b="0" lang="ru-RU" sz="2800" spc="-1" strike="noStrike">
                <a:solidFill>
                  <a:srgbClr val="191306"/>
                </a:solidFill>
                <a:latin typeface="Calibri"/>
              </a:rPr>
              <a:t>. Здесь, как вспоминал будущий писатель, и состоялось его знакомство с народным языком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родолжение дела отц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50920" y="1499760"/>
            <a:ext cx="859464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августе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841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десятилетнем возрасте Н. С. Лесков поступил в первый класс Орловской губернской гимназии, где учился плохо: через пять лет он получил свидетельство об окончании лишь двух класс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июне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1847 г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Лесков поступил на службу в ту же палату уголовного суда, где работал его отец, на должность канцелярского служителя 2-го разряда. После смерти отца от холеры (в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1848 год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Николай Семёнович получил очередное повышение по службе, став помощником столоначальника Орловской палаты уголовного суда, а в декабре 1849 года по собственному прошению — перемещение в штат Киевской казенной палаты. Он переехал в Киев, где жил у своего дяди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4"/>
              </a:rPr>
              <a:t>С. П. Алферье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5f55"/>
                </a:solidFill>
                <a:latin typeface="Calibri"/>
              </a:rPr>
              <a:t>Первая работа. Проявление творческих  способностей</a:t>
            </a:r>
            <a:endParaRPr b="0" lang="en-US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779640" y="1785960"/>
            <a:ext cx="50655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0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1857 году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сков уволился со службы и начал работать в компании мужа своей тетки А. Я. Шкотта (Скотта) «Шкотт и Вилькенс». Лесков приобрёл огромный практический опыт и знания в многочисленных областях промышленности и сельского хозяйства. При этом по делам фирмы Лесков постоянно отправлялся в «странствования по России», что также способствовало его знакомству с языком и бытом разных областей страны. «…Это самые лучшие годы моей жизни, когда я много видел и жил легко», — позже вспоминал Н. С. Лес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4" descr="Leskov1"/>
          <p:cNvPicPr/>
          <p:nvPr/>
        </p:nvPicPr>
        <p:blipFill>
          <a:blip r:embed="rId2"/>
          <a:stretch/>
        </p:blipFill>
        <p:spPr>
          <a:xfrm>
            <a:off x="214200" y="1785960"/>
            <a:ext cx="3602160" cy="471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Начало литературной деятельност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4360" y="1643040"/>
            <a:ext cx="81612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1860 года он жил с семьей в селе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1"/>
              </a:rPr>
              <a:t>Николо-Райск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2"/>
              </a:rPr>
              <a:t>Городищенского уез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ензенской губернии и в </a:t>
            </a:r>
            <a:r>
              <a:rPr b="0" lang="ru-RU" sz="2800" spc="-1" strike="noStrike" u="sng">
                <a:solidFill>
                  <a:srgbClr val="f7b615"/>
                </a:solidFill>
                <a:uFillTx/>
                <a:latin typeface="Calibri"/>
                <a:hlinkClick r:id="rId3"/>
              </a:rPr>
              <a:t>Пенз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Здесь он впервые взялся за пер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том 1860 года он вернулся в Киев, где занялся журналистской и литературной деятельностью. Через полгода он переехал в Петербур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ервые неудач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071960" y="1689120"/>
            <a:ext cx="48513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сков начал печататься сравнительно поздно — на двадцать шестом году жизни, поместив несколько заметок в газете «Санкт-Петербургские ведомости» (1859—1860), несколько статей в киевских изданиях «Современная медицина» и «Указатель экономический». Статьи Лескова, обличавшие коррупцию полицейских врачей, привели к конфликту с сослуживцами: в результате организованной ими провокации Лесков, проводивший служебное расследование, был обвинен во взяточничестве и вынужден был оставить службу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4" descr="Nikolai_Leskov_1860"/>
          <p:cNvPicPr/>
          <p:nvPr/>
        </p:nvPicPr>
        <p:blipFill>
          <a:blip r:embed="rId1"/>
          <a:stretch/>
        </p:blipFill>
        <p:spPr>
          <a:xfrm>
            <a:off x="250920" y="1500120"/>
            <a:ext cx="3671640" cy="4160880"/>
          </a:xfrm>
          <a:prstGeom prst="rect">
            <a:avLst/>
          </a:prstGeom>
          <a:ln w="0">
            <a:noFill/>
          </a:ln>
        </p:spPr>
      </p:pic>
      <p:sp>
        <p:nvSpPr>
          <p:cNvPr id="375" name="WordArt 5"/>
          <p:cNvSpPr txBox="1"/>
          <p:nvPr/>
        </p:nvSpPr>
        <p:spPr>
          <a:xfrm>
            <a:off x="684360" y="5805360"/>
            <a:ext cx="2735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0 г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0:34:48Z</dcterms:created>
  <dc:creator>Алёна</dc:creator>
  <dc:description/>
  <dc:language>en-US</dc:language>
  <cp:lastModifiedBy>Пользователь Windows</cp:lastModifiedBy>
  <dcterms:modified xsi:type="dcterms:W3CDTF">2018-12-21T20:16:17Z</dcterms:modified>
  <cp:revision>9</cp:revision>
  <dc:subject/>
  <dc:title>Николай Семёнович Лесков</dc:title>
</cp:coreProperties>
</file>