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da39a77f98a95f1c23c42c497f2ccb2.ppt" TargetMode="External"/><Relationship Id="rId3" Type="http://schemas.openxmlformats.org/officeDocument/2006/relationships/hyperlink" Target="file:///cda39a77f98a95f1c23c42c497f2ccb2.ppt" TargetMode="External"/><Relationship Id="rId4" Type="http://schemas.openxmlformats.org/officeDocument/2006/relationships/hyperlink" Target="file:///cda39a77f98a95f1c23c42c497f2ccb2.ppt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944280"/>
            <a:ext cx="842472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a452a"/>
                </a:solidFill>
                <a:latin typeface="Arial"/>
                <a:ea typeface="Arial Unicode MS"/>
              </a:rPr>
              <a:t>Наша</a:t>
            </a:r>
            <a:r>
              <a:rPr b="0" lang="en-US" sz="8000" spc="-1" strike="noStrike">
                <a:solidFill>
                  <a:srgbClr val="4a452a"/>
                </a:solidFill>
                <a:latin typeface="Cassandra"/>
                <a:ea typeface="Arial Unicode MS"/>
              </a:rPr>
              <a:t> речь</a:t>
            </a:r>
            <a:endParaRPr b="0" lang="en-US" sz="8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40000" y="3176280"/>
            <a:ext cx="640080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a452a"/>
                </a:solidFill>
                <a:latin typeface="Arial"/>
              </a:rPr>
              <a:t>Развитие речи в МДОУ</a:t>
            </a:r>
            <a:r>
              <a:rPr b="0" i="1" lang="en-US" sz="28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4a452a"/>
                </a:solidFill>
                <a:latin typeface="Arial"/>
              </a:rPr>
              <a:t>«Кизильский детский сад № 2»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5003640" y="4689360"/>
            <a:ext cx="39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полнил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-логопед Калайтанова Алё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4a452a"/>
                </a:solidFill>
                <a:latin typeface="Arial"/>
              </a:rPr>
              <a:t>Что необходимо для речи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a452a"/>
                </a:solidFill>
                <a:latin typeface="Arial"/>
              </a:rPr>
              <a:t>Фонематический слух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6000" y="1989000"/>
            <a:ext cx="89280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Способность слышать данный звук в слове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- Способность различать слова, в которые входят одни и те же фонемы, расположенные в разной последовательности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- Способность слышать близко звучащие, но разные по значению слова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  <p:cxnSp>
        <p:nvCxnSpPr>
          <p:cNvPr id="142" name="Прямая со стрелкой 13"/>
          <p:cNvCxnSpPr/>
          <p:nvPr/>
        </p:nvCxnSpPr>
        <p:spPr>
          <a:xfrm>
            <a:off x="5040360" y="584280"/>
            <a:ext cx="2160" cy="72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9280" y="259920"/>
            <a:ext cx="79200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a452a"/>
                </a:solidFill>
                <a:latin typeface="Arial"/>
              </a:rPr>
              <a:t>Игры на развитие речевого и неречевого слуха :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4920" y="1160280"/>
            <a:ext cx="8066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то тебя позвал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Отгадай, что звучало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акая игрушка звенела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Что я делаю отгадай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Назови звуки улицы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Жмурки (колокольчик, голос)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Узнай бытовые звуки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то из детей (зверей) позвал тебя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акая игрушка звенела? Кто тебя позвал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Отгадай, что звучало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452a"/>
                </a:solidFill>
                <a:latin typeface="Calibri"/>
              </a:rPr>
              <a:t>Кто, что слышал?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6720" y="296640"/>
            <a:ext cx="79200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Arial"/>
              </a:rPr>
              <a:t>Правила речи: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4920" y="1160280"/>
            <a:ext cx="86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равильно строй предложения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торопись. Говори четко, не глотай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кричи, но и не говори слишком тихо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Говори выразительно. Выделяй голосом главные слова, делай паузы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употребляй грубые, резкие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ословицы о реч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5640" y="1449000"/>
            <a:ext cx="80992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Хорошую речь хорошо и слушать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От приветливых слов язык не отсохнет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Сперва подумай, а потом и скажи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Красно поле пшеном, а беседа умом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ssandra"/>
              </a:rPr>
              <a:t>Речь</a:t>
            </a: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 – это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640" y="1341360"/>
            <a:ext cx="79200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общения людей 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собность общаться с помощью слов, звуков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зык в действи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Речь (какая?) –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700360" y="1268280"/>
            <a:ext cx="61545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Понят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Грамот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Обдуманная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Богат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Культур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Свобод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Приятная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Calibri"/>
              </a:rPr>
              <a:t>Разборчивая 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6720" y="296640"/>
            <a:ext cx="79200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равила реч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4920" y="1160280"/>
            <a:ext cx="8605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равильно строй предложения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торопись. Говори четко, не глотай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кричи, но и не говори слишком тихо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Говори выразительно. Выделяй голосом главные слова, делай паузы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Не употребляй грубые, резкие слова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7640" y="296640"/>
            <a:ext cx="820728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alibri"/>
              </a:rPr>
              <a:t>Речь состоит из предложений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alibri"/>
              </a:rPr>
              <a:t>Предложение будем обозначать так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Calibri"/>
              </a:rPr>
              <a:t>Или так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150920" y="2744640"/>
            <a:ext cx="3349800" cy="1079640"/>
          </a:xfrm>
          <a:prstGeom prst="rect">
            <a:avLst/>
          </a:prstGeom>
          <a:solidFill>
            <a:srgbClr val="ffffff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6"/>
          <p:cNvSpPr/>
          <p:nvPr/>
        </p:nvSpPr>
        <p:spPr>
          <a:xfrm>
            <a:off x="1042920" y="5229360"/>
            <a:ext cx="3241800" cy="1079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7"/>
          <p:cNvSpPr/>
          <p:nvPr/>
        </p:nvSpPr>
        <p:spPr>
          <a:xfrm>
            <a:off x="4932360" y="5229360"/>
            <a:ext cx="3240000" cy="1079280"/>
          </a:xfrm>
          <a:prstGeom prst="rect">
            <a:avLst/>
          </a:prstGeom>
          <a:solidFill>
            <a:srgbClr val="ffffff"/>
          </a:solidFill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лок-схема: узел 8"/>
          <p:cNvSpPr/>
          <p:nvPr/>
        </p:nvSpPr>
        <p:spPr>
          <a:xfrm>
            <a:off x="8496360" y="6093000"/>
            <a:ext cx="179280" cy="215640"/>
          </a:xfrm>
          <a:prstGeom prst="flowChartConnector">
            <a:avLst/>
          </a:prstGeom>
          <a:solidFill>
            <a:srgbClr val="ffffff"/>
          </a:solidFill>
          <a:ln w="572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Блок-схема: узел 9"/>
          <p:cNvSpPr/>
          <p:nvPr/>
        </p:nvSpPr>
        <p:spPr>
          <a:xfrm>
            <a:off x="4932360" y="3608280"/>
            <a:ext cx="179280" cy="216000"/>
          </a:xfrm>
          <a:prstGeom prst="flowChartConnector">
            <a:avLst/>
          </a:prstGeom>
          <a:solidFill>
            <a:srgbClr val="ffffff"/>
          </a:solidFill>
          <a:ln w="572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1"/>
          <p:cNvSpPr/>
          <p:nvPr/>
        </p:nvSpPr>
        <p:spPr>
          <a:xfrm flipV="1">
            <a:off x="1150920" y="1988640"/>
            <a:ext cx="0" cy="755640"/>
          </a:xfrm>
          <a:prstGeom prst="line">
            <a:avLst/>
          </a:prstGeom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2"/>
          <p:cNvSpPr/>
          <p:nvPr/>
        </p:nvSpPr>
        <p:spPr>
          <a:xfrm flipV="1">
            <a:off x="1042920" y="4473360"/>
            <a:ext cx="0" cy="755640"/>
          </a:xfrm>
          <a:prstGeom prst="line">
            <a:avLst/>
          </a:prstGeom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22536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  </a:t>
            </a:r>
            <a:r>
              <a:rPr b="0" lang="en-US" sz="4800" spc="-1" strike="noStrike">
                <a:solidFill>
                  <a:srgbClr val="4a452a"/>
                </a:solidFill>
                <a:latin typeface="Cassandra"/>
              </a:rPr>
              <a:t>Правила предложения: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10920" y="980640"/>
            <a:ext cx="82436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едложение содержит в себе законченную мысль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Начало предложения всегда пишется с БОЛЬШОЙ буквы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 конце предложения ставится знак препинания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- Точка – 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- Вопросительный знак –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4a452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- Восклицательный знак –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!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640" y="225360"/>
            <a:ext cx="79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  </a:t>
            </a: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равила: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1280" y="944640"/>
            <a:ext cx="85327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Речь состоит из предложений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редложение состоит из слов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Слова состоят из слогов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Каждое слово можно разделить на слоги и поставить ударение: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ДОМ,   ШКОЛА,   УЧЕНИКИ,   ПАРТА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</a:t>
            </a:r>
            <a:r>
              <a:rPr b="0" lang="en-US" sz="44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ГОРОД,    ДОРОГА</a:t>
            </a:r>
            <a:endParaRPr b="0" lang="en-US" sz="4400" spc="-1" strike="noStrike">
              <a:solidFill>
                <a:srgbClr val="4a452a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           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" name="Дуга 3"/>
          <p:cNvSpPr/>
          <p:nvPr/>
        </p:nvSpPr>
        <p:spPr>
          <a:xfrm rot="10800000">
            <a:off x="863640" y="4581360"/>
            <a:ext cx="1224000" cy="3952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395280"/>
              <a:gd name="textAreaBottom" fmla="*/ 218160 h 395280"/>
            </a:gdLst>
            <a:ahLst/>
            <a:rect l="textAreaLeft" t="textAreaTop" r="textAreaRight" b="textAreaBottom"/>
            <a:pathLst>
              <a:path stroke="0" w="1223963" h="395288">
                <a:moveTo>
                  <a:pt x="3305" y="218156"/>
                </a:moveTo>
                <a:lnTo>
                  <a:pt x="3305" y="218156"/>
                </a:lnTo>
                <a:arcTo wR="611982" hR="197644" stAng="10684194" swAng="10915817"/>
                <a:lnTo>
                  <a:pt x="611982" y="197644"/>
                </a:lnTo>
                <a:close/>
              </a:path>
              <a:path fill="none" w="1223963" h="395288">
                <a:moveTo>
                  <a:pt x="3305" y="218156"/>
                </a:moveTo>
                <a:lnTo>
                  <a:pt x="3305" y="218156"/>
                </a:lnTo>
                <a:arcTo wR="611982" hR="197644" stAng="10684194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4"/>
          <p:cNvSpPr/>
          <p:nvPr/>
        </p:nvSpPr>
        <p:spPr>
          <a:xfrm rot="10800000">
            <a:off x="2410920" y="4615920"/>
            <a:ext cx="1081080" cy="36036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360360"/>
              <a:gd name="textAreaBottom" fmla="*/ 198360 h 360360"/>
            </a:gdLst>
            <a:ahLst/>
            <a:rect l="textAreaLeft" t="textAreaTop" r="textAreaRight" b="textAreaBottom"/>
            <a:pathLst>
              <a:path stroke="0" w="1081087" h="360363">
                <a:moveTo>
                  <a:pt x="2741" y="198305"/>
                </a:moveTo>
                <a:lnTo>
                  <a:pt x="2741" y="198305"/>
                </a:lnTo>
                <a:arcTo wR="540544" hR="180182" stAng="10684198" swAng="10915808"/>
                <a:lnTo>
                  <a:pt x="540544" y="180182"/>
                </a:lnTo>
                <a:close/>
              </a:path>
              <a:path fill="none" w="1081087" h="360363">
                <a:moveTo>
                  <a:pt x="2741" y="198305"/>
                </a:moveTo>
                <a:lnTo>
                  <a:pt x="2741" y="198305"/>
                </a:lnTo>
                <a:arcTo wR="540544" hR="180182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Дуга 5"/>
          <p:cNvSpPr/>
          <p:nvPr/>
        </p:nvSpPr>
        <p:spPr>
          <a:xfrm rot="10800000">
            <a:off x="3492000" y="4615920"/>
            <a:ext cx="755640" cy="360360"/>
          </a:xfrm>
          <a:custGeom>
            <a:avLst/>
            <a:gdLst>
              <a:gd name="textAreaLeft" fmla="*/ 0 w 755640"/>
              <a:gd name="textAreaRight" fmla="*/ 756000 w 75564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5650" h="360363">
                <a:moveTo>
                  <a:pt x="940" y="192882"/>
                </a:moveTo>
                <a:lnTo>
                  <a:pt x="940" y="192882"/>
                </a:lnTo>
                <a:arcTo wR="377825" hR="180182" stAng="10684192" swAng="10915817"/>
                <a:lnTo>
                  <a:pt x="377825" y="180182"/>
                </a:lnTo>
                <a:close/>
              </a:path>
              <a:path fill="none" w="755650" h="360363">
                <a:moveTo>
                  <a:pt x="940" y="192882"/>
                </a:moveTo>
                <a:lnTo>
                  <a:pt x="940" y="192882"/>
                </a:lnTo>
                <a:arcTo wR="377825" hR="180182" stAng="10684192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Дуга 6"/>
          <p:cNvSpPr/>
          <p:nvPr/>
        </p:nvSpPr>
        <p:spPr>
          <a:xfrm rot="10800000">
            <a:off x="4896000" y="4581000"/>
            <a:ext cx="684000" cy="360360"/>
          </a:xfrm>
          <a:custGeom>
            <a:avLst/>
            <a:gdLst>
              <a:gd name="textAreaLeft" fmla="*/ 0 w 684000"/>
              <a:gd name="textAreaRight" fmla="*/ 684360 w 684000"/>
              <a:gd name="textAreaTop" fmla="*/ 0 h 360360"/>
              <a:gd name="textAreaBottom" fmla="*/ 191520 h 360360"/>
            </a:gdLst>
            <a:ahLst/>
            <a:rect l="textAreaLeft" t="textAreaTop" r="textAreaRight" b="textAreaBottom"/>
            <a:pathLst>
              <a:path stroke="0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  <a:lnTo>
                  <a:pt x="342107" y="180182"/>
                </a:lnTo>
                <a:close/>
              </a:path>
              <a:path fill="none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Дуга 7"/>
          <p:cNvSpPr/>
          <p:nvPr/>
        </p:nvSpPr>
        <p:spPr>
          <a:xfrm rot="10800000">
            <a:off x="5508720" y="4581000"/>
            <a:ext cx="684000" cy="360360"/>
          </a:xfrm>
          <a:custGeom>
            <a:avLst/>
            <a:gdLst>
              <a:gd name="textAreaLeft" fmla="*/ 0 w 684000"/>
              <a:gd name="textAreaRight" fmla="*/ 684360 w 684000"/>
              <a:gd name="textAreaTop" fmla="*/ 0 h 360360"/>
              <a:gd name="textAreaBottom" fmla="*/ 191520 h 360360"/>
            </a:gdLst>
            <a:ahLst/>
            <a:rect l="textAreaLeft" t="textAreaTop" r="textAreaRight" b="textAreaBottom"/>
            <a:pathLst>
              <a:path stroke="0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  <a:lnTo>
                  <a:pt x="342107" y="180182"/>
                </a:lnTo>
                <a:close/>
              </a:path>
              <a:path fill="none" w="684213" h="360363">
                <a:moveTo>
                  <a:pt x="698" y="191687"/>
                </a:moveTo>
                <a:lnTo>
                  <a:pt x="698" y="191687"/>
                </a:lnTo>
                <a:arcTo wR="342107" hR="180182" stAng="10684197" swAng="10915813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Дуга 8"/>
          <p:cNvSpPr/>
          <p:nvPr/>
        </p:nvSpPr>
        <p:spPr>
          <a:xfrm rot="10800000">
            <a:off x="6119280" y="4581000"/>
            <a:ext cx="684360" cy="360360"/>
          </a:xfrm>
          <a:custGeom>
            <a:avLst/>
            <a:gdLst>
              <a:gd name="textAreaLeft" fmla="*/ 0 w 684360"/>
              <a:gd name="textAreaRight" fmla="*/ 684720 w 684360"/>
              <a:gd name="textAreaTop" fmla="*/ 0 h 360360"/>
              <a:gd name="textAreaBottom" fmla="*/ 191520 h 360360"/>
            </a:gdLst>
            <a:ahLst/>
            <a:rect l="textAreaLeft" t="textAreaTop" r="textAreaRight" b="textAreaBottom"/>
            <a:pathLst>
              <a:path stroke="0" w="684212" h="360363">
                <a:moveTo>
                  <a:pt x="698" y="191687"/>
                </a:moveTo>
                <a:lnTo>
                  <a:pt x="698" y="191687"/>
                </a:lnTo>
                <a:arcTo wR="342106" hR="180182" stAng="10684196" swAng="10915814"/>
                <a:lnTo>
                  <a:pt x="342106" y="180182"/>
                </a:lnTo>
                <a:close/>
              </a:path>
              <a:path fill="none" w="684212" h="360363">
                <a:moveTo>
                  <a:pt x="698" y="191687"/>
                </a:moveTo>
                <a:lnTo>
                  <a:pt x="698" y="191687"/>
                </a:lnTo>
                <a:arcTo wR="342106" hR="180182" stAng="10684196" swAng="10915814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Дуга 9"/>
          <p:cNvSpPr/>
          <p:nvPr/>
        </p:nvSpPr>
        <p:spPr>
          <a:xfrm rot="10800000">
            <a:off x="8136000" y="4581000"/>
            <a:ext cx="684000" cy="351000"/>
          </a:xfrm>
          <a:custGeom>
            <a:avLst/>
            <a:gdLst>
              <a:gd name="textAreaLeft" fmla="*/ 0 w 684000"/>
              <a:gd name="textAreaRight" fmla="*/ 684360 w 684000"/>
              <a:gd name="textAreaTop" fmla="*/ 0 h 351000"/>
              <a:gd name="textAreaBottom" fmla="*/ 187200 h 351000"/>
            </a:gdLst>
            <a:ahLst/>
            <a:rect l="textAreaLeft" t="textAreaTop" r="textAreaRight" b="textAreaBottom"/>
            <a:pathLst>
              <a:path stroke="0" w="684212" h="350838">
                <a:moveTo>
                  <a:pt x="736" y="186923"/>
                </a:moveTo>
                <a:lnTo>
                  <a:pt x="736" y="186923"/>
                </a:lnTo>
                <a:arcTo wR="342106" hR="175419" stAng="10684193" swAng="10915817"/>
                <a:lnTo>
                  <a:pt x="342106" y="175419"/>
                </a:lnTo>
                <a:close/>
              </a:path>
              <a:path fill="none" w="684212" h="350838">
                <a:moveTo>
                  <a:pt x="736" y="186923"/>
                </a:moveTo>
                <a:lnTo>
                  <a:pt x="736" y="186923"/>
                </a:lnTo>
                <a:arcTo wR="342106" hR="175419" stAng="10684193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Дуга 10"/>
          <p:cNvSpPr/>
          <p:nvPr/>
        </p:nvSpPr>
        <p:spPr>
          <a:xfrm rot="10800000">
            <a:off x="7236000" y="4581000"/>
            <a:ext cx="900000" cy="360360"/>
          </a:xfrm>
          <a:custGeom>
            <a:avLst/>
            <a:gdLst>
              <a:gd name="textAreaLeft" fmla="*/ 0 w 900000"/>
              <a:gd name="textAreaRight" fmla="*/ 900360 w 900000"/>
              <a:gd name="textAreaTop" fmla="*/ 0 h 360360"/>
              <a:gd name="textAreaBottom" fmla="*/ 195480 h 360360"/>
            </a:gdLst>
            <a:ahLst/>
            <a:rect l="textAreaLeft" t="textAreaTop" r="textAreaRight" b="textAreaBottom"/>
            <a:pathLst>
              <a:path stroke="0" w="900113" h="360363">
                <a:moveTo>
                  <a:pt x="1586" y="195294"/>
                </a:moveTo>
                <a:lnTo>
                  <a:pt x="1586" y="195294"/>
                </a:lnTo>
                <a:arcTo wR="450057" hR="180182" stAng="10684195" swAng="10915812"/>
                <a:lnTo>
                  <a:pt x="450057" y="180182"/>
                </a:lnTo>
                <a:close/>
              </a:path>
              <a:path fill="none" w="900113" h="360363">
                <a:moveTo>
                  <a:pt x="1586" y="195294"/>
                </a:moveTo>
                <a:lnTo>
                  <a:pt x="1586" y="195294"/>
                </a:lnTo>
                <a:arcTo wR="450057" hR="180182" stAng="10684195" swAng="10915812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Дуга 11"/>
          <p:cNvSpPr/>
          <p:nvPr/>
        </p:nvSpPr>
        <p:spPr>
          <a:xfrm rot="10800000">
            <a:off x="4571640" y="4616280"/>
            <a:ext cx="431640" cy="325440"/>
          </a:xfrm>
          <a:custGeom>
            <a:avLst/>
            <a:gdLst>
              <a:gd name="textAreaLeft" fmla="*/ 0 w 431640"/>
              <a:gd name="textAreaRight" fmla="*/ 432000 w 431640"/>
              <a:gd name="textAreaTop" fmla="*/ 0 h 325440"/>
              <a:gd name="textAreaBottom" fmla="*/ 169920 h 325440"/>
            </a:gdLst>
            <a:ahLst/>
            <a:rect l="textAreaLeft" t="textAreaTop" r="textAreaRight" b="textAreaBottom"/>
            <a:pathLst>
              <a:path stroke="0" w="431800" h="325438">
                <a:moveTo>
                  <a:pt x="215" y="169987"/>
                </a:moveTo>
                <a:lnTo>
                  <a:pt x="215" y="169987"/>
                </a:lnTo>
                <a:arcTo wR="215900" hR="162719" stAng="10684201" swAng="10915799"/>
                <a:lnTo>
                  <a:pt x="215900" y="162719"/>
                </a:lnTo>
                <a:close/>
              </a:path>
              <a:path fill="none" w="431800" h="325438">
                <a:moveTo>
                  <a:pt x="215" y="169987"/>
                </a:moveTo>
                <a:lnTo>
                  <a:pt x="215" y="169987"/>
                </a:lnTo>
                <a:arcTo wR="215900" hR="162719" stAng="10684201" swAng="1091579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Дуга 12"/>
          <p:cNvSpPr/>
          <p:nvPr/>
        </p:nvSpPr>
        <p:spPr>
          <a:xfrm rot="10800000">
            <a:off x="2158560" y="5805360"/>
            <a:ext cx="1225800" cy="395280"/>
          </a:xfrm>
          <a:custGeom>
            <a:avLst/>
            <a:gdLst>
              <a:gd name="textAreaLeft" fmla="*/ 0 w 1225800"/>
              <a:gd name="textAreaRight" fmla="*/ 1226160 w 1225800"/>
              <a:gd name="textAreaTop" fmla="*/ 0 h 395280"/>
              <a:gd name="textAreaBottom" fmla="*/ 218160 h 395280"/>
            </a:gdLst>
            <a:ahLst/>
            <a:rect l="textAreaLeft" t="textAreaTop" r="textAreaRight" b="textAreaBottom"/>
            <a:pathLst>
              <a:path stroke="0" w="1225550" h="395287">
                <a:moveTo>
                  <a:pt x="3317" y="218181"/>
                </a:moveTo>
                <a:lnTo>
                  <a:pt x="3317" y="218181"/>
                </a:lnTo>
                <a:arcTo wR="612775" hR="197644" stAng="10684196" swAng="10915810"/>
                <a:lnTo>
                  <a:pt x="612775" y="197644"/>
                </a:lnTo>
                <a:close/>
              </a:path>
              <a:path fill="none" w="1225550" h="395287">
                <a:moveTo>
                  <a:pt x="3317" y="218181"/>
                </a:moveTo>
                <a:lnTo>
                  <a:pt x="3317" y="218181"/>
                </a:lnTo>
                <a:arcTo wR="612775" hR="197644" stAng="10684196" swAng="10915810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Дуга 13"/>
          <p:cNvSpPr/>
          <p:nvPr/>
        </p:nvSpPr>
        <p:spPr>
          <a:xfrm rot="10800000">
            <a:off x="1402920" y="5842080"/>
            <a:ext cx="755640" cy="358560"/>
          </a:xfrm>
          <a:custGeom>
            <a:avLst/>
            <a:gdLst>
              <a:gd name="textAreaLeft" fmla="*/ 0 w 755640"/>
              <a:gd name="textAreaRight" fmla="*/ 756000 w 755640"/>
              <a:gd name="textAreaTop" fmla="*/ 0 h 358560"/>
              <a:gd name="textAreaBottom" fmla="*/ 191880 h 358560"/>
            </a:gdLst>
            <a:ahLst/>
            <a:rect l="textAreaLeft" t="textAreaTop" r="textAreaRight" b="textAreaBottom"/>
            <a:pathLst>
              <a:path stroke="0" w="755650" h="358775">
                <a:moveTo>
                  <a:pt x="948" y="192088"/>
                </a:moveTo>
                <a:lnTo>
                  <a:pt x="948" y="192088"/>
                </a:lnTo>
                <a:arcTo wR="377825" hR="179388" stAng="10684199" swAng="10915810"/>
                <a:lnTo>
                  <a:pt x="377825" y="179388"/>
                </a:lnTo>
                <a:close/>
              </a:path>
              <a:path fill="none" w="755650" h="358775">
                <a:moveTo>
                  <a:pt x="948" y="192088"/>
                </a:moveTo>
                <a:lnTo>
                  <a:pt x="948" y="192088"/>
                </a:lnTo>
                <a:arcTo wR="377825" hR="179388" stAng="10684199" swAng="10915810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Дуга 14"/>
          <p:cNvSpPr/>
          <p:nvPr/>
        </p:nvSpPr>
        <p:spPr>
          <a:xfrm rot="10800000">
            <a:off x="3958920" y="5805000"/>
            <a:ext cx="757080" cy="360360"/>
          </a:xfrm>
          <a:custGeom>
            <a:avLst/>
            <a:gdLst>
              <a:gd name="textAreaLeft" fmla="*/ 0 w 757080"/>
              <a:gd name="textAreaRight" fmla="*/ 757440 w 75708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7238" h="360362">
                <a:moveTo>
                  <a:pt x="946" y="192908"/>
                </a:moveTo>
                <a:lnTo>
                  <a:pt x="946" y="192908"/>
                </a:lnTo>
                <a:arcTo wR="378619" hR="180181" stAng="10684197" swAng="10915812"/>
                <a:lnTo>
                  <a:pt x="378619" y="180181"/>
                </a:lnTo>
                <a:close/>
              </a:path>
              <a:path fill="none" w="757238" h="360362">
                <a:moveTo>
                  <a:pt x="946" y="192908"/>
                </a:moveTo>
                <a:lnTo>
                  <a:pt x="946" y="192908"/>
                </a:lnTo>
                <a:arcTo wR="378619" hR="180181" stAng="10684197" swAng="10915812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Дуга 15"/>
          <p:cNvSpPr/>
          <p:nvPr/>
        </p:nvSpPr>
        <p:spPr>
          <a:xfrm rot="10800000">
            <a:off x="4716000" y="5805000"/>
            <a:ext cx="755640" cy="360360"/>
          </a:xfrm>
          <a:custGeom>
            <a:avLst/>
            <a:gdLst>
              <a:gd name="textAreaLeft" fmla="*/ 0 w 755640"/>
              <a:gd name="textAreaRight" fmla="*/ 756000 w 75564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  <a:lnTo>
                  <a:pt x="377825" y="180181"/>
                </a:lnTo>
                <a:close/>
              </a:path>
              <a:path fill="none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7"/>
          <p:cNvSpPr/>
          <p:nvPr/>
        </p:nvSpPr>
        <p:spPr>
          <a:xfrm rot="10800000">
            <a:off x="5471640" y="5805000"/>
            <a:ext cx="755640" cy="360360"/>
          </a:xfrm>
          <a:custGeom>
            <a:avLst/>
            <a:gdLst>
              <a:gd name="textAreaLeft" fmla="*/ 0 w 755640"/>
              <a:gd name="textAreaRight" fmla="*/ 756000 w 755640"/>
              <a:gd name="textAreaTop" fmla="*/ 0 h 360360"/>
              <a:gd name="textAreaBottom" fmla="*/ 192960 h 360360"/>
            </a:gdLst>
            <a:ahLst/>
            <a:rect l="textAreaLeft" t="textAreaTop" r="textAreaRight" b="textAreaBottom"/>
            <a:pathLst>
              <a:path stroke="0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  <a:lnTo>
                  <a:pt x="377825" y="180181"/>
                </a:lnTo>
                <a:close/>
              </a:path>
              <a:path fill="none" w="755650" h="360362">
                <a:moveTo>
                  <a:pt x="940" y="192882"/>
                </a:moveTo>
                <a:lnTo>
                  <a:pt x="940" y="192882"/>
                </a:lnTo>
                <a:arcTo wR="377825" hR="180181" stAng="10684192" swAng="10915817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19"/>
          <p:cNvSpPr/>
          <p:nvPr/>
        </p:nvSpPr>
        <p:spPr>
          <a:xfrm flipH="1">
            <a:off x="3419640" y="4005360"/>
            <a:ext cx="28872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20"/>
          <p:cNvSpPr/>
          <p:nvPr/>
        </p:nvSpPr>
        <p:spPr>
          <a:xfrm flipH="1">
            <a:off x="6659640" y="4041720"/>
            <a:ext cx="28872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21"/>
          <p:cNvSpPr/>
          <p:nvPr/>
        </p:nvSpPr>
        <p:spPr>
          <a:xfrm flipH="1">
            <a:off x="7775640" y="4005360"/>
            <a:ext cx="28872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22"/>
          <p:cNvSpPr/>
          <p:nvPr/>
        </p:nvSpPr>
        <p:spPr>
          <a:xfrm flipH="1">
            <a:off x="2015640" y="5084640"/>
            <a:ext cx="28764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23"/>
          <p:cNvSpPr/>
          <p:nvPr/>
        </p:nvSpPr>
        <p:spPr>
          <a:xfrm flipH="1">
            <a:off x="5327280" y="5084640"/>
            <a:ext cx="2890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 flipH="1">
            <a:off x="1476000" y="4005360"/>
            <a:ext cx="28908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6000" y="151920"/>
            <a:ext cx="864072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Cassandra"/>
              </a:rPr>
              <a:t>Виды реч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РЕЧ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935640" y="23842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УСТ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684360" y="4257720"/>
            <a:ext cx="32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СЛЫШИ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ГОВО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7"/>
          <p:cNvSpPr/>
          <p:nvPr/>
        </p:nvSpPr>
        <p:spPr>
          <a:xfrm>
            <a:off x="5905800" y="4257720"/>
            <a:ext cx="20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ИШ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ЧИТ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8"/>
          <p:cNvSpPr/>
          <p:nvPr/>
        </p:nvSpPr>
        <p:spPr>
          <a:xfrm>
            <a:off x="4534200" y="2384280"/>
            <a:ext cx="418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ПИСЬМ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>
            <a:endCxn id="81" idx="0"/>
          </p:cNvCxnSpPr>
          <p:nvPr/>
        </p:nvCxnSpPr>
        <p:spPr>
          <a:xfrm flipH="1">
            <a:off x="216648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1"/>
          <p:cNvCxnSpPr>
            <a:endCxn id="84" idx="0"/>
          </p:cNvCxnSpPr>
          <p:nvPr/>
        </p:nvCxnSpPr>
        <p:spPr>
          <a:xfrm>
            <a:off x="4835520" y="1916280"/>
            <a:ext cx="178992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Прямая со стрелкой 13"/>
          <p:cNvCxnSpPr>
            <a:endCxn id="82" idx="0"/>
          </p:cNvCxnSpPr>
          <p:nvPr/>
        </p:nvCxnSpPr>
        <p:spPr>
          <a:xfrm flipH="1">
            <a:off x="2285280" y="3141720"/>
            <a:ext cx="1836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16"/>
          <p:cNvCxnSpPr/>
          <p:nvPr/>
        </p:nvCxnSpPr>
        <p:spPr>
          <a:xfrm>
            <a:off x="6722640" y="3104640"/>
            <a:ext cx="10440" cy="108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Подбери слово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" name="Дуга 7"/>
          <p:cNvSpPr/>
          <p:nvPr/>
        </p:nvSpPr>
        <p:spPr>
          <a:xfrm rot="10800000">
            <a:off x="755640" y="137592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Дуга 8"/>
          <p:cNvSpPr/>
          <p:nvPr/>
        </p:nvSpPr>
        <p:spPr>
          <a:xfrm rot="10800000">
            <a:off x="1763640" y="1413000"/>
            <a:ext cx="1008000" cy="68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  <a:lnTo>
                  <a:pt x="504031" y="342107"/>
                </a:lnTo>
                <a:close/>
              </a:path>
              <a:path fill="none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Дуга 9"/>
          <p:cNvSpPr/>
          <p:nvPr/>
        </p:nvSpPr>
        <p:spPr>
          <a:xfrm rot="10800000">
            <a:off x="2771280" y="1413000"/>
            <a:ext cx="1008360" cy="68400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  <a:lnTo>
                  <a:pt x="504032" y="342107"/>
                </a:lnTo>
                <a:close/>
              </a:path>
              <a:path fill="none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Дуга 10"/>
          <p:cNvSpPr/>
          <p:nvPr/>
        </p:nvSpPr>
        <p:spPr>
          <a:xfrm rot="10800000">
            <a:off x="719280" y="2529000"/>
            <a:ext cx="1008000" cy="68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Дуга 11"/>
          <p:cNvSpPr/>
          <p:nvPr/>
        </p:nvSpPr>
        <p:spPr>
          <a:xfrm rot="10800000">
            <a:off x="1727280" y="2529000"/>
            <a:ext cx="1008000" cy="6840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000"/>
              <a:gd name="textAreaBottom" fmla="*/ 358920 h 68400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Дуга 12"/>
          <p:cNvSpPr/>
          <p:nvPr/>
        </p:nvSpPr>
        <p:spPr>
          <a:xfrm rot="10800000">
            <a:off x="684360" y="3573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уга 13"/>
          <p:cNvSpPr/>
          <p:nvPr/>
        </p:nvSpPr>
        <p:spPr>
          <a:xfrm rot="10800000">
            <a:off x="1692360" y="3573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Дуга 14"/>
          <p:cNvSpPr/>
          <p:nvPr/>
        </p:nvSpPr>
        <p:spPr>
          <a:xfrm rot="10800000">
            <a:off x="2700360" y="3573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Дуга 15"/>
          <p:cNvSpPr/>
          <p:nvPr/>
        </p:nvSpPr>
        <p:spPr>
          <a:xfrm rot="10800000">
            <a:off x="3708360" y="360792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  <a:lnTo>
                  <a:pt x="504032" y="342106"/>
                </a:lnTo>
                <a:close/>
              </a:path>
              <a:path fill="none" w="1008063" h="684212">
                <a:moveTo>
                  <a:pt x="620" y="359070"/>
                </a:moveTo>
                <a:lnTo>
                  <a:pt x="620" y="359070"/>
                </a:lnTo>
                <a:arcTo wR="504032" hR="342106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16"/>
          <p:cNvSpPr/>
          <p:nvPr/>
        </p:nvSpPr>
        <p:spPr>
          <a:xfrm flipH="1">
            <a:off x="3419640" y="3249720"/>
            <a:ext cx="288720" cy="3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17"/>
          <p:cNvSpPr/>
          <p:nvPr/>
        </p:nvSpPr>
        <p:spPr>
          <a:xfrm flipH="1">
            <a:off x="1440000" y="2349360"/>
            <a:ext cx="2872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8"/>
          <p:cNvSpPr/>
          <p:nvPr/>
        </p:nvSpPr>
        <p:spPr>
          <a:xfrm flipH="1">
            <a:off x="2448000" y="1268280"/>
            <a:ext cx="2872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0"/>
          <p:cNvSpPr/>
          <p:nvPr/>
        </p:nvSpPr>
        <p:spPr>
          <a:xfrm flipH="1">
            <a:off x="3384720" y="4329000"/>
            <a:ext cx="287280" cy="324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Дуга 21"/>
          <p:cNvSpPr/>
          <p:nvPr/>
        </p:nvSpPr>
        <p:spPr>
          <a:xfrm rot="10800000">
            <a:off x="611280" y="454464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  <a:lnTo>
                  <a:pt x="504031" y="342106"/>
                </a:lnTo>
                <a:close/>
              </a:path>
              <a:path fill="none" w="1008062" h="684212">
                <a:moveTo>
                  <a:pt x="620" y="359070"/>
                </a:moveTo>
                <a:lnTo>
                  <a:pt x="620" y="359070"/>
                </a:lnTo>
                <a:arcTo wR="504031" hR="342106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Дуга 22"/>
          <p:cNvSpPr/>
          <p:nvPr/>
        </p:nvSpPr>
        <p:spPr>
          <a:xfrm rot="10800000">
            <a:off x="1619280" y="4581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  <a:lnTo>
                  <a:pt x="504032" y="342107"/>
                </a:lnTo>
                <a:close/>
              </a:path>
              <a:path fill="none" w="1008063" h="684213">
                <a:moveTo>
                  <a:pt x="620" y="359071"/>
                </a:moveTo>
                <a:lnTo>
                  <a:pt x="620" y="359071"/>
                </a:lnTo>
                <a:arcTo wR="504032" hR="342107" stAng="10684198" swAng="10915808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Дуга 23"/>
          <p:cNvSpPr/>
          <p:nvPr/>
        </p:nvSpPr>
        <p:spPr>
          <a:xfrm rot="10800000">
            <a:off x="2627280" y="4581000"/>
            <a:ext cx="1008000" cy="684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84360"/>
              <a:gd name="textAreaBottom" fmla="*/ 359280 h 684360"/>
            </a:gdLst>
            <a:ahLst/>
            <a:rect l="textAreaLeft" t="textAreaTop" r="textAreaRight" b="textAreaBottom"/>
            <a:pathLst>
              <a:path stroke="0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  <a:lnTo>
                  <a:pt x="504031" y="342107"/>
                </a:lnTo>
                <a:close/>
              </a:path>
              <a:path fill="none" w="1008062" h="684213">
                <a:moveTo>
                  <a:pt x="620" y="359071"/>
                </a:moveTo>
                <a:lnTo>
                  <a:pt x="620" y="359071"/>
                </a:lnTo>
                <a:arcTo wR="504031" hR="342107" stAng="10684198" swAng="10915809"/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5"/>
          <p:cNvSpPr/>
          <p:nvPr/>
        </p:nvSpPr>
        <p:spPr>
          <a:xfrm>
            <a:off x="5543640" y="1413000"/>
            <a:ext cx="291600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6"/>
          <p:cNvSpPr/>
          <p:nvPr/>
        </p:nvSpPr>
        <p:spPr>
          <a:xfrm>
            <a:off x="5543640" y="2565360"/>
            <a:ext cx="291600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8"/>
          <p:cNvSpPr/>
          <p:nvPr/>
        </p:nvSpPr>
        <p:spPr>
          <a:xfrm>
            <a:off x="4464000" y="5805360"/>
            <a:ext cx="4429080" cy="648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ЛОКОЛЬ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9"/>
          <p:cNvSpPr/>
          <p:nvPr/>
        </p:nvSpPr>
        <p:spPr>
          <a:xfrm>
            <a:off x="5508720" y="3645000"/>
            <a:ext cx="309564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ЕШЕ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0"/>
          <p:cNvSpPr/>
          <p:nvPr/>
        </p:nvSpPr>
        <p:spPr>
          <a:xfrm>
            <a:off x="5508720" y="4689360"/>
            <a:ext cx="2950920" cy="6476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АШ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Прямая со стрелкой 33"/>
          <p:cNvCxnSpPr/>
          <p:nvPr/>
        </p:nvCxnSpPr>
        <p:spPr>
          <a:xfrm flipH="1">
            <a:off x="2734560" y="1773360"/>
            <a:ext cx="2810520" cy="111672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0" name="Прямая со стрелкой 35"/>
          <p:cNvCxnSpPr/>
          <p:nvPr/>
        </p:nvCxnSpPr>
        <p:spPr>
          <a:xfrm flipH="1">
            <a:off x="3526920" y="4292640"/>
            <a:ext cx="1982160" cy="8308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1" name="Прямая со стрелкой 37"/>
          <p:cNvCxnSpPr/>
          <p:nvPr/>
        </p:nvCxnSpPr>
        <p:spPr>
          <a:xfrm flipH="1" flipV="1">
            <a:off x="3779280" y="1736280"/>
            <a:ext cx="1802520" cy="122472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2" name="Прямая со стрелкой 39"/>
          <p:cNvCxnSpPr/>
          <p:nvPr/>
        </p:nvCxnSpPr>
        <p:spPr>
          <a:xfrm flipH="1" flipV="1">
            <a:off x="3526560" y="1988640"/>
            <a:ext cx="1972440" cy="301536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213" name="Прямая со стрелкой 42"/>
          <p:cNvCxnSpPr/>
          <p:nvPr/>
        </p:nvCxnSpPr>
        <p:spPr>
          <a:xfrm flipH="1" flipV="1">
            <a:off x="1546920" y="4220280"/>
            <a:ext cx="2917080" cy="1585080"/>
          </a:xfrm>
          <a:prstGeom prst="straightConnector1">
            <a:avLst/>
          </a:prstGeom>
          <a:ln w="57240">
            <a:solidFill>
              <a:srgbClr val="7030a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5949720"/>
            <a:ext cx="8675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Русская народная сказка </a:t>
            </a:r>
            <a:br>
              <a:rPr sz="4000"/>
            </a:b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«Гуси-лебеди»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5" name="Picture 4" descr="http://vi.ill.in.ua/m/950x0/700438.jpg"/>
          <p:cNvPicPr/>
          <p:nvPr/>
        </p:nvPicPr>
        <p:blipFill>
          <a:blip r:embed="rId2"/>
          <a:stretch/>
        </p:blipFill>
        <p:spPr>
          <a:xfrm>
            <a:off x="576360" y="152280"/>
            <a:ext cx="802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5949720"/>
            <a:ext cx="8675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Русская народная сказка </a:t>
            </a:r>
            <a:br>
              <a:rPr sz="4000"/>
            </a:br>
            <a:r>
              <a:rPr b="0" lang="en-US" sz="4000" spc="-1" strike="noStrike">
                <a:solidFill>
                  <a:srgbClr val="4a452a"/>
                </a:solidFill>
                <a:latin typeface="Cassandra"/>
              </a:rPr>
              <a:t>«По щучьему веленью»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7" name="Picture 2" descr="http://www.planetaskazok.ru/images/stories/russian_2/po_shuciemu_veleniu/img_09.jpg"/>
          <p:cNvPicPr/>
          <p:nvPr/>
        </p:nvPicPr>
        <p:blipFill>
          <a:blip r:embed="rId2"/>
          <a:stretch/>
        </p:blipFill>
        <p:spPr>
          <a:xfrm>
            <a:off x="792000" y="260280"/>
            <a:ext cx="766764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7280" y="151920"/>
            <a:ext cx="8640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452a"/>
                </a:solidFill>
                <a:latin typeface="Cassandra"/>
              </a:rPr>
              <a:t>Правильная посадка за </a:t>
            </a:r>
            <a:r>
              <a:rPr b="0" lang="en-US" sz="4800" spc="-1" strike="noStrike">
                <a:solidFill>
                  <a:srgbClr val="4a452a"/>
                </a:solidFill>
                <a:latin typeface="Arial"/>
              </a:rPr>
              <a:t>столом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32000" y="1628640"/>
            <a:ext cx="479124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21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452a"/>
                </a:solidFill>
                <a:latin typeface="Cassandra"/>
              </a:rPr>
              <a:t>Неправильная посадка за </a:t>
            </a:r>
            <a:r>
              <a:rPr b="0" lang="en-US" sz="4800" spc="-1" strike="noStrike">
                <a:solidFill>
                  <a:srgbClr val="4a452a"/>
                </a:solidFill>
                <a:latin typeface="Arial"/>
              </a:rPr>
              <a:t>столом</a:t>
            </a:r>
            <a:endParaRPr b="0" lang="en-US" sz="48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150920" y="1449360"/>
            <a:ext cx="6388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151920"/>
            <a:ext cx="83167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452a"/>
                </a:solidFill>
                <a:latin typeface="Cassandra"/>
              </a:rPr>
              <a:t>Закончите предложения: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4000" y="836280"/>
            <a:ext cx="8064360" cy="56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сё что мы говорим, это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Я узнал, что речь бывает 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Теперь я знаю, что первое слово в  предложении пишется 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Я узнал, что в конце предложения ставится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егодня я вспомнил героев сказки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Вам было интересно выполнять задание …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53735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6000" y="549360"/>
            <a:ext cx="8640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Cassandra"/>
              </a:rPr>
              <a:t>Виды </a:t>
            </a: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общен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936000" y="2384280"/>
            <a:ext cx="285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РЕЧЕ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684360" y="4257720"/>
            <a:ext cx="320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ОБЩЕНИЕ С ПОМОЩЬЮ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5435640" y="4257720"/>
            <a:ext cx="34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ОБЩ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БЕЗ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4536000" y="2384280"/>
            <a:ext cx="36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НЕРЕЧЕ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0"/>
          <p:cNvCxnSpPr>
            <a:endCxn id="91" idx="0"/>
          </p:cNvCxnSpPr>
          <p:nvPr/>
        </p:nvCxnSpPr>
        <p:spPr>
          <a:xfrm flipH="1">
            <a:off x="236340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11"/>
          <p:cNvCxnSpPr>
            <a:endCxn id="94" idx="0"/>
          </p:cNvCxnSpPr>
          <p:nvPr/>
        </p:nvCxnSpPr>
        <p:spPr>
          <a:xfrm>
            <a:off x="4564080" y="1916280"/>
            <a:ext cx="178992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13"/>
          <p:cNvCxnSpPr>
            <a:endCxn id="92" idx="0"/>
          </p:cNvCxnSpPr>
          <p:nvPr/>
        </p:nvCxnSpPr>
        <p:spPr>
          <a:xfrm flipH="1">
            <a:off x="2285280" y="3141720"/>
            <a:ext cx="1836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16"/>
          <p:cNvCxnSpPr/>
          <p:nvPr/>
        </p:nvCxnSpPr>
        <p:spPr>
          <a:xfrm>
            <a:off x="6722640" y="3104640"/>
            <a:ext cx="10440" cy="108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6000" y="549360"/>
            <a:ext cx="8640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Средства</a:t>
            </a:r>
            <a:r>
              <a:rPr b="0" lang="en-US" sz="6000" spc="-1" strike="noStrike" u="sng">
                <a:solidFill>
                  <a:srgbClr val="4a452a"/>
                </a:solidFill>
                <a:uFillTx/>
                <a:latin typeface="Cassandra"/>
              </a:rPr>
              <a:t> </a:t>
            </a: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общен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935640" y="238428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900000" y="4257720"/>
            <a:ext cx="43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РЕЧ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ИНТОН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ТЕМП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ТЕМБР ГОЛ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5435640" y="4257720"/>
            <a:ext cx="345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П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МИ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ЖЕ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- ВЗГЛЯ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4535640" y="2384280"/>
            <a:ext cx="369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НЕ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0"/>
          <p:cNvCxnSpPr>
            <a:endCxn id="101" idx="0"/>
          </p:cNvCxnSpPr>
          <p:nvPr/>
        </p:nvCxnSpPr>
        <p:spPr>
          <a:xfrm flipH="1">
            <a:off x="239364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11"/>
          <p:cNvCxnSpPr>
            <a:endCxn id="104" idx="0"/>
          </p:cNvCxnSpPr>
          <p:nvPr/>
        </p:nvCxnSpPr>
        <p:spPr>
          <a:xfrm>
            <a:off x="4593960" y="1916280"/>
            <a:ext cx="178956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13"/>
          <p:cNvCxnSpPr>
            <a:endCxn id="102" idx="0"/>
          </p:cNvCxnSpPr>
          <p:nvPr/>
        </p:nvCxnSpPr>
        <p:spPr>
          <a:xfrm flipH="1">
            <a:off x="3096360" y="3141720"/>
            <a:ext cx="1836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16"/>
          <p:cNvCxnSpPr/>
          <p:nvPr/>
        </p:nvCxnSpPr>
        <p:spPr>
          <a:xfrm>
            <a:off x="6722640" y="3104640"/>
            <a:ext cx="10440" cy="1080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Arial"/>
              </a:rPr>
              <a:t>Общение речевое, неречевое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110" name="Текст 2" descr=""/>
          <p:cNvPicPr/>
          <p:nvPr/>
        </p:nvPicPr>
        <p:blipFill>
          <a:blip r:embed="rId2"/>
          <a:stretch/>
        </p:blipFill>
        <p:spPr>
          <a:xfrm>
            <a:off x="1440000" y="4329000"/>
            <a:ext cx="3809880" cy="196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508720" y="1592280"/>
            <a:ext cx="3024000" cy="194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348000" y="2097000"/>
            <a:ext cx="1770120" cy="1798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2698920" cy="2158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358920" y="1521000"/>
            <a:ext cx="25714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6000" y="549360"/>
            <a:ext cx="864072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4a452a"/>
                </a:solidFill>
                <a:uFillTx/>
                <a:latin typeface="Arial"/>
              </a:rPr>
              <a:t>ЗВУКИ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2411280" y="1197000"/>
            <a:ext cx="392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4"/>
          <p:cNvSpPr/>
          <p:nvPr/>
        </p:nvSpPr>
        <p:spPr>
          <a:xfrm>
            <a:off x="935640" y="238428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719280" y="3213000"/>
            <a:ext cx="74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ЗЕМЛЮ НАСЕЛЯЕТ МНОЖЕСТВО ЖИВЫХ СУЩЕСТВ. ИЗ НИХ ТОЛЬКО ЧЕЛОВЕК ОБЛАДАЕТ ДАРОМ Р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(Л.Успенск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8"/>
          <p:cNvSpPr/>
          <p:nvPr/>
        </p:nvSpPr>
        <p:spPr>
          <a:xfrm>
            <a:off x="4535640" y="2384280"/>
            <a:ext cx="369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НЕРЕ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>
            <a:endCxn id="117" idx="0"/>
          </p:cNvCxnSpPr>
          <p:nvPr/>
        </p:nvCxnSpPr>
        <p:spPr>
          <a:xfrm flipH="1">
            <a:off x="2393640" y="1881000"/>
            <a:ext cx="1681920" cy="50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>
            <a:endCxn id="119" idx="0"/>
          </p:cNvCxnSpPr>
          <p:nvPr/>
        </p:nvCxnSpPr>
        <p:spPr>
          <a:xfrm>
            <a:off x="4593960" y="1916280"/>
            <a:ext cx="1789560" cy="46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1376280"/>
            <a:ext cx="7524720" cy="4554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52a"/>
                </a:solidFill>
                <a:latin typeface="Arial"/>
              </a:rPr>
              <a:t>ФОТО РЕЧЕВЫХ ЗВУКОВ И НЕРЕЧЕВЫХ</a:t>
            </a:r>
            <a:endParaRPr b="0" lang="en-US" sz="28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189216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9" descr="http://2.bp.blogspot.com/-UJVGxCIF4EM/TnG7DzSqeRI/AAAAAAAADvw/Z_rnyh7Uw7M/s1600/%25D0%2591%25D0%25B5%25D0%25B7%25D1%258B%25D0%25BC%25D1%258F%25D0%25BD%25D0%25BD%25D1%258B%25D0%25B9.png"/>
          <p:cNvPicPr/>
          <p:nvPr/>
        </p:nvPicPr>
        <p:blipFill>
          <a:blip r:embed="rId2"/>
          <a:stretch/>
        </p:blipFill>
        <p:spPr>
          <a:xfrm>
            <a:off x="719280" y="368280"/>
            <a:ext cx="810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6000" y="367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4a452a"/>
                </a:solidFill>
                <a:uFillTx/>
                <a:latin typeface="Arial"/>
              </a:rPr>
              <a:t>Речь устная и письменная</a:t>
            </a:r>
            <a:endParaRPr b="0" lang="en-US" sz="5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934920" y="2384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Что необходимо для реч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"/>
          <p:cNvSpPr/>
          <p:nvPr/>
        </p:nvSpPr>
        <p:spPr>
          <a:xfrm>
            <a:off x="3419640" y="4184640"/>
            <a:ext cx="2160360" cy="6426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СЛО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>
            <a:off x="2785680" y="5192640"/>
            <a:ext cx="3775680" cy="6426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3735"/>
                </a:solidFill>
                <a:latin typeface="Arial"/>
              </a:rPr>
              <a:t>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Прямая со стрелкой 13"/>
          <p:cNvCxnSpPr/>
          <p:nvPr/>
        </p:nvCxnSpPr>
        <p:spPr>
          <a:xfrm>
            <a:off x="1979280" y="4508280"/>
            <a:ext cx="1477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6"/>
          <p:cNvCxnSpPr>
            <a:endCxn id="131" idx="3"/>
          </p:cNvCxnSpPr>
          <p:nvPr/>
        </p:nvCxnSpPr>
        <p:spPr>
          <a:xfrm flipH="1" flipV="1">
            <a:off x="5579640" y="4507920"/>
            <a:ext cx="1656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Прямая соединительная линия 20"/>
          <p:cNvSpPr/>
          <p:nvPr/>
        </p:nvSpPr>
        <p:spPr>
          <a:xfrm>
            <a:off x="7308720" y="299736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21"/>
          <p:cNvSpPr/>
          <p:nvPr/>
        </p:nvSpPr>
        <p:spPr>
          <a:xfrm>
            <a:off x="1943280" y="3033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25"/>
          <p:cNvCxnSpPr>
            <a:endCxn id="132" idx="1"/>
          </p:cNvCxnSpPr>
          <p:nvPr/>
        </p:nvCxnSpPr>
        <p:spPr>
          <a:xfrm flipV="1">
            <a:off x="1907640" y="5515920"/>
            <a:ext cx="864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Прямая со стрелкой 28"/>
          <p:cNvCxnSpPr/>
          <p:nvPr/>
        </p:nvCxnSpPr>
        <p:spPr>
          <a:xfrm flipH="1">
            <a:off x="6587280" y="5516280"/>
            <a:ext cx="756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13"/>
          <p:cNvCxnSpPr/>
          <p:nvPr/>
        </p:nvCxnSpPr>
        <p:spPr>
          <a:xfrm flipH="1">
            <a:off x="4392360" y="1449360"/>
            <a:ext cx="18000" cy="1116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dmin</cp:lastModifiedBy>
  <dcterms:modified xsi:type="dcterms:W3CDTF">2018-12-21T07:05:28Z</dcterms:modified>
  <cp:revision>75</cp:revision>
  <dc:subject/>
  <dc:title>Слайд 1</dc:title>
</cp:coreProperties>
</file>