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948-2752-48C7-B418-864F8749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9AE-E0B8-47FE-81BB-B116B8DE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E76-55B5-45E9-BE08-598A6105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787-A04F-4496-8E8D-061694DD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28A-A4A4-42DE-9607-19C04DF8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BE0-7655-4A09-896C-48612D68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728-2139-4945-ACD5-185DCE21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557-D49F-43A7-AC8C-1EEB39D8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6B6-58E7-4159-A065-7AE6C911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B38-5AE2-45ED-B8CE-C7371C79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D9A-5CB3-4DCE-8DB5-D552C7EB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ED5-63F6-4059-A267-C0B0611A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E2E8-4FE5-4872-BFDB-4A7B33BB31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2204640"/>
            <a:ext cx="5545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5"/>
          <p:cNvSpPr/>
          <p:nvPr/>
        </p:nvSpPr>
        <p:spPr>
          <a:xfrm>
            <a:off x="4861080" y="3213000"/>
            <a:ext cx="5040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 rot="997200">
            <a:off x="5967360" y="638280"/>
            <a:ext cx="2359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довлетворительные результаты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государственной (итоговой) аттест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 русскому языку и математик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являются основанием выдачи аттестата о среднем (полном) общем образова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 rot="1236600">
            <a:off x="6843240" y="342720"/>
            <a:ext cx="21384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 аттестат выпускнику, получившему удовлетворительные результаты на государственной (итоговой) аттестации, выставляются итоговые отметки, которые определяются к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реднее арифметическое годовых отметок за X, XI кл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 rot="1309800">
            <a:off x="6370560" y="411120"/>
            <a:ext cx="25574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едметы по выб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остранны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Хи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ществ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форматика и 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е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 rot="1406400">
            <a:off x="6926400" y="447480"/>
            <a:ext cx="205740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 проведении государственной (итоговой) аттестации в форме ЕГЭ используется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обалльная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система 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зультаты ЕГЭ признаются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довлетворительными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случае, если   выпускник по обязатель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щеобразовательным предметам  (русский язык и математика) набрал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личество баллов не ниже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 rot="1827600">
            <a:off x="6802200" y="350640"/>
            <a:ext cx="2301840" cy="12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Минимальное количество баллов, подтверждающее освоение образовательной программы средне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3284640"/>
          <a:ext cx="8207280" cy="30240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630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атематика (профил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3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атематика (ба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3 балла по пятибалльной шка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22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432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Минимальное количество баллов, необходимое для поступления на обучение в в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2276640"/>
          <a:ext cx="9144000" cy="4543200"/>
        </p:xfrm>
        <a:graphic>
          <a:graphicData uri="http://schemas.openxmlformats.org/drawingml/2006/table">
            <a:tbl>
              <a:tblPr/>
              <a:tblGrid>
                <a:gridCol w="5294160"/>
                <a:gridCol w="3849840"/>
              </a:tblGrid>
              <a:tr h="59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атематика (профил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Физика, химия, 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Инфор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История,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06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Иностранн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Обществозн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37" descr=""/>
          <p:cNvPicPr/>
          <p:nvPr/>
        </p:nvPicPr>
        <p:blipFill>
          <a:blip r:embed="rId1"/>
          <a:stretch/>
        </p:blipFill>
        <p:spPr>
          <a:xfrm rot="976800">
            <a:off x="7093080" y="188640"/>
            <a:ext cx="18698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До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01 октября 2018г. </a:t>
            </a: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вузы публикуют перечень предметов вступительных испыта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01 февраля 2018г. </a:t>
            </a: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-последний день внесения изменений в перечень предм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 rot="1432200">
            <a:off x="6384600" y="453960"/>
            <a:ext cx="249084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Расписание ЕГЭ устанавлива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на федеральном уровн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Рособрнадзор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683400" y="260280"/>
            <a:ext cx="2432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258920"/>
          <a:ext cx="9180360" cy="5987880"/>
        </p:xfrm>
        <a:graphic>
          <a:graphicData uri="http://schemas.openxmlformats.org/drawingml/2006/table">
            <a:tbl>
              <a:tblPr/>
              <a:tblGrid>
                <a:gridCol w="5178600"/>
                <a:gridCol w="4001760"/>
              </a:tblGrid>
              <a:tr h="43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олж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3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Математика (профиль/ба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55 минут/3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5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Обществозн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5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Иностранн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+1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5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55 мину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3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Инфор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5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97" name="Picture 46" descr=""/>
          <p:cNvPicPr/>
          <p:nvPr/>
        </p:nvPicPr>
        <p:blipFill>
          <a:blip r:embed="rId1"/>
          <a:stretch/>
        </p:blipFill>
        <p:spPr>
          <a:xfrm>
            <a:off x="6516720" y="115920"/>
            <a:ext cx="25178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В продолжительность экзаменов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не включается </a:t>
            </a: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время, выделенное на подготовительные мероприятия (инструктаж, заполнение регистрационных бланков и т.д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14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иказ Минобрнауки России от 26.12.2013 N1400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(ред. от 07.07.2015)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"Об утверждении Порядка проведения государственной итоговой аттестации по образовательным программам среднего общего образования"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(Зарегистрировано в Минюсте России 03.02.2014 N 312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 rot="1440000">
            <a:off x="6600600" y="404640"/>
            <a:ext cx="22525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360" y="1628640"/>
          <a:ext cx="9144000" cy="4032360"/>
        </p:xfrm>
        <a:graphic>
          <a:graphicData uri="http://schemas.openxmlformats.org/drawingml/2006/table">
            <a:tbl>
              <a:tblPr/>
              <a:tblGrid>
                <a:gridCol w="3419640"/>
                <a:gridCol w="572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редства об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Матема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Линей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Физ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Линейка, непрограммируемый калькуля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05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Хим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Непрограммируемый калькуля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Географ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Линейка, непрограммируемый калькулятор, транспорт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24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14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Руководитель и организаторы ПП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Уполномоченный представитель ГЭ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Руководитель 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Сотрудник 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Медицинский рабо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Общественные наблюд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Технические специал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21589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707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ечать КИМ будет производиться в аудитори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6659640" y="620640"/>
            <a:ext cx="19429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Если обучающийся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 состоянию здоровья</a:t>
            </a: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 не может завершить выполнение экзаменационной работы, то он досрочно покидает аудитор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Экзамен может быть перес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 резервные дни</a:t>
            </a: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8764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459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авила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ведения Е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Черная гелевая или  капиллярная ру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Документ, удостоверяющий л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общаться друг с другом, свободно перемещаться по аудитории, иметь средства связи, электронно-вычислительную аппаратуру, фото-, аудио- и видеоаппаратуру, справочные материалы, письменные заметки и иные средства хранения и передач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Лица, допустившие нарушение устанавливаемого порядка проведения ГИ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даляются с экзамен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ересдача возмож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ОЛЬКО через год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1589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720108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ием и рассмотрение апелля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18440" cy="4853160"/>
        </p:xfrm>
        <a:graphic>
          <a:graphicData uri="http://schemas.openxmlformats.org/drawingml/2006/table">
            <a:tbl>
              <a:tblPr/>
              <a:tblGrid>
                <a:gridCol w="3317760"/>
                <a:gridCol w="4900680"/>
              </a:tblGrid>
              <a:tr h="217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О нарушении  установленного Порядка проведения экза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 день проведения экзамена по соответствующему предмету, не покидая ППЭ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руководителю ППЭ)!!!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81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О несогласии с выставленными бал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 течение двух рабочих дней после официального объявления результатов ГИА по соответствующему предме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директору школы)!!!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15" descr=""/>
          <p:cNvPicPr/>
          <p:nvPr/>
        </p:nvPicPr>
        <p:blipFill>
          <a:blip r:embed="rId1"/>
          <a:stretch/>
        </p:blipFill>
        <p:spPr>
          <a:xfrm>
            <a:off x="7451640" y="404640"/>
            <a:ext cx="155592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-3492360" y="-316080"/>
            <a:ext cx="16201800" cy="90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можно получить дополнительные б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Итоговое сочинение (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 1 до 10 баллов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Аттестат с отличием (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о 10 баллов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Волонтерская деятельность (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-2 балла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Участие и победы в предметных олимпиадах и творческих конкурсах (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о 10 баллов 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или льготные условия поступл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Спортивные заслуги (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о 10 баллов 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или льготное поступление в профильные вузы) Золотой значок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ТО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732720" y="5508720"/>
            <a:ext cx="220824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160020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Дата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5  декабря 2018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ересдача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февраль 2019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ай 2019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Время написан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                       </a:t>
            </a: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3 часа 55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 rot="1506600">
            <a:off x="6786360" y="632880"/>
            <a:ext cx="20476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очинение оценивается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о пяти критер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оответствие тем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ргументация, привлечение литературного материал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омпози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чество реч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рамотность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50 слов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227640" y="4437000"/>
            <a:ext cx="27133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-20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1600200"/>
            <a:ext cx="91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«Верность и изме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«Равнодушие и отзывчив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«Цели и средст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«Смелость и трус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«Человек  и общест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516720" y="115920"/>
            <a:ext cx="2432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45"/>
                </a:solidFill>
                <a:latin typeface="Arial"/>
              </a:rPr>
              <a:t>«Верность и измен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огда измену можно прост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гут ли быть оправдания у изм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300720" y="4510080"/>
            <a:ext cx="27129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ИС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Отцы и де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Мечта и реаль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Месть и великодуш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Искусство и ремесл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Доброта и жесток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012000" y="4510080"/>
            <a:ext cx="27129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К прохождению ГИА допускаются учащиеся,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не имеющие академической задолженности по всем предмет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 rot="1622400">
            <a:off x="6811560" y="345600"/>
            <a:ext cx="210816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Обязательные предме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русский язы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и матема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+  предметы по выбо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 rot="1722600">
            <a:off x="6722640" y="348840"/>
            <a:ext cx="2455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Школа</cp:lastModifiedBy>
  <dcterms:modified xsi:type="dcterms:W3CDTF">2018-10-09T17:17:03Z</dcterms:modified>
  <cp:revision>779</cp:revision>
  <dc:subject/>
  <dc:title>Diapositiva 1</dc:title>
</cp:coreProperties>
</file>