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43B5-BEC0-48BD-AF6E-CE2A04744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987912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62080" y="4476960"/>
            <a:ext cx="987912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9FBC-F891-4CB0-A96C-A597C68A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224400" y="267444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62080" y="447696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224400" y="447696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56C8-0F3E-468E-929B-B7C9BF35E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31809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02520" y="2674440"/>
            <a:ext cx="31809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842960" y="2674440"/>
            <a:ext cx="31809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62080" y="4476960"/>
            <a:ext cx="31809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502520" y="4476960"/>
            <a:ext cx="31809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842960" y="4476960"/>
            <a:ext cx="31809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F0DE-50DA-4C34-B818-69FCE52B7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1078B-FE36-4FDE-9D55-CA9AAFB11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62080" y="2674440"/>
            <a:ext cx="987912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475FC-4FE0-48E3-866D-80B899A64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987912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4C3B7-0CF8-4895-BCC1-9CECE2F94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482076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4400" y="2674440"/>
            <a:ext cx="482076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D175E-ADEF-4956-8BA1-34E2702EC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FF3FF-C381-4280-A3D3-C1EEE66F4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09480" y="338040"/>
            <a:ext cx="109728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866F5-65D2-48DA-9C12-2106D26AA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24400" y="2674440"/>
            <a:ext cx="482076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62080" y="447696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53242-2233-4694-BB8A-67BB485C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62080" y="2674440"/>
            <a:ext cx="987912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A99B-5BA4-442B-AF80-CC0D07453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482076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24400" y="267444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24400" y="447696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3AF11-3135-42E6-BCF5-41880123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24400" y="267444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62080" y="4476960"/>
            <a:ext cx="987912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77DB6-B806-4367-9EAD-187B39CB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987912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162080" y="4476960"/>
            <a:ext cx="987912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B3A03-710C-4033-84D4-F4D004197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224400" y="267444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62080" y="447696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224400" y="447696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7EB21-3851-4A38-807D-267A9F4F6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31809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02520" y="2674440"/>
            <a:ext cx="31809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7842960" y="2674440"/>
            <a:ext cx="31809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162080" y="4476960"/>
            <a:ext cx="31809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502520" y="4476960"/>
            <a:ext cx="31809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7842960" y="4476960"/>
            <a:ext cx="31809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852B9-8286-433F-B320-535081700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851E2-7C90-4889-A43A-A79D1F1BA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162080" y="2674440"/>
            <a:ext cx="987912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A91CD-4C14-466F-A160-CDFEA96D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987912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1DACE-2AD5-4038-95C2-AE7807A9D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482076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4400" y="2674440"/>
            <a:ext cx="482076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B716C-C3C0-4D35-88CB-897EBC161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09896-C911-4984-93FC-3E2612CEE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987912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4520-FE79-4612-924D-71ADF67B1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09480" y="338040"/>
            <a:ext cx="109728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D60FD-3CC1-4CF2-9B17-B087BF5B4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24400" y="2674440"/>
            <a:ext cx="482076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62080" y="447696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D122C-40A7-4B1F-8FDC-5C2B9CB5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482076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24400" y="267444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224400" y="447696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21599-BC28-47EC-B2E9-6E6EA505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224400" y="267444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62080" y="4476960"/>
            <a:ext cx="987912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57410-65B0-456A-8E65-98D924F6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987912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1162080" y="4476960"/>
            <a:ext cx="987912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6B4AD-FD8E-4DB2-828B-5E501A251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4400" y="267444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162080" y="447696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224400" y="447696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088E0-6D53-4AA8-83F1-BFD65C71E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31809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02520" y="2674440"/>
            <a:ext cx="31809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7842960" y="2674440"/>
            <a:ext cx="31809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1162080" y="4476960"/>
            <a:ext cx="31809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4502520" y="4476960"/>
            <a:ext cx="31809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7842960" y="4476960"/>
            <a:ext cx="31809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38566-ED1C-4AB6-979B-1AA8A8543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1894E-068C-4681-8963-7ABA2F85C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162080" y="2674440"/>
            <a:ext cx="987912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F7EDF-8D89-484B-9CBB-19673A233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987912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01E80-1CD8-45F0-AB18-F1E9CD065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482076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24400" y="2674440"/>
            <a:ext cx="482076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1601-6F86-43D4-A3B2-63D719D14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482076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24400" y="2674440"/>
            <a:ext cx="482076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3DC92-7A87-457A-B9DA-3FC7B396E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AF6F4-383F-45BC-B687-C2272B189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09480" y="338040"/>
            <a:ext cx="109728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7C5AA-A719-4D17-B826-0BDBD401B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224400" y="2674440"/>
            <a:ext cx="482076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162080" y="447696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F2F68-0B5B-4A83-A512-E966AE6F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482076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224400" y="267444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224400" y="447696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D5425-041B-4787-A142-EFAE4B2F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224400" y="267444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162080" y="4476960"/>
            <a:ext cx="987912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D3E62-4AF3-4CB5-95D0-364BAFC5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987912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1162080" y="4476960"/>
            <a:ext cx="987912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861F7-9B84-4F5E-A634-CDE9FA781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224400" y="267444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162080" y="447696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6224400" y="447696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F02FA-1473-4742-9AD3-FA5D39B19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31809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02520" y="2674440"/>
            <a:ext cx="31809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7842960" y="2674440"/>
            <a:ext cx="31809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1162080" y="4476960"/>
            <a:ext cx="31809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4502520" y="4476960"/>
            <a:ext cx="31809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7842960" y="4476960"/>
            <a:ext cx="31809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DEC45-007C-476C-97CA-F89690998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AAE32-0BF0-431A-A5A2-515485E61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1181-2E54-4E3A-A678-5A49A97E3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162080" y="2674440"/>
            <a:ext cx="987912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A3977-82B9-4105-95C8-457073729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987912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C57BC-4ACB-452C-AD82-6184AC78E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482076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224400" y="2674440"/>
            <a:ext cx="482076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179EC-05AE-45E1-B8C0-0157D1603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00CA5-64FC-4750-A86E-B84644C3A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609480" y="338040"/>
            <a:ext cx="109728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568B2-6CEF-483B-BCF9-6C5B5E7BC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24400" y="2674440"/>
            <a:ext cx="482076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162080" y="447696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9A494-56C9-4D24-A9D9-837F97F4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482076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4400" y="267444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24400" y="447696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7F707-4694-4E4B-9052-98C214EE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4400" y="267444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162080" y="4476960"/>
            <a:ext cx="987912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0580A-E01D-4965-8886-77564C11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987912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1162080" y="4476960"/>
            <a:ext cx="987912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7310A-DACB-497A-A2E0-F4D93FD4C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4400" y="267444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162080" y="447696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6224400" y="447696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81707-D371-4591-9873-34B4D8D26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09480" y="338040"/>
            <a:ext cx="109728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412C-4280-4EDF-AE01-6314088B0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31809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02520" y="2674440"/>
            <a:ext cx="31809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7842960" y="2674440"/>
            <a:ext cx="31809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1162080" y="4476960"/>
            <a:ext cx="31809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4502520" y="4476960"/>
            <a:ext cx="31809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7842960" y="4476960"/>
            <a:ext cx="31809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54427-34EA-4CCA-8A2F-15DFF3E5E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D59B4-A0D9-434C-94A0-2CEC7F36A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162080" y="2674440"/>
            <a:ext cx="987912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E0142-081F-4B11-AE9A-A5285B0E1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987912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E9A6D-E816-4893-BC14-F6BAED6B3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482076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4400" y="2674440"/>
            <a:ext cx="482076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ED54D-4CD0-4292-9BC2-AF9EE5851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7065B-49F8-43E1-B8E0-6829695CA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338040"/>
            <a:ext cx="109728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9B9C0-BEC9-4D7C-90A2-3EE8ECD28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4400" y="2674440"/>
            <a:ext cx="482076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162080" y="447696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C8101-5364-437A-909C-B1B08871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482076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4400" y="267444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4400" y="447696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9F9B8-C286-4CBF-855F-403D11F8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4400" y="267444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162080" y="4476960"/>
            <a:ext cx="987912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7B5A4-D73B-47CF-8293-7E8E45C8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24400" y="2674440"/>
            <a:ext cx="482076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62080" y="447696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A7D5-5403-4ED2-9769-79F05CC8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987912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162080" y="4476960"/>
            <a:ext cx="987912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6316FB-B47A-4776-B76A-CD90155F9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4400" y="267444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162080" y="447696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4400" y="447696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853C9-A5F0-4703-87D2-FA9311DB6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31809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02520" y="2674440"/>
            <a:ext cx="31809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842960" y="2674440"/>
            <a:ext cx="31809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162080" y="4476960"/>
            <a:ext cx="31809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502520" y="4476960"/>
            <a:ext cx="31809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842960" y="4476960"/>
            <a:ext cx="31809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F843E-AB5C-4ECA-A597-6B266AD4A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13562-FBB4-4759-9D37-6AD5077AF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162080" y="2674440"/>
            <a:ext cx="987912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293BDF-6AE2-4098-9CEB-6E6D939E2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987912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B01DA1-F4AA-4565-A8DD-22874F622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482076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24400" y="2674440"/>
            <a:ext cx="482076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61737-4B2D-4F6F-AA17-C221E5C87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D4DE8-6842-4A7F-AF66-43124CDBB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609480" y="338040"/>
            <a:ext cx="109728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93BCF-745F-4432-95BF-31E50F553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24400" y="2674440"/>
            <a:ext cx="482076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162080" y="447696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D00ABE-C600-4FFB-BC5C-9229F012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482076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24400" y="267444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224400" y="447696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A896-3374-407F-8CF6-335CDB73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482076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224400" y="267444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224400" y="447696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ECF40-F8AF-4E98-8E75-A101CAD4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4400" y="267444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162080" y="4476960"/>
            <a:ext cx="987912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3B7D53-F1C0-4ACE-A136-94F26D8A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987912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162080" y="4476960"/>
            <a:ext cx="987912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CEC08F-A75E-493D-ABA7-F8BB2008D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224400" y="267444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162080" y="447696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6224400" y="447696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B15BD6-A930-459C-802A-67116C53C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31809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02520" y="2674440"/>
            <a:ext cx="31809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7842960" y="2674440"/>
            <a:ext cx="31809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162080" y="4476960"/>
            <a:ext cx="31809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4502520" y="4476960"/>
            <a:ext cx="31809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7842960" y="4476960"/>
            <a:ext cx="31809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C085F3-2FE3-4B79-8730-76F811DAA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4400" y="267444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62080" y="4476960"/>
            <a:ext cx="987912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1DC1-1580-4F56-8193-5693FA27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304920" y="228600"/>
            <a:ext cx="1159488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82600" y="1679400"/>
            <a:ext cx="11630160" cy="1330560"/>
            <a:chOff x="282600" y="1679400"/>
            <a:chExt cx="11630160" cy="1330560"/>
          </a:xfrm>
        </p:grpSpPr>
        <p:sp>
          <p:nvSpPr>
            <p:cNvPr id="2" name="Freeform 14"/>
            <p:cNvSpPr/>
            <p:nvPr/>
          </p:nvSpPr>
          <p:spPr>
            <a:xfrm>
              <a:off x="8062920" y="1824480"/>
              <a:ext cx="383472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3492360" y="1695960"/>
              <a:ext cx="739224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3771720" y="1708200"/>
              <a:ext cx="72900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7479000" y="1694880"/>
              <a:ext cx="441036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82600" y="1679400"/>
              <a:ext cx="116301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6884640" y="6249960"/>
            <a:ext cx="5048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258480" y="6249960"/>
            <a:ext cx="5048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321160" y="6249960"/>
            <a:ext cx="154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92739-652B-4B1C-966F-E42C1B8F67F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1162080" y="2674440"/>
            <a:ext cx="987912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304920" y="228600"/>
            <a:ext cx="1159488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82600" y="5354640"/>
            <a:ext cx="11630160" cy="1330200"/>
            <a:chOff x="282600" y="5354640"/>
            <a:chExt cx="11630160" cy="1330200"/>
          </a:xfrm>
        </p:grpSpPr>
        <p:sp>
          <p:nvSpPr>
            <p:cNvPr id="50" name="Freeform 14"/>
            <p:cNvSpPr/>
            <p:nvPr/>
          </p:nvSpPr>
          <p:spPr>
            <a:xfrm>
              <a:off x="8073000" y="5499720"/>
              <a:ext cx="383976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3496680" y="5371200"/>
              <a:ext cx="740160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3776040" y="5383440"/>
              <a:ext cx="729936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7488360" y="5370120"/>
              <a:ext cx="44157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82600" y="5354640"/>
              <a:ext cx="1163016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162080" y="2674440"/>
            <a:ext cx="987912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884640" y="6249960"/>
            <a:ext cx="5048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258480" y="6249960"/>
            <a:ext cx="5048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5321160" y="6249960"/>
            <a:ext cx="154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D2DAB-ACE8-4DAF-9254-61AC3A3065D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304920" y="228600"/>
            <a:ext cx="1159488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8062920" y="4203720"/>
            <a:ext cx="383544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3492360" y="4075200"/>
            <a:ext cx="739296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3772080" y="4087800"/>
            <a:ext cx="728964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7478640" y="4073400"/>
            <a:ext cx="44118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82600" y="4059360"/>
            <a:ext cx="1163016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2080" y="2674440"/>
            <a:ext cx="987912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884640" y="6249960"/>
            <a:ext cx="5048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258480" y="6249960"/>
            <a:ext cx="5048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5321160" y="6249960"/>
            <a:ext cx="154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933CF-CECB-4BD1-B30B-AD726EE154A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304920" y="228600"/>
            <a:ext cx="1159488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82600" y="714240"/>
            <a:ext cx="11630160" cy="1330560"/>
            <a:chOff x="282600" y="714240"/>
            <a:chExt cx="11630160" cy="1330560"/>
          </a:xfrm>
        </p:grpSpPr>
        <p:sp>
          <p:nvSpPr>
            <p:cNvPr id="145" name="Freeform 14"/>
            <p:cNvSpPr/>
            <p:nvPr/>
          </p:nvSpPr>
          <p:spPr>
            <a:xfrm>
              <a:off x="8062920" y="859320"/>
              <a:ext cx="383472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3492360" y="730800"/>
              <a:ext cx="739224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3771720" y="743040"/>
              <a:ext cx="72900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7479000" y="729720"/>
              <a:ext cx="441036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82600" y="714240"/>
              <a:ext cx="116301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1162080" y="2674440"/>
            <a:ext cx="987912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6884640" y="6249960"/>
            <a:ext cx="5048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258480" y="6249960"/>
            <a:ext cx="5048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5321160" y="6249960"/>
            <a:ext cx="154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1BB2B-BFD4-466A-A84D-0E4D2710539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304920" y="228600"/>
            <a:ext cx="1159488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82600" y="714240"/>
            <a:ext cx="11630160" cy="1332000"/>
            <a:chOff x="282600" y="714240"/>
            <a:chExt cx="11630160" cy="1332000"/>
          </a:xfrm>
        </p:grpSpPr>
        <p:sp>
          <p:nvSpPr>
            <p:cNvPr id="193" name="Freeform 14"/>
            <p:cNvSpPr/>
            <p:nvPr/>
          </p:nvSpPr>
          <p:spPr>
            <a:xfrm>
              <a:off x="8073000" y="859320"/>
              <a:ext cx="383976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3496680" y="730800"/>
              <a:ext cx="740160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3776040" y="743040"/>
              <a:ext cx="729936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7488360" y="729720"/>
              <a:ext cx="44157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82600" y="714240"/>
              <a:ext cx="1163016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1162080" y="2674440"/>
            <a:ext cx="987912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6884640" y="6249960"/>
            <a:ext cx="5048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258480" y="6249960"/>
            <a:ext cx="5048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5321160" y="6249960"/>
            <a:ext cx="154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CE2FE-6096-44C8-A140-9C9B9536E45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304920" y="228600"/>
            <a:ext cx="1159488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82600" y="5354640"/>
            <a:ext cx="11630160" cy="1330200"/>
            <a:chOff x="282600" y="5354640"/>
            <a:chExt cx="11630160" cy="1330200"/>
          </a:xfrm>
        </p:grpSpPr>
        <p:sp>
          <p:nvSpPr>
            <p:cNvPr id="241" name="Freeform 14"/>
            <p:cNvSpPr/>
            <p:nvPr/>
          </p:nvSpPr>
          <p:spPr>
            <a:xfrm>
              <a:off x="8073000" y="5499720"/>
              <a:ext cx="383976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3496680" y="5371200"/>
              <a:ext cx="740160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3776040" y="5383440"/>
              <a:ext cx="729936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7488360" y="5370120"/>
              <a:ext cx="44157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82600" y="5354640"/>
              <a:ext cx="1163016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162080" y="2674440"/>
            <a:ext cx="987912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6884640" y="6249960"/>
            <a:ext cx="5048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258480" y="6249960"/>
            <a:ext cx="5048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5321160" y="6249960"/>
            <a:ext cx="154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D0DA5-F822-45DB-93F8-4C5DB59DD2D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304920" y="228600"/>
            <a:ext cx="1159488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82600" y="714240"/>
            <a:ext cx="11630160" cy="1332000"/>
            <a:chOff x="282600" y="714240"/>
            <a:chExt cx="11630160" cy="1332000"/>
          </a:xfrm>
        </p:grpSpPr>
        <p:sp>
          <p:nvSpPr>
            <p:cNvPr id="289" name="Freeform 14"/>
            <p:cNvSpPr/>
            <p:nvPr/>
          </p:nvSpPr>
          <p:spPr>
            <a:xfrm>
              <a:off x="8073000" y="859320"/>
              <a:ext cx="383976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3496680" y="730800"/>
              <a:ext cx="740160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3776040" y="743040"/>
              <a:ext cx="729936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7488360" y="729720"/>
              <a:ext cx="44157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82600" y="714240"/>
              <a:ext cx="1163016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162080" y="2674440"/>
            <a:ext cx="987912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6884640" y="6249960"/>
            <a:ext cx="5048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258480" y="6249960"/>
            <a:ext cx="5048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5321160" y="6249960"/>
            <a:ext cx="154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5DA64-7C32-4602-ACC5-31A94695D77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040" y="1599840"/>
            <a:ext cx="10363320" cy="245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аптации первоклассников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школе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317520" y="1116000"/>
            <a:ext cx="1155528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зис 7 лет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зуется тем, что ребенок начинает манерничать, капризничать; появляется нарочитость, искусственность, вертлявость, паясничание, клоунада в противовес непосредственности и наивности. Теряется непосредственность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ы и правила школьной жизни идут вразрез с желаниями ребенка. К этим нормам нужно адаптироваться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наряду с радостью и восторгом по поводу происходящего в школе, испытывают тревогу, растерянность напряжение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е новое положение ребенок не всегда осознает, но обязательно переживает его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уется самооценка личност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классник уже понимает, что оценка его поступков определяется прежде всего тем, как его поступки выглядят в глазах окружающих людей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ую роль в жизни школьника играет учитель, который выступает как центр его жизн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1097280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ные особенност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классников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17520" y="1011240"/>
            <a:ext cx="115552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103320"/>
            <a:ext cx="109728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современного первоклассника: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0" name="Прямоугольник 4"/>
          <p:cNvSpPr/>
          <p:nvPr/>
        </p:nvSpPr>
        <p:spPr>
          <a:xfrm>
            <a:off x="317520" y="1181160"/>
            <a:ext cx="1155528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ете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ие различ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аспортного и физиологического развития.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ете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ширная информированнос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актически по любым вопросам.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овременных дете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ьнее ощущение своего «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и более свободное независимое поведение.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верчивос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 словам и поступкам взрослых.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овременных детей боле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бое здоровье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 в большинстве своём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стали игра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коллективные «дворовые» игры.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не обладают навыками общения со сверстниками, плохо понимают, как себя вести, какие существуют нормы поведения в обществе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345960" y="1206360"/>
            <a:ext cx="1151424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изиологическая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нижается сопротивляемость организма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арушается сон  и аппетит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овышается температура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Головные боли и высокая утомляемость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циально-психологическая адаптация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Изменяется социальный статус – появляется новая социальная роль «ученик»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ождение социального «Я» ребенка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Изменяется самосознание личности первоклассника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ереоценка ценностей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Обобщение переживаний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15960" y="227160"/>
            <a:ext cx="1097280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адаптации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345600" y="279360"/>
            <a:ext cx="11541240" cy="63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но по степени адаптации всех детей можно разделить на три группы: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ервая групп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й адаптируется к школе в течение первых двух месяцев обучения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Дети быстро осваиваются в новом коллективе и находят друзей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сегда хорошее настроение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Ребята спокойны, доброжелательны и приветливы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Хорошо общаются со сверстниками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Выполняют школьные обязанности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торая групп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й проходит более длительную адаптацию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Дети не могут принять ситуацию обучения, общения с учителем, одноклассниками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Могут играть на уроках или выяснять отношения с товарищами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е реагируют на замечания учителя или их реакция – слезы, обиды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ретья групп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дети, у которых социально-психологическая адаптация связана со значительными трудностями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Негативные формы поведения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оявление отрицательных эмоций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е усваивают программу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Трудности в обучении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58920" y="734760"/>
            <a:ext cx="11485440" cy="58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ычн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ается первоначально непосредственный интерес к школе, занятиям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ет время от времени ныть, что учиться надоело, но активно интересуется всем остальным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уется, когда не надо делать домашнее задание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от времени хочет остаться дома, пропустить уроки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гда выражает недовольство учителем или опасения по его поводу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пасно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ое отсутствие интереса к учёбе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ет уроки только «из-под палки»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желание ходить в школу и вообще учиться выражается  постоянно и открыто в формах активного протеста, либо симптомами болезней,  которые  кончаются сразу после того, как разрешат остаться дома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 не любит или боится учителя, испытывает по отношению к нему страх, бессилие или агрессию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чего не интересно, безразличен ко всему, даже к играм, если они требуют хоть какого-то напряжения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ялость и безынициативность, когда дело касается школы и уроков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еспокоитьс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ужно тогда, когда нежелание учиться является устойчивым, выражается активно, отражает основное отношение ребёнка к школе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15960" y="171360"/>
            <a:ext cx="109728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сти, которые могут возникнуть у первоклассников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331560" y="1109520"/>
            <a:ext cx="1152828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облюдайте режим дня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овожайте ребенка в школу доброжелательно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Учите ребенка выражать свои чувства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е требуйте, а предлагайте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Хвалите ребенка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Дайте школьнику возможность самому оценить последствия своих поступков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Не предъявляйте к ребенку завышенных требований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Сохраняйте спокойствие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Развивать навыки саморегуляции через игры-команды (н-р: игра «Сделай также» и т.д.)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Развивать внимание, мышление, память и речь через игровую деятельность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Заниматься с детьми пальчиковой гимнастикой, массажем пальцев и рук, лепкой, штриховкой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омочь ребенку в период адаптации?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8T15:56:44Z</dcterms:created>
  <dc:creator>Yulia Gumennikova</dc:creator>
  <dc:description/>
  <dc:language>en-US</dc:language>
  <cp:lastModifiedBy>Yulia Gumennikova</cp:lastModifiedBy>
  <dcterms:modified xsi:type="dcterms:W3CDTF">2014-11-28T18:58:05Z</dcterms:modified>
  <cp:revision>18</cp:revision>
  <dc:subject/>
  <dc:title>Особенности  адаптации первоклассников  в школе</dc:title>
</cp:coreProperties>
</file>