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6F2-E3B0-4202-8FA6-BFBBC065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062-DEE0-4DF7-BDB4-0F1966CD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ECC-385A-4D88-A783-6D572B2A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0252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84296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6208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50252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84296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A99-EE57-4E9F-A018-15B2C51B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CB0F-468F-423A-9E7E-4066269A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F817-4972-4FA4-9A8E-1C4C541C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EBDA-16B3-49BA-A736-30AA81B1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AA86-FFB7-4638-AF62-1B717DD6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A25C-506A-4374-A73B-49901C0D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338040"/>
            <a:ext cx="109728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889E-A028-4135-AF74-CE054759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8EA3-55EC-49FB-A5D3-D5106B84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EAD-B43A-403A-B166-47C0CEE4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92EE-5048-421E-A4DA-8954E263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00CA-D652-408E-A075-A9695785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D7CA-E046-423A-BF90-78D01CA0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4554-9D56-4585-A50A-1D9FB62D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252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84296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6208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50252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784296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B6FB-D65F-4FC3-9AEE-A2CAAFF6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024DA-87AB-476D-B1CD-27B6106C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FFDA-C70E-4CD2-9B45-DCBA887A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88CC-1E80-4504-8F53-EEC3452A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2EA3E-FFF8-44C0-8589-6C2E2AFB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F35D-9F7D-4DBB-A8BB-2D6863F4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A44-419A-421A-9EC1-9F15C570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38040"/>
            <a:ext cx="109728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89FBD-5837-4EEF-8784-75A03855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5E5FF-A0AF-47EB-BE0A-95C60CD7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59649-829C-4F4A-A5BD-6FD2C026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ED98-9279-4957-B8D9-9FC20ADD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48EDE-10C7-49F2-831F-6EE4F606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1D0A6-0B97-43E4-B650-4325D083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0252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84296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6208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450252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784296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086D5-23BE-43AE-88B1-EE48CC39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88C2D-5BFC-410D-A9FA-A7D49BFB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63FF3-173C-425D-9004-84F969BD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F9191-DA88-4DAA-B016-59A96DB9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B1D-629B-4636-8D5B-67733BC7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6C0F7-E63A-4531-9097-3F396D0D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031BB-6051-4579-9A96-CE22FDB8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09480" y="338040"/>
            <a:ext cx="109728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09E16-67B1-4C40-8F49-A55734C1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E3AF7-6121-4944-85A1-33CF9C31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D4D25-BF6C-4906-B632-13A24927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80D95-F214-4B9F-A60E-EC963B4D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74684-BE4F-44EB-BED8-DD451296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E6D95-0EED-49BD-81BC-90C07A1D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0252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84296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16208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50252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784296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5248D-5F53-48B8-A1E1-821F2ACF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97174-A68C-467B-A026-82283668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E32-965D-4CB7-9036-63AE6C3E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62EFA-B547-4FAD-8EBA-8D6F184C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7BEFC-4E99-45D8-80DE-07368474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A99D1-6399-4171-B2AF-D954052D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62843-A081-4328-9A67-FF3A3D55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09480" y="338040"/>
            <a:ext cx="109728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EA8CB-C55A-4CAE-82E2-09A5CE3B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C38E3-1E2F-4B5D-A15B-11EEC073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2D176-CB51-4CAE-827C-7AB96D2A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CC4BC-DEE1-45E1-BEED-124BA9B7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A15AC-3989-4796-9724-C71FE662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D8A16-C7C0-4CA9-97A0-FFF05C2D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480" y="338040"/>
            <a:ext cx="109728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D41-1297-4FFD-BFCF-78DD9D75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252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84296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16208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50252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784296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9BBDD-79C2-494B-B653-4F5989CC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E4FE4-5462-4E9A-9C71-B70AB88E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AB0E7-7A28-45C7-B006-33DD7BEB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0C1FD-527E-4350-B865-EB5EA57B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5667B-DB4F-45A5-95BF-14D94730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F2E84-48BD-483E-8EAB-00197B7E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338040"/>
            <a:ext cx="109728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9E13E-B619-4CF4-BB22-A17D11D7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19C47-95AF-4344-87F3-C2AF1D63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6A61C-65CD-4B2A-B2FF-00482F8C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2B25E-5318-4DF2-90AE-BA7D663D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CE0-8D8D-421B-B719-97B9E1CD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786EB-052D-4DF8-90E6-D36B4B94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C1E29-0CCD-4ED3-95E9-550631B7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0252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84296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6208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50252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84296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2FD90-C6F6-42D8-95CC-22C34E60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8C527-5355-4E8F-A596-F39D220C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E9051-A55F-4C6A-BADA-8A0132F0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3B039-7D52-40F2-9C53-A34F181A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A5960-5CCF-4760-8A50-56662CA3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1A7A3-9FCA-4776-9BA8-A0D89737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09480" y="338040"/>
            <a:ext cx="109728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5AAE6-A19A-4F6E-9C0E-746FD2EF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D4333-F432-4EC8-BA58-B1E7C367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B85-F37E-4357-ABA5-A455DFC7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E66EE-C6FB-4D03-801C-18D1FE9D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F5981-9BEB-44E2-9FB3-A9AFE387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8749E-83A5-468A-9C51-CC15A5CB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224400" y="447696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F4907-13C5-4139-A52C-774870FE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0252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842960" y="267444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16208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50252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7842960" y="4476960"/>
            <a:ext cx="31809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C32B6-BCAD-48E8-BAEF-4038A607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208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4400" y="2674440"/>
            <a:ext cx="48207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62080" y="4476960"/>
            <a:ext cx="987912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531-0FFF-4859-8B4E-FA6C49C8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304920" y="228600"/>
            <a:ext cx="1159488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82600" y="1679400"/>
            <a:ext cx="11630160" cy="1330560"/>
            <a:chOff x="282600" y="1679400"/>
            <a:chExt cx="11630160" cy="1330560"/>
          </a:xfrm>
        </p:grpSpPr>
        <p:sp>
          <p:nvSpPr>
            <p:cNvPr id="2" name="Freeform 14"/>
            <p:cNvSpPr/>
            <p:nvPr/>
          </p:nvSpPr>
          <p:spPr>
            <a:xfrm>
              <a:off x="8062920" y="1824480"/>
              <a:ext cx="38347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3492360" y="1695960"/>
              <a:ext cx="739224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3771720" y="1708200"/>
              <a:ext cx="7290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7479000" y="1694880"/>
              <a:ext cx="441036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82600" y="1679400"/>
              <a:ext cx="116301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88464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25848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321160" y="6249960"/>
            <a:ext cx="15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6E81-8DDC-4C7D-81FE-7B406D5BF88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304920" y="228600"/>
            <a:ext cx="1159488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82600" y="5354640"/>
            <a:ext cx="11630160" cy="1330200"/>
            <a:chOff x="282600" y="5354640"/>
            <a:chExt cx="11630160" cy="1330200"/>
          </a:xfrm>
        </p:grpSpPr>
        <p:sp>
          <p:nvSpPr>
            <p:cNvPr id="50" name="Freeform 14"/>
            <p:cNvSpPr/>
            <p:nvPr/>
          </p:nvSpPr>
          <p:spPr>
            <a:xfrm>
              <a:off x="8073000" y="5499720"/>
              <a:ext cx="38397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3496680" y="5371200"/>
              <a:ext cx="740160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3776040" y="5383440"/>
              <a:ext cx="7299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7488360" y="5370120"/>
              <a:ext cx="44157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82600" y="5354640"/>
              <a:ext cx="116301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8464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5848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5321160" y="6249960"/>
            <a:ext cx="15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2A79-F723-437E-B883-915B2A9DFAD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304920" y="228600"/>
            <a:ext cx="1159488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8062920" y="4203720"/>
            <a:ext cx="383544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3492360" y="4075200"/>
            <a:ext cx="739296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3772080" y="4087800"/>
            <a:ext cx="728964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7478640" y="4073400"/>
            <a:ext cx="44118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82600" y="4059360"/>
            <a:ext cx="116301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8464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5848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5321160" y="6249960"/>
            <a:ext cx="15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9FF9-683D-4382-9331-56F009F2894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304920" y="228600"/>
            <a:ext cx="115948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82600" y="714240"/>
            <a:ext cx="11630160" cy="1330560"/>
            <a:chOff x="282600" y="714240"/>
            <a:chExt cx="11630160" cy="1330560"/>
          </a:xfrm>
        </p:grpSpPr>
        <p:sp>
          <p:nvSpPr>
            <p:cNvPr id="145" name="Freeform 14"/>
            <p:cNvSpPr/>
            <p:nvPr/>
          </p:nvSpPr>
          <p:spPr>
            <a:xfrm>
              <a:off x="8062920" y="859320"/>
              <a:ext cx="38347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3492360" y="730800"/>
              <a:ext cx="739224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3771720" y="743040"/>
              <a:ext cx="7290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7479000" y="729720"/>
              <a:ext cx="441036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82600" y="714240"/>
              <a:ext cx="116301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88464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5848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5321160" y="6249960"/>
            <a:ext cx="15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723E-FA84-4FFF-9DB8-CB6AE839525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304920" y="228600"/>
            <a:ext cx="115948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82600" y="714240"/>
            <a:ext cx="11630160" cy="1332000"/>
            <a:chOff x="282600" y="714240"/>
            <a:chExt cx="11630160" cy="1332000"/>
          </a:xfrm>
        </p:grpSpPr>
        <p:sp>
          <p:nvSpPr>
            <p:cNvPr id="193" name="Freeform 14"/>
            <p:cNvSpPr/>
            <p:nvPr/>
          </p:nvSpPr>
          <p:spPr>
            <a:xfrm>
              <a:off x="8073000" y="859320"/>
              <a:ext cx="383976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3496680" y="730800"/>
              <a:ext cx="740160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3776040" y="743040"/>
              <a:ext cx="7299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7488360" y="729720"/>
              <a:ext cx="44157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82600" y="714240"/>
              <a:ext cx="116301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88464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25848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5321160" y="6249960"/>
            <a:ext cx="15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C143-F506-43A8-B5D4-385AF4C6F2C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304920" y="228600"/>
            <a:ext cx="1159488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82600" y="5354640"/>
            <a:ext cx="11630160" cy="1330200"/>
            <a:chOff x="282600" y="5354640"/>
            <a:chExt cx="11630160" cy="1330200"/>
          </a:xfrm>
        </p:grpSpPr>
        <p:sp>
          <p:nvSpPr>
            <p:cNvPr id="241" name="Freeform 14"/>
            <p:cNvSpPr/>
            <p:nvPr/>
          </p:nvSpPr>
          <p:spPr>
            <a:xfrm>
              <a:off x="8073000" y="5499720"/>
              <a:ext cx="38397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3496680" y="5371200"/>
              <a:ext cx="740160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3776040" y="5383440"/>
              <a:ext cx="7299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7488360" y="5370120"/>
              <a:ext cx="44157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82600" y="5354640"/>
              <a:ext cx="116301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88464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25848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5321160" y="6249960"/>
            <a:ext cx="15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9FD4-63DD-4E9D-BCAC-B1274AE8B68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304920" y="228600"/>
            <a:ext cx="115948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82600" y="714240"/>
            <a:ext cx="11630160" cy="1332000"/>
            <a:chOff x="282600" y="714240"/>
            <a:chExt cx="11630160" cy="1332000"/>
          </a:xfrm>
        </p:grpSpPr>
        <p:sp>
          <p:nvSpPr>
            <p:cNvPr id="289" name="Freeform 14"/>
            <p:cNvSpPr/>
            <p:nvPr/>
          </p:nvSpPr>
          <p:spPr>
            <a:xfrm>
              <a:off x="8073000" y="859320"/>
              <a:ext cx="383976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3496680" y="730800"/>
              <a:ext cx="740160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3776040" y="743040"/>
              <a:ext cx="7299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7488360" y="729720"/>
              <a:ext cx="44157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82600" y="714240"/>
              <a:ext cx="116301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162080" y="2674440"/>
            <a:ext cx="987912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88464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258480" y="6249960"/>
            <a:ext cx="504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5321160" y="6249960"/>
            <a:ext cx="15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4D2D-FA37-4029-9E3F-14E96FAA913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10363320" cy="245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и первоклассников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17520" y="1116000"/>
            <a:ext cx="115552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зис 7 ле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зуется тем, что ребенок начинает манерничать, капризничать; появляется нарочитость, искусственность, вертлявость, паясничание, клоунада в противовес непосредственности и наивности. Теряется непосредственн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ы и правила школьной жизни идут вразрез с желаниями ребенка. К этим нормам нужно адаптировать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аряду с радостью и восторгом по поводу происходящего в школе, испытывают тревогу, растерянность напряжени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 новое положение ребенок не всегда осознает, но обязательно переживает ег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ся самооценка личност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классник уже понимает, что оценка его поступков определяется прежде всего тем, как его поступки выглядят в глазах окружающих люде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ую роль в жизни школьника играет учитель, который выступает как центр его жиз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классников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17520" y="1011240"/>
            <a:ext cx="115552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03320"/>
            <a:ext cx="10972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современного первоклассника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317520" y="1181160"/>
            <a:ext cx="115552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е различ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спортного и физиологического развития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ширная информир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ктически по любым вопросам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овременных дет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ее ощущение своего «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и более свободное независимое поведение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верчиво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 словам и поступкам взрослых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овременных детей боле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здоровье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 в большинстве своё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тали игр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ллективные «дворовые» игры.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е обладают навыками общения со сверстниками, плохо понимают, как себя вести, какие существуют нормы поведения в обществе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45960" y="1206360"/>
            <a:ext cx="115142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ологическая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нижается сопротивляемость организм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рушается сон  и аппетит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вышается температур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оловные боли и высокая утомляем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-психологическая адаптация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меняется социальный статус – появляется новая социальная роль «ученик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ождение социального «Я» ребенк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зменяется самосознание личности первоклассника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реоценка ценносте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общение переживан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15960" y="227160"/>
            <a:ext cx="109728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адаптации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45600" y="279360"/>
            <a:ext cx="11541240" cy="63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 по степени адаптации всех детей можно разделить на три группы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вая групп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адаптируется к школе в течение первых двух месяцев обучен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ети быстро осваиваются в новом коллективе и находят друзе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егда хорошее настроени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ебята спокойны, доброжелательны и приветливы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Хорошо общаются со сверстника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полняют школьные обязанност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торая групп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проходит более длительную адаптацию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ети не могут принять ситуацию обучения, общения с учителем, одноклассника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огут играть на уроках или выяснять отношения с товарища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 реагируют на замечания учителя или их реакция – слезы, обиды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тья групп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ти, у которых социально-психологическая адаптация связана со значительными трудностя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гативные формы поведен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явление отрицательных эмоци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е усваивают программ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Трудности в обучени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58920" y="734760"/>
            <a:ext cx="11485440" cy="58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ыч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ся первоначально непосредственный интерес к школе, занятиям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 время от времени ныть, что учиться надоело, но активно интересуется всем остальны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уется, когда не надо делать домашнее задани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от времени хочет остаться дома, пропустить урок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выражает недовольство учителем или опасения по его повод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асно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отсутствие интереса к учёб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уроки только «из-под палки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лание ходить в школу и вообще учиться выражается  постоянно и открыто в формах активного протеста, либо симптомами болезней,  которые  кончаются сразу после того, как разрешат остаться дома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не любит или боится учителя, испытывает по отношению к нему страх, бессилие или агрессию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не интересно, безразличен ко всему, даже к играм, если они требуют хоть какого-то напряжен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лость и безынициативность, когда дело касается школы и уроков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еспокои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жно тогда, когда нежелание учиться является устойчивым, выражается активно, отражает основное отношение ребёнка к школ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5960" y="171360"/>
            <a:ext cx="10972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, которые могут возникнуть у первоклассников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31560" y="1109520"/>
            <a:ext cx="115282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блюдайте режим дн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ожайте ребенка в школу доброжелательно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чите ребенка выражать свои чувств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 требуйте, а предлагайт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Хвалите ребенка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айте школьнику возможность самому оценить последствия своих поступков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е предъявляйте к ребенку завышенных требован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охраняйте спокойстви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Развивать навыки саморегуляции через игры-команды (н-р: игра «Сделай также» и т.д.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Развивать внимание, мышление, память и речь через игровую деятельн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Заниматься с детьми пальчиковой гимнастикой, массажем пальцев и рук, лепкой, штриховко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38040"/>
            <a:ext cx="109728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мочь ребенку в период адаптации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15:56:44Z</dcterms:created>
  <dc:creator>Yulia Gumennikova</dc:creator>
  <dc:description/>
  <dc:language>en-US</dc:language>
  <cp:lastModifiedBy>Yulia Gumennikova</cp:lastModifiedBy>
  <dcterms:modified xsi:type="dcterms:W3CDTF">2014-11-28T18:58:05Z</dcterms:modified>
  <cp:revision>18</cp:revision>
  <dc:subject/>
  <dc:title>Особенности  адаптации первоклассников  в школе</dc:title>
</cp:coreProperties>
</file>