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82FF-F8CF-459B-8341-DA18AF3B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A7A6-694E-49F3-BC94-A3B99714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AB5-79BE-4DB3-831B-A8A7CD45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697-D434-4D0D-BDF1-479C0F34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77DD-8513-44E2-B772-D706CD48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69B8-8A2D-4B3C-B0DA-92A46634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EFE5-EB98-459F-815C-81D1E48F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7782-E374-4C3B-A64B-31A2355E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FC7A-30F3-4285-B935-98494452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06D2-DEF4-4C85-BD7B-717E6DA7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FB27-19A4-4ADB-A3C5-88A27E4B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230-1D28-4E51-8A48-956DDBE8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C466-5B6D-44B4-AAEC-CEAF3663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A76A-27C8-4449-B125-2EFE2B4F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77FB-9938-49AC-8EBE-A0568D11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4089-2B95-4AAA-9C1B-F1738406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74DF-9561-4862-A9FA-FF0139C7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9F52-B035-4060-B3A7-E83A91AC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E4C1-306A-4BAE-8150-619ADCAD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C1C3-9816-41CF-9639-E92F4725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209-4925-4366-8F21-02633811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020A-DA79-46BD-A9E0-8B45D8E8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B5B-4697-4983-9919-AA05DC5F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168-2BDE-499D-ABB4-3C51F155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2195-FBF0-4510-B32C-67309895AC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3AB7-1E2A-4886-8037-3474CCBBBF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71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Моя Родин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371600" y="228240"/>
            <a:ext cx="731376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ля каждого человека Родина- это место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де он родился и вырос. Это родной край со своими обычаями и традициям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ля меня Родина- это мой дом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где я живу с семьей, с близкими людьми. Это мой город Стрежевой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1700537"/>
          <p:cNvPicPr/>
          <p:nvPr/>
        </p:nvPicPr>
        <p:blipFill>
          <a:blip r:embed="rId1"/>
          <a:stretch/>
        </p:blipFill>
        <p:spPr>
          <a:xfrm>
            <a:off x="609480" y="3809880"/>
            <a:ext cx="3810240" cy="254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i?id=839525d482d7b5684193d9afe93344bd&amp;n=33&amp;h=215&amp;w=323"/>
          <p:cNvPicPr/>
          <p:nvPr/>
        </p:nvPicPr>
        <p:blipFill>
          <a:blip r:embed="rId2"/>
          <a:stretch/>
        </p:blipFill>
        <p:spPr>
          <a:xfrm>
            <a:off x="4724280" y="3809880"/>
            <a:ext cx="37339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1600" y="304560"/>
            <a:ext cx="73137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аждый город прекрасен по -своему. Стрежевой прекрасен парками, реками и памятникам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21" descr="i?id=1b65911126e97bbd7445f84b3788de05&amp;n=33&amp;h=215&amp;w=324"/>
          <p:cNvPicPr/>
          <p:nvPr/>
        </p:nvPicPr>
        <p:blipFill>
          <a:blip r:embed="rId1"/>
          <a:stretch/>
        </p:blipFill>
        <p:spPr>
          <a:xfrm>
            <a:off x="609480" y="4572000"/>
            <a:ext cx="3086280" cy="2048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original"/>
          <p:cNvPicPr/>
          <p:nvPr/>
        </p:nvPicPr>
        <p:blipFill>
          <a:blip r:embed="rId2"/>
          <a:stretch/>
        </p:blipFill>
        <p:spPr>
          <a:xfrm>
            <a:off x="1676520" y="2133720"/>
            <a:ext cx="2857320" cy="1904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5" descr="108630_strezhevoi-fontan"/>
          <p:cNvPicPr/>
          <p:nvPr/>
        </p:nvPicPr>
        <p:blipFill>
          <a:blip r:embed="rId3"/>
          <a:stretch/>
        </p:blipFill>
        <p:spPr>
          <a:xfrm>
            <a:off x="5410080" y="441972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7" descr="i?id=b983d6148bb54ea830167b24f01bdc5e&amp;n=33&amp;h=215&amp;w=323"/>
          <p:cNvPicPr/>
          <p:nvPr/>
        </p:nvPicPr>
        <p:blipFill>
          <a:blip r:embed="rId4"/>
          <a:stretch/>
        </p:blipFill>
        <p:spPr>
          <a:xfrm>
            <a:off x="5486400" y="2057400"/>
            <a:ext cx="30765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4055abc5fcb63102992b8c87808c0f06"/>
          <p:cNvPicPr/>
          <p:nvPr/>
        </p:nvPicPr>
        <p:blipFill>
          <a:blip r:embed="rId1"/>
          <a:stretch/>
        </p:blipFill>
        <p:spPr>
          <a:xfrm>
            <a:off x="990720" y="380880"/>
            <a:ext cx="1807920" cy="2409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3d758a0aa505b6b1f251d2a8f528414c"/>
          <p:cNvPicPr/>
          <p:nvPr/>
        </p:nvPicPr>
        <p:blipFill>
          <a:blip r:embed="rId2"/>
          <a:stretch/>
        </p:blipFill>
        <p:spPr>
          <a:xfrm>
            <a:off x="228600" y="3657600"/>
            <a:ext cx="1636560" cy="2181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1298433002"/>
          <p:cNvPicPr/>
          <p:nvPr/>
        </p:nvPicPr>
        <p:blipFill>
          <a:blip r:embed="rId3"/>
          <a:stretch/>
        </p:blipFill>
        <p:spPr>
          <a:xfrm>
            <a:off x="6248520" y="4876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0bfea0b59c6b0f58b1f4f65d22777c7b"/>
          <p:cNvPicPr/>
          <p:nvPr/>
        </p:nvPicPr>
        <p:blipFill>
          <a:blip r:embed="rId4"/>
          <a:stretch/>
        </p:blipFill>
        <p:spPr>
          <a:xfrm>
            <a:off x="5257800" y="1522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image"/>
          <p:cNvPicPr/>
          <p:nvPr/>
        </p:nvPicPr>
        <p:blipFill>
          <a:blip r:embed="rId5"/>
          <a:stretch/>
        </p:blipFill>
        <p:spPr>
          <a:xfrm>
            <a:off x="3124080" y="304920"/>
            <a:ext cx="1474920" cy="19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4cb0297c2532d9f4f5f5fff85a87eae2"/>
          <p:cNvPicPr/>
          <p:nvPr/>
        </p:nvPicPr>
        <p:blipFill>
          <a:blip r:embed="rId6"/>
          <a:stretch/>
        </p:blipFill>
        <p:spPr>
          <a:xfrm>
            <a:off x="2590920" y="4724280"/>
            <a:ext cx="2286000" cy="1978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1010998064"/>
          <p:cNvPicPr/>
          <p:nvPr/>
        </p:nvPicPr>
        <p:blipFill>
          <a:blip r:embed="rId7"/>
          <a:stretch/>
        </p:blipFill>
        <p:spPr>
          <a:xfrm>
            <a:off x="2666880" y="2971800"/>
            <a:ext cx="2152800" cy="1434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i?id=05665de8c278c4dfc5b680d5718d2a88&amp;n=33&amp;h=215&amp;w=287"/>
          <p:cNvPicPr/>
          <p:nvPr/>
        </p:nvPicPr>
        <p:blipFill>
          <a:blip r:embed="rId8"/>
          <a:stretch/>
        </p:blipFill>
        <p:spPr>
          <a:xfrm>
            <a:off x="5257800" y="2514600"/>
            <a:ext cx="27338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трежевой- небольшой город, но тут есть много развлекательных, 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ознавательных кружков и центров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Picture 5" descr="Strezhevoj_fontan"/>
          <p:cNvPicPr/>
          <p:nvPr/>
        </p:nvPicPr>
        <p:blipFill>
          <a:blip r:embed="rId1"/>
          <a:stretch/>
        </p:blipFill>
        <p:spPr>
          <a:xfrm>
            <a:off x="1066680" y="1752480"/>
            <a:ext cx="3495960" cy="2043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56154520"/>
          <p:cNvPicPr/>
          <p:nvPr/>
        </p:nvPicPr>
        <p:blipFill>
          <a:blip r:embed="rId2"/>
          <a:stretch/>
        </p:blipFill>
        <p:spPr>
          <a:xfrm>
            <a:off x="5257800" y="1981080"/>
            <a:ext cx="3352680" cy="173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870_580_fixedwidth"/>
          <p:cNvPicPr/>
          <p:nvPr/>
        </p:nvPicPr>
        <p:blipFill>
          <a:blip r:embed="rId3"/>
          <a:stretch/>
        </p:blipFill>
        <p:spPr>
          <a:xfrm>
            <a:off x="380880" y="4267080"/>
            <a:ext cx="2876760" cy="1917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i?id=c2e4455f76c228ed919d51309158dd68&amp;n=33&amp;h=215&amp;w=312"/>
          <p:cNvPicPr/>
          <p:nvPr/>
        </p:nvPicPr>
        <p:blipFill>
          <a:blip r:embed="rId4"/>
          <a:stretch/>
        </p:blipFill>
        <p:spPr>
          <a:xfrm>
            <a:off x="4648320" y="4343400"/>
            <a:ext cx="31240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95280" y="457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не нравится этот город, пусть хоть он и небольшой, но зато, очень удобный, уютный, красивый. И мне не стыдно называть его- своей Родиной. Я очень люблю Стрежевой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6" descr="958493_strezhevoi-foto-goroda"/>
          <p:cNvPicPr/>
          <p:nvPr/>
        </p:nvPicPr>
        <p:blipFill>
          <a:blip r:embed="rId1"/>
          <a:stretch/>
        </p:blipFill>
        <p:spPr>
          <a:xfrm>
            <a:off x="762120" y="3276720"/>
            <a:ext cx="3429000" cy="2295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strezhevoj_gorod"/>
          <p:cNvPicPr/>
          <p:nvPr/>
        </p:nvPicPr>
        <p:blipFill>
          <a:blip r:embed="rId2"/>
          <a:stretch/>
        </p:blipFill>
        <p:spPr>
          <a:xfrm>
            <a:off x="4876920" y="3581280"/>
            <a:ext cx="353376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5:33:09Z</dcterms:created>
  <dc:creator>admin</dc:creator>
  <dc:description/>
  <dc:language>en-US</dc:language>
  <cp:lastModifiedBy>Пиканова Юлия Владимировна</cp:lastModifiedBy>
  <dcterms:modified xsi:type="dcterms:W3CDTF">2018-12-22T09:09:2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