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6E33-CFA5-4767-A2B2-6948E6E5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0C66-FD63-4BF8-9CBA-350FE447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437D-BE8C-478C-B8CA-9A2BC4B6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E881-FBE0-4831-970D-60C0A217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E80F-7241-4F06-B24F-E00C3405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A5A7-E18F-4DF9-B867-D10CAB54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3D6F-A6B2-4FE1-8E0F-C79597C7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893E-6E1A-447F-AEAF-1C275E50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0FC3-AD98-4298-AB8B-37990463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EFF6-C1C2-4580-A3DA-5C4C4FAB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A1E1-7E69-4892-A7EE-273509E4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C9F6-9D48-45CD-9413-BF08F0D6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ABDD-4CAE-4B6E-BEFF-7B107ECE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8568-2792-4833-A05F-B1CF0B8E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CA3F-8972-47BA-870D-7EC52536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64C5-ED06-448A-9FD2-F8B2CE8F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2C89-564C-4DE0-A5C0-EBC1CDFB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98F0-031D-4BE4-AF92-60E5D0E8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FCD2-E797-4AE9-A5B9-9D104992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A9C9-3092-4E20-A7ED-4D30E12C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086B-55F0-45CB-A2CE-B49A68EC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B8EB-F3DD-471D-9D5D-46463952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3124-422F-48BC-BACC-46631B7F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2FAD-B094-48EF-ADA2-8B1DE845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0F73-7BB0-4A2C-A26D-6241D1390B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50BA-A45E-46D0-90A4-401B6DFCE5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71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Моя Родин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371600" y="228240"/>
            <a:ext cx="731376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ля каждого человека Родина- это место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де он родился и вырос. Это родной край со своими обычаями и традициям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ля меня Родина- это мой дом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где я живу с семьей, с близкими людьми. Это мой город Стрежевой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1700537"/>
          <p:cNvPicPr/>
          <p:nvPr/>
        </p:nvPicPr>
        <p:blipFill>
          <a:blip r:embed="rId1"/>
          <a:stretch/>
        </p:blipFill>
        <p:spPr>
          <a:xfrm>
            <a:off x="609480" y="3809880"/>
            <a:ext cx="3810240" cy="254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i?id=839525d482d7b5684193d9afe93344bd&amp;n=33&amp;h=215&amp;w=323"/>
          <p:cNvPicPr/>
          <p:nvPr/>
        </p:nvPicPr>
        <p:blipFill>
          <a:blip r:embed="rId2"/>
          <a:stretch/>
        </p:blipFill>
        <p:spPr>
          <a:xfrm>
            <a:off x="4724280" y="3809880"/>
            <a:ext cx="37339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71600" y="304560"/>
            <a:ext cx="73137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аждый город прекрасен по -своему. Стрежевой прекрасен парками, реками и памятникам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21" descr="i?id=1b65911126e97bbd7445f84b3788de05&amp;n=33&amp;h=215&amp;w=324"/>
          <p:cNvPicPr/>
          <p:nvPr/>
        </p:nvPicPr>
        <p:blipFill>
          <a:blip r:embed="rId1"/>
          <a:stretch/>
        </p:blipFill>
        <p:spPr>
          <a:xfrm>
            <a:off x="609480" y="4572000"/>
            <a:ext cx="3086280" cy="2048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3" descr="original"/>
          <p:cNvPicPr/>
          <p:nvPr/>
        </p:nvPicPr>
        <p:blipFill>
          <a:blip r:embed="rId2"/>
          <a:stretch/>
        </p:blipFill>
        <p:spPr>
          <a:xfrm>
            <a:off x="1676520" y="2133720"/>
            <a:ext cx="2857320" cy="1904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5" descr="108630_strezhevoi-fontan"/>
          <p:cNvPicPr/>
          <p:nvPr/>
        </p:nvPicPr>
        <p:blipFill>
          <a:blip r:embed="rId3"/>
          <a:stretch/>
        </p:blipFill>
        <p:spPr>
          <a:xfrm>
            <a:off x="5410080" y="441972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7" descr="i?id=b983d6148bb54ea830167b24f01bdc5e&amp;n=33&amp;h=215&amp;w=323"/>
          <p:cNvPicPr/>
          <p:nvPr/>
        </p:nvPicPr>
        <p:blipFill>
          <a:blip r:embed="rId4"/>
          <a:stretch/>
        </p:blipFill>
        <p:spPr>
          <a:xfrm>
            <a:off x="5486400" y="2057400"/>
            <a:ext cx="30765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4055abc5fcb63102992b8c87808c0f06"/>
          <p:cNvPicPr/>
          <p:nvPr/>
        </p:nvPicPr>
        <p:blipFill>
          <a:blip r:embed="rId1"/>
          <a:stretch/>
        </p:blipFill>
        <p:spPr>
          <a:xfrm>
            <a:off x="990720" y="380880"/>
            <a:ext cx="1807920" cy="2409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3d758a0aa505b6b1f251d2a8f528414c"/>
          <p:cNvPicPr/>
          <p:nvPr/>
        </p:nvPicPr>
        <p:blipFill>
          <a:blip r:embed="rId2"/>
          <a:stretch/>
        </p:blipFill>
        <p:spPr>
          <a:xfrm>
            <a:off x="228600" y="3657600"/>
            <a:ext cx="1636560" cy="2181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1298433002"/>
          <p:cNvPicPr/>
          <p:nvPr/>
        </p:nvPicPr>
        <p:blipFill>
          <a:blip r:embed="rId3"/>
          <a:stretch/>
        </p:blipFill>
        <p:spPr>
          <a:xfrm>
            <a:off x="6248520" y="48769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0bfea0b59c6b0f58b1f4f65d22777c7b"/>
          <p:cNvPicPr/>
          <p:nvPr/>
        </p:nvPicPr>
        <p:blipFill>
          <a:blip r:embed="rId4"/>
          <a:stretch/>
        </p:blipFill>
        <p:spPr>
          <a:xfrm>
            <a:off x="5257800" y="15228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image"/>
          <p:cNvPicPr/>
          <p:nvPr/>
        </p:nvPicPr>
        <p:blipFill>
          <a:blip r:embed="rId5"/>
          <a:stretch/>
        </p:blipFill>
        <p:spPr>
          <a:xfrm>
            <a:off x="3124080" y="304920"/>
            <a:ext cx="1474920" cy="1981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4cb0297c2532d9f4f5f5fff85a87eae2"/>
          <p:cNvPicPr/>
          <p:nvPr/>
        </p:nvPicPr>
        <p:blipFill>
          <a:blip r:embed="rId6"/>
          <a:stretch/>
        </p:blipFill>
        <p:spPr>
          <a:xfrm>
            <a:off x="2590920" y="4724280"/>
            <a:ext cx="2286000" cy="1978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1010998064"/>
          <p:cNvPicPr/>
          <p:nvPr/>
        </p:nvPicPr>
        <p:blipFill>
          <a:blip r:embed="rId7"/>
          <a:stretch/>
        </p:blipFill>
        <p:spPr>
          <a:xfrm>
            <a:off x="2666880" y="2971800"/>
            <a:ext cx="2152800" cy="1434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i?id=05665de8c278c4dfc5b680d5718d2a88&amp;n=33&amp;h=215&amp;w=287"/>
          <p:cNvPicPr/>
          <p:nvPr/>
        </p:nvPicPr>
        <p:blipFill>
          <a:blip r:embed="rId8"/>
          <a:stretch/>
        </p:blipFill>
        <p:spPr>
          <a:xfrm>
            <a:off x="5257800" y="2514600"/>
            <a:ext cx="27338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трежевой- небольшой город, но тут есть много развлекательных, 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ознавательных кружков и центров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Picture 5" descr="Strezhevoj_fontan"/>
          <p:cNvPicPr/>
          <p:nvPr/>
        </p:nvPicPr>
        <p:blipFill>
          <a:blip r:embed="rId1"/>
          <a:stretch/>
        </p:blipFill>
        <p:spPr>
          <a:xfrm>
            <a:off x="1066680" y="1752480"/>
            <a:ext cx="3495960" cy="2043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56154520"/>
          <p:cNvPicPr/>
          <p:nvPr/>
        </p:nvPicPr>
        <p:blipFill>
          <a:blip r:embed="rId2"/>
          <a:stretch/>
        </p:blipFill>
        <p:spPr>
          <a:xfrm>
            <a:off x="5257800" y="1981080"/>
            <a:ext cx="3352680" cy="173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870_580_fixedwidth"/>
          <p:cNvPicPr/>
          <p:nvPr/>
        </p:nvPicPr>
        <p:blipFill>
          <a:blip r:embed="rId3"/>
          <a:stretch/>
        </p:blipFill>
        <p:spPr>
          <a:xfrm>
            <a:off x="380880" y="4267080"/>
            <a:ext cx="2876760" cy="1917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i?id=c2e4455f76c228ed919d51309158dd68&amp;n=33&amp;h=215&amp;w=312"/>
          <p:cNvPicPr/>
          <p:nvPr/>
        </p:nvPicPr>
        <p:blipFill>
          <a:blip r:embed="rId4"/>
          <a:stretch/>
        </p:blipFill>
        <p:spPr>
          <a:xfrm>
            <a:off x="4648320" y="4343400"/>
            <a:ext cx="31240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295280" y="4572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не нравится этот город, пусть хоть он и небольшой, но зато, очень удобный, уютный, красивый. И мне не стыдно называть его- своей Родиной. Я очень люблю Стрежевой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6" descr="958493_strezhevoi-foto-goroda"/>
          <p:cNvPicPr/>
          <p:nvPr/>
        </p:nvPicPr>
        <p:blipFill>
          <a:blip r:embed="rId1"/>
          <a:stretch/>
        </p:blipFill>
        <p:spPr>
          <a:xfrm>
            <a:off x="762120" y="3276720"/>
            <a:ext cx="3429000" cy="2295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strezhevoj_gorod"/>
          <p:cNvPicPr/>
          <p:nvPr/>
        </p:nvPicPr>
        <p:blipFill>
          <a:blip r:embed="rId2"/>
          <a:stretch/>
        </p:blipFill>
        <p:spPr>
          <a:xfrm>
            <a:off x="4876920" y="3581280"/>
            <a:ext cx="353376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5:33:09Z</dcterms:created>
  <dc:creator>admin</dc:creator>
  <dc:description/>
  <dc:language>en-US</dc:language>
  <cp:lastModifiedBy>Пиканова Юлия Владимировна</cp:lastModifiedBy>
  <dcterms:modified xsi:type="dcterms:W3CDTF">2018-12-22T09:09:2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