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5923-5EDB-42A6-951C-FC14CFB0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8218-1933-4406-8E01-3E1CD199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5C6D-547D-48F9-8FA1-4EEA0CC3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41D7-37C3-4E78-A94D-6564602F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D86-3995-482D-88CA-3275381B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B492-F039-4DB8-85FA-EC64EA4B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727-FAC2-457A-BE02-989717C7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8144-AB5E-427C-9939-4F19996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B56-FD54-4FC2-84D2-C32B360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043-1C64-4299-8168-76009146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D1B-EDCB-408C-9890-11FCB2D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B772-6176-434A-A666-21BF49C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997-B7A5-4E53-9DB9-9A2F8F2E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2213-FE3E-4D87-BC66-36A3A69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398-77FF-477E-810A-453F626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7E2E-5B6A-4FFE-B80F-97B9EB55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75F5-88E9-4E45-9817-922EFD02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6CBE-DBAD-43FB-A3B6-692EA913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9556-2592-43FF-A609-EF5C6EEE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4DE3-BBDE-40C8-B0BA-7492EE0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FEF3-3B1D-459E-93C2-7D6E9F37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95EF-1EEF-45BE-873D-C7A003A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AF03-0F09-4799-B833-3AC9830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E66A-C5C7-431E-A115-8F06B67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BC6-8AA3-48E3-B811-BA70E706C1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3BCC-26E0-43E8-9316-D2748647B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20000" cy="5010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АНГУТАН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ШИМПАНЗ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80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ОРИЛ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324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обезьянка аппликация из бумаги"/>
          <p:cNvPicPr/>
          <p:nvPr/>
        </p:nvPicPr>
        <p:blipFill>
          <a:blip r:embed="rId1"/>
          <a:stretch/>
        </p:blipFill>
        <p:spPr>
          <a:xfrm>
            <a:off x="14479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517320"/>
            <a:ext cx="83822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авила при работе с ножниц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Не оставляй  ножницы раскрыт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Передавай ножницы кольцами вперё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При работе не держи ножницы концами ввер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Не приближай пальцы левой руки к линии отре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3200400"/>
          <a:ext cx="8077320" cy="25272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Используй ножницы по назначению.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630520" y="3977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501840" y="1203840"/>
            <a:ext cx="1042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Правила при работе с клее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Бери то количество клея, которое требу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для выполнения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2.Излишки клея убирай мягкой тряпоч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или салфеткой, осторожно прижимая 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3. Закончив работу закрой клей крыш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4. Руки после работы хорошо вымой с мы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00280" y="3809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obezianka-aplikacija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obezianka-aplikacija2"/>
          <p:cNvPicPr/>
          <p:nvPr/>
        </p:nvPicPr>
        <p:blipFill>
          <a:blip r:embed="rId1"/>
          <a:stretch/>
        </p:blipFill>
        <p:spPr>
          <a:xfrm>
            <a:off x="0" y="636480"/>
            <a:ext cx="8305920" cy="622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Вырезаем в необходимом количестве детали из бумаги коричневого и белого цвета. Из белой бумаги мы вырезаем детали для мордашки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obezianka-aplikacija3"/>
          <p:cNvPicPr/>
          <p:nvPr/>
        </p:nvPicPr>
        <p:blipFill>
          <a:blip r:embed="rId1"/>
          <a:stretch/>
        </p:blipFill>
        <p:spPr>
          <a:xfrm>
            <a:off x="0" y="520560"/>
            <a:ext cx="8458200" cy="6337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Нарезаем тоненькие полоски коричневой бумаги для чубчика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609480"/>
          <a:ext cx="7837560" cy="5214960"/>
        </p:xfrm>
        <a:graphic>
          <a:graphicData uri="http://schemas.openxmlformats.org/drawingml/2006/table">
            <a:tbl>
              <a:tblPr/>
              <a:tblGrid>
                <a:gridCol w="7837560"/>
              </a:tblGrid>
              <a:tr h="60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а рабочего человека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. Каждый работает за своим рабочим место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. Прежде, чем начать работу, приготовь рабочее место правильно (все, что нужно для работы приготовь заране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. Береги инструменты, экономь материалы, всегда думай, как сделать работу лучш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4. Во время работы содержи рабочее место в порядк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5. Кончил работу, убери рабочее место быстро и аккуратн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6. Работать нужно дружн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obezianka-aplikacija4"/>
          <p:cNvPicPr/>
          <p:nvPr/>
        </p:nvPicPr>
        <p:blipFill>
          <a:blip r:embed="rId1"/>
          <a:stretch/>
        </p:blipFill>
        <p:spPr>
          <a:xfrm>
            <a:off x="0" y="463680"/>
            <a:ext cx="8534520" cy="639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Смазываем клеем ПВА круг для головы и приклеиваем чубчик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obezianka-aplikacija5"/>
          <p:cNvPicPr/>
          <p:nvPr/>
        </p:nvPicPr>
        <p:blipFill>
          <a:blip r:embed="rId1"/>
          <a:stretch/>
        </p:blipFill>
        <p:spPr>
          <a:xfrm>
            <a:off x="0" y="587520"/>
            <a:ext cx="8153280" cy="6108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После чего наклеиваем голову на плотный  картон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obezianka-aplikacija6"/>
          <p:cNvPicPr/>
          <p:nvPr/>
        </p:nvPicPr>
        <p:blipFill>
          <a:blip r:embed="rId1"/>
          <a:stretch/>
        </p:blipFill>
        <p:spPr>
          <a:xfrm>
            <a:off x="0" y="520560"/>
            <a:ext cx="8458200" cy="6337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Чуть ниже приклеиваем туловище обезьянки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obezianka-aplikacija7"/>
          <p:cNvPicPr/>
          <p:nvPr/>
        </p:nvPicPr>
        <p:blipFill>
          <a:blip r:embed="rId1"/>
          <a:stretch/>
        </p:blipFill>
        <p:spPr>
          <a:xfrm>
            <a:off x="0" y="749160"/>
            <a:ext cx="8153280" cy="6108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Приклеиваем белую мордашку поверх головы.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obezianka-aplikacija8"/>
          <p:cNvPicPr/>
          <p:nvPr/>
        </p:nvPicPr>
        <p:blipFill>
          <a:blip r:embed="rId1"/>
          <a:stretch/>
        </p:blipFill>
        <p:spPr>
          <a:xfrm>
            <a:off x="0" y="1077840"/>
            <a:ext cx="8915400" cy="5780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Вырезаем два черных маленьких кружочка для глаз и также приклеиваем в верхней части мордашки.</a:t>
            </a:r>
            <a:br>
              <a:rPr sz="2800"/>
            </a:b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obezianka-aplikacija9"/>
          <p:cNvPicPr/>
          <p:nvPr/>
        </p:nvPicPr>
        <p:blipFill>
          <a:blip r:embed="rId1"/>
          <a:stretch/>
        </p:blipFill>
        <p:spPr>
          <a:xfrm>
            <a:off x="0" y="749160"/>
            <a:ext cx="8153280" cy="6108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Оставшиеся круги складываем пополам.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obezianka-aplikacija10"/>
          <p:cNvPicPr/>
          <p:nvPr/>
        </p:nvPicPr>
        <p:blipFill>
          <a:blip r:embed="rId1"/>
          <a:stretch/>
        </p:blipFill>
        <p:spPr>
          <a:xfrm>
            <a:off x="0" y="577800"/>
            <a:ext cx="8381880" cy="6280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Большой белый сложенный пополам круг смазываем с одной стороны клеем и наклеиваем на нижнюю часть мордашки, немного накладывая его на глазки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obezianka-aplikacija11"/>
          <p:cNvPicPr/>
          <p:nvPr/>
        </p:nvPicPr>
        <p:blipFill>
          <a:blip r:embed="rId1"/>
          <a:stretch/>
        </p:blipFill>
        <p:spPr>
          <a:xfrm>
            <a:off x="0" y="577800"/>
            <a:ext cx="8381880" cy="6280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По бокам приклеиваем по ушку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obezianka-aplikacija12"/>
          <p:cNvPicPr/>
          <p:nvPr/>
        </p:nvPicPr>
        <p:blipFill>
          <a:blip r:embed="rId1"/>
          <a:stretch/>
        </p:blipFill>
        <p:spPr>
          <a:xfrm>
            <a:off x="0" y="990720"/>
            <a:ext cx="8381880" cy="5867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Из оставшихся четырех кружков делаем руки и ноги, приклеивая их к туловищу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обезьянка аппликация из бумаги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24320" y="609480"/>
            <a:ext cx="301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Обезьян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гото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4640" y="914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асибо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нимание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Смотреть Маугли онлайн на Кинопод бесплатно"/>
          <p:cNvPicPr/>
          <p:nvPr/>
        </p:nvPicPr>
        <p:blipFill>
          <a:blip r:embed="rId1"/>
          <a:srcRect l="-1587" t="0" r="0" b="15915"/>
          <a:stretch/>
        </p:blipFill>
        <p:spPr>
          <a:xfrm>
            <a:off x="1981080" y="304920"/>
            <a:ext cx="4876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Смотреть фильм Обезьяна с острова Саругасима онлайн на Кинопод бесплатно"/>
          <p:cNvPicPr/>
          <p:nvPr/>
        </p:nvPicPr>
        <p:blipFill>
          <a:blip r:embed="rId1"/>
          <a:srcRect l="0" t="0" r="0" b="22591"/>
          <a:stretch/>
        </p:blipFill>
        <p:spPr>
          <a:xfrm>
            <a:off x="2133720" y="457200"/>
            <a:ext cx="460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Смотреть фильм Любопытный Джордж 2: По следам обезьян онлайн на Кинопод бесплатно"/>
          <p:cNvPicPr/>
          <p:nvPr/>
        </p:nvPicPr>
        <p:blipFill>
          <a:blip r:embed="rId1"/>
          <a:srcRect l="0" t="13094" r="0" b="0"/>
          <a:stretch/>
        </p:blipFill>
        <p:spPr>
          <a:xfrm>
            <a:off x="2209680" y="838080"/>
            <a:ext cx="4523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Смотреть фильм Обезьянки онлайн на Кинопод бесплатно"/>
          <p:cNvPicPr/>
          <p:nvPr/>
        </p:nvPicPr>
        <p:blipFill>
          <a:blip r:embed="rId1"/>
          <a:srcRect l="0" t="24816" r="0" b="0"/>
          <a:stretch/>
        </p:blipFill>
        <p:spPr>
          <a:xfrm>
            <a:off x="1905120" y="533520"/>
            <a:ext cx="5005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44440"/>
            <a:ext cx="82296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9T16:54:43Z</dcterms:created>
  <dc:creator>Ольга</dc:creator>
  <dc:description/>
  <dc:language>en-US</dc:language>
  <cp:lastModifiedBy>Ольга</cp:lastModifiedBy>
  <dcterms:modified xsi:type="dcterms:W3CDTF">2016-02-01T17:39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