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8CD0-1B8C-4B40-A7B4-0A64350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C7757-4D16-433E-A91E-BC9640B1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7D7D9-F5E7-4020-8A0B-E8647AF5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1C85-A9C5-4E53-9E3B-D984AD6E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259-C565-48D5-A632-F0105A13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72DE-9D80-4FF3-A570-C231BE54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B7FD-332B-45F6-8F8E-4BEBF4F8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3D03-2E2F-44B9-8001-A7CD7FD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D293-0C15-4F59-9798-32991012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5A9F-8CEE-4DE5-8A03-6A2E16E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9C6B-1EE5-43A7-A3FF-E20FA26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6F0B-AC2F-4D3C-A4D1-B5F17107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24D7-06D0-4BD7-8D72-C01F0BA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FF57-2A62-49EB-8718-C7B5330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8F96-B9E0-4DD6-9FA4-6F7DCACB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0721-741C-4DEF-8FC4-FA9D0FB7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7FA-3ABE-43E9-9869-22D52AA6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294DF-84B6-48C5-A0AD-851D2F17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4268-170A-40D7-AC92-6BA5F8D2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F57D-B4A4-4EF3-9633-46DADD7F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A911-9BEE-4DC8-B678-7CD864E5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3BEE-985E-48A6-B72B-C356CD0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4D09-D925-405A-90E0-901BD07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F68C-13CE-4DFE-BBD9-F7A68D22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8F84-799B-4987-AF25-CC9E9C1D67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E527-5BDA-49F6-A82F-F4B5BFB112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20000" cy="5010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РАНГУТАН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ШИМПАНЗ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80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ОРИЛ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324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5029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обезьянка аппликация из бумаги"/>
          <p:cNvPicPr/>
          <p:nvPr/>
        </p:nvPicPr>
        <p:blipFill>
          <a:blip r:embed="rId1"/>
          <a:stretch/>
        </p:blipFill>
        <p:spPr>
          <a:xfrm>
            <a:off x="14479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0880" y="517320"/>
            <a:ext cx="838224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авила при работе с ножниц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Не оставляй  ножницы раскрыт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Передавай ножницы кольцами вперё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При работе не держи ножницы концами ввер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Не приближай пальцы левой руки к линии отрез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3200400"/>
          <a:ext cx="8077320" cy="2527200"/>
        </p:xfrm>
        <a:graphic>
          <a:graphicData uri="http://schemas.openxmlformats.org/drawingml/2006/table">
            <a:tbl>
              <a:tblPr/>
              <a:tblGrid>
                <a:gridCol w="807732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Используй ножницы по назначению.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630520" y="3977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501840" y="1203840"/>
            <a:ext cx="1042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Правила при работе с клее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Бери то количество клея, которое требует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для выполнения рабо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2.Излишки клея убирай мягкой тряпоч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или салфеткой, осторожно прижимая е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3. Закончив работу закрой клей крыш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alibri"/>
              </a:rPr>
              <a:t>4. Руки после работы хорошо вымой с мыл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00280" y="3809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obezianka-aplikacija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obezianka-aplikacija2"/>
          <p:cNvPicPr/>
          <p:nvPr/>
        </p:nvPicPr>
        <p:blipFill>
          <a:blip r:embed="rId1"/>
          <a:stretch/>
        </p:blipFill>
        <p:spPr>
          <a:xfrm>
            <a:off x="0" y="636480"/>
            <a:ext cx="8305920" cy="622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Вырезаем в необходимом количестве детали из бумаги коричневого и белого цвета. Из белой бумаги мы вырезаем детали для мордашки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obezianka-aplikacija3"/>
          <p:cNvPicPr/>
          <p:nvPr/>
        </p:nvPicPr>
        <p:blipFill>
          <a:blip r:embed="rId1"/>
          <a:stretch/>
        </p:blipFill>
        <p:spPr>
          <a:xfrm>
            <a:off x="0" y="520560"/>
            <a:ext cx="8458200" cy="6337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Нарезаем тоненькие полоски коричневой бумаги для чубчика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09480" y="609480"/>
          <a:ext cx="7837560" cy="5214960"/>
        </p:xfrm>
        <a:graphic>
          <a:graphicData uri="http://schemas.openxmlformats.org/drawingml/2006/table">
            <a:tbl>
              <a:tblPr/>
              <a:tblGrid>
                <a:gridCol w="7837560"/>
              </a:tblGrid>
              <a:tr h="60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вила рабочего человека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1. Каждый работает за своим рабочим местом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. Прежде, чем начать работу, приготовь рабочее место правильно (все, что нужно для работы приготовь заране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. Береги инструменты, экономь материалы, всегда думай, как сделать работу лучш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4. Во время работы содержи рабочее место в порядк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5. Кончил работу, убери рабочее место быстро и аккуратн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6. Работать нужно дружно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obezianka-aplikacija4"/>
          <p:cNvPicPr/>
          <p:nvPr/>
        </p:nvPicPr>
        <p:blipFill>
          <a:blip r:embed="rId1"/>
          <a:stretch/>
        </p:blipFill>
        <p:spPr>
          <a:xfrm>
            <a:off x="0" y="463680"/>
            <a:ext cx="8534520" cy="639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Смазываем клеем ПВА круг для головы и приклеиваем чубчик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obezianka-aplikacija5"/>
          <p:cNvPicPr/>
          <p:nvPr/>
        </p:nvPicPr>
        <p:blipFill>
          <a:blip r:embed="rId1"/>
          <a:stretch/>
        </p:blipFill>
        <p:spPr>
          <a:xfrm>
            <a:off x="0" y="587520"/>
            <a:ext cx="8153280" cy="6108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После чего наклеиваем голову на плотный  картон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obezianka-aplikacija6"/>
          <p:cNvPicPr/>
          <p:nvPr/>
        </p:nvPicPr>
        <p:blipFill>
          <a:blip r:embed="rId1"/>
          <a:stretch/>
        </p:blipFill>
        <p:spPr>
          <a:xfrm>
            <a:off x="0" y="520560"/>
            <a:ext cx="8458200" cy="63374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Чуть ниже приклеиваем туловище обезьянки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obezianka-aplikacija7"/>
          <p:cNvPicPr/>
          <p:nvPr/>
        </p:nvPicPr>
        <p:blipFill>
          <a:blip r:embed="rId1"/>
          <a:stretch/>
        </p:blipFill>
        <p:spPr>
          <a:xfrm>
            <a:off x="0" y="749160"/>
            <a:ext cx="8153280" cy="6108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Приклеиваем белую мордашку поверх головы.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obezianka-aplikacija8"/>
          <p:cNvPicPr/>
          <p:nvPr/>
        </p:nvPicPr>
        <p:blipFill>
          <a:blip r:embed="rId1"/>
          <a:stretch/>
        </p:blipFill>
        <p:spPr>
          <a:xfrm>
            <a:off x="0" y="1077840"/>
            <a:ext cx="8915400" cy="5780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Вырезаем два черных маленьких кружочка для глаз и также приклеиваем в верхней части мордашки.</a:t>
            </a:r>
            <a:br>
              <a:rPr sz="2800"/>
            </a:b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obezianka-aplikacija9"/>
          <p:cNvPicPr/>
          <p:nvPr/>
        </p:nvPicPr>
        <p:blipFill>
          <a:blip r:embed="rId1"/>
          <a:stretch/>
        </p:blipFill>
        <p:spPr>
          <a:xfrm>
            <a:off x="0" y="749160"/>
            <a:ext cx="8153280" cy="61088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Оставшиеся круги складываем пополам.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obezianka-aplikacija10"/>
          <p:cNvPicPr/>
          <p:nvPr/>
        </p:nvPicPr>
        <p:blipFill>
          <a:blip r:embed="rId1"/>
          <a:stretch/>
        </p:blipFill>
        <p:spPr>
          <a:xfrm>
            <a:off x="0" y="577800"/>
            <a:ext cx="8381880" cy="6280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Большой белый сложенный пополам круг смазываем с одной стороны клеем и наклеиваем на нижнюю часть мордашки, немного накладывая его на глазки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obezianka-aplikacija11"/>
          <p:cNvPicPr/>
          <p:nvPr/>
        </p:nvPicPr>
        <p:blipFill>
          <a:blip r:embed="rId1"/>
          <a:stretch/>
        </p:blipFill>
        <p:spPr>
          <a:xfrm>
            <a:off x="0" y="577800"/>
            <a:ext cx="8381880" cy="6280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По бокам приклеиваем по ушку.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obezianka-aplikacija12"/>
          <p:cNvPicPr/>
          <p:nvPr/>
        </p:nvPicPr>
        <p:blipFill>
          <a:blip r:embed="rId1"/>
          <a:stretch/>
        </p:blipFill>
        <p:spPr>
          <a:xfrm>
            <a:off x="0" y="990720"/>
            <a:ext cx="8381880" cy="5867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Из оставшихся четырех кружков делаем руки и ноги, приклеивая их к туловищу.</a:t>
            </a:r>
            <a:br>
              <a:rPr sz="3200"/>
            </a:br>
            <a:br>
              <a:rPr sz="40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обезьянка аппликация из бумаги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24320" y="609480"/>
            <a:ext cx="301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Обезьян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гото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55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4640" y="914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пасибо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нимание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Смотреть Маугли онлайн на Кинопод бесплатно"/>
          <p:cNvPicPr/>
          <p:nvPr/>
        </p:nvPicPr>
        <p:blipFill>
          <a:blip r:embed="rId1"/>
          <a:srcRect l="-1587" t="0" r="0" b="15915"/>
          <a:stretch/>
        </p:blipFill>
        <p:spPr>
          <a:xfrm>
            <a:off x="1981080" y="304920"/>
            <a:ext cx="4876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Смотреть фильм Обезьяна с острова Саругасима онлайн на Кинопод бесплатно"/>
          <p:cNvPicPr/>
          <p:nvPr/>
        </p:nvPicPr>
        <p:blipFill>
          <a:blip r:embed="rId1"/>
          <a:srcRect l="0" t="0" r="0" b="22591"/>
          <a:stretch/>
        </p:blipFill>
        <p:spPr>
          <a:xfrm>
            <a:off x="2133720" y="457200"/>
            <a:ext cx="460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Смотреть фильм Любопытный Джордж 2: По следам обезьян онлайн на Кинопод бесплатно"/>
          <p:cNvPicPr/>
          <p:nvPr/>
        </p:nvPicPr>
        <p:blipFill>
          <a:blip r:embed="rId1"/>
          <a:srcRect l="0" t="13094" r="0" b="0"/>
          <a:stretch/>
        </p:blipFill>
        <p:spPr>
          <a:xfrm>
            <a:off x="2209680" y="838080"/>
            <a:ext cx="4523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Смотреть фильм Обезьянки онлайн на Кинопод бесплатно"/>
          <p:cNvPicPr/>
          <p:nvPr/>
        </p:nvPicPr>
        <p:blipFill>
          <a:blip r:embed="rId1"/>
          <a:srcRect l="0" t="24816" r="0" b="0"/>
          <a:stretch/>
        </p:blipFill>
        <p:spPr>
          <a:xfrm>
            <a:off x="1905120" y="533520"/>
            <a:ext cx="50054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55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244440"/>
            <a:ext cx="822960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9T16:54:43Z</dcterms:created>
  <dc:creator>Ольга</dc:creator>
  <dc:description/>
  <dc:language>en-US</dc:language>
  <cp:lastModifiedBy>Ольга</cp:lastModifiedBy>
  <dcterms:modified xsi:type="dcterms:W3CDTF">2016-02-01T17:39:0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