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1F1-F60C-454B-8547-AE23E832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B9B-A18D-4C94-9DC5-B83A3502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49A-E7E3-47E0-AD90-0F305B6F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B55-4FBC-429B-95B2-540E88C6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D3F-7469-4B42-A800-D52BB6C8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C4C-55B2-4341-8246-4F16416A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C4D-48CB-43AD-A4E0-6369933E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DC3-85E8-47DF-85C9-99E06561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C66-08B9-496D-AB54-DE197A74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5FA-F38D-4106-92A5-3996556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734-77E3-4609-973D-8F0762B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F0F-42FD-4354-B717-C73481F9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8961">
            <a:alpha val="4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E871-BE8E-4BDE-901F-161D1FD529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Слуховой диктант.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Непроверяемые гласные в корне слова</a:t>
            </a:r>
            <a:br>
              <a:rPr sz="3500"/>
            </a:br>
            <a:r>
              <a:rPr b="1" lang="ru-RU" sz="3500" spc="-1" strike="noStrike">
                <a:solidFill>
                  <a:srgbClr val="000000"/>
                </a:solidFill>
                <a:latin typeface="Calibri"/>
              </a:rPr>
              <a:t>(6 класс)</a:t>
            </a:r>
            <a:endParaRPr b="0" lang="en-US" sz="35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Инструкция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38080" y="1981080"/>
            <a:ext cx="777240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Внимательно прослушай предложение. Запиши его в тетрадь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2. Найди слова с «Непроверяемой гласной в корне слова»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homa"/>
              </a:rPr>
              <a:t>3. Выдели корень и непроверяемую букву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AutoShape 5">
            <a:hlinkClick r:id="rId2" action="ppaction://hlinksldjump"/>
          </p:cNvPr>
          <p:cNvSpPr/>
          <p:nvPr/>
        </p:nvSpPr>
        <p:spPr>
          <a:xfrm>
            <a:off x="7086600" y="4952880"/>
            <a:ext cx="1219320" cy="228600"/>
          </a:xfrm>
          <a:prstGeom prst="flowChartTerminator">
            <a:avLst/>
          </a:prstGeom>
          <a:solidFill>
            <a:srgbClr val="aaa578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спомни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AutoShape 6">
            <a:hlinkClick r:id="rId3" action="ppaction://hlinksldjump"/>
          </p:cNvPr>
          <p:cNvSpPr/>
          <p:nvPr/>
        </p:nvSpPr>
        <p:spPr>
          <a:xfrm>
            <a:off x="7086600" y="5257800"/>
            <a:ext cx="1219320" cy="228600"/>
          </a:xfrm>
          <a:prstGeom prst="flowChartTerminator">
            <a:avLst/>
          </a:prstGeom>
          <a:solidFill>
            <a:srgbClr val="aaa578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разец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7086600" y="5562720"/>
            <a:ext cx="1219320" cy="228600"/>
          </a:xfrm>
          <a:prstGeom prst="flowChartTerminator">
            <a:avLst/>
          </a:prstGeom>
          <a:solidFill>
            <a:srgbClr val="aaa578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уч-л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AutoShape 8">
            <a:hlinkClick r:id="rId4" action="ppaction://hlinksldjump"/>
          </p:cNvPr>
          <p:cNvSpPr/>
          <p:nvPr/>
        </p:nvSpPr>
        <p:spPr>
          <a:xfrm>
            <a:off x="7086600" y="5867280"/>
            <a:ext cx="1219320" cy="228600"/>
          </a:xfrm>
          <a:prstGeom prst="flowChartTerminator">
            <a:avLst/>
          </a:prstGeom>
          <a:solidFill>
            <a:srgbClr val="aaa578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и работ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27f4c"/>
                </a:solidFill>
                <a:latin typeface="Tahoma"/>
              </a:rPr>
              <a:t>ВСПОМНИМ:</a:t>
            </a:r>
            <a:r>
              <a:rPr b="0" lang="ru-RU" sz="3600" spc="-1" strike="noStrike">
                <a:solidFill>
                  <a:srgbClr val="827f4c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827f4c"/>
                </a:solidFill>
                <a:latin typeface="Tahoma"/>
              </a:rPr>
              <a:t>КАКИЕ ГЛАСНЫЕ В КОРНЕ СЛОВА НАЗЫВАЮТСЯ НЕПРОВЕРЯЕМЫМИ</a:t>
            </a:r>
            <a:r>
              <a:rPr b="0" lang="ru-RU" sz="4000" spc="-1" strike="noStrike">
                <a:solidFill>
                  <a:srgbClr val="827f4c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38080" y="3429000"/>
            <a:ext cx="723924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Если не удается отнести слово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к словам с чередующимися гласными в корне и подобрать проверочные слова (подбор однокоренных слов с гласной под ударением), то перед тобой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c3300"/>
                </a:solidFill>
                <a:latin typeface="Tahoma"/>
              </a:rPr>
              <a:t>слово с непроверяемой гласной в корне!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AutoShape 6">
            <a:hlinkClick r:id="rId2" action="ppaction://hlinksldjump"/>
          </p:cNvPr>
          <p:cNvSpPr/>
          <p:nvPr/>
        </p:nvSpPr>
        <p:spPr>
          <a:xfrm>
            <a:off x="7543800" y="5943600"/>
            <a:ext cx="838080" cy="228600"/>
          </a:xfrm>
          <a:prstGeom prst="flowChartTerminator">
            <a:avLst/>
          </a:prstGeom>
          <a:solidFill>
            <a:srgbClr val="aaa578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к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ОБРАЗЕЦ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914400" y="2286000"/>
            <a:ext cx="71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ма принесла мне вкусную конфет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010280" y="2362320"/>
            <a:ext cx="2286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rc 7"/>
          <p:cNvSpPr/>
          <p:nvPr/>
        </p:nvSpPr>
        <p:spPr>
          <a:xfrm flipH="1" flipV="1" rot="7717200">
            <a:off x="5919480" y="2048760"/>
            <a:ext cx="862200" cy="847800"/>
          </a:xfrm>
          <a:custGeom>
            <a:avLst/>
            <a:gdLst>
              <a:gd name="textAreaLeft" fmla="*/ -360 w 862200"/>
              <a:gd name="textAreaRight" fmla="*/ 862200 w 862200"/>
              <a:gd name="textAreaTop" fmla="*/ -360 h 847800"/>
              <a:gd name="textAreaBottom" fmla="*/ 847800 h 847800"/>
            </a:gdLst>
            <a:ahLst/>
            <a:rect l="textAreaLeft" t="textAreaTop" r="textAreaRight" b="textAreaBottom"/>
            <a:pathLst>
              <a:path fill="none" w="21596" h="21396">
                <a:moveTo>
                  <a:pt x="2959" y="-1"/>
                </a:moveTo>
                <a:cubicBezTo>
                  <a:pt x="13482" y="1454"/>
                  <a:pt x="21384" y="10345"/>
                  <a:pt x="21595" y="20967"/>
                </a:cubicBezTo>
              </a:path>
              <a:path stroke="0" w="21596" h="21396">
                <a:moveTo>
                  <a:pt x="2959" y="-1"/>
                </a:moveTo>
                <a:cubicBezTo>
                  <a:pt x="13482" y="1454"/>
                  <a:pt x="21384" y="10345"/>
                  <a:pt x="21595" y="20967"/>
                </a:cubicBezTo>
                <a:lnTo>
                  <a:pt x="0" y="21396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6781680" y="2133720"/>
            <a:ext cx="763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9"/>
          <p:cNvSpPr/>
          <p:nvPr/>
        </p:nvSpPr>
        <p:spPr>
          <a:xfrm>
            <a:off x="6705720" y="2743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6019920" y="274320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6019920" y="281952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14400" y="3429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море солнце не уходит за горизонт   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 словно тонет в воде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7391520" y="3581280"/>
            <a:ext cx="2286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rc 15"/>
          <p:cNvSpPr/>
          <p:nvPr/>
        </p:nvSpPr>
        <p:spPr>
          <a:xfrm flipH="1" flipV="1" rot="8044800">
            <a:off x="5954760" y="3189960"/>
            <a:ext cx="1187280" cy="1041120"/>
          </a:xfrm>
          <a:custGeom>
            <a:avLst/>
            <a:gdLst>
              <a:gd name="textAreaLeft" fmla="*/ 360 w 1187280"/>
              <a:gd name="textAreaRight" fmla="*/ 1188000 w 1187280"/>
              <a:gd name="textAreaTop" fmla="*/ 360 h 1041120"/>
              <a:gd name="textAreaBottom" fmla="*/ 1041840 h 1041120"/>
            </a:gdLst>
            <a:ahLst/>
            <a:rect l="textAreaLeft" t="textAreaTop" r="textAreaRight" b="textAreaBottom"/>
            <a:pathLst>
              <a:path fill="none" w="21529" h="21097">
                <a:moveTo>
                  <a:pt x="4635" y="0"/>
                </a:moveTo>
                <a:cubicBezTo>
                  <a:pt x="13903" y="2036"/>
                  <a:pt x="20757" y="9883"/>
                  <a:pt x="21528" y="19341"/>
                </a:cubicBezTo>
              </a:path>
              <a:path stroke="0" w="21529" h="21097">
                <a:moveTo>
                  <a:pt x="4635" y="0"/>
                </a:moveTo>
                <a:cubicBezTo>
                  <a:pt x="13903" y="2036"/>
                  <a:pt x="20757" y="9883"/>
                  <a:pt x="21528" y="19341"/>
                </a:cubicBezTo>
                <a:lnTo>
                  <a:pt x="0" y="21097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16"/>
          <p:cNvSpPr/>
          <p:nvPr/>
        </p:nvSpPr>
        <p:spPr>
          <a:xfrm flipH="1">
            <a:off x="6933960" y="3276720"/>
            <a:ext cx="759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6858000" y="38862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6095880" y="3886200"/>
            <a:ext cx="152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Line 20"/>
          <p:cNvSpPr/>
          <p:nvPr/>
        </p:nvSpPr>
        <p:spPr>
          <a:xfrm>
            <a:off x="6095880" y="3962520"/>
            <a:ext cx="152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6477120" y="3886200"/>
            <a:ext cx="1522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6477120" y="396252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AutoShape 23">
            <a:hlinkClick r:id="rId2" action="ppaction://hlinksldjump"/>
          </p:cNvPr>
          <p:cNvSpPr/>
          <p:nvPr/>
        </p:nvSpPr>
        <p:spPr>
          <a:xfrm>
            <a:off x="7391520" y="5867280"/>
            <a:ext cx="838080" cy="228600"/>
          </a:xfrm>
          <a:prstGeom prst="flowChartTerminator">
            <a:avLst/>
          </a:prstGeom>
          <a:solidFill>
            <a:srgbClr val="aaa578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Текст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762120" y="1676520"/>
            <a:ext cx="763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стя сидел над тетрадью. В руке он держал карандаш. В школ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умела большая перемена. Ребята бегали по коридору, боролись, п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меялись. Костя сидел в библиотеке, он готовил доклад для круж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юных ученых. Костя морил брови, ерошил свои волосы, начинал пис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зачеркивал. Он задумался и подошел к окну. Морозные узоры застила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кла. В окно на него глядела высокая вершина горы, покрытая снег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6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ПРОВЕРКА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1127160" y="201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838080" y="1752480"/>
            <a:ext cx="739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стя сидел над тетрадью. В руке он держал карандаш. В школе шумела большая перемена. Ребята бегали по коридору, боролись, п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смеялис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9"/>
          <p:cNvSpPr/>
          <p:nvPr/>
        </p:nvSpPr>
        <p:spPr>
          <a:xfrm>
            <a:off x="4419720" y="1828800"/>
            <a:ext cx="2286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Arc 22"/>
          <p:cNvSpPr/>
          <p:nvPr/>
        </p:nvSpPr>
        <p:spPr>
          <a:xfrm flipV="1" rot="12087000">
            <a:off x="3429000" y="1598760"/>
            <a:ext cx="1062000" cy="555480"/>
          </a:xfrm>
          <a:custGeom>
            <a:avLst/>
            <a:gdLst>
              <a:gd name="textAreaLeft" fmla="*/ 0 w 1062000"/>
              <a:gd name="textAreaRight" fmla="*/ 1062360 w 1062000"/>
              <a:gd name="textAreaTop" fmla="*/ -360 h 555480"/>
              <a:gd name="textAreaBottom" fmla="*/ 555480 h 555480"/>
            </a:gdLst>
            <a:ahLst/>
            <a:rect l="textAreaLeft" t="textAreaTop" r="textAreaRight" b="textAreaBottom"/>
            <a:pathLst>
              <a:path fill="none" w="35150" h="21896">
                <a:moveTo>
                  <a:pt x="-1" y="4778"/>
                </a:moveTo>
                <a:cubicBezTo>
                  <a:pt x="3838" y="1686"/>
                  <a:pt x="8620" y="-1"/>
                  <a:pt x="13550" y="0"/>
                </a:cubicBezTo>
                <a:cubicBezTo>
                  <a:pt x="25479" y="0"/>
                  <a:pt x="35150" y="9670"/>
                  <a:pt x="35150" y="21600"/>
                </a:cubicBezTo>
                <a:cubicBezTo>
                  <a:pt x="35150" y="21698"/>
                  <a:pt x="35149" y="21797"/>
                  <a:pt x="35147" y="21895"/>
                </a:cubicBezTo>
              </a:path>
              <a:path stroke="0" w="35150" h="21896">
                <a:moveTo>
                  <a:pt x="-1" y="4778"/>
                </a:moveTo>
                <a:cubicBezTo>
                  <a:pt x="3838" y="1686"/>
                  <a:pt x="8620" y="-1"/>
                  <a:pt x="13550" y="0"/>
                </a:cubicBezTo>
                <a:cubicBezTo>
                  <a:pt x="25479" y="0"/>
                  <a:pt x="35150" y="9670"/>
                  <a:pt x="35150" y="21600"/>
                </a:cubicBezTo>
                <a:cubicBezTo>
                  <a:pt x="35150" y="21698"/>
                  <a:pt x="35149" y="21797"/>
                  <a:pt x="35147" y="21895"/>
                </a:cubicBezTo>
                <a:lnTo>
                  <a:pt x="1355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3505320" y="2133720"/>
            <a:ext cx="7596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4952880" y="1676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25"/>
          <p:cNvSpPr/>
          <p:nvPr/>
        </p:nvSpPr>
        <p:spPr>
          <a:xfrm>
            <a:off x="2286000" y="2209680"/>
            <a:ext cx="76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Arc 26"/>
          <p:cNvSpPr/>
          <p:nvPr/>
        </p:nvSpPr>
        <p:spPr>
          <a:xfrm flipV="1" rot="12609600">
            <a:off x="990360" y="1904400"/>
            <a:ext cx="1136520" cy="761400"/>
          </a:xfrm>
          <a:custGeom>
            <a:avLst/>
            <a:gdLst>
              <a:gd name="textAreaLeft" fmla="*/ 0 w 1136520"/>
              <a:gd name="textAreaRight" fmla="*/ 1136880 w 1136520"/>
              <a:gd name="textAreaTop" fmla="*/ -360 h 761400"/>
              <a:gd name="textAreaBottom" fmla="*/ 761400 h 761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1066680" y="2514600"/>
            <a:ext cx="15264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1371600" y="2514600"/>
            <a:ext cx="1522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Arc 29"/>
          <p:cNvSpPr/>
          <p:nvPr/>
        </p:nvSpPr>
        <p:spPr>
          <a:xfrm flipV="1" rot="12568200">
            <a:off x="990360" y="2361960"/>
            <a:ext cx="761760" cy="533160"/>
          </a:xfrm>
          <a:custGeom>
            <a:avLst/>
            <a:gdLst>
              <a:gd name="textAreaLeft" fmla="*/ 0 w 761760"/>
              <a:gd name="textAreaRight" fmla="*/ 762120 w 76176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fill="none" w="21596" h="21600">
                <a:moveTo>
                  <a:pt x="-1" y="0"/>
                </a:moveTo>
                <a:cubicBezTo>
                  <a:pt x="11777" y="0"/>
                  <a:pt x="21383" y="9434"/>
                  <a:pt x="21596" y="21209"/>
                </a:cubicBezTo>
              </a:path>
              <a:path stroke="0" w="21596" h="21600">
                <a:moveTo>
                  <a:pt x="-1" y="0"/>
                </a:moveTo>
                <a:cubicBezTo>
                  <a:pt x="11777" y="0"/>
                  <a:pt x="21383" y="9434"/>
                  <a:pt x="21596" y="21209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1676520" y="2590920"/>
            <a:ext cx="2286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1066680" y="2819520"/>
            <a:ext cx="152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575080" y="2851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 Box 33"/>
          <p:cNvSpPr/>
          <p:nvPr/>
        </p:nvSpPr>
        <p:spPr>
          <a:xfrm>
            <a:off x="762120" y="281952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стя сидел в библиотеке, он готовил доклад для кружка юных ученых. Костя морил брови, ерошил свои волосы, начинал писать и зачеркива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6172200" y="2895480"/>
            <a:ext cx="1522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rc 35"/>
          <p:cNvSpPr/>
          <p:nvPr/>
        </p:nvSpPr>
        <p:spPr>
          <a:xfrm flipV="1" rot="13068600">
            <a:off x="4800240" y="2665800"/>
            <a:ext cx="806400" cy="641520"/>
          </a:xfrm>
          <a:custGeom>
            <a:avLst/>
            <a:gdLst>
              <a:gd name="textAreaLeft" fmla="*/ 0 w 806400"/>
              <a:gd name="textAreaRight" fmla="*/ 806760 w 806400"/>
              <a:gd name="textAreaTop" fmla="*/ 360 h 641520"/>
              <a:gd name="textAreaBottom" fmla="*/ 642240 h 641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rc 36"/>
          <p:cNvSpPr/>
          <p:nvPr/>
        </p:nvSpPr>
        <p:spPr>
          <a:xfrm rot="17802000">
            <a:off x="5034600" y="3218040"/>
            <a:ext cx="1392120" cy="54000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fill="none" w="21403" h="11265">
                <a:moveTo>
                  <a:pt x="18429" y="0"/>
                </a:moveTo>
                <a:cubicBezTo>
                  <a:pt x="19988" y="2549"/>
                  <a:pt x="21000" y="5395"/>
                  <a:pt x="21403" y="8356"/>
                </a:cubicBezTo>
              </a:path>
              <a:path stroke="0" w="21403" h="11265">
                <a:moveTo>
                  <a:pt x="18429" y="0"/>
                </a:moveTo>
                <a:cubicBezTo>
                  <a:pt x="19988" y="2549"/>
                  <a:pt x="21000" y="5395"/>
                  <a:pt x="21403" y="8356"/>
                </a:cubicBezTo>
                <a:lnTo>
                  <a:pt x="0" y="1126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Line 38"/>
          <p:cNvSpPr/>
          <p:nvPr/>
        </p:nvSpPr>
        <p:spPr>
          <a:xfrm>
            <a:off x="4876920" y="320040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Line 39"/>
          <p:cNvSpPr/>
          <p:nvPr/>
        </p:nvSpPr>
        <p:spPr>
          <a:xfrm>
            <a:off x="5410080" y="32004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8077320" y="2971800"/>
            <a:ext cx="1522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Line 41"/>
          <p:cNvSpPr/>
          <p:nvPr/>
        </p:nvSpPr>
        <p:spPr>
          <a:xfrm>
            <a:off x="7086600" y="3200400"/>
            <a:ext cx="152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rc 42"/>
          <p:cNvSpPr/>
          <p:nvPr/>
        </p:nvSpPr>
        <p:spPr>
          <a:xfrm flipV="1" rot="12432600">
            <a:off x="7009560" y="2743200"/>
            <a:ext cx="610200" cy="380880"/>
          </a:xfrm>
          <a:custGeom>
            <a:avLst/>
            <a:gdLst>
              <a:gd name="textAreaLeft" fmla="*/ 0 w 610200"/>
              <a:gd name="textAreaRight" fmla="*/ 610560 w 6102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Line 43"/>
          <p:cNvSpPr/>
          <p:nvPr/>
        </p:nvSpPr>
        <p:spPr>
          <a:xfrm flipH="1">
            <a:off x="7696080" y="2743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44"/>
          <p:cNvSpPr/>
          <p:nvPr/>
        </p:nvSpPr>
        <p:spPr>
          <a:xfrm>
            <a:off x="777240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Line 45"/>
          <p:cNvSpPr/>
          <p:nvPr/>
        </p:nvSpPr>
        <p:spPr>
          <a:xfrm flipH="1">
            <a:off x="7848360" y="27432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46"/>
          <p:cNvSpPr/>
          <p:nvPr/>
        </p:nvSpPr>
        <p:spPr>
          <a:xfrm>
            <a:off x="8001000" y="2743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7"/>
          <p:cNvSpPr/>
          <p:nvPr/>
        </p:nvSpPr>
        <p:spPr>
          <a:xfrm>
            <a:off x="1752480" y="3352680"/>
            <a:ext cx="152640" cy="152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rc 48"/>
          <p:cNvSpPr/>
          <p:nvPr/>
        </p:nvSpPr>
        <p:spPr>
          <a:xfrm flipV="1" rot="11500800">
            <a:off x="838080" y="3199680"/>
            <a:ext cx="897120" cy="304920"/>
          </a:xfrm>
          <a:custGeom>
            <a:avLst/>
            <a:gdLst>
              <a:gd name="textAreaLeft" fmla="*/ 0 w 897120"/>
              <a:gd name="textAreaRight" fmla="*/ 897480 w 89712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fill="none" w="31791" h="21600">
                <a:moveTo>
                  <a:pt x="0" y="2555"/>
                </a:moveTo>
                <a:cubicBezTo>
                  <a:pt x="3134" y="877"/>
                  <a:pt x="6635" y="-1"/>
                  <a:pt x="10191" y="0"/>
                </a:cubicBezTo>
                <a:cubicBezTo>
                  <a:pt x="22120" y="0"/>
                  <a:pt x="31791" y="9670"/>
                  <a:pt x="31791" y="21600"/>
                </a:cubicBezTo>
              </a:path>
              <a:path stroke="0" w="31791" h="21600">
                <a:moveTo>
                  <a:pt x="0" y="2555"/>
                </a:moveTo>
                <a:cubicBezTo>
                  <a:pt x="3134" y="877"/>
                  <a:pt x="6635" y="-1"/>
                  <a:pt x="10191" y="0"/>
                </a:cubicBezTo>
                <a:cubicBezTo>
                  <a:pt x="22120" y="0"/>
                  <a:pt x="31791" y="9670"/>
                  <a:pt x="31791" y="21600"/>
                </a:cubicBezTo>
                <a:lnTo>
                  <a:pt x="10191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9"/>
          <p:cNvSpPr/>
          <p:nvPr/>
        </p:nvSpPr>
        <p:spPr>
          <a:xfrm>
            <a:off x="1066680" y="35812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0"/>
          <p:cNvSpPr/>
          <p:nvPr/>
        </p:nvSpPr>
        <p:spPr>
          <a:xfrm>
            <a:off x="762120" y="3886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н задумался и подошел к окну. Морозные узоры застилали стекла. В окно на него глядела высокая вершина горы, покрытая снег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1"/>
          <p:cNvSpPr/>
          <p:nvPr/>
        </p:nvSpPr>
        <p:spPr>
          <a:xfrm>
            <a:off x="1828800" y="4343400"/>
            <a:ext cx="4572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52"/>
          <p:cNvSpPr/>
          <p:nvPr/>
        </p:nvSpPr>
        <p:spPr>
          <a:xfrm>
            <a:off x="1066680" y="46483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rc 53"/>
          <p:cNvSpPr/>
          <p:nvPr/>
        </p:nvSpPr>
        <p:spPr>
          <a:xfrm flipV="1" rot="13852800">
            <a:off x="979920" y="4062240"/>
            <a:ext cx="685800" cy="658800"/>
          </a:xfrm>
          <a:custGeom>
            <a:avLst/>
            <a:gdLst>
              <a:gd name="textAreaLeft" fmla="*/ 0 w 685800"/>
              <a:gd name="textAreaRight" fmla="*/ 686160 w 685800"/>
              <a:gd name="textAreaTop" fmla="*/ 360 h 658800"/>
              <a:gd name="textAreaBottom" fmla="*/ 659520 h 658800"/>
            </a:gdLst>
            <a:ahLst/>
            <a:rect l="textAreaLeft" t="textAreaTop" r="textAreaRight" b="textAreaBottom"/>
            <a:pathLst>
              <a:path fill="none" w="21600" h="20756">
                <a:moveTo>
                  <a:pt x="5979" y="0"/>
                </a:moveTo>
                <a:cubicBezTo>
                  <a:pt x="15229" y="2665"/>
                  <a:pt x="21600" y="11129"/>
                  <a:pt x="21600" y="20756"/>
                </a:cubicBezTo>
              </a:path>
              <a:path stroke="0" w="21600" h="20756">
                <a:moveTo>
                  <a:pt x="5979" y="0"/>
                </a:moveTo>
                <a:cubicBezTo>
                  <a:pt x="15229" y="2665"/>
                  <a:pt x="21600" y="11129"/>
                  <a:pt x="21600" y="20756"/>
                </a:cubicBezTo>
                <a:lnTo>
                  <a:pt x="0" y="2075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54"/>
          <p:cNvSpPr/>
          <p:nvPr/>
        </p:nvSpPr>
        <p:spPr>
          <a:xfrm flipH="1">
            <a:off x="1676160" y="426708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55"/>
          <p:cNvSpPr/>
          <p:nvPr/>
        </p:nvSpPr>
        <p:spPr>
          <a:xfrm>
            <a:off x="1752480" y="4191120"/>
            <a:ext cx="763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56">
            <a:hlinkClick r:id="rId2" action="ppaction://hlinksldjump"/>
          </p:cNvPr>
          <p:cNvSpPr/>
          <p:nvPr/>
        </p:nvSpPr>
        <p:spPr>
          <a:xfrm>
            <a:off x="7086600" y="5715000"/>
            <a:ext cx="1066680" cy="304920"/>
          </a:xfrm>
          <a:prstGeom prst="flowChartTerminator">
            <a:avLst/>
          </a:prstGeom>
          <a:solidFill>
            <a:srgbClr val="aaa578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разец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IMG_86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ОЦЕНИ РАБОТУ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514600" y="2590920"/>
            <a:ext cx="443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ШИБОК НЕТ – «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-2 ОШИБКИ – «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 ОШИБКИ «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 И БОЛЬШЕ  – ВОЗЬ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ДАНИЕ У УЧИТ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7f4c"/>
                </a:solidFill>
                <a:latin typeface="Tahoma"/>
              </a:rPr>
              <a:t>Источники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ил: Воронежцева Наталья Викто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s://nsportal.ru/voronezhtseva-natalya-viktorov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s://ru.pngtree.com/free-png-vectors/%D1%88%D0%BA%D0%BE%D0%BB%D1%8C%D0%BD%D0%B8%D0%BA%D0%BE%D0%B2/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s://infourok.ru/konspekt-uroka-dlya-individualno-gruppovoy-raboti-sluhovoy-diktant-slushay-pishi-463446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5b8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22T12:44:5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