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9c3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E506-787E-468E-BC67-9A790E7E82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6B62-FB05-4621-8681-E8591718E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953C-E9CD-43CB-8025-5E7B63A6D7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C1C-AC3D-482C-9686-3D1AD85E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BEB-01F2-42B5-96E8-A5C2758F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5AF-F95A-47C4-B42B-F59E75AE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43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788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43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378-3109-4D12-B46A-72AA1D6F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5266-0087-4A11-BC16-D855E0E2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E866-0565-4EFB-80A5-A93FF723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F62A-42A8-492E-858C-5F019233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7F36-F4DF-4A9A-B36E-A4E19D92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F54B-8390-44B6-8864-A5B3B47F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BD7F-7FC9-4AE8-AAC8-B5FD94DE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2299-05DF-4211-9CC2-C2ECB2D6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206-08AF-4107-93B4-8951BC89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5ACF-2107-4122-B35E-2141AC7D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5124-A4A7-433E-B799-DACBEF58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781C-03D6-4B9C-98ED-28D33E92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04B7-63F5-4B1C-B7FD-49984D11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9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43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788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9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43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C873-0A57-4F12-8232-A75C1A1E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42A96-8AC1-4CE9-B413-E933C8D9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E2697-0F66-42A8-AF25-310E9629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07310-CAF2-4007-8E8C-AB8BA94C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E6B17-921B-4B5A-A620-619B8C3B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9003-D1E3-4670-A27A-391A358D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930-CA01-44A7-80B3-13B9F40E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FEB2B-929D-4199-92AC-41CCF7D5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CDBBE-B113-47F4-B529-07634086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DC0A6-1235-4FB9-AC33-D6463280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D051D-516C-466F-AF02-C934FC8C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FEA2F-E55D-4641-88A6-9A89DD2E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865C4-8D8A-415A-8769-24597F5D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09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43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7788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09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43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9E4E-F066-4669-96CE-641F4A15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00E83-3CAA-4F5C-AA50-6D64E0FB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0DF4D-BFC3-4BE5-92DC-28D1AF2C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9AD7-3666-47CE-ADC1-EEE97461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A13-0E39-495D-A872-6482953C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F6AC6-810B-4D2A-BCA3-2D68F757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D2590-C2E2-480E-B447-D378265F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F97AF-7436-4ABB-BED2-25425298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221F8-6418-424C-BAF3-6E40D411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DCA3-71A1-40BF-B150-31D8CF4D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50CBC-DBB8-4C8B-ACE0-8A665782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BADA7-F7BA-42AA-813E-82A9B606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3BC76-E0AF-4B5F-8917-03C85E29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09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43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7788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09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43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FB58D-D3DE-4886-87D8-EB65DC55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AB2-EA02-489C-A308-B4E980EE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9B9-2C68-4D1F-9FDB-6E81DFBA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E63-C8FB-4340-AAAB-1C785FA3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BFB-B5C5-4607-8AAA-717F2D5E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7DC-E984-44EE-A2D2-850FDA4C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9c3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5E29-593F-4973-AD01-0C236C6ED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9c3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5332-58C2-4F7C-8202-A2A58314D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9c3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3016-14FD-4CC9-83BA-D80CC0257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9c3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2AE3-2DEE-4ADB-8238-ED01DCA80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3240" y="0"/>
            <a:ext cx="30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 ноября    2011 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ционный 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кутс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дготовка текста для чтения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а уроке</a:t>
            </a:r>
            <a:endParaRPr b="0" lang="en-US" sz="40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00" name="Прямоугольник 1"/>
          <p:cNvSpPr/>
          <p:nvPr/>
        </p:nvSpPr>
        <p:spPr>
          <a:xfrm>
            <a:off x="1116000" y="1628640"/>
            <a:ext cx="7416720" cy="46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читайте тек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делите в нем фактуальную, подтекстовую и концептуальную информ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ределите роль данного текс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уроке (чаще всего для поиска решения проблемы, возможно специальное продуктивное задание к текст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формулируйте задания для работы с текстом до чт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главие, выделенные слова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делите в тексте места остановок во время чт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опросы к автору, комментарии, словарная работа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формулируйте главный смысловой вопро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 чтения (или проверка выполнения продуктивного задания к тек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971640" y="1020600"/>
            <a:ext cx="7200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е с останов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едставления вызывают у вас имена герое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 почувствовали, прочитав эту часть. Какие ощущения у вас возник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аши ожидания подтвердились? Что было неожидан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чем закончится рассказ? Как вы его законч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1042920" y="54936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Читаем и спрашиваем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770040" y="1628640"/>
            <a:ext cx="727236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ировать умение самостоятельно       работать      с    печатной   информацией, формулировать вопросы, работать в па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ченики про себя читают предложенный текст или часть текста, выбранные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еники объединяются в па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дин из учеников формулирует вопрос, другой – отвечает на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бсуждение вопросов и ответов в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684360" y="54936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Дневник двойных запис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684360" y="1339920"/>
            <a:ext cx="784836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ировать умение задавать вопросы  во   время чтения,       критически оценивать информацию, сопоставлять прочитанное с собственным опы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читель дает указание учащимся разделить тетрадь на две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процессе чтения ученики должны в левой части записать моменты, которые поразили, удивили, напомнили о   каких-то    фактах,    вызвали     какие- либо ассоциации; в правой – написать    лаконичный      комментарий: почему     именно   этот  момент удивил, какие ассоциации вызвал, на какие мысли натолкн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ировать умение читать вдумчиво,   оценивать    информацию,  формулировать мысли автора своими словами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Учитель дает ученикам задание написать на полях значками информацию по следующему алгоритму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Знакомая информация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Новая информация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Я думал (думала) иначе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Это меня заинтересовало (удивило), хочу узнать больше.</a:t>
            </a:r>
            <a:br>
              <a:rPr sz="2700"/>
            </a:br>
            <a:endParaRPr b="0" lang="en-US" sz="30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2080" y="648360"/>
            <a:ext cx="7716240" cy="520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b">
            <a:normAutofit fontScale="74000"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е с пометками</a:t>
            </a:r>
            <a:endParaRPr b="0" lang="en-US" sz="3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920" y="1557360"/>
            <a:ext cx="8424720" cy="26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НАУЧИТЕ РЕБЕНКА ВЫСКАЗЫВАТЬ СВОИ МЫСЛИ. ВО ВРЕМЯ ЕГО ОТВЕТА НА ВОПРОС ЗАДАВАЙТЕ ЕМУ НАВОДЯЩИЕ ВОПРОСЫ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РАКТИКУЙТЕ «НЕСТАНДАРТНЫЕ УРОКИ», ПРОБУЙТЕ РАЗЛИЧНЫЕ ВИДЫ ИГР, ДИСКУССИЙ И ГРУППОВОЙ РАБОТЫ ДЛЯ ОСВОЕНИЯ МАТЕРИАЛА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ОДГОТОВЬТЕ ДЛЯ УЧЕНИКОВ АЛГОРИТМ ПЕРЕСКАЗА ТЕКСТА, МАТЕРИАЛА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НАЧИНАЯ ГРУППОВУЮ РАБОТУ, НАПОМНИТЕ О ПРАВИЛАХ ВЕДЕНИЯ ДИСКУССИИ И БЕСЕДЫ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УСТЬ РЕБЕНОК САМ ЧАЩЕ ЗАДАЕТ УТОЧНЯЮЩИЕ ВОПРОСЫ ПО МАТЕРИАЛУ, ПЕРЕСПРАШИВАЕТ, УТОЧНЯЕТ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ПОЛЬЗУЙТЕ И УЧИТЫВАЙТЕ ЖИЗНЕННЫЙ ОПЫТ УЧЕНИКОВ. ИХ ИНТЕРЕСЫ, ОСОБЕННОСТИ РАЗВИТИЯ.</a:t>
            </a:r>
            <a:endParaRPr b="0" lang="en-US" sz="20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1440" y="460800"/>
            <a:ext cx="8309520" cy="10404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b">
            <a:normAutofit fontScale="9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и по развитию коммуникативных универсальных учебных действи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729360" y="821160"/>
            <a:ext cx="7685280" cy="50324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Формы  домашних  задани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Творческая работ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Художественное чтени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Продолжение неоконченных произведени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Наблюдение за природ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Подготовка словарных диктант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Составление своих вопросов к обобщению по тем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Составление конспекта, опорных схем, табли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29360" y="821160"/>
            <a:ext cx="7685280" cy="50324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Советы родителям во время периода адаптации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50"/>
              </a:spcBef>
              <a:buClr>
                <a:srgbClr val="00b05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mbria"/>
              </a:rPr>
              <a:t>Создать ребенку спокойную обстановку, продумать режи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50"/>
              </a:spcBef>
              <a:buClr>
                <a:srgbClr val="00b05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mbria"/>
              </a:rPr>
              <a:t>Контролировать развитие учебной деятельности дете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50"/>
              </a:spcBef>
              <a:buClr>
                <a:srgbClr val="00b05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mbria"/>
              </a:rPr>
              <a:t>Поддерживать веру ребенка в себя, в свои способности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50"/>
              </a:spcBef>
              <a:buClr>
                <a:srgbClr val="00b05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mbria"/>
              </a:rPr>
              <a:t>Оказывать помощь в подготовке домашнего задания и в преодолении возникающих трудностей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50"/>
              </a:spcBef>
              <a:buClr>
                <a:srgbClr val="00b05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mbria"/>
              </a:rPr>
              <a:t>Систематически общаться с классным руководителем, учителями-предметникам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Вывод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1042200"/>
            <a:ext cx="8085600" cy="5133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ременная школа – это частица жизни, где ученик готовится не только к будущему, но и воспитывается жизнью, он учится решать любые проблемы, учится превращать информацию в знания, а знания применять на практике. Школа должна помочь ребятам войти в мир реальных человеческих отношений и научить их жить в современном обществе. Перед учителем стоит огромная задача. Ему предстоит вместе с детьми пройти долгий и трудный путь в «завтра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1543680" y="1341360"/>
            <a:ext cx="67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Arial"/>
              </a:rPr>
              <a:t>Творческих  вам успех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1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3240" y="0"/>
            <a:ext cx="30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 ноября    2011 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ционный 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кутс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70920" y="756360"/>
            <a:ext cx="7402320" cy="34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Опыт работы по литературному чтению с учетом преемственности между начальной и основной школы</a:t>
            </a:r>
            <a:endParaRPr b="0" lang="en-US" sz="36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5219640" y="54435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юкова И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1520" y="615600"/>
            <a:ext cx="8148600" cy="5227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Преемственность в образовании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это система связей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беспечивающая взаимодействие основных задач, содержания и методов обучения и воспитания с целью создания единого непрерывного образовательного процесса на смежных этапах развития ребенка. 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8560" y="692640"/>
            <a:ext cx="7993080" cy="532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емственность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—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не только подготовка к новому, но и, что еще более важно и существенно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хранение и развитие необходимого и целесообразного старого, связь между новым и старым как основа поступательного развития процесс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Основанием преемственности</a:t>
            </a:r>
            <a:r>
              <a:rPr b="0" lang="ru-RU" sz="32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ных ступеней образовательной системы может стать ориентация на ключевой стратегический приоритет непрерывного образования — </a:t>
            </a:r>
            <a:r>
              <a:rPr b="1" lang="ru-RU" sz="24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формирование умения учиться</a:t>
            </a:r>
            <a:r>
              <a:rPr b="0" lang="ru-RU" sz="24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13"/>
          <p:cNvGrpSpPr/>
          <p:nvPr/>
        </p:nvGrpSpPr>
        <p:grpSpPr>
          <a:xfrm>
            <a:off x="6370560" y="2535120"/>
            <a:ext cx="2292480" cy="1841760"/>
            <a:chOff x="6370560" y="2535120"/>
            <a:chExt cx="2292480" cy="1841760"/>
          </a:xfrm>
        </p:grpSpPr>
        <p:pic>
          <p:nvPicPr>
            <p:cNvPr id="182" name="Скругленный 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6370560" y="2535120"/>
              <a:ext cx="2292480" cy="18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518160" y="2649600"/>
              <a:ext cx="2001960" cy="15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Скругленный прямоугольник 12"/>
          <p:cNvGrpSpPr/>
          <p:nvPr/>
        </p:nvGrpSpPr>
        <p:grpSpPr>
          <a:xfrm>
            <a:off x="549360" y="1450800"/>
            <a:ext cx="4728960" cy="4584960"/>
            <a:chOff x="549360" y="1450800"/>
            <a:chExt cx="4728960" cy="4584960"/>
          </a:xfrm>
        </p:grpSpPr>
        <p:pic>
          <p:nvPicPr>
            <p:cNvPr id="185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549360" y="1450800"/>
              <a:ext cx="4728960" cy="458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28720" y="1701720"/>
              <a:ext cx="4173480" cy="40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оритетная цель школьного образования: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87680" y="1733400"/>
            <a:ext cx="4614480" cy="48747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у ученика способности самостоятельно ставить учебную задачу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ировать пути её реализации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ролировать и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ивать свои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24160" y="2796480"/>
            <a:ext cx="1987200" cy="1690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Научить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учитьс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90" name="Стрелка вправо 11" descr=""/>
          <p:cNvPicPr/>
          <p:nvPr/>
        </p:nvPicPr>
        <p:blipFill>
          <a:blip r:embed="rId3"/>
          <a:stretch/>
        </p:blipFill>
        <p:spPr>
          <a:xfrm>
            <a:off x="4889520" y="2792520"/>
            <a:ext cx="159696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иод адаптации в 5 классе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560" y="1188000"/>
            <a:ext cx="3830760" cy="47311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педагогической точки зрения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рактеризуется низкой организованностью, снижением интереса к учебе и её результатам,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75440" y="1143000"/>
            <a:ext cx="4353480" cy="4747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психологической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снижением самооценки, высоким уровнем ситуативной тревожности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удности переходного периода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01840" y="1231920"/>
            <a:ext cx="8140320" cy="4643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еной социальной обстановк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менением роли учащегос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еличением учебной нагрузк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менением режима дн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ностью систем и форм обучен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тыковкой программ начальной и основной школ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личием требований со стороны учителей- предметников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менением стиля общения учителей с детьми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ь обязан помочь ученику адаптироваться, ознакомиться с их психологическими портретами, знать на какие знания можно опираться, включить в свою работу ключевые формы и методы обучения.</a:t>
            </a: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826920" y="2637000"/>
            <a:ext cx="75614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аптация для литературного чтения –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усиление мотивации ребенка к познанию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Урок –это не получение отвлеч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от  жизни знаний, а необходимая подготовка к жизни, её узнавание, поиск полезной информации и навыки её применения в реаль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755640" y="692280"/>
            <a:ext cx="7777080" cy="54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 с тек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чтения тек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едположение о чем будет текст по его названию, иллюстрациям и т.п. (просмотровое чтение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восхищение чтения, создания мотива для ч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чтения тек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учающее чтение (на этапе обучения вслух) в режиме диалога с автором: делая паузы в чтении для того чтоб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ть вопрос автору по прочитанному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ть ответ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альнейшем чтении найти в тексте ответ на возникший вопрос и проверить себя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читывание не только фактуальной информации, но и подтекста, своя интерпретация тек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чтения тек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рмулирование его главной мысли (концепта) в т.ч. с помощью рефлексивного чтения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имание авторского смысла, корректировка своей интерпре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7:20:20Z</dcterms:created>
  <dc:creator>Феденко</dc:creator>
  <dc:description/>
  <dc:language>en-US</dc:language>
  <cp:lastModifiedBy>Иркя</cp:lastModifiedBy>
  <dcterms:modified xsi:type="dcterms:W3CDTF">2018-02-27T16:30:00Z</dcterms:modified>
  <cp:revision>2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29991</vt:lpwstr>
  </property>
</Properties>
</file>