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20C5-DD3B-4757-ADE1-43D1690D8C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90A5-A570-4C09-B3B0-D1B480DDC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DDC7-7BFF-48CC-AFC3-D39B13DCB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E67-59F2-400B-BE29-02BC1B58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E5A-C46C-443A-AF61-40FD6168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F43-9006-4D93-B1E6-AF2A7E01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080-5BA2-4D6A-8550-7F78130B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D094-2A6C-4020-92F1-E7D97CDA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AF7D-1C7D-45C8-935A-DA994EAD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0666-E402-46CE-9569-11C5FB05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B538-D09A-403A-84B6-B3D0455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7379-DD83-4EAC-9DCA-625501B6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6384-A83A-4F44-A3C2-660761AF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4B8-A058-485A-A48A-25348F0E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0FF-4030-497F-B636-D81988F5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883-7B1C-4234-9B4B-744CE615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382-753C-4A1A-8F96-4BD69EBA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BD93-EF22-4F03-8BD4-9EFD6121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1465-8046-4685-BD0F-CE72A72C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1F0-5243-42B9-8606-C54E571A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3D21-9FC8-44BA-8EE5-F23D2B80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C38A-EF7F-44AF-AD60-867B6268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23BC-225B-4998-961E-284A14DB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7B26-22FF-43AD-80BC-75C035F1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60B6-7850-401A-81BC-56217619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E2F-001C-4719-A837-2120F7B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99CF-7345-4697-B8D1-C64A8060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4603-875D-471E-9FCE-BAD5550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F961-2D49-4055-BD03-A62A4DC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EA7E-6D2C-4AA1-A710-B82EB7BE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680A-32C4-46FE-97C9-E97D6A0F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4C3E-462D-4698-8E21-BC552054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6219-883D-4D1B-B0D9-5D2F1814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A196-36B2-4432-BC1E-308D5920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5C41-F5A3-4B0C-9802-20501C0C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0E76-C26B-4C68-9F0A-ED3DF379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0EC-AAC7-4B0D-8FE2-B73D2809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97A9-867A-483D-B76E-D358EBE6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021BC-E61E-4914-9DCC-A5E93ACD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DE953-18E7-455F-9ACD-664EB82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2AA6-CDC7-4A9D-8BEC-AE23AB2F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BF07-63C0-4CF4-A369-0B170A3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1220-D699-4829-ADF3-67E86384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6EC9-9B2B-43D5-85EF-62888921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9C17-8732-4EFF-AC14-A0A7D183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88DB-59A9-4D77-AEF5-7F4FC26A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CC3-8F08-411E-A14A-38A5530D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6F6-452F-41AB-AB79-1FF5D10E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B1D-1CFE-46D4-884A-B442A3F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5F5-628A-4C7B-B9A1-18C1F223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AF1-8AD1-4D08-9E7C-0B591FE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089-3618-4B5D-ADEC-A86C9C512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2DBB-1525-4ECA-BD35-32E4BD6E0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A6D2-1AFE-4E6B-9921-328E4A2B0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D65B-2006-4C44-BBD4-053648F83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240" y="0"/>
            <a:ext cx="30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 ноября    2011 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о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кутс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дготовка текста для чт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 уроке</a:t>
            </a:r>
            <a:endParaRPr b="0" lang="en-US" sz="4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1116000" y="1628640"/>
            <a:ext cx="741672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читайте тек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елите в нем фактуальную, подтекстовую и концептуальную информ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ите роль данного текс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роке (чаще всего для поиска решения проблемы, возможно специальное продуктивное задание к текс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улируйте задания для работы с текстом до ч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главие, выделенные слов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делите в тексте места остановок во время ч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просы к автору, комментарии, словарная работа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улируйте главный смысловой вопр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чтения (или проверка выполнения продуктивного задания к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971640" y="1020600"/>
            <a:ext cx="7200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с останов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ставления вызывают у вас имена геро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почувствовали, прочитав эту часть. Какие ощущения у вас возник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аши ожидания подтвердились? Что было неожидан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чем закончится рассказ? Как вы его законч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1042920" y="54936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Читаем и спрашиваем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70040" y="1628640"/>
            <a:ext cx="727236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ть умение самостоятельно       работать      с    печатной   информацией, формулировать вопросы, работать в па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еники про себя читают предложенный текст или часть текста, выбранные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еники объединяются в п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дин из учеников формулирует вопрос, другой – отвечает на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бсуждение вопросов и ответов в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684360" y="549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невник двойных запи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684360" y="1339920"/>
            <a:ext cx="78483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ть умение задавать вопросы  во   время чтения,       критически оценивать информацию, сопоставлять прочитанное с собственным опы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итель дает указание учащимся разделить тетрадь на дв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процессе чтения ученики должны в левой части записать моменты, которые поразили, удивили, напомнили о   каких-то    фактах,    вызвали     какие- либо ассоциации; в правой – написать    лаконичный      комментарий: почему     именно   этот  момент удивил, какие ассоциации вызвал, на какие мысли натолк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ть умение читать вдумчиво,   оценивать    информацию,  формулировать мысли автора своими словам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итель дает ученикам задание написать на полях значками информацию по следующему алгоритму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Знакомая информаци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Новая информаци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Я думал (думала) инач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Это меня заинтересовало (удивило), хочу узнать больше.</a:t>
            </a:r>
            <a:br>
              <a:rPr sz="2700"/>
            </a:br>
            <a:endParaRPr b="0" lang="en-US" sz="3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2080" y="648360"/>
            <a:ext cx="7716240" cy="520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b">
            <a:normAutofit fontScale="74000"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с пометками</a:t>
            </a:r>
            <a:endParaRPr b="0" lang="en-US" sz="3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42472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УЧИТЕ РЕБЕНКА ВЫСКАЗЫВАТЬ СВОИ МЫСЛИ. ВО ВРЕМЯ ЕГО ОТВЕТА НА ВОПРОС ЗАДАВАЙТЕ ЕМУ НАВОДЯЩИЕ ВОПРОСЫ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АКТИКУЙТЕ «НЕСТАНДАРТНЫЕ УРОКИ», ПРОБУЙТЕ РАЗЛИЧНЫЕ ВИДЫ ИГР, ДИСКУССИЙ И ГРУППОВОЙ РАБОТЫ ДЛЯ ОСВОЕНИЯ МАТЕРИАЛ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ОДГОТОВЬТЕ ДЛЯ УЧЕНИКОВ АЛГОРИТМ ПЕРЕСКАЗА ТЕКСТА, МАТЕРИАЛ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ЧИНАЯ ГРУППОВУЮ РАБОТУ, НАПОМНИТЕ О ПРАВИЛАХ ВЕДЕНИЯ ДИСКУССИИ И БЕСЕДЫ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УСТЬ РЕБЕНОК САМ ЧАЩЕ ЗАДАЕТ УТОЧНЯЮЩИЕ ВОПРОСЫ ПО МАТЕРИАЛУ, ПЕРЕСПРАШИВАЕТ, УТОЧНЯЕТ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УЙТЕ И УЧИТЫВАЙТЕ ЖИЗНЕННЫЙ ОПЫТ УЧЕНИКОВ. ИХ ИНТЕРЕСЫ, ОСОБЕННОСТИ РАЗВИТИЯ.</a:t>
            </a:r>
            <a:endParaRPr b="0" lang="en-US" sz="20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1440" y="460800"/>
            <a:ext cx="8309520" cy="1040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b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развитию коммуникативных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Формы  домашних  заданий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Творческая работ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Художественное чте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Продолжение неоконченных произведен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Наблюдение за природ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Подготовка словарных диктант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Составление своих вопросов к обобщению по тем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Составление конспекта, опорных схем, табли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Советы родителям во время периода адаптац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Создать ребенку спокойную обстановку, продумать режи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Контролировать развитие учебной деятельности дет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Поддерживать веру ребенка в себя, в свои способност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Оказывать помощь в подготовке домашнего задания и в преодолении возникающих трудностей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50"/>
              </a:spcBef>
              <a:buClr>
                <a:srgbClr val="00b05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mbria"/>
              </a:rPr>
              <a:t>Систематически общаться с классным руководителем, учителями-предметникам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Вывод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042200"/>
            <a:ext cx="8085600" cy="5133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ая школа – это частица жизни, где ученик готовится не только к будущему, но и воспитывается жизнью, он учится решать любые проблемы, учится превращать информацию в знания, а знания применять на практике. Школа должна помочь ребятам войти в мир реальных человеческих отношений и научить их жить в современном обществе. Перед учителем стоит огромная задача. Ему предстоит вместе с детьми пройти долгий и трудный путь в «завтра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543680" y="134136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</a:rPr>
              <a:t>Творческих  вам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3240" y="0"/>
            <a:ext cx="30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 ноября    2011 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о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кутс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70920" y="756360"/>
            <a:ext cx="7402320" cy="34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Опыт работы по литературному чтению с учетом преемственности между начальной и основной школы</a:t>
            </a:r>
            <a:endParaRPr b="0" lang="en-US" sz="36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5219640" y="54435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юкова И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1520" y="615600"/>
            <a:ext cx="8148600" cy="5227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Преемственность в образован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это система связей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еспечивающая взаимодействие основных задач, содержания и методов обучения и воспитания с целью создания единого непрерывного образовательного процесса на смежных этапах развития ребенка. 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8560" y="692640"/>
            <a:ext cx="7993080" cy="532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емственность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не только подготовка к новому, но и, что еще более важно и существенно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хранение и развитие необходимого и целесообразного старого, связь между новым и старым как основа поступательного развития процесс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Основанием преемственности</a:t>
            </a:r>
            <a:r>
              <a:rPr b="0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ых ступеней образовательной системы может стать ориентация на ключевой стратегический приоритет непрерывного образования — </a:t>
            </a:r>
            <a:r>
              <a:rPr b="1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формирование умения учиться</a:t>
            </a:r>
            <a:r>
              <a:rPr b="0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13"/>
          <p:cNvGrpSpPr/>
          <p:nvPr/>
        </p:nvGrpSpPr>
        <p:grpSpPr>
          <a:xfrm>
            <a:off x="6370560" y="2535120"/>
            <a:ext cx="2292480" cy="1841760"/>
            <a:chOff x="6370560" y="2535120"/>
            <a:chExt cx="2292480" cy="1841760"/>
          </a:xfrm>
        </p:grpSpPr>
        <p:pic>
          <p:nvPicPr>
            <p:cNvPr id="182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6370560" y="2535120"/>
              <a:ext cx="229248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518160" y="2649600"/>
              <a:ext cx="20019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Скругленный прямоугольник 12"/>
          <p:cNvGrpSpPr/>
          <p:nvPr/>
        </p:nvGrpSpPr>
        <p:grpSpPr>
          <a:xfrm>
            <a:off x="549360" y="1450800"/>
            <a:ext cx="4728960" cy="4584960"/>
            <a:chOff x="549360" y="1450800"/>
            <a:chExt cx="4728960" cy="4584960"/>
          </a:xfrm>
        </p:grpSpPr>
        <p:pic>
          <p:nvPicPr>
            <p:cNvPr id="185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49360" y="1450800"/>
              <a:ext cx="4728960" cy="458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28720" y="1701720"/>
              <a:ext cx="4173480" cy="40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ритетная цель школьного образования: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87680" y="1733400"/>
            <a:ext cx="4614480" cy="48747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у ученика способности самостоятельно ставить учебную задачу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ировать пути её реализаци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ировать 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ть сво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24160" y="2796480"/>
            <a:ext cx="1987200" cy="1690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Научит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учи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0" name="Стрелка вправо 11" descr=""/>
          <p:cNvPicPr/>
          <p:nvPr/>
        </p:nvPicPr>
        <p:blipFill>
          <a:blip r:embed="rId3"/>
          <a:stretch/>
        </p:blipFill>
        <p:spPr>
          <a:xfrm>
            <a:off x="4889520" y="2792520"/>
            <a:ext cx="159696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 адаптации в 5 классе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560" y="1188000"/>
            <a:ext cx="3830760" cy="47311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едагогической точки зрения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зуется низкой организованностью, снижением интереса к учебе и её результатам,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75440" y="1143000"/>
            <a:ext cx="4353480" cy="4747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сихологической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снижением самооценки, высоким уровнем ситуативной тревожности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ности переходного периода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1840" y="1231920"/>
            <a:ext cx="8140320" cy="4643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ной социальной обстановк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м роли учащего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личением учебной нагрузк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м режима дн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стью систем и форм обуч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тыковкой программ начальной и основной школ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ичием требований со стороны учителей- предметников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м стиля общения учителей с детьм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обязан помочь ученику адаптироваться, ознакомиться с их психологическими портретами, знать на какие знания можно опираться, включить в свою работу ключевые формы и методы обучения.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826920" y="2637000"/>
            <a:ext cx="756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ация для литературного чтения –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усиление мотивации ребенка к познанию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Урок –это не получение отвлеч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a16"/>
                </a:solidFill>
                <a:latin typeface="Times New Roman"/>
                <a:ea typeface="Times New Roman"/>
              </a:rPr>
              <a:t>от  жизни знаний, а необходимая подготовка к жизни, её узнавание, поиск полезной информации и навыки её применения в ре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755640" y="692280"/>
            <a:ext cx="777708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 с тек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чтения тек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положение о чем будет текст по его названию, иллюстрациям и т.п. (просмотровое чтение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восхищение чтения, создания мотива для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чтения тек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учающее чтение (на этапе обучения вслух) в режиме диалога с автором: делая паузы в чтении для того чтоб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ть вопрос автору по прочитанному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ь ответ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альнейшем чтении найти в тексте ответ на возникший вопрос и проверить себя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читывание не только фактуальной информации, но и подтекста, своя интерпретация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чтения тек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рмулирование его главной мысли (концепта) в т.ч. с помощью рефлексивного чтения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ние авторского смысла, корректировка своей интерпре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0:20Z</dcterms:created>
  <dc:creator>Феденко</dc:creator>
  <dc:description/>
  <dc:language>en-US</dc:language>
  <cp:lastModifiedBy>Иркя</cp:lastModifiedBy>
  <dcterms:modified xsi:type="dcterms:W3CDTF">2018-02-27T16:30:00Z</dcterms:modified>
  <cp:revision>2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29991</vt:lpwstr>
  </property>
</Properties>
</file>