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gif" ContentType="image/gif"/>
  <Override PartName="/ppt/media/image11.gif" ContentType="image/gif"/>
  <Override PartName="/ppt/media/image7.wmf" ContentType="image/x-wmf"/>
  <Override PartName="/ppt/media/image8.png" ContentType="image/png"/>
  <Override PartName="/ppt/media/image9.png" ContentType="image/png"/>
  <Override PartName="/ppt/media/image10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12C0-51E9-4D76-836C-B9FB28D85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3126-48D4-4A02-B9F7-A7CC3DADC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59C-52AA-4D4C-B11F-CC888912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264-F62F-4027-9171-57DC75F4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F05-64C7-482F-A1AD-73E6345B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0E1-89AA-4DB4-9452-8327635A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7DB-4F7B-4D54-918F-56C29F5E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A28-3C1C-45C9-92BE-71DE825D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674-576F-46BA-B562-DE1A685C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468-1903-4574-A7D5-E4B5D776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04E-C2C0-472A-B815-59A25BB0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885-9C0F-4942-91BE-947982F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1C3-9168-4A30-A05D-9DC94DA6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893-E207-419C-A800-28B44D09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9486-0A8C-4D51-A29C-F060AC247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smiles.33b.ru/smile.153438.html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43000" y="1143000"/>
            <a:ext cx="6477120" cy="70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Русский язы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кол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7" descr="MCj04061840000[1]"/>
          <p:cNvPicPr/>
          <p:nvPr/>
        </p:nvPicPr>
        <p:blipFill>
          <a:blip r:embed="rId1"/>
          <a:stretch/>
        </p:blipFill>
        <p:spPr>
          <a:xfrm>
            <a:off x="7086600" y="2514600"/>
            <a:ext cx="1733400" cy="1841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685800" y="52250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1187280" y="855720"/>
            <a:ext cx="5653080" cy="41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листопад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сырос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капл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ttp://satel-e.ru/_stock/action/part_3/33/docs/Nature___Seasons___Autumn_the_autumn_leaves_are_flying_046211_.jpg"/>
          <p:cNvPicPr/>
          <p:nvPr/>
        </p:nvPicPr>
        <p:blipFill>
          <a:blip r:embed="rId1"/>
          <a:stretch/>
        </p:blipFill>
        <p:spPr>
          <a:xfrm>
            <a:off x="5508720" y="4756320"/>
            <a:ext cx="34192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http://satel-e.ru/_stock/action/part_3/33/docs/Nature___Seasons___Autumn_the_autumn_leaves_are_flying_046211_.jpg"/>
          <p:cNvPicPr/>
          <p:nvPr/>
        </p:nvPicPr>
        <p:blipFill>
          <a:blip r:embed="rId1"/>
          <a:stretch/>
        </p:blipFill>
        <p:spPr>
          <a:xfrm>
            <a:off x="5508720" y="4756320"/>
            <a:ext cx="3419280" cy="1923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9920" y="784440"/>
            <a:ext cx="3489480" cy="41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тума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ро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ноч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http://satel-e.ru/_stock/action/part_3/33/docs/Nature___Seasons___Autumn_the_autumn_leaves_are_flying_046211_.jpg"/>
          <p:cNvPicPr/>
          <p:nvPr/>
        </p:nvPicPr>
        <p:blipFill>
          <a:blip r:embed="rId1"/>
          <a:stretch/>
        </p:blipFill>
        <p:spPr>
          <a:xfrm>
            <a:off x="5508720" y="4756320"/>
            <a:ext cx="3419280" cy="19238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1212120" y="855720"/>
            <a:ext cx="4440240" cy="41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журав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печ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43932"/>
                </a:solidFill>
                <a:latin typeface="Times New Roman"/>
                <a:ea typeface="Times New Roman"/>
              </a:rPr>
              <a:t>туч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http://satel-e.ru/_stock/action/part_3/33/docs/Nature___Seasons___Autumn_the_autumn_leaves_are_flying_046211_.jpg"/>
          <p:cNvPicPr/>
          <p:nvPr/>
        </p:nvPicPr>
        <p:blipFill>
          <a:blip r:embed="rId1"/>
          <a:stretch/>
        </p:blipFill>
        <p:spPr>
          <a:xfrm>
            <a:off x="5508720" y="4756320"/>
            <a:ext cx="3419280" cy="19238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747360" y="836640"/>
            <a:ext cx="5103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ес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http://satel-e.ru/_stock/action/part_3/33/docs/Nature___Seasons___Autumn_the_autumn_leaves_are_flying_046211_.jpg"/>
          <p:cNvPicPr/>
          <p:nvPr/>
        </p:nvPicPr>
        <p:blipFill>
          <a:blip r:embed="rId1"/>
          <a:stretch/>
        </p:blipFill>
        <p:spPr>
          <a:xfrm>
            <a:off x="5508720" y="4756320"/>
            <a:ext cx="3419280" cy="1923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990360" y="1197000"/>
            <a:ext cx="386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би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539640" y="404640"/>
            <a:ext cx="7201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р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е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09480" y="1600200"/>
            <a:ext cx="8050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ниги учат на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мелост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и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 дружб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е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7" descr="MCj04061840000[1]"/>
          <p:cNvPicPr/>
          <p:nvPr/>
        </p:nvPicPr>
        <p:blipFill>
          <a:blip r:embed="rId1"/>
          <a:stretch/>
        </p:blipFill>
        <p:spPr>
          <a:xfrm rot="1716000">
            <a:off x="7075080" y="4493880"/>
            <a:ext cx="1733760" cy="1841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46117f27c52890fd2f47df90c1b305f">
            <a:hlinkClick r:id="rId2"/>
          </p:cNvPr>
          <p:cNvPicPr/>
          <p:nvPr/>
        </p:nvPicPr>
        <p:blipFill>
          <a:blip r:embed="rId3"/>
          <a:stretch/>
        </p:blipFill>
        <p:spPr>
          <a:xfrm rot="21468600">
            <a:off x="1243080" y="40140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rcRect l="18248" t="0" r="18248" b="0"/>
          <a:stretch/>
        </p:blipFill>
        <p:spPr>
          <a:xfrm>
            <a:off x="3124080" y="4952880"/>
            <a:ext cx="1752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45"/>
                </a:solidFill>
                <a:latin typeface="Times New Roman"/>
              </a:rPr>
              <a:t>Как определить, относится ли имя существительное к 3 склонен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.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д. числ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 осн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онч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ло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219320" y="1676520"/>
            <a:ext cx="3047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066680" y="1371600"/>
            <a:ext cx="3276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j0432665"/>
          <p:cNvPicPr/>
          <p:nvPr/>
        </p:nvPicPr>
        <p:blipFill>
          <a:blip r:embed="rId1"/>
          <a:stretch/>
        </p:blipFill>
        <p:spPr>
          <a:xfrm>
            <a:off x="7086600" y="457200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647960" y="160020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848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клонения име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1447920"/>
          <a:ext cx="8305920" cy="5052960"/>
        </p:xfrm>
        <a:graphic>
          <a:graphicData uri="http://schemas.openxmlformats.org/drawingml/2006/table">
            <a:tbl>
              <a:tblPr/>
              <a:tblGrid>
                <a:gridCol w="1747800"/>
                <a:gridCol w="2092320"/>
                <a:gridCol w="1757520"/>
                <a:gridCol w="27082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ло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онч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.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.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а-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яд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.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.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е</a:t>
                      </a:r>
                      <a:r>
                        <a:rPr b="1" lang="ru-RU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го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но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dce"/>
                    </a:solidFill>
                  </a:tcPr>
                </a:tc>
              </a:tr>
              <a:tr h="13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6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.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6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6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ч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п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6fe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39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4495680" y="52578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Игра «Соберем слова в корзинку- склон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0_68109_dcb0ec90_L"/>
          <p:cNvPicPr/>
          <p:nvPr/>
        </p:nvPicPr>
        <p:blipFill>
          <a:blip r:embed="rId1"/>
          <a:stretch/>
        </p:blipFill>
        <p:spPr>
          <a:xfrm>
            <a:off x="684360" y="1125360"/>
            <a:ext cx="2592360" cy="243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0_68109_dcb0ec90_L"/>
          <p:cNvPicPr/>
          <p:nvPr/>
        </p:nvPicPr>
        <p:blipFill>
          <a:blip r:embed="rId2"/>
          <a:stretch/>
        </p:blipFill>
        <p:spPr>
          <a:xfrm>
            <a:off x="3419640" y="1557360"/>
            <a:ext cx="2376360" cy="234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_68109_dcb0ec90_L"/>
          <p:cNvPicPr/>
          <p:nvPr/>
        </p:nvPicPr>
        <p:blipFill>
          <a:blip r:embed="rId3"/>
          <a:stretch/>
        </p:blipFill>
        <p:spPr>
          <a:xfrm>
            <a:off x="6227640" y="1700280"/>
            <a:ext cx="2521080" cy="2341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395280" y="51141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709440" y="45378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357440" y="501228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300720" y="446616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ЛАК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611280" y="44661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717440" y="5804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А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9080" y="580428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485440" y="50425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5941800" y="5083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763640" y="981000"/>
            <a:ext cx="57780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1835280" y="10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4427640" y="1341360"/>
            <a:ext cx="64908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50072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7236000" y="1341360"/>
            <a:ext cx="64908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0872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95466E-006 L 0.30156 -0.34814 E">
                                      <p:cBhvr>
                                        <p:cTn id="16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39255E-006 L -0.34827 -0.40041 E">
                                      <p:cBhvr>
                                        <p:cTn id="17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95466E-006 L -0.25313 -0.29563 E">
                                      <p:cBhvr>
                                        <p:cTn id="17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4187 L 0.05521 -0.53689 E">
                                      <p:cBhvr>
                                        <p:cTn id="17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2031E-006 L 0.49618 -0.43211 E">
                                      <p:cBhvr>
                                        <p:cTn id="18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83 -0.04372 L -0.24947 -0.48462 E">
                                      <p:cBhvr>
                                        <p:cTn id="18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-0.02267 L 0.19409 -0.40042 E">
                                      <p:cBhvr>
                                        <p:cTn id="19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20472E-007 L 0.33229 -0.51608 E">
                                      <p:cBhvr>
                                        <p:cTn id="19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20472E-007 L 0.01632 -0.5369 E">
                                      <p:cBhvr>
                                        <p:cTn id="19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106668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а какого падежа является начальной?         И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ез предлога не употребляются какой падеж?     П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прос кому?                                                            Д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длоги   без, для, до, из, у, от.                             Р.п.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спомогательное слово нет                                     Р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длоги к, по                                                           Д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ущ. – подлежащее всегда стоит в …                    И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прос кого?                                                              Р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прос что?                                                      И.п.  В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длоги о, об                                                   В.п. П.п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990720" y="228600"/>
            <a:ext cx="7466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Times New Roman"/>
              </a:rPr>
              <a:t>Игра  «Узнай падеж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7" descr="MCj04061840000[1]"/>
          <p:cNvPicPr/>
          <p:nvPr/>
        </p:nvPicPr>
        <p:blipFill>
          <a:blip r:embed="rId1"/>
          <a:stretch/>
        </p:blipFill>
        <p:spPr>
          <a:xfrm rot="871200">
            <a:off x="7620120" y="5333760"/>
            <a:ext cx="1295280" cy="1376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772400" y="12952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7772400" y="167652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772400" y="2057400"/>
            <a:ext cx="685800" cy="37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772400" y="24382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7772400" y="28954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772400" y="327672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772400" y="365760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7772400" y="40384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162920" y="44197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162920" y="480060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971640" y="730800"/>
            <a:ext cx="619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Я знаю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Я вспомнил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Я запомнил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Я смогу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астроение после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С каким настроением заканчиваем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838080" y="3200400"/>
            <a:ext cx="2210040" cy="205740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505320" y="3200400"/>
            <a:ext cx="2286000" cy="2057400"/>
          </a:xfrm>
          <a:prstGeom prst="smileyFace">
            <a:avLst>
              <a:gd name="adj" fmla="val 20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6324480" y="3276720"/>
            <a:ext cx="2286000" cy="1981080"/>
          </a:xfrm>
          <a:prstGeom prst="smileyFace">
            <a:avLst>
              <a:gd name="adj" fmla="val -4652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447920" y="2590920"/>
            <a:ext cx="1218960" cy="99036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3962520" y="2514600"/>
            <a:ext cx="1218960" cy="99072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6781680" y="2666880"/>
            <a:ext cx="1371600" cy="114300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1600200" y="2590920"/>
            <a:ext cx="1219320" cy="99036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5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61645"/>
                </a:solidFill>
                <a:uFillTx/>
                <a:latin typeface="Arial"/>
              </a:rPr>
              <a:t>Домашнее   зада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3000" y="175248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. 97  выучить прави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. 97, упр.172  по зад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shkolnye_kartinki_41"/>
          <p:cNvPicPr/>
          <p:nvPr/>
        </p:nvPicPr>
        <p:blipFill>
          <a:blip r:embed="rId1"/>
          <a:stretch/>
        </p:blipFill>
        <p:spPr>
          <a:xfrm>
            <a:off x="6315120" y="4389480"/>
            <a:ext cx="237168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j0432665"/>
          <p:cNvPicPr/>
          <p:nvPr/>
        </p:nvPicPr>
        <p:blipFill>
          <a:blip r:embed="rId2"/>
          <a:stretch/>
        </p:blipFill>
        <p:spPr>
          <a:xfrm>
            <a:off x="609480" y="40384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image017"/>
          <p:cNvPicPr/>
          <p:nvPr/>
        </p:nvPicPr>
        <p:blipFill>
          <a:blip r:embed="rId3"/>
          <a:stretch/>
        </p:blipFill>
        <p:spPr>
          <a:xfrm>
            <a:off x="6934320" y="533520"/>
            <a:ext cx="188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 rot="382800">
            <a:off x="1255680" y="3265560"/>
            <a:ext cx="67564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61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61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Рисунок 2" descr="36.gif"/>
          <p:cNvPicPr/>
          <p:nvPr/>
        </p:nvPicPr>
        <p:blipFill>
          <a:blip r:embed="rId1"/>
          <a:stretch/>
        </p:blipFill>
        <p:spPr>
          <a:xfrm>
            <a:off x="7315200" y="5257800"/>
            <a:ext cx="1590840" cy="1362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Ольга\Рабочий стол\картинки\блестяшки- цветочки\d0a1d0bed0bbd0bdd0b5d187d0bdd0b0d18f20d180d0b0d0b4d0bed181d182d18c.gif"/>
          <p:cNvPicPr/>
          <p:nvPr/>
        </p:nvPicPr>
        <p:blipFill>
          <a:blip r:embed="rId2"/>
          <a:stretch/>
        </p:blipFill>
        <p:spPr>
          <a:xfrm>
            <a:off x="5715000" y="0"/>
            <a:ext cx="3753000" cy="3284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 rot="20910000">
            <a:off x="2191680" y="1213920"/>
            <a:ext cx="460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Calibri"/>
                <a:ea typeface="BatangChe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склоняйте по падеж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5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.п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 кто? мышь          что? но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.п.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о? мыш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чего? ноч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.п.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у? мыш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чему? ноч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.п.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о? мыш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что?  но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.п.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ем? мыш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чем? ноч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.п.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ком? о мыш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о чём? о ноч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4267080" y="1447920"/>
            <a:ext cx="38124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4495680" y="3581280"/>
            <a:ext cx="381240" cy="381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8001000" y="1371600"/>
            <a:ext cx="38088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6" hidden="1"/>
          <p:cNvSpPr/>
          <p:nvPr/>
        </p:nvSpPr>
        <p:spPr>
          <a:xfrm>
            <a:off x="8077320" y="3962520"/>
            <a:ext cx="38088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3"/>
          <p:cNvSpPr/>
          <p:nvPr/>
        </p:nvSpPr>
        <p:spPr>
          <a:xfrm>
            <a:off x="8077320" y="3657600"/>
            <a:ext cx="38088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image017"/>
          <p:cNvPicPr/>
          <p:nvPr/>
        </p:nvPicPr>
        <p:blipFill>
          <a:blip r:embed="rId1"/>
          <a:stretch/>
        </p:blipFill>
        <p:spPr>
          <a:xfrm>
            <a:off x="533520" y="5638680"/>
            <a:ext cx="111924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j0432665"/>
          <p:cNvPicPr/>
          <p:nvPr/>
        </p:nvPicPr>
        <p:blipFill>
          <a:blip r:embed="rId2"/>
          <a:stretch/>
        </p:blipFill>
        <p:spPr>
          <a:xfrm>
            <a:off x="6781680" y="53341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Словар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библиотеке, из п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ды, к в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залу,о беседе, с пассажиром,  без м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и, м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ковь, про т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ь, л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нь, ст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цу, по м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ну, в календаре,                      без  г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ты, на кр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295280" y="1523880"/>
            <a:ext cx="304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209680" y="152388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590920" y="152388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334120" y="1523880"/>
            <a:ext cx="28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762120" y="2209680"/>
            <a:ext cx="304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429000" y="220968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324480" y="2133720"/>
            <a:ext cx="4572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019920" y="2133720"/>
            <a:ext cx="304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781680" y="213372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1905120" y="2895480"/>
            <a:ext cx="304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4114800" y="289548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685800" y="350532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124080" y="350532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5486400" y="350532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838080" y="419112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419112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7" descr="MCj04061840000[1]"/>
          <p:cNvPicPr/>
          <p:nvPr/>
        </p:nvPicPr>
        <p:blipFill>
          <a:blip r:embed="rId1"/>
          <a:stretch/>
        </p:blipFill>
        <p:spPr>
          <a:xfrm rot="1471200">
            <a:off x="6789600" y="4346640"/>
            <a:ext cx="1925640" cy="20462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3809880" y="419112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828800" y="4876920"/>
            <a:ext cx="304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5029200" y="4876920"/>
            <a:ext cx="2286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е (П.п), из 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ды(Р.п), к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залу(Д.п),о беседе (П.п), с пассажиром (Т.п),  без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и (Р.п),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ковь( И.п), про 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дь(В.п), 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нь(И.п), 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у(В.п), по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ну(Д.п), в календаре (П.п),                      без  г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ты (Р.п), на к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ь(В.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рковь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 тетрад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адон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 кров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873720" y="1447920"/>
            <a:ext cx="75826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Propisi"/>
              </a:rPr>
              <a:t>Третье  склон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Propisi"/>
              </a:rPr>
              <a:t>имен</a:t>
            </a:r>
            <a:r>
              <a:rPr b="1" lang="ru-RU" sz="6600" spc="-1" strike="noStrike">
                <a:solidFill>
                  <a:srgbClr val="ffffff"/>
                </a:solidFill>
                <a:latin typeface="Propis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Propisi"/>
              </a:rPr>
              <a:t>существительн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61645"/>
                </a:solidFill>
                <a:uFillTx/>
                <a:latin typeface="Arial"/>
              </a:rPr>
              <a:t>Обратите вним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на род этих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на тип 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на окончания в начальной  фор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mage017"/>
          <p:cNvPicPr/>
          <p:nvPr/>
        </p:nvPicPr>
        <p:blipFill>
          <a:blip r:embed="rId1"/>
          <a:stretch/>
        </p:blipFill>
        <p:spPr>
          <a:xfrm>
            <a:off x="7010280" y="4800600"/>
            <a:ext cx="13986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MCj04061840000[1]"/>
          <p:cNvPicPr/>
          <p:nvPr/>
        </p:nvPicPr>
        <p:blipFill>
          <a:blip r:embed="rId2"/>
          <a:stretch/>
        </p:blipFill>
        <p:spPr>
          <a:xfrm rot="19892400">
            <a:off x="1018800" y="4263840"/>
            <a:ext cx="17334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существительные _______________ рода, которые имеют _______________ окончание и оканчиваются на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_____________________падеже относятся  к _____склон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ествительны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нского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а, которые имеют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лево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окончание и оканчиваются н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ягкий знак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менительном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же относятся  к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User</cp:lastModifiedBy>
  <dcterms:modified xsi:type="dcterms:W3CDTF">2018-11-18T10:33:29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