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FA6-1905-460E-862D-E4A15D08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EC0-27C9-4D30-8855-C3F35535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DFAE-C97D-4968-A1C3-D4B6D367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786-1069-4285-B8B2-58FD32EC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CD3-AED7-46DD-9309-AF582E70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A18-7026-4672-B048-242B9375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62D-4449-458F-9F96-E89EDD8E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996-3145-473C-9A8E-36203917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1F8-15F7-4305-BE82-688D86A7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209-550C-4A0E-A271-6FBDF93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36E-EEC2-4991-8BFB-B003EC35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6FC-16E7-4604-9A27-19E6B7AD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CA96-8047-48D8-B130-EE4A6742F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культурный цент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988640"/>
            <a:ext cx="6400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Яблоньк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: Куницына И.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вина Е.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F:\ИРА\ИРИНА\картинки\d50472a355aa.png"/>
          <p:cNvPicPr/>
          <p:nvPr/>
        </p:nvPicPr>
        <p:blipFill>
          <a:blip r:embed="rId1"/>
          <a:stretch/>
        </p:blipFill>
        <p:spPr>
          <a:xfrm>
            <a:off x="5354640" y="1557360"/>
            <a:ext cx="3618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71276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64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ковриков у нас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просто класс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уем стопы ног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каждый был здор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6957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63640" y="49417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«Дартс» умеем мы игра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мячик в цель кид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и каждый ден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нам не лен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360" y="7057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6364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ишки здоровею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ль, что в Сочи не успел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отом Олимпиа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х их встретить будет ра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7057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755640" y="612720"/>
            <a:ext cx="4608360" cy="3392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08000" y="43653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у нас чудесны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занятие всег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быть здоровы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а долгие го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F:\ИРА\ИРИНА\фото и видео\Физ.уголок+кремль\DSC03120.JPG"/>
          <p:cNvPicPr/>
          <p:nvPr/>
        </p:nvPicPr>
        <p:blipFill>
          <a:blip r:embed="rId2"/>
          <a:stretch/>
        </p:blipFill>
        <p:spPr>
          <a:xfrm>
            <a:off x="5364000" y="620640"/>
            <a:ext cx="31687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9280" y="6958080"/>
            <a:ext cx="54864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8000" y="486864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редставить мы хот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к спортивны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чешь ты здоровым бы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гайся активн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40000" y="696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"/>
          <p:cNvPicPr/>
          <p:nvPr/>
        </p:nvPicPr>
        <p:blipFill>
          <a:blip r:embed="rId1"/>
          <a:stretch/>
        </p:blipFill>
        <p:spPr>
          <a:xfrm>
            <a:off x="2627280" y="-9360"/>
            <a:ext cx="4008600" cy="5303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8000" y="5492880"/>
            <a:ext cx="5486400" cy="13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тенке прислонюсь 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ку распрямл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я свой отмеч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 посто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920" y="6957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928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ть мне некогда, друзь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админтон играю 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чень я собою горд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арит мне здоровье спорт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5280" y="6841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013000"/>
            <a:ext cx="5486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уч я кручу рук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шее и ног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талии круч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онять уж не хочу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7273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64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дь мои ладошки, ёжи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колючий, ну и что ж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тебя поглад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хочу с тобой полади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63640" y="696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6364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ки мы возьмём скакалку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уч, кубик или пал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вижения разуч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м крепче мы и лучш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63640" y="6957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9236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ыгать научи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скакалка пригоди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прыгать высо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кузнечики легк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69570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5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35280" y="50133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ешь в речку – мяч не тоне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ьёшь о стенку мяч не стон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шь оземь мяч кидать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ет кверху он лет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5:46:42Z</dcterms:created>
  <dc:creator>Aleks</dc:creator>
  <dc:description/>
  <dc:language>en-US</dc:language>
  <cp:lastModifiedBy>NIKITA</cp:lastModifiedBy>
  <dcterms:modified xsi:type="dcterms:W3CDTF">2018-12-23T08:33:28Z</dcterms:modified>
  <cp:revision>9</cp:revision>
  <dc:subject/>
  <dc:title>Презентация PowerPoint</dc:title>
</cp:coreProperties>
</file>