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19F9-07CC-4DA4-ADCD-073258EB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11C-75F9-4C86-BC50-F43A6B00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FE7-AEC1-4D59-8723-BDB61BCB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623-2542-4DA8-9648-6942CCA1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8A0-7D31-4514-834F-F423D2B1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8F98-D3B1-4DC0-A053-C6C1459E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07B2-3B99-4A4C-BD3A-626DDBC1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030-1AD7-4816-8467-7C6FB42C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4EB-F44F-427D-88E8-BFFAA0A8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69C8-1BBA-4D22-9229-148FD04D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A24C-987E-4DDF-ACDE-867F2E3D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55D-CC4C-4610-8E2B-C529D7E8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B0DC-26DF-459A-A02E-E02677340B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ый цен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1988640"/>
            <a:ext cx="64008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«Яблонька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: Куницына И.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вина Е.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F:\ИРА\ИРИНА\картинки\d50472a355aa.png"/>
          <p:cNvPicPr/>
          <p:nvPr/>
        </p:nvPicPr>
        <p:blipFill>
          <a:blip r:embed="rId1"/>
          <a:stretch/>
        </p:blipFill>
        <p:spPr>
          <a:xfrm>
            <a:off x="5354640" y="1557360"/>
            <a:ext cx="361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360" y="712764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640" y="50133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ковриков у нас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ься просто класс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уем стопы ног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каждый был здор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69570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63640" y="49417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Дартс» умеем мы игра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 мячик в цель кид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и каждый ден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ься нам не лен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360" y="70570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63640" y="50133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ишки здоровеют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ь, что в Сочи не успел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потом Олимпиа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их встретить будет рад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63640" y="70570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"/>
          <p:cNvPicPr/>
          <p:nvPr/>
        </p:nvPicPr>
        <p:blipFill>
          <a:blip r:embed="rId1"/>
          <a:stretch/>
        </p:blipFill>
        <p:spPr>
          <a:xfrm>
            <a:off x="755640" y="612720"/>
            <a:ext cx="4608360" cy="3392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08000" y="436536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к у нас чудесны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занятие всегд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быть здоров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на долгие год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F:\ИРА\ИРИНА\фото и видео\Физ.уголок+кремль\DSC03120.JPG"/>
          <p:cNvPicPr/>
          <p:nvPr/>
        </p:nvPicPr>
        <p:blipFill>
          <a:blip r:embed="rId2"/>
          <a:stretch/>
        </p:blipFill>
        <p:spPr>
          <a:xfrm>
            <a:off x="5364000" y="620640"/>
            <a:ext cx="316872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19280" y="6958080"/>
            <a:ext cx="54864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08000" y="486864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редставить мы хоти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к спортивны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чешь ты здоровым быт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йся активн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40000" y="696816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"/>
          <p:cNvPicPr/>
          <p:nvPr/>
        </p:nvPicPr>
        <p:blipFill>
          <a:blip r:embed="rId1"/>
          <a:stretch/>
        </p:blipFill>
        <p:spPr>
          <a:xfrm>
            <a:off x="2627280" y="-9360"/>
            <a:ext cx="4008600" cy="5303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8000" y="5492880"/>
            <a:ext cx="5486400" cy="13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тенке прислонюсь 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нку распрямл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я свой отмеч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 посто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920" y="69570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9280" y="50133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ть мне некогда, друзь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админтон играю 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чень я собою горд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арит мне здоровье спорт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5280" y="68410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440" y="5013000"/>
            <a:ext cx="548640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уч я кручу рук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шее и ног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талии круч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онять уж не хочу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360" y="72730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63640" y="50133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дь мои ладошки, ёжи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колючий, ну и что ж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хочу тебя поглади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хочу с тобой поладит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63640" y="696816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63640" y="50133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уки мы возьмём скакалк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уч, кубик или пал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вижения разучи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ем крепче мы и лучш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640" y="69570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92360" y="50133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рыгать научи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скакалка пригодит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прыгать высо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кузнечики легк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69570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5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35280" y="50133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шь в речку – мяч не тоне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ьёшь о стенку мяч не стон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шь оземь мяч кидать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ет кверху он летат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5:46:42Z</dcterms:created>
  <dc:creator>Aleks</dc:creator>
  <dc:description/>
  <dc:language>en-US</dc:language>
  <cp:lastModifiedBy>NIKITA</cp:lastModifiedBy>
  <dcterms:modified xsi:type="dcterms:W3CDTF">2018-12-23T08:33:28Z</dcterms:modified>
  <cp:revision>9</cp:revision>
  <dc:subject/>
  <dc:title>Презентация PowerPoint</dc:title>
</cp:coreProperties>
</file>