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D00-4DCB-40EE-9973-06072090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321-5989-48E8-B241-9D21D614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572-3F0A-4B6E-BC42-31096C54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582-1BC6-4FFD-AAED-0FB847DD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64324-1A7F-4E0D-8071-DC828D6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FFF4-BF89-4DA9-806B-1140C0C1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CC98-5A2B-4BB6-A4E2-17B8B47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85CDB-8D01-443C-A03D-7B0A3374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4CD1A-9805-42D5-9005-6A8D10A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24A1F-987F-4F8E-818A-4B56637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AA4B7-0419-4AEA-A223-E8BF9BE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936-9BB9-47F3-A3E0-F46B8ED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F1872-65A5-4D2A-A8B9-45AEBE4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A80DA-EAD6-4AE4-9D38-8E1072E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8204-CE8E-4A20-A834-51A3175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D3D03-AB37-4B8D-A176-0024966A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B944D-31A8-4D34-9D42-66729D3E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208-3031-4184-A385-FD907C1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5C1-CFD4-4A64-88B1-294D65E7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11F-DD69-4458-A13B-66F67C6A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718-A7CB-46A4-8CEC-1D98231E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E4F-F539-48EC-B016-0D09E274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1A5-5B98-446F-834B-14F9BC0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58A-5A87-4FDA-A880-A57CE8C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89F-8B5B-436C-A8B2-0D55799DF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B6E-C016-4438-8D2C-15199454C7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Ульдючинская сельская национальная гимназия им О.Д.Мукаево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-152280" y="0"/>
            <a:ext cx="630000" cy="6858000"/>
            <a:chOff x="-152280" y="0"/>
            <a:chExt cx="630000" cy="6858000"/>
          </a:xfrm>
        </p:grpSpPr>
        <p:pic>
          <p:nvPicPr>
            <p:cNvPr id="85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694520" y="1542240"/>
              <a:ext cx="371448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666080" y="4714200"/>
              <a:ext cx="365760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88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Заголовок 9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7772400" cy="1432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1295280" y="143496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еспубликанская научно-практическая конференция  «От исследования -  к научному поис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ЕМА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 Калмыцкие названия на карте стра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Выполнила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: ученица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Цедееева Ай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юрбеева С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56" name="Picture 2" descr="L:\фото\цаца.jpg"/>
          <p:cNvPicPr/>
          <p:nvPr/>
        </p:nvPicPr>
        <p:blipFill>
          <a:blip r:embed="rId1"/>
          <a:srcRect l="46024" t="0" r="0" b="0"/>
          <a:stretch/>
        </p:blipFill>
        <p:spPr>
          <a:xfrm>
            <a:off x="914400" y="838080"/>
            <a:ext cx="3048120" cy="44960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4519800" y="21337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ац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— буддийская час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59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62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2" descr="L:\фото\абганерово.jpg"/>
          <p:cNvPicPr/>
          <p:nvPr/>
        </p:nvPicPr>
        <p:blipFill>
          <a:blip r:embed="rId5"/>
          <a:stretch/>
        </p:blipFill>
        <p:spPr>
          <a:xfrm>
            <a:off x="1295280" y="914400"/>
            <a:ext cx="5079960" cy="44704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6781680" y="1917000"/>
            <a:ext cx="1524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Название села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Абганерово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Волгоградской области 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Calibri"/>
              </a:rPr>
              <a:t>производно от этнонима «абганеры» — названия одного из калмыцких р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6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70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Picture 2" descr="L:\фото\дербетовка.jpg"/>
          <p:cNvPicPr/>
          <p:nvPr/>
        </p:nvPicPr>
        <p:blipFill>
          <a:blip r:embed="rId5"/>
          <a:srcRect l="0" t="0" r="0" b="6331"/>
          <a:stretch/>
        </p:blipFill>
        <p:spPr>
          <a:xfrm>
            <a:off x="1295280" y="685800"/>
            <a:ext cx="6705720" cy="4191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0"/>
          <p:cNvSpPr/>
          <p:nvPr/>
        </p:nvSpPr>
        <p:spPr>
          <a:xfrm>
            <a:off x="1295280" y="5334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ело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ербе́товка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в Ставропольском крае. Название происходит от калмыцкого слова «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рбет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» — четыре и в данном случае означает, что населявшие эту местность калмыки имели четыре войсковых соед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75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78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2" descr="L:\фото\тахта.jpg"/>
          <p:cNvPicPr/>
          <p:nvPr/>
        </p:nvPicPr>
        <p:blipFill>
          <a:blip r:embed="rId5"/>
          <a:stretch/>
        </p:blipFill>
        <p:spPr>
          <a:xfrm>
            <a:off x="1828800" y="533520"/>
            <a:ext cx="502920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L:\фото\сандата.jpg"/>
          <p:cNvPicPr/>
          <p:nvPr/>
        </p:nvPicPr>
        <p:blipFill>
          <a:blip r:embed="rId6"/>
          <a:stretch/>
        </p:blipFill>
        <p:spPr>
          <a:xfrm>
            <a:off x="1066680" y="38098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L:\фото\расшеватская.jpg"/>
          <p:cNvPicPr/>
          <p:nvPr/>
        </p:nvPicPr>
        <p:blipFill>
          <a:blip r:embed="rId7"/>
          <a:stretch/>
        </p:blipFill>
        <p:spPr>
          <a:xfrm>
            <a:off x="4800600" y="3809880"/>
            <a:ext cx="3301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84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87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Прямоугольник 7"/>
          <p:cNvSpPr/>
          <p:nvPr/>
        </p:nvSpPr>
        <p:spPr>
          <a:xfrm>
            <a:off x="4495680" y="3244680"/>
            <a:ext cx="168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914400" y="1230840"/>
            <a:ext cx="70866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ранный и изученный материал подтверждает факт , что калмыки входили в состав России на протяжении многих веков, вели кочево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бедилась , что названия не бывают случайными, они отражают особенности географических объектов . Топонимы – наша память о языке, об истории и географии. Топоним - имя собственное, название любого географическ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92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95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Прямоугольник 7"/>
          <p:cNvSpPr/>
          <p:nvPr/>
        </p:nvSpPr>
        <p:spPr>
          <a:xfrm>
            <a:off x="2253600" y="3244680"/>
            <a:ext cx="46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62120" y="380880"/>
            <a:ext cx="769608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2286000" y="1828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L:\фото\семипалатинск.jpg"/>
          <p:cNvPicPr/>
          <p:nvPr/>
        </p:nvPicPr>
        <p:blipFill>
          <a:blip r:embed="rId2"/>
          <a:stretch/>
        </p:blipFill>
        <p:spPr>
          <a:xfrm>
            <a:off x="838080" y="1371600"/>
            <a:ext cx="5181840" cy="3809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6324480" y="1371600"/>
            <a:ext cx="221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вани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мипалатной креп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а затем и город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мипалатинс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о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ми буддистских храмов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жунгарского городища Доржинкит (Цорджийнкийд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98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01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9" descr="L:\фото\скачанные файлы.jpg"/>
          <p:cNvPicPr/>
          <p:nvPr/>
        </p:nvPicPr>
        <p:blipFill>
          <a:blip r:embed="rId5"/>
          <a:stretch/>
        </p:blipFill>
        <p:spPr>
          <a:xfrm>
            <a:off x="1066680" y="990720"/>
            <a:ext cx="4953240" cy="47242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9"/>
          <p:cNvSpPr/>
          <p:nvPr/>
        </p:nvSpPr>
        <p:spPr>
          <a:xfrm>
            <a:off x="6400800" y="129528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листанжи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еление в Введенском районе Чечни. Этимология названия, возможно, восходит к калмыцкому слову Элиста – «песчано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06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09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4" descr="L:\фото\большие калмыки.jpg"/>
          <p:cNvPicPr/>
          <p:nvPr/>
        </p:nvPicPr>
        <p:blipFill>
          <a:blip r:embed="rId5"/>
          <a:stretch/>
        </p:blipFill>
        <p:spPr>
          <a:xfrm>
            <a:off x="304920" y="380880"/>
            <a:ext cx="49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:\фото\калмыцкие мысы.jpg"/>
          <p:cNvPicPr/>
          <p:nvPr/>
        </p:nvPicPr>
        <p:blipFill>
          <a:blip r:embed="rId6"/>
          <a:srcRect l="0" t="0" r="0" b="37502"/>
          <a:stretch/>
        </p:blipFill>
        <p:spPr>
          <a:xfrm>
            <a:off x="3733920" y="3581280"/>
            <a:ext cx="5105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151920" y="152280"/>
            <a:ext cx="630360" cy="6857640"/>
            <a:chOff x="151920" y="152280"/>
            <a:chExt cx="630360" cy="6857640"/>
          </a:xfrm>
        </p:grpSpPr>
        <p:pic>
          <p:nvPicPr>
            <p:cNvPr id="114" name="Picture 6" descr="orn_011"/>
            <p:cNvPicPr/>
            <p:nvPr/>
          </p:nvPicPr>
          <p:blipFill>
            <a:blip r:embed="rId7"/>
            <a:stretch/>
          </p:blipFill>
          <p:spPr>
            <a:xfrm rot="5400000">
              <a:off x="-1389960" y="169416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orn_011"/>
            <p:cNvPicPr/>
            <p:nvPr/>
          </p:nvPicPr>
          <p:blipFill>
            <a:blip r:embed="rId8"/>
            <a:stretch/>
          </p:blipFill>
          <p:spPr>
            <a:xfrm rot="5400000">
              <a:off x="-1361520" y="486576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1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20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Прямоугольник 11"/>
          <p:cNvSpPr/>
          <p:nvPr/>
        </p:nvSpPr>
        <p:spPr>
          <a:xfrm>
            <a:off x="5257800" y="15238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295280" y="797400"/>
            <a:ext cx="68580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цкое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 — деревня в Называемском районе  Ом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село Тайпак Акжаикского района  Казахст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 деревня в Бураевском районе Башкорто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а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деревня в Абзелиловский районе Башкорто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а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деревня в Ишимбайском районе Башкорто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 посёлок в Багратионовском Калининград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чек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село в Панинском районе 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рховой калмык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село в Поваренском районе 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 деревня в Моргушском районе Чуваш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мыковка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деревня в Ульян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деревня в Орловской области,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цен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мыково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деревня в Новгородская области, Маловишер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мыковка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поселок в  Самарской области, Краснояр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мык – Абдрашево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село в Сафакулевском районе, Кург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-Миасское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село в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учанском районе, Кург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ка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(  укр. Калмиківка) — село, относится к Старобельскому району  Луганской области Укра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ка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( укр. Калмиківка) — село в Луганской области Укра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2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30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0" descr="L:\фото\калмыков переулок.JPG"/>
          <p:cNvPicPr/>
          <p:nvPr/>
        </p:nvPicPr>
        <p:blipFill>
          <a:blip r:embed="rId5"/>
          <a:stretch/>
        </p:blipFill>
        <p:spPr>
          <a:xfrm>
            <a:off x="6477120" y="4648320"/>
            <a:ext cx="655560" cy="87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L:\фото\калмыковка.png"/>
          <p:cNvPicPr/>
          <p:nvPr/>
        </p:nvPicPr>
        <p:blipFill>
          <a:blip r:embed="rId6"/>
          <a:srcRect l="0" t="0" r="51105" b="0"/>
          <a:stretch/>
        </p:blipFill>
        <p:spPr>
          <a:xfrm>
            <a:off x="4800600" y="4572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L:\фото\старобельский район.jpg"/>
          <p:cNvPicPr/>
          <p:nvPr/>
        </p:nvPicPr>
        <p:blipFill>
          <a:blip r:embed="rId7"/>
          <a:stretch/>
        </p:blipFill>
        <p:spPr>
          <a:xfrm>
            <a:off x="2819520" y="35812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:\фото\калмык-абдрашевка.jpg"/>
          <p:cNvPicPr/>
          <p:nvPr/>
        </p:nvPicPr>
        <p:blipFill>
          <a:blip r:embed="rId8"/>
          <a:stretch/>
        </p:blipFill>
        <p:spPr>
          <a:xfrm>
            <a:off x="914400" y="45720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38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41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3" descr="L:\фото\калмычек.JPG"/>
          <p:cNvPicPr/>
          <p:nvPr/>
        </p:nvPicPr>
        <p:blipFill>
          <a:blip r:embed="rId5"/>
          <a:stretch/>
        </p:blipFill>
        <p:spPr>
          <a:xfrm>
            <a:off x="838080" y="380880"/>
            <a:ext cx="4419720" cy="293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L:\фото\калмацкое.png"/>
          <p:cNvPicPr/>
          <p:nvPr/>
        </p:nvPicPr>
        <p:blipFill>
          <a:blip r:embed="rId6"/>
          <a:srcRect l="3353" t="0" r="15063" b="1814"/>
          <a:stretch/>
        </p:blipFill>
        <p:spPr>
          <a:xfrm>
            <a:off x="762120" y="3657600"/>
            <a:ext cx="4343400" cy="2678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L:\фото\калмыково 1.jpg"/>
          <p:cNvPicPr/>
          <p:nvPr/>
        </p:nvPicPr>
        <p:blipFill>
          <a:blip r:embed="rId7"/>
          <a:stretch/>
        </p:blipFill>
        <p:spPr>
          <a:xfrm>
            <a:off x="4648320" y="3581280"/>
            <a:ext cx="350496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4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50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0" descr="L:\фото\калмыков переулок.JPG"/>
          <p:cNvPicPr/>
          <p:nvPr/>
        </p:nvPicPr>
        <p:blipFill>
          <a:blip r:embed="rId5"/>
          <a:stretch/>
        </p:blipFill>
        <p:spPr>
          <a:xfrm>
            <a:off x="1295280" y="68580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5257800" y="15238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сква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4968360" y="25146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лмыко́в переу́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vetlana</cp:lastModifiedBy>
  <dcterms:modified xsi:type="dcterms:W3CDTF">2018-12-23T10:22:23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