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5.jpeg" ContentType="image/jpeg"/>
  <Override PartName="/ppt/media/image3.wmf" ContentType="image/x-wmf"/>
  <Override PartName="/ppt/media/image10.jpeg" ContentType="image/jpeg"/>
  <Override PartName="/ppt/media/image8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AC9-C60D-43C9-8956-7C2D011F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D59-67A4-4E47-9EFF-446A2698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05C-E523-494B-B74B-D9F354E9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DE0-1163-4292-BD8D-6CFD486E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B5893-834D-4C80-AC35-EAF9884F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0240D-A821-431B-B555-DF0C728E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18200-A071-4DE1-8B2F-F131C257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91763-E8BA-426D-B6AE-D8E74ADF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0C94B-7144-43EF-A3D8-15E900F3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7217F-B803-466C-92DA-04215ED1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56031-9697-435A-A423-56EDBC09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F48-508F-4D92-A81E-E8C7854E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FDE28-8840-49F2-A884-D589BE6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6BCA8-9601-4FD2-87BD-6C3D7A77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B8C02-A322-41D5-AE01-7DAE0790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55DBC-ACDC-4E3D-9489-7FC57A64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B7F88-28B3-4003-A312-A4C3EA23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BE2-869C-47AF-9947-B19BAF27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083-40FD-4383-93F5-6DCDE6BF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353-D854-4409-B543-6959AFBD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9E9-3D02-46AC-A6CA-E0487017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4CD-714B-44EF-84A0-3A4690B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73E-5892-4288-A6D4-EC12350B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716-E213-4945-BCCC-D7EBE4AC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a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AF4D-B502-4A06-8ABE-877C60AA69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a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DF5E-C54D-415D-AAD9-4CC2BE9226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Ульдючинская сельская национальная гимназия им О.Д.Мукаевой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-152280" y="0"/>
            <a:ext cx="630000" cy="6858000"/>
            <a:chOff x="-152280" y="0"/>
            <a:chExt cx="630000" cy="6858000"/>
          </a:xfrm>
        </p:grpSpPr>
        <p:pic>
          <p:nvPicPr>
            <p:cNvPr id="85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694520" y="1542240"/>
              <a:ext cx="371448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666080" y="4714200"/>
              <a:ext cx="3657600" cy="63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88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Заголовок 9" descr=""/>
          <p:cNvPicPr/>
          <p:nvPr/>
        </p:nvPicPr>
        <p:blipFill>
          <a:blip r:embed="rId5"/>
          <a:stretch/>
        </p:blipFill>
        <p:spPr>
          <a:xfrm>
            <a:off x="609480" y="2743200"/>
            <a:ext cx="7772400" cy="1432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1295280" y="143496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еспубликанская научно-практическая конференция  «От исследования -  к научному поис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ТЕМА: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« Калмыцкие названия на карте стра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Выполнила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: ученица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Цедееева Ай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юрбеева С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56" name="Picture 2" descr="L:\фото\цаца.jpg"/>
          <p:cNvPicPr/>
          <p:nvPr/>
        </p:nvPicPr>
        <p:blipFill>
          <a:blip r:embed="rId1"/>
          <a:srcRect l="46024" t="0" r="0" b="0"/>
          <a:stretch/>
        </p:blipFill>
        <p:spPr>
          <a:xfrm>
            <a:off x="914400" y="838080"/>
            <a:ext cx="3048120" cy="44960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4519800" y="213372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ац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— буддийская час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59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62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2" descr="L:\фото\абганерово.jpg"/>
          <p:cNvPicPr/>
          <p:nvPr/>
        </p:nvPicPr>
        <p:blipFill>
          <a:blip r:embed="rId5"/>
          <a:stretch/>
        </p:blipFill>
        <p:spPr>
          <a:xfrm>
            <a:off x="1295280" y="914400"/>
            <a:ext cx="5079960" cy="44704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6781680" y="1917000"/>
            <a:ext cx="1524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Название села 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Абганерово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Волгоградской области       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Calibri"/>
              </a:rPr>
              <a:t>производно от этнонима «абганеры» — названия одного из калмыцких р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67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70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Picture 2" descr="L:\фото\дербетовка.jpg"/>
          <p:cNvPicPr/>
          <p:nvPr/>
        </p:nvPicPr>
        <p:blipFill>
          <a:blip r:embed="rId5"/>
          <a:srcRect l="0" t="0" r="0" b="6331"/>
          <a:stretch/>
        </p:blipFill>
        <p:spPr>
          <a:xfrm>
            <a:off x="1295280" y="685800"/>
            <a:ext cx="6705720" cy="41911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10"/>
          <p:cNvSpPr/>
          <p:nvPr/>
        </p:nvSpPr>
        <p:spPr>
          <a:xfrm>
            <a:off x="1295280" y="53341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ело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ербе́товка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 в Ставропольском крае. Название происходит от калмыцкого слова «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ербет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» — четыре и в данном случае означает, что населявшие эту местность калмыки имели четыре войсковых соеди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75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78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Picture 2" descr="L:\фото\тахта.jpg"/>
          <p:cNvPicPr/>
          <p:nvPr/>
        </p:nvPicPr>
        <p:blipFill>
          <a:blip r:embed="rId5"/>
          <a:stretch/>
        </p:blipFill>
        <p:spPr>
          <a:xfrm>
            <a:off x="1828800" y="533520"/>
            <a:ext cx="502920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L:\фото\сандата.jpg"/>
          <p:cNvPicPr/>
          <p:nvPr/>
        </p:nvPicPr>
        <p:blipFill>
          <a:blip r:embed="rId6"/>
          <a:stretch/>
        </p:blipFill>
        <p:spPr>
          <a:xfrm>
            <a:off x="1066680" y="3809880"/>
            <a:ext cx="30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L:\фото\расшеватская.jpg"/>
          <p:cNvPicPr/>
          <p:nvPr/>
        </p:nvPicPr>
        <p:blipFill>
          <a:blip r:embed="rId7"/>
          <a:stretch/>
        </p:blipFill>
        <p:spPr>
          <a:xfrm>
            <a:off x="4800600" y="3809880"/>
            <a:ext cx="3301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84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87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Прямоугольник 7"/>
          <p:cNvSpPr/>
          <p:nvPr/>
        </p:nvSpPr>
        <p:spPr>
          <a:xfrm>
            <a:off x="4495680" y="3244680"/>
            <a:ext cx="168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914400" y="1230840"/>
            <a:ext cx="70866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ранный и изученный материал подтверждает факт , что калмыки входили в состав России на протяжении многих веков, вели кочевой обра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убедилась , что названия не бывают случайными, они отражают особенности географических объектов . Топонимы – наша память о языке, об истории и географии. Топоним - имя собственное, название любого географического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92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95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Прямоугольник 7"/>
          <p:cNvSpPr/>
          <p:nvPr/>
        </p:nvSpPr>
        <p:spPr>
          <a:xfrm>
            <a:off x="2253600" y="3244680"/>
            <a:ext cx="46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762120" y="380880"/>
            <a:ext cx="7696080" cy="33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a5002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2286000" y="18288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L:\фото\семипалатинск.jpg"/>
          <p:cNvPicPr/>
          <p:nvPr/>
        </p:nvPicPr>
        <p:blipFill>
          <a:blip r:embed="rId2"/>
          <a:stretch/>
        </p:blipFill>
        <p:spPr>
          <a:xfrm>
            <a:off x="838080" y="1371600"/>
            <a:ext cx="5181840" cy="38098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7"/>
          <p:cNvSpPr/>
          <p:nvPr/>
        </p:nvSpPr>
        <p:spPr>
          <a:xfrm>
            <a:off x="6324480" y="1371600"/>
            <a:ext cx="2210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вани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емипалатной креп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а затем и город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емипалатинск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исходит от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еми буддистских храмов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жунгарского городища Доржинкит (Цорджийнкийд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98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01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9" descr="L:\фото\скачанные файлы.jpg"/>
          <p:cNvPicPr/>
          <p:nvPr/>
        </p:nvPicPr>
        <p:blipFill>
          <a:blip r:embed="rId5"/>
          <a:stretch/>
        </p:blipFill>
        <p:spPr>
          <a:xfrm>
            <a:off x="1066680" y="990720"/>
            <a:ext cx="4953240" cy="47242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9"/>
          <p:cNvSpPr/>
          <p:nvPr/>
        </p:nvSpPr>
        <p:spPr>
          <a:xfrm>
            <a:off x="6400800" y="1295280"/>
            <a:ext cx="198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Элистанжи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еление в Введенском районе Чечни. Этимология названия, возможно, восходит к калмыцкому слову Элиста – «песчано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06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8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09" name="Picture 9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4" descr="L:\фото\большие калмыки.jpg"/>
          <p:cNvPicPr/>
          <p:nvPr/>
        </p:nvPicPr>
        <p:blipFill>
          <a:blip r:embed="rId5"/>
          <a:stretch/>
        </p:blipFill>
        <p:spPr>
          <a:xfrm>
            <a:off x="304920" y="380880"/>
            <a:ext cx="4952880" cy="3810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:\фото\калмыцкие мысы.jpg"/>
          <p:cNvPicPr/>
          <p:nvPr/>
        </p:nvPicPr>
        <p:blipFill>
          <a:blip r:embed="rId6"/>
          <a:srcRect l="0" t="0" r="0" b="37502"/>
          <a:stretch/>
        </p:blipFill>
        <p:spPr>
          <a:xfrm>
            <a:off x="3733920" y="3581280"/>
            <a:ext cx="51051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151920" y="152280"/>
            <a:ext cx="630360" cy="6857640"/>
            <a:chOff x="151920" y="152280"/>
            <a:chExt cx="630360" cy="6857640"/>
          </a:xfrm>
        </p:grpSpPr>
        <p:pic>
          <p:nvPicPr>
            <p:cNvPr id="114" name="Picture 6" descr="orn_011"/>
            <p:cNvPicPr/>
            <p:nvPr/>
          </p:nvPicPr>
          <p:blipFill>
            <a:blip r:embed="rId7"/>
            <a:stretch/>
          </p:blipFill>
          <p:spPr>
            <a:xfrm rot="5400000">
              <a:off x="-1389960" y="169416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orn_011"/>
            <p:cNvPicPr/>
            <p:nvPr/>
          </p:nvPicPr>
          <p:blipFill>
            <a:blip r:embed="rId8"/>
            <a:stretch/>
          </p:blipFill>
          <p:spPr>
            <a:xfrm rot="5400000">
              <a:off x="-1361520" y="486576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17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5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20" name="Picture 6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7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Прямоугольник 11"/>
          <p:cNvSpPr/>
          <p:nvPr/>
        </p:nvSpPr>
        <p:spPr>
          <a:xfrm>
            <a:off x="5257800" y="152388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295280" y="797400"/>
            <a:ext cx="68580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цкое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 — деревня в Называемском районе  Ом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о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—село Тайпак Акжаикского района  Казахст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о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— деревня в Бураевском районе Башкортост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аково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деревня в Абзелиловский районе Башкортост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аково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–деревня в Ишимбайском районе Башкортост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о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— посёлок в Багратионовском Калининград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чек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село в Панинском районе Воронеж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рховой калмык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село в Поваренском районе Воронеж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о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— деревня в Моргушском районе Чуваш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мыковка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деревня в Ульян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о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деревня в Орловской области,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ценс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мыково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– деревня в Новгородская области, Маловишерс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мыковка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поселок в  Самарской области, Красноярс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мык – Абдрашево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село в Сафакулевском районе, Курга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о-Миасское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 –село в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учанском районе, Курга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ка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(  укр. Калмиківка) — село, относится к Старобельскому району  Луганской области Укра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лмыковка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( укр. Калмиківка) — село в Луганской области Укра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27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5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30" name="Picture 6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7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10" descr="L:\фото\калмыков переулок.JPG"/>
          <p:cNvPicPr/>
          <p:nvPr/>
        </p:nvPicPr>
        <p:blipFill>
          <a:blip r:embed="rId5"/>
          <a:stretch/>
        </p:blipFill>
        <p:spPr>
          <a:xfrm>
            <a:off x="6477120" y="4648320"/>
            <a:ext cx="655560" cy="87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L:\фото\калмыковка.png"/>
          <p:cNvPicPr/>
          <p:nvPr/>
        </p:nvPicPr>
        <p:blipFill>
          <a:blip r:embed="rId6"/>
          <a:srcRect l="0" t="0" r="51105" b="0"/>
          <a:stretch/>
        </p:blipFill>
        <p:spPr>
          <a:xfrm>
            <a:off x="4800600" y="4572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L:\фото\старобельский район.jpg"/>
          <p:cNvPicPr/>
          <p:nvPr/>
        </p:nvPicPr>
        <p:blipFill>
          <a:blip r:embed="rId7"/>
          <a:stretch/>
        </p:blipFill>
        <p:spPr>
          <a:xfrm>
            <a:off x="2819520" y="35812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L:\фото\калмык-абдрашевка.jpg"/>
          <p:cNvPicPr/>
          <p:nvPr/>
        </p:nvPicPr>
        <p:blipFill>
          <a:blip r:embed="rId8"/>
          <a:stretch/>
        </p:blipFill>
        <p:spPr>
          <a:xfrm>
            <a:off x="914400" y="45720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38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5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41" name="Picture 6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7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3" descr="L:\фото\калмычек.JPG"/>
          <p:cNvPicPr/>
          <p:nvPr/>
        </p:nvPicPr>
        <p:blipFill>
          <a:blip r:embed="rId5"/>
          <a:stretch/>
        </p:blipFill>
        <p:spPr>
          <a:xfrm>
            <a:off x="838080" y="380880"/>
            <a:ext cx="4419720" cy="2938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L:\фото\калмацкое.png"/>
          <p:cNvPicPr/>
          <p:nvPr/>
        </p:nvPicPr>
        <p:blipFill>
          <a:blip r:embed="rId6"/>
          <a:srcRect l="3353" t="0" r="15063" b="1814"/>
          <a:stretch/>
        </p:blipFill>
        <p:spPr>
          <a:xfrm>
            <a:off x="762120" y="3657600"/>
            <a:ext cx="4343400" cy="2678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L:\фото\калмыково 1.jpg"/>
          <p:cNvPicPr/>
          <p:nvPr/>
        </p:nvPicPr>
        <p:blipFill>
          <a:blip r:embed="rId7"/>
          <a:stretch/>
        </p:blipFill>
        <p:spPr>
          <a:xfrm>
            <a:off x="4648320" y="3581280"/>
            <a:ext cx="350496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5"/>
          <p:cNvGrpSpPr/>
          <p:nvPr/>
        </p:nvGrpSpPr>
        <p:grpSpPr>
          <a:xfrm>
            <a:off x="-360" y="0"/>
            <a:ext cx="630360" cy="6857640"/>
            <a:chOff x="-360" y="0"/>
            <a:chExt cx="630360" cy="6857640"/>
          </a:xfrm>
        </p:grpSpPr>
        <p:pic>
          <p:nvPicPr>
            <p:cNvPr id="147" name="Picture 6" descr="orn_011"/>
            <p:cNvPicPr/>
            <p:nvPr/>
          </p:nvPicPr>
          <p:blipFill>
            <a:blip r:embed="rId1"/>
            <a:stretch/>
          </p:blipFill>
          <p:spPr>
            <a:xfrm rot="5400000">
              <a:off x="-1542240" y="154188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orn_011"/>
            <p:cNvPicPr/>
            <p:nvPr/>
          </p:nvPicPr>
          <p:blipFill>
            <a:blip r:embed="rId2"/>
            <a:stretch/>
          </p:blipFill>
          <p:spPr>
            <a:xfrm rot="5400000">
              <a:off x="-1513800" y="471348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5"/>
          <p:cNvGrpSpPr/>
          <p:nvPr/>
        </p:nvGrpSpPr>
        <p:grpSpPr>
          <a:xfrm>
            <a:off x="8513640" y="360"/>
            <a:ext cx="630360" cy="6857640"/>
            <a:chOff x="8513640" y="360"/>
            <a:chExt cx="630360" cy="6857640"/>
          </a:xfrm>
        </p:grpSpPr>
        <p:pic>
          <p:nvPicPr>
            <p:cNvPr id="150" name="Picture 6" descr="orn_011"/>
            <p:cNvPicPr/>
            <p:nvPr/>
          </p:nvPicPr>
          <p:blipFill>
            <a:blip r:embed="rId3"/>
            <a:stretch/>
          </p:blipFill>
          <p:spPr>
            <a:xfrm rot="16200000">
              <a:off x="6971400" y="4685400"/>
              <a:ext cx="371448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7" descr="orn_011"/>
            <p:cNvPicPr/>
            <p:nvPr/>
          </p:nvPicPr>
          <p:blipFill>
            <a:blip r:embed="rId4"/>
            <a:stretch/>
          </p:blipFill>
          <p:spPr>
            <a:xfrm rot="16200000">
              <a:off x="6999840" y="1513800"/>
              <a:ext cx="365760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10" descr="L:\фото\калмыков переулок.JPG"/>
          <p:cNvPicPr/>
          <p:nvPr/>
        </p:nvPicPr>
        <p:blipFill>
          <a:blip r:embed="rId5"/>
          <a:stretch/>
        </p:blipFill>
        <p:spPr>
          <a:xfrm>
            <a:off x="1295280" y="685800"/>
            <a:ext cx="3505320" cy="48006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1"/>
          <p:cNvSpPr/>
          <p:nvPr/>
        </p:nvSpPr>
        <p:spPr>
          <a:xfrm>
            <a:off x="5257800" y="152388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сква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2"/>
          <p:cNvSpPr/>
          <p:nvPr/>
        </p:nvSpPr>
        <p:spPr>
          <a:xfrm>
            <a:off x="4968360" y="251460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лмыко́в переу́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Svetlana</cp:lastModifiedBy>
  <dcterms:modified xsi:type="dcterms:W3CDTF">2018-12-23T10:22:23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