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96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584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40880" y="-132120"/>
            <a:ext cx="8602920" cy="128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496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8480" y="210168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7408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6496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558480" y="4587120"/>
            <a:ext cx="276984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-132120"/>
            <a:ext cx="8602920" cy="128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94479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9080" y="458712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9080" y="2101680"/>
            <a:ext cx="419796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587120"/>
            <a:ext cx="8602920" cy="2269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2224080"/>
            <a:ext cx="8472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40880" y="-132120"/>
            <a:ext cx="8602920" cy="27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6400" spc="-1" strike="noStrike">
                <a:solidFill>
                  <a:srgbClr val="280099"/>
                </a:solidFill>
                <a:latin typeface="Times New Roman"/>
              </a:rPr>
              <a:t>Click to edit the title text format</a:t>
            </a:r>
            <a:endParaRPr b="1" i="1" lang="en-US" sz="6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40880" y="2101680"/>
            <a:ext cx="860292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280099"/>
                </a:solidFill>
                <a:latin typeface="Times New Roman"/>
              </a:rPr>
              <a:t>Автоматизация звука “Л”.</a:t>
            </a:r>
            <a:br>
              <a:rPr sz="4400"/>
            </a:br>
            <a:r>
              <a:rPr b="1" i="1" lang="en-US" sz="4000" spc="-1" strike="noStrike">
                <a:solidFill>
                  <a:srgbClr val="280099"/>
                </a:solidFill>
                <a:latin typeface="Times New Roman"/>
              </a:rPr>
              <a:t>А</a:t>
            </a:r>
            <a:r>
              <a:rPr b="1" i="1" lang="en-US" sz="2800" spc="-1" strike="noStrike">
                <a:solidFill>
                  <a:srgbClr val="280099"/>
                </a:solidFill>
                <a:latin typeface="Times New Roman"/>
              </a:rPr>
              <a:t>втор: логопед Целыковская Ольга Борисовна.</a:t>
            </a:r>
            <a:endParaRPr b="1" i="1" lang="en-US" sz="2800" spc="-1" strike="noStrike">
              <a:solidFill>
                <a:srgbClr val="280099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700360" y="1079640"/>
            <a:ext cx="5040360" cy="63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79280" y="-1173600"/>
            <a:ext cx="8607240" cy="2675160"/>
          </a:xfrm>
          <a:prstGeom prst="rect">
            <a:avLst/>
          </a:prstGeom>
          <a:noFill/>
          <a:ln w="0">
            <a:noFill/>
          </a:ln>
        </p:spPr>
        <p:txBody>
          <a:bodyPr lIns="0" rIns="0" tIns="403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6400"/>
            </a:br>
            <a:br>
              <a:rPr sz="6400"/>
            </a:br>
            <a:r>
              <a:rPr b="1" i="1" lang="en-US" sz="5400" spc="-1" strike="noStrike">
                <a:solidFill>
                  <a:srgbClr val="280099"/>
                </a:solidFill>
                <a:latin typeface="Times New Roman"/>
              </a:rPr>
              <a:t>Назови картинки.</a:t>
            </a:r>
            <a:endParaRPr b="1" i="1" lang="en-US" sz="5400" spc="-1" strike="noStrike">
              <a:solidFill>
                <a:srgbClr val="2800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200480" cy="23130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41240" y="4589640"/>
            <a:ext cx="42004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900000" y="1979640"/>
            <a:ext cx="8452080" cy="48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52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280099"/>
                </a:solidFill>
                <a:latin typeface="Times New Roman"/>
              </a:rPr>
              <a:t>Положи в корзину картинки со звуком “Л”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892080" y="2101680"/>
            <a:ext cx="2468520" cy="2271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865680" y="2101680"/>
            <a:ext cx="2342880" cy="2271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6561000" y="2166840"/>
            <a:ext cx="2772000" cy="21416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6802560" y="4587840"/>
            <a:ext cx="2287440" cy="2271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992400" y="4587840"/>
            <a:ext cx="2089440" cy="22716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914400" y="4587840"/>
            <a:ext cx="2424240" cy="22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2400" y="35712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4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5400" spc="-1" strike="noStrike">
                <a:solidFill>
                  <a:srgbClr val="280099"/>
                </a:solidFill>
                <a:latin typeface="Times New Roman"/>
              </a:rPr>
              <a:t>Назови ласково.</a:t>
            </a:r>
            <a:endParaRPr b="1" i="1" lang="en-US" sz="5400" spc="-1" strike="noStrike">
              <a:solidFill>
                <a:srgbClr val="280099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079640" y="1619280"/>
            <a:ext cx="828036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41240" y="62712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400" spc="-1" strike="noStrike">
                <a:solidFill>
                  <a:srgbClr val="280099"/>
                </a:solidFill>
                <a:latin typeface="Times New Roman"/>
              </a:rPr>
              <a:t>Учим чистоговорку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2160720"/>
            <a:ext cx="1979640" cy="2090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398680" y="2160720"/>
            <a:ext cx="1800360" cy="197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4348080" y="2160720"/>
            <a:ext cx="1771560" cy="1979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720720" y="4299120"/>
            <a:ext cx="10080720" cy="48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 marL="431640" indent="-3204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1. На полянке колоб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04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2. Нитки сматывал в клуб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04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3. Ниток желтых, ал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04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4. Намотал клубков не ма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31640" indent="-320400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31640"/>
                <a:tab algn="l" pos="879480"/>
                <a:tab algn="l" pos="1328760"/>
                <a:tab algn="l" pos="1778040"/>
                <a:tab algn="l" pos="2227320"/>
                <a:tab algn="l" pos="2676600"/>
                <a:tab algn="l" pos="3125880"/>
                <a:tab algn="l" pos="3575160"/>
                <a:tab algn="l" pos="4024440"/>
                <a:tab algn="l" pos="4473720"/>
                <a:tab algn="l" pos="4923000"/>
                <a:tab algn="l" pos="5372280"/>
                <a:tab algn="l" pos="5821200"/>
                <a:tab algn="l" pos="6270480"/>
                <a:tab algn="l" pos="6719760"/>
                <a:tab algn="l" pos="7169040"/>
                <a:tab algn="l" pos="7618320"/>
                <a:tab algn="l" pos="8067600"/>
                <a:tab algn="l" pos="8516880"/>
                <a:tab algn="l" pos="8966160"/>
                <a:tab algn="l" pos="9415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5. И пошел домой устал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8459640" y="2160720"/>
            <a:ext cx="1440000" cy="1979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6480000" y="2160720"/>
            <a:ext cx="180036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0"/>
            <a:ext cx="86076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280099"/>
                </a:solidFill>
                <a:latin typeface="Times New Roman"/>
              </a:rPr>
              <a:t>Назови во множестенном числе.</a:t>
            </a:r>
            <a:endParaRPr b="1" i="1" lang="en-US" sz="4000" spc="-1" strike="noStrike">
              <a:solidFill>
                <a:srgbClr val="280099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9640" y="1260360"/>
            <a:ext cx="8820360" cy="594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2400" y="0"/>
            <a:ext cx="860760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3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6400" spc="-1" strike="noStrike">
                <a:solidFill>
                  <a:srgbClr val="280099"/>
                </a:solidFill>
                <a:latin typeface="Times New Roman"/>
              </a:rPr>
              <a:t>Молодец!</a:t>
            </a:r>
            <a:endParaRPr b="0" lang="en-US" sz="6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067200" y="1260360"/>
            <a:ext cx="4492440" cy="4762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54200" y="3419640"/>
            <a:ext cx="8605800" cy="62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944794"/>
                </a:solidFill>
                <a:latin typeface="Arial"/>
              </a:rPr>
              <a:t>Целыковская Ольга Борисовн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23T18:45:32Z</dcterms:created>
  <dc:creator/>
  <dc:description>Предложение пути развития и альтернатив, рекомендации по использованию той или другой стратегии</dc:description>
  <dc:language>en-US</dc:language>
  <cp:lastModifiedBy/>
  <cp:lastPrinted>2013-04-03T14:27:27Z</cp:lastPrinted>
  <cp:revision>1</cp:revision>
  <dc:subject/>
  <dc:title>Предложение стратегии</dc:title>
</cp:coreProperties>
</file>