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18D-832A-452B-B33B-1C664305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09A-B7BF-435E-9178-FDC1C0C7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3ED-B3EE-4AAB-985A-03625639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331-07B0-4874-9DEB-0D854ACD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44D0-0EF5-4F33-B4DE-42AF7F6C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6668-D2CC-45B6-ABDB-78BE4BA8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187C-AC48-4B2C-8E71-242484FA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DE27-04B4-44F1-9586-4D29F39C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4477-61C6-470A-BDE7-D5AE86AD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0F14-D653-4471-989B-486C40AA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35C7-A8D0-4929-BD21-AA1BF1F5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2B4-3BFD-4E67-B852-DE73B9BF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7EF6-ECDB-414F-B95A-8697512F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8D8F-E714-4EF1-A620-5CDE2471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D579-0C0B-4E52-88E0-2F16B0F7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9F87-A383-4367-8900-FC3352FB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CFEF-AEE9-4A67-8E0A-E9BE6A48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28D-6C4F-4E31-88F1-3523E1D2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954-7FB3-4B35-831C-D2544FA8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95F-D328-4037-A418-4E0708A8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91B-D2B5-4250-A374-F260C0F2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616-AC1B-4DED-90AD-EE541C61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220-6784-484F-99BD-CF9FC7A6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ED0-7062-4355-B810-550DECE7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19B0-656A-4B4C-803E-A115CE0E72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ED7E-595B-4445-9AD0-95F42B35B8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Дидактические подходы к  современному уроку при реализации  ФГОС 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76720" y="4365360"/>
            <a:ext cx="31528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о на заседании кафедры иностранных языков ГБОУ гимназ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зменения в деятельности педагогов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чено, что при подготовке к уроку учитель затрачивает теперь почти в два раза больше времени по сравнению с прошлыми учебными годами, но при этом помимо учебника и методических рекомендаций он может воспользоваться ресурсами Интернета. Кроме того, свои наработки учителя оформляют в электронном виде, что позволяет обмениваться опытом с коллегами. Весь материал может выкладываться на сайте школы для просмотра родителями, использования при дистанционном и иных формах обуче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зменения в деятельности педагогов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000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конспекта учитель готовит сценарный план, который предоставляет ему большую свободу и определяет последовательную деятельность учащихся. Все чаще при планировании урока групповые и парные формы организации деятельности учащихся преобладают над фронта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педагоги не должны быть привязаны к своему классному кабинету; если возникает необходимость, они могут использовать любые оборудованные помещения: кабинет прикладного творчества, внеурочной деятельности, игровую, лабораторию и т. 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овых стандартах не ставится в преподавании иностранных языков и вообще в такой образовательной обла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филология, единых комплексных, сложных задач по изучению теоретических основ языка, глубинных основ грамматики. Основной акцент делается на развитие коммуникаций, на умение человека общаться, на овладение языком в процессе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Новизна современного урока в условиях введения стандарта второго покол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организуются индивидуальные и групповые формы работы на уроке. Постепенно преодолевается авторитарный стиль общения между учителем и учен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акие требования предъявляются к современному уроку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организованный урок  в хорошо оборудованном кабинете должен иметь хорошее начало и хорошее оконч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спланировать свою деятельность и деятельность учащихся, четко сформулировать тему, цель, задачи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должен быть проблемным и развивающим: учитель сам нацеливается на сотрудничество с учениками и умеет направлять учеников на сотрудничество с учителем и однокласс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организует проблемные и поисковые ситуации, активизирует деятельность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делают сами учащие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 репродукции и максимум творчества и сотвор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сбережение и здоровьесбере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внимания урока - д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т уровня и возможностей учащихся, в котором учтены  такие аспекты, как профиль класса, стремление учащихся, настроение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демонстрировать методическое искусство уч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обратной связ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должен быть добр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Принципы педагогической техники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а выбора (в любом  обучающем или управляющем действии ученику предоставляется право выбор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ости (не только давать знания, но и показывать их границы, сталкивать ученика с проблемами, решения которых лежат за пределами изучаемого кур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и (освоение учениками знаний, умений, навыков преимущественно в форме деятельности, ученик должен уметь использовать свои зн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альности (высокого КПД) (максимально использовать возможности, знания, интересы самих учащихс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ной связи (регулярно контролировать процесс обучения с помощью развитой системы приемов обратной связ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«Высший пилотаж» в проведении уро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урок, на котором учитель, лишь направляя детей, дает рекомендации в течение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сновные типы уроков остаются прежними, но в них внесены изменения: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изучения нов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: традиционный (комбинированный), лекция, экскурсия, исследовательская работа, учебный и трудовой практикум. Имеет целью изучение и первичное закрепление новых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закрепления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: практикум, экскурсия, лабораторная работа, собеседование, консультация. Имеет целью выработку умений по применению 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овые подходы в преподавании иностранных язык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вивать способность "чувствовать « других людей» (эмпат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способности к самопознанию (рефлек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позитивные эмоци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ить коммуникативно-организаторские  умения и навыки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Воспитание любознательности; исследовательского подхода к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7164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комплексного применения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: практикум, лабораторная работа, семинар и т.д. Имеет целью выработку умений самостоятельно применять знания в комплексе, в новых услов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обобщения и систематизации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: семинар, конференция, круглый стол и т.д. Имеет целью обобщение единичных знаний в сист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контроля, оценки и коррекции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: контрольная работа, зачет, коллоквиум, смотр знаний и т.д. Имеет целью определить уровень овладения знаниями, умениями и навы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Личностными результатами изучения иностранного языка в начальной школе являются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ыми результатами изучения иностранного языка в начальной школе являются: общее представление о мире как многоязычном и поликультурном обществе; осознание языка, в том числе иностранного, как основного средства общения между людьми; знакомство с миром зарубежных сверстников с использованием средств изучаемого языка (через детский фольклор, некоторые образцы детской художественной литературы тради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тапредметный подх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учащегося целостного восприятия изучаемого объекта(с позиций разных областей зна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творческого и ассоциативного мышления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изация полученных теоретических представлений об изучаемом объекте в практической жизнедеятельност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Метапредметными результатами изучения иностранного языка в начальной школе являются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тие умений взаимодействия с окружающими, выполняя различные роли в пределах речевых потребностей и возможностей младших 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тие коммуникативных способностей школьника, умения выбирать адекватные языковые и речевые средства для успешного решения элементарной коммуникативно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сширение общего лингвистического кругозора младшего школь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тие познавательной, эмоциональной и волевой сфер младшего школьника, формирование мотивации к изучению иностранного язы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владение умением координированной работы с разными компонентами учебно-методического комплекта (учебником, аудиодиском и т.д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метный подход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е о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уализировать такие понятия как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языковую догадку, формировать лексическую базу по тем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ноязычной коммуникативной компетенции в  совокупности ее составляющих – речевая, языковая, социокультурная, компенсаторная, учебно-познавате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 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ГОС  вводят новое понятие-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ая ситу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д которым подразумевается такая особая единица учебного процесса, в которой дети с помощью учителя обнаруживают предмет своего действия, исследуют его, совершая разнообразные учебные действия, преобразуют его, например, переформулируют, или предлагают свое описание и т.д., частично – запомин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язи с новыми  требованиями  перед учителем ставится задача научиться создавать учебные ситуации как особые структурные единицы учебной деятельности, а также уметь переводить учебные задачи в учебную ситуацию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чебной ситуации должно строиться с учет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а ребен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специфики учебного предмет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меры сформированности УУД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й ситуацией может стать задание составить: таблицу, график или диаграмму по содержанию прочитанного текста, алгоритм по определенному правилу или выполнение задания: объяснить содержание прочитанного текста ученику младшего класса или практическая работа и т.д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01:27Z</dcterms:created>
  <dc:creator>132</dc:creator>
  <dc:description/>
  <dc:language>en-US</dc:language>
  <cp:lastModifiedBy>1</cp:lastModifiedBy>
  <dcterms:modified xsi:type="dcterms:W3CDTF">2018-12-23T09:08:41Z</dcterms:modified>
  <cp:revision>10</cp:revision>
  <dc:subject/>
  <dc:title>Новые дидактические подходы к  уроку при реализации  ФГОС .</dc:title>
</cp:coreProperties>
</file>