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7F6-6873-4B86-8A62-874646A9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123-C2FD-4CCC-85F4-868A6820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ACC-724D-4B30-9978-73C68349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ED18-6D36-42C3-A343-370BDC42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5228-FC5F-410A-BAB9-0EEE14B9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6B15-AB72-4279-AB8A-C608A0FF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5698-6553-4C10-984F-9C0E559A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BC4C-86A3-43BB-B13E-0A88A09D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B2A6-B1BD-4DC5-9661-F05CA714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5829-322C-41B4-88B6-5CC0CCCB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C4BB-12DF-4E39-8746-99390EFE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6BA-BFC8-4931-AC85-07B3BC5A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C27C-01C7-4E3E-964A-70658037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8F20-FAA1-4E55-86B9-6B022F63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86A1-EE1A-4E71-B95D-A043B3A4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55AE-B40E-4925-84C9-E5067DE0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1FA8-D8B5-40D5-B293-BBE4A907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600-8597-48BA-8A8A-7979503B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8227-9F24-4853-AEAA-B66D553E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56C7-AECA-4694-91FD-5BA01A68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D0EA-E7F8-4958-BC59-47CB41F9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DAFD-F029-4D18-8886-4A828379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F330-46A0-42C1-A6F8-97AA49C6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C5D6-E1C8-40B5-9FF7-C476F2B5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DC24-0FA8-4281-B33E-97FFE36A59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BD11-9F6B-4DBD-9A22-3A2EA44226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Дидактические подходы к  современному уроку при реализации  ФГОС 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76720" y="4365360"/>
            <a:ext cx="31528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но на заседании кафедры иностранных языков ГБОУ гимназ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Сызр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зменения в деятельности педагогов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чено, что при подготовке к уроку учитель затрачивает теперь почти в два раза больше времени по сравнению с прошлыми учебными годами, но при этом помимо учебника и методических рекомендаций он может воспользоваться ресурсами Интернета. Кроме того, свои наработки учителя оформляют в электронном виде, что позволяет обмениваться опытом с коллегами. Весь материал может выкладываться на сайте школы для просмотра родителями, использования при дистанционном и иных формах обучени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зменения в деятельности педагогов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000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о конспекта учитель готовит сценарный план, который предоставляет ему большую свободу и определяет последовательную деятельность учащихся. Все чаще при планировании урока групповые и парные формы организации деятельности учащихся преобладают над фронта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педагоги не должны быть привязаны к своему классному кабинету; если возникает необходимость, они могут использовать любые оборудованные помещения: кабинет прикладного творчества, внеурочной деятельности, игровую, лабораторию и т. 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овых стандартах не ставится в преподавании иностранных языков и вообще в такой образовательной обла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филология, единых комплексных, сложных задач по изучению теоретических основ языка, глубинных основ грамматики. Основной акцент делается на развитие коммуникаций, на умение человека общаться, на овладение языком в процессе об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Новизна современного урока в условиях введения стандарта второго поколения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ще организуются индивидуальные и групповые формы работы на уроке. Постепенно преодолевается авторитарный стиль общения между учителем и учени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Какие требования предъявляются к современному уроку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о организованный урок  в хорошо оборудованном кабинете должен иметь хорошее начало и хорошее оконч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должен спланировать свою деятельность и деятельность учащихся, четко сформулировать тему, цель, задачи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 должен быть проблемным и развивающим: учитель сам нацеливается на сотрудничество с учениками и умеет направлять учеников на сотрудничество с учителем и одноклассни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организует проблемные и поисковые ситуации, активизирует деятельность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делают сами учащие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ум репродукции и максимум творчества и сотворч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ясбережение и здоровьесбереж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нтре внимания урока - де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т уровня и возможностей учащихся, в котором учтены  такие аспекты, как профиль класса, стремление учащихся, настроение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демонстрировать методическое искусство учи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ирование обратной связ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должен быть добр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Принципы педагогической техники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бода выбора (в любом  обучающем или управляющем действии ученику предоставляется право выбор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ости (не только давать знания, но и показывать их границы, сталкивать ученика с проблемами, решения которых лежат за пределами изучаемого курс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и (освоение учениками знаний, умений, навыков преимущественно в форме деятельности, ученик должен уметь использовать свои зна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альности (высокого КПД) (максимально использовать возможности, знания, интересы самих учащихс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тной связи (регулярно контролировать процесс обучения с помощью развитой системы приемов обратной связ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«Высший пилотаж» в проведении урока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урок, на котором учитель, лишь направляя детей, дает рекомендации в течение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сновные типы уроков остаются прежними, но в них внесены изменения: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изучения нов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: традиционный (комбинированный), лекция, экскурсия, исследовательская работа, учебный и трудовой практикум. Имеет целью изучение и первичное закрепление новых зн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закрепления зн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: практикум, экскурсия, лабораторная работа, собеседование, консультация. Имеет целью выработку умений по применению зн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овые подходы в преподавании иностранных язык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развивать способность "чувствовать « других людей» (эмпат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способности к самопознанию (рефлек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изировать позитивные эмоци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ить коммуникативно-организаторские  умения и навыки 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критического мышлени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Воспитание любознательности; исследовательского подхода к пробл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71640" y="1628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комплексного применения зн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: практикум, лабораторная работа, семинар и т.д. Имеет целью выработку умений самостоятельно применять знания в комплексе, в новых услов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обобщения и систематизации зн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: семинар, конференция, круглый стол и т.д. Имеет целью обобщение единичных знаний в систе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контроля, оценки и коррекции зн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: контрольная работа, зачет, коллоквиум, смотр знаний и т.д. Имеет целью определить уровень овладения знаниями, умениями и навы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Личностными результатами изучения иностранного языка в начальной школе являются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ными результатами изучения иностранного языка в начальной школе являются: общее представление о мире как многоязычном и поликультурном обществе; осознание языка, в том числе иностранного, как основного средства общения между людьми; знакомство с миром зарубежных сверстников с использованием средств изучаемого языка (через детский фольклор, некоторые образцы детской художественной литературы тради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етапредметный подхо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 учащегося целостного восприятия изучаемого объекта(с позиций разных областей знан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творческого и ассоциативного мышления 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уализация полученных теоретических представлений об изучаемом объекте в практической жизнедеятельности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Метапредметными результатами изучения иностранного языка в начальной школе являются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витие умений взаимодействия с окружающими, выполняя различные роли в пределах речевых потребностей и возможностей младших школь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витие коммуникативных способностей школьника, умения выбирать адекватные языковые и речевые средства для успешного решения элементарной коммуникативной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сширение общего лингвистического кругозора младшего школь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витие познавательной, эмоциональной и волевой сфер младшего школьника, формирование мотивации к изучению иностранного язы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владение умением координированной работы с разными компонентами учебно-методического комплекта (учебником, аудиодиском и т.д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едметный подход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ть представление о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уализировать такие понятия как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языковую догадку, формировать лексическую базу по тем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иноязычной коммуникативной компетенции в  совокупности ее составляющих – речевая, языковая, социокультурная, компенсаторная, учебно-познаватель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 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ГОС  вводят новое понятие-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ая ситу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д которым подразумевается такая особая единица учебного процесса, в которой дети с помощью учителя обнаруживают предмет своего действия, исследуют его, совершая разнообразные учебные действия, преобразуют его, например, переформулируют, или предлагают свое описание и т.д., частично – запомин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вязи с новыми  требованиями  перед учителем ставится задача научиться создавать учебные ситуации как особые структурные единицы учебной деятельности, а также уметь переводить учебные задачи в учебную ситуацию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учебной ситуации должно строиться с учет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аста ребенк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специфики учебного предмет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меры сформированности УУД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ой ситуацией может стать задание составить: таблицу, график или диаграмму по содержанию прочитанного текста, алгоритм по определенному правилу или выполнение задания: объяснить содержание прочитанного текста ученику младшего класса или практическая работа и т.д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7:01:27Z</dcterms:created>
  <dc:creator>132</dc:creator>
  <dc:description/>
  <dc:language>en-US</dc:language>
  <cp:lastModifiedBy>1</cp:lastModifiedBy>
  <dcterms:modified xsi:type="dcterms:W3CDTF">2018-12-23T09:08:41Z</dcterms:modified>
  <cp:revision>10</cp:revision>
  <dc:subject/>
  <dc:title>Новые дидактические подходы к  уроку при реализации  ФГОС .</dc:title>
</cp:coreProperties>
</file>