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721-B67D-4CB1-9BE3-151C525C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98E-E2FA-48CA-8D59-135316B1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067-AAA7-4A7A-9396-15DE585C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A6B-AFEB-4A40-894F-FBEEFED7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70A0-5158-4304-868E-1FA79683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967F-C8D3-4541-9367-2AC90265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669B-5AE3-42EE-9512-B78733DC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8772-FBA2-47EF-B152-CFE74D42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D90E-F24E-4CCD-B9EB-3C4FF0AA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6726-AEB0-4286-A64A-EA8BE5B7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B5B6-4881-494F-A618-A11D5742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384-5620-40EA-B133-82284A84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4E29-2B24-4B58-9770-BE82BC53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BC43-E30D-4FBA-BFA8-EB214789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F275-39BE-4DEE-915C-82E089D5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2864-2AE3-430E-AF41-D5897AB5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9BCD-81F2-41A0-A6AB-CF4D0F6E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44D-22D6-4169-9D57-145EFA1C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C78-83C4-414E-BC55-291E93F7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505-AB2A-4CF5-B66F-65AE8601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E4A-FEA8-4489-9F3E-F5B187C6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D5A-F25B-498C-ABF9-2669CD6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AD5-2AF2-4DF0-AFA1-7C62C372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BB5-DAA9-4107-8E9A-6059DB8E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AF0D-70D3-4047-A51B-CEA48801D3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0484-8944-4D76-8512-89B574084A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400500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«ОСЕННИЙ ВИНЕГРЕТ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71920" y="1571760"/>
            <a:ext cx="540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КУРСНО-ИГРОВАЯ ПРОГРАМ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1720" y="1071720"/>
            <a:ext cx="6643440" cy="32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4.  КОНКУРС 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АКОРМИ МАМУ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ЗАКРЫТЫМИ ГЛАЗАМИ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Лежит меж грядок,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елен и слад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7160" y="1785960"/>
            <a:ext cx="721512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6.  КОНКУРС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«АВТОПОРТРЕТ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идит красная девица в темнице, а коса на улице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9720" y="1214280"/>
            <a:ext cx="7000920" cy="29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7.  КОНКУРС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«ЗАШИФРОВАННАЯ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ЕСНЯ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42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Яьчур у елоп в анилак тетевц, йо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я алибюлоп огодолом янрап.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Яом акнилак, акнилак, акнилак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яом акнилам, акнилам, адогя удас в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Хоть я сахарной зовусь,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о от дождя я не размокла,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угла, крупна, сладка на вкус, узнали, кто я?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1720" y="1785960"/>
            <a:ext cx="664344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ДВЕДЕНИЕ  ИТОГОВ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1785600"/>
            <a:ext cx="57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ВЕСЁЛАЯ ЛОТЕРЕ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45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1 конкурс – «Словесный марафон»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7020000" y="299736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42920" y="250704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помнить осенние приметы пословицы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оговорки об осени, которые известн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роде с давних п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ДО  НОВЫХ  ВСТРЕЧ !!!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5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идит дед,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 сто шуб одет.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то его раздевает,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от слезы проливает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23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 зелен, и густ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а грядке вырос куст,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   Покопай немножко,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д кустом…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1571760"/>
            <a:ext cx="757224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2.  КОНКУРС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«МИСС ДЛИННАЯ КОЖУРА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8800" y="857160"/>
            <a:ext cx="664344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3.  КОНКУРС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«ОСЕННИЙ  КРОСС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42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ом зеленый тесноват: узкий, длинный, гладкий.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скакали кто - куда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углые ребят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600" y="1643040"/>
            <a:ext cx="764388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5.  ВИКТОРИНА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 «БЛЮДА РУССКОЙ КУХНИ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24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тоит матрешка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а одной ножке,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Крепко закутана,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ожет запугана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1:25:09Z</dcterms:created>
  <dc:creator>User</dc:creator>
  <dc:description/>
  <cp:keywords/>
  <dc:language>en-US</dc:language>
  <cp:lastModifiedBy>Люция Гибадуллина</cp:lastModifiedBy>
  <dcterms:modified xsi:type="dcterms:W3CDTF">2012-10-26T05:09:17Z</dcterms:modified>
  <cp:revision>62</cp:revision>
  <dc:subject/>
  <dc:title>Интернет – конкурсы   для учащихся  и  педагог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49</vt:lpwstr>
  </property>
</Properties>
</file>