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9BF-B5F4-42CE-AE88-87C93A74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287-6AD0-4667-BD74-CAEE4F3F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A5E-6A9F-4ECE-823C-EBB729CB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F5C-F171-4524-BD92-DC6882B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CB7-EA8E-43C1-92E1-B0F9DB6A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EDF0-21A2-408F-8D80-C0B1195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35C-C445-4B41-97FD-55890E99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6F5-50D0-4C86-9062-9EF538F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CBCD-0D4F-4E7E-A4EE-195A462C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B56-1FC6-47E7-8067-D6FADE09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E89-CDA0-4DB2-B5D0-1DCB1DF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B82-AD35-4AFD-919E-00F972D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5A35-5D31-416A-8785-20186F2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6CC-96F2-4F08-9929-75AEF26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E810-6233-46B1-A14E-6F2762A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336-B66D-4F81-9118-2C4430E6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023C-C881-4406-BE06-E6A440BD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E97-A02B-48E8-BD24-54B5916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65D-2C72-44CA-81BC-A110DE8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AFF-9ABE-4702-928E-919E71C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393-AD96-49CC-A7DA-8C83AF96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C16-A4E4-4A1F-865B-8845477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FC2-AF27-462B-94B2-5537078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905-C814-4254-AB1B-7B46EB7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A87-F63E-415B-8994-D2B8E9B151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F2B-1ABC-432A-83F7-31F9A69A82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0500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«ОСЕННИЙ ВИНЕГРЕТ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71920" y="15717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КУРСНО-ИГРОВАЯ ПРОГРАМ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64344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4.  КОНКУРС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АКОРМИ МАМУ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ЗАКРЫТЫМИ ГЛАЗАМ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ежит меж грядок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елен и слад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7160" y="1785960"/>
            <a:ext cx="721512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6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АВТОПОРТРЕТ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дит красная девица в темнице, а коса на улиц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121428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7.  КОНКУРС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ЗАШИФРОВАННА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ЕСНЯ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42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Яьчур у елоп в анилак тетевц, й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я алибюлоп огодолом янрап.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Яом акнилак, акнилак, акнилак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яом акнилам, акнилам, адогя удас в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Хоть я сахарной зовусь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о от дождя я не размокла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ла, крупна, сладка на вкус, узнали, кто я?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720" y="1785960"/>
            <a:ext cx="66434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ДВЕДЕНИЕ  ИТОГ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178560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ЕСЁЛАЯ ЛОТЕРЕ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4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1 конкурс – «Словесный марафон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7020000" y="299736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42920" y="250704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мнить осенние приметы пословицы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говорки об осени, которые извест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роде с давних п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ДО  НОВЫХ  ВСТРЕЧ !!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5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дит дед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сто шуб одет.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то его раздевает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от слезы проливает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 зелен, и густ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грядке вырос куст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  Покопай немножко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д кустом…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1571760"/>
            <a:ext cx="75722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2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МИСС ДЛИННАЯ КОЖУРА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857160"/>
            <a:ext cx="66434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3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ОСЕННИЙ  КРОСС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42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ом зеленый тесноват: узкий, длинный, гладкий.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скакали кто - куд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лые ребят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1643040"/>
            <a:ext cx="764388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5.  ВИКТОРИН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 «БЛЮДА РУССКОЙ КУХН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тоит матрешк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одной ножке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Крепко закутана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ожет запугана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1:25:09Z</dcterms:created>
  <dc:creator>User</dc:creator>
  <dc:description/>
  <cp:keywords/>
  <dc:language>en-US</dc:language>
  <cp:lastModifiedBy>Люция Гибадуллина</cp:lastModifiedBy>
  <dcterms:modified xsi:type="dcterms:W3CDTF">2012-10-26T05:09:17Z</dcterms:modified>
  <cp:revision>62</cp:revision>
  <dc:subject/>
  <dc:title>Интернет – конкурсы   для учащихся  и  педаго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