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257A-4CCF-4DEB-AB3E-B584A613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3994-0197-4190-9E1A-9060665D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02DE-DA54-4C40-A8BA-FAE983F7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1A3E-DD2A-4E87-B339-197C6992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B01D-D379-4750-83B1-379C5204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EC94-1232-457C-8428-AE62A0F2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DED0-94B6-4B6A-8D65-7F17E9F2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856F-A824-4C6E-9DBB-16A5A283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10E3-F392-4BCB-92FE-290A1B72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7405-FDF4-4503-95B1-9300C5EE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AE3D-1D5F-4F56-B30E-9D88E44E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FFF9-D29E-4D29-BFBE-2B0338DA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A1B6-BC0A-4B8B-B7AE-10FA58E527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28320"/>
            <a:ext cx="7307280" cy="3012840"/>
          </a:xfrm>
          <a:prstGeom prst="rect">
            <a:avLst/>
          </a:prstGeom>
          <a:solidFill>
            <a:srgbClr val="ffd966"/>
          </a:solidFill>
          <a:ln w="1260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немотехника, как эффективная технология развития у детей связной речи»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9400" y="4319640"/>
            <a:ext cx="3973320" cy="86184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педагог-психолог: Афанасьева И.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2" descr="Kurochka_Ryaba"/>
          <p:cNvPicPr/>
          <p:nvPr/>
        </p:nvPicPr>
        <p:blipFill>
          <a:blip r:embed="rId1"/>
          <a:stretch/>
        </p:blipFill>
        <p:spPr>
          <a:xfrm>
            <a:off x="2292480" y="1312920"/>
            <a:ext cx="4787640" cy="42433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3"/>
          <p:cNvSpPr/>
          <p:nvPr/>
        </p:nvSpPr>
        <p:spPr>
          <a:xfrm>
            <a:off x="2028960" y="270000"/>
            <a:ext cx="568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а «Курочка Ряб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чивание стихотворений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" name="Содержимое 4" descr="C:\Users\1\Desktop\мнемотаблицы напечатано\Ispolzovanie_metoda_mnemotehniki_v_obychenii_rasskazivaniju\0.page52.jpg"/>
          <p:cNvPicPr/>
          <p:nvPr/>
        </p:nvPicPr>
        <p:blipFill>
          <a:blip r:embed="rId1"/>
          <a:srcRect l="16905" t="13759" r="6236" b="36598"/>
          <a:stretch/>
        </p:blipFill>
        <p:spPr>
          <a:xfrm>
            <a:off x="325440" y="1852560"/>
            <a:ext cx="4187880" cy="47005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C:\Documents and Settings\Admin\Мои документы\Мои рисунки\p[.gif"/>
          <p:cNvPicPr/>
          <p:nvPr/>
        </p:nvPicPr>
        <p:blipFill>
          <a:blip r:embed="rId2"/>
          <a:stretch/>
        </p:blipFill>
        <p:spPr>
          <a:xfrm>
            <a:off x="4699080" y="2281320"/>
            <a:ext cx="429552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257040"/>
            <a:ext cx="7886880" cy="1433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 отгадывание загадо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46240" y="1825200"/>
            <a:ext cx="8269200" cy="43513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коричневый, бывает овальный или круглый. Он маленький, растет на грядке в огороде. Его выкапывают. Его можно варить или жарить. (картофель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2" descr="SWScan00_0"/>
          <p:cNvPicPr/>
          <p:nvPr/>
        </p:nvPicPr>
        <p:blipFill>
          <a:blip r:embed="rId1"/>
          <a:srcRect l="10153" t="33227" r="66618" b="51237"/>
          <a:stretch/>
        </p:blipFill>
        <p:spPr>
          <a:xfrm>
            <a:off x="163440" y="3821040"/>
            <a:ext cx="1349280" cy="8096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Kurochka_Ryaba"/>
          <p:cNvPicPr/>
          <p:nvPr/>
        </p:nvPicPr>
        <p:blipFill>
          <a:blip r:embed="rId2"/>
          <a:srcRect l="41737" t="3042" r="43088" b="82881"/>
          <a:stretch/>
        </p:blipFill>
        <p:spPr>
          <a:xfrm>
            <a:off x="1641600" y="3868560"/>
            <a:ext cx="726840" cy="5986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Kurochka_Ryaba"/>
          <p:cNvPicPr/>
          <p:nvPr/>
        </p:nvPicPr>
        <p:blipFill>
          <a:blip r:embed="rId3"/>
          <a:srcRect l="34150" t="66581" r="34027" b="3317"/>
          <a:stretch/>
        </p:blipFill>
        <p:spPr>
          <a:xfrm>
            <a:off x="2297160" y="3762360"/>
            <a:ext cx="1523880" cy="127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Users\1\Desktop\мнемотаблицы напечатано\мнемотаблицы\001.jpg"/>
          <p:cNvPicPr/>
          <p:nvPr/>
        </p:nvPicPr>
        <p:blipFill>
          <a:blip r:embed="rId4"/>
          <a:srcRect l="65616" t="52159" r="0" b="1252"/>
          <a:stretch/>
        </p:blipFill>
        <p:spPr>
          <a:xfrm>
            <a:off x="7045200" y="3610080"/>
            <a:ext cx="1271880" cy="1314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C:\Users\1\Desktop\мнемотаблицы напечатано\мнемотаблицы\001.jpg"/>
          <p:cNvPicPr/>
          <p:nvPr/>
        </p:nvPicPr>
        <p:blipFill>
          <a:blip r:embed="rId5"/>
          <a:srcRect l="65616" t="0" r="0" b="49515"/>
          <a:stretch/>
        </p:blipFill>
        <p:spPr>
          <a:xfrm>
            <a:off x="3844800" y="3665520"/>
            <a:ext cx="1271880" cy="1422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" descr="C:\Users\1\Desktop\мнемотаблицы напечатано\мнемотаблицы\001.jpg"/>
          <p:cNvPicPr/>
          <p:nvPr/>
        </p:nvPicPr>
        <p:blipFill>
          <a:blip r:embed="rId6"/>
          <a:srcRect l="45957" t="79588" r="33702" b="0"/>
          <a:stretch/>
        </p:blipFill>
        <p:spPr>
          <a:xfrm>
            <a:off x="5064120" y="3587760"/>
            <a:ext cx="19764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257040" y="12240"/>
            <a:ext cx="7585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методов мнемотехни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гчает запоминание и увеличивает объем памяти, развивает речемыслительную деятельность де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 ребенку систематизировать свой непосредственный опы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с опорой на образы памяти устанавливает причинно-следственные связи, делает вывод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 творческое познание дет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0600" y="609120"/>
            <a:ext cx="7339320" cy="526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те разумное содержание жизни детей дошкольного возраста, и они у вас не будут ни глупыми, ни вялыми, ни безнравственны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 что значит дать разумное содержание жизни ребёнка дошкольного возраста? Это означает умение подыскать материал, пригодный для разнообразных занятий ребёнка, для его игр, упражнений и усовершенствования органов внешних чувств, а также для развития его наблюдательности. Этот материал должен быть доступен для его ума и сердца и должен укреплять его здоровь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 Н. Водовозова, 1901 год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"/>
          <p:cNvSpPr/>
          <p:nvPr/>
        </p:nvSpPr>
        <p:spPr>
          <a:xfrm>
            <a:off x="363600" y="1476360"/>
            <a:ext cx="7221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мотехника - это система методов и приёмов, обеспечивающих эффективное запоминание, сохранение и воспроизведение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 Д. Ушинский писал: «Учите ребёнка каким-нибудь неизвестным ему пяти словам - он будет долго и напрасно мучиться, но свяжите двадцать таких слов с картинками, и он усвоит на лету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2480" y="364680"/>
            <a:ext cx="46080" cy="8100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tIns="35280" bIns="35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0040" y="676440"/>
            <a:ext cx="7886880" cy="578304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мотехника решает следующие 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детям в упорядочивании и систематизации познавательной информации об окружающем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огащать словарный запас детей, развивать связную речь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чить последовательности, логичности, полноте и связности изложения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звивать мышление, внимание, воображение, речеслуховую и зрительную память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нять речевой негативизм, воспитать у детей потребность в речевом общении для лучшей адаптации в современном обществе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звивать мелкую моторику у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363600" y="594360"/>
            <a:ext cx="7526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мотаблиц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ат дидактическим материалом в работе по развитию связной речи дл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ставления описательных рассказов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ересказывания сказок и текстов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зучивании стихотвор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ставлении и отгадывании загад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1\Desktop\мнемотаблицы напечатано\мнемотаблицы\93132837_large_j190126_1268844346.jpg"/>
          <p:cNvPicPr/>
          <p:nvPr/>
        </p:nvPicPr>
        <p:blipFill>
          <a:blip r:embed="rId1"/>
          <a:stretch/>
        </p:blipFill>
        <p:spPr>
          <a:xfrm>
            <a:off x="247680" y="647640"/>
            <a:ext cx="4110120" cy="2905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Users\1\Desktop\мнемотаблицы напечатано\мнемотаблицы\про дом животных.jpg"/>
          <p:cNvPicPr/>
          <p:nvPr/>
        </p:nvPicPr>
        <p:blipFill>
          <a:blip r:embed="rId2"/>
          <a:stretch/>
        </p:blipFill>
        <p:spPr>
          <a:xfrm>
            <a:off x="187200" y="3827520"/>
            <a:ext cx="4043520" cy="2854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Users\1\Desktop\мнемотаблицы напечатано\мнемотаблицы\мнемотаблица цветы.jpg"/>
          <p:cNvPicPr/>
          <p:nvPr/>
        </p:nvPicPr>
        <p:blipFill>
          <a:blip r:embed="rId3"/>
          <a:stretch/>
        </p:blipFill>
        <p:spPr>
          <a:xfrm>
            <a:off x="4505400" y="3816360"/>
            <a:ext cx="3852720" cy="2897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1\Desktop\мнемотаблицы напечатано\мнемотаблицы\001.jpg"/>
          <p:cNvPicPr/>
          <p:nvPr/>
        </p:nvPicPr>
        <p:blipFill>
          <a:blip r:embed="rId4"/>
          <a:stretch/>
        </p:blipFill>
        <p:spPr>
          <a:xfrm>
            <a:off x="4548240" y="700200"/>
            <a:ext cx="36990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151920"/>
            <a:ext cx="7886880" cy="107820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бота с мнемотаблицей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41120" y="1336320"/>
            <a:ext cx="8815680" cy="48402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таблицы и разбор того, что на ней изображе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существляется так называемое перекодирование информации, т.е. преобразование из абстрактных символов в образ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сле перекодирования осуществляется пересказ сказки, чтение стихотворения с опорой на символы (образы), т.е. происходит отработка метода запомина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Делается графическая зарисовка мнемотабиц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аждая таблица может быть воспроизведена ребёнком при её показе ему. При воспроизведении сказки основной упор делается на изображение главных героев. Детям задают вопросы: «Кто (что) спрятался в таблице? Про кого это произведение?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описательного рассказ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 временах года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Рисунок 3" descr="C:\Users\1\Desktop\мнемотаблицы напечатано\мнемотаблицы\003.jpg"/>
          <p:cNvPicPr/>
          <p:nvPr/>
        </p:nvPicPr>
        <p:blipFill>
          <a:blip r:embed="rId1"/>
          <a:stretch/>
        </p:blipFill>
        <p:spPr>
          <a:xfrm>
            <a:off x="1419120" y="1995480"/>
            <a:ext cx="669312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7" descr="C:\Users\1\Desktop\мнемотаблицы напечатано\Учебное пособие. мнемотехника с дошкольниками\0.page31.jpg"/>
          <p:cNvPicPr/>
          <p:nvPr/>
        </p:nvPicPr>
        <p:blipFill>
          <a:blip r:embed="rId1"/>
          <a:srcRect l="13081" t="11489" r="4632" b="35464"/>
          <a:stretch/>
        </p:blipFill>
        <p:spPr>
          <a:xfrm>
            <a:off x="303120" y="210960"/>
            <a:ext cx="7070760" cy="649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87360"/>
            <a:ext cx="7886880" cy="130320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казывание сказок и текстов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" name="Содержимое 3" descr="Masha_i_Medwed"/>
          <p:cNvPicPr/>
          <p:nvPr/>
        </p:nvPicPr>
        <p:blipFill>
          <a:blip r:embed="rId1"/>
          <a:stretch/>
        </p:blipFill>
        <p:spPr>
          <a:xfrm>
            <a:off x="182520" y="1895400"/>
            <a:ext cx="4559400" cy="43513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4713120" y="2039760"/>
            <a:ext cx="4430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а «Маша и медведь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евочка и пошла она в лес за шишками, да и заблудилась, и пришла к домику, где жил медведь. Пригласил он Машу погостить у себя в домике. Вот Маша испекла пирожки и просит Мишку отнести их дедушке и бабушке, а сама забралась в короб и молчит. Идёт Мишка по лесу, хочет сесть на пенёк съесть пирожок, а Маша из короба отвеча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адись на пенёк, не ешь пирожок, неси бабушке и дедушк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шёл медведь в деревню, испугался собак, оставил короб, да и в лес убежал, а Маша вернулась к бабушке и дедушк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0:52:53Z</dcterms:created>
  <dc:creator>Инна</dc:creator>
  <dc:description/>
  <dc:language>en-US</dc:language>
  <cp:lastModifiedBy>1</cp:lastModifiedBy>
  <dcterms:modified xsi:type="dcterms:W3CDTF">2017-03-09T08:22:33Z</dcterms:modified>
  <cp:revision>26</cp:revision>
  <dc:subject/>
  <dc:title>Название презентации</dc:title>
</cp:coreProperties>
</file>