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3C113-B640-460B-BD5E-12170B778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F1D7A-2739-4649-AFFD-182EC21DF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42188-9C2D-42FB-8EBE-1DA321088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5415A-4F65-4558-9818-A894658D6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ED51E-BD81-4719-8D74-6AF3918CE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0107B-2945-4754-A050-770CF9B70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AAD0E-1C48-46E2-B958-DE41D10E8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47E34-1851-4C5A-AC45-ADEE52D1A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36191-F323-4E10-8769-131F662E4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1FC60-2EDA-4EA0-9479-444FEEACC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B2282-5FCF-4FE7-B685-06A0F2565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0C419-E485-4A83-8B0C-CF9E51C46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DA726-9F0A-48D2-AC6C-139CC5DD28F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9.jpeg"/><Relationship Id="rId3" Type="http://schemas.openxmlformats.org/officeDocument/2006/relationships/image" Target="../media/image9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28320"/>
            <a:ext cx="7307280" cy="3012840"/>
          </a:xfrm>
          <a:prstGeom prst="rect">
            <a:avLst/>
          </a:prstGeom>
          <a:solidFill>
            <a:srgbClr val="ffd966"/>
          </a:solidFill>
          <a:ln w="12600">
            <a:solidFill>
              <a:srgbClr val="ffffff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br>
              <a:rPr sz="4800"/>
            </a:b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Мнемотехника, как эффективная технология развития у детей связной речи»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579400" y="4319640"/>
            <a:ext cx="3973320" cy="861840"/>
          </a:xfrm>
          <a:prstGeom prst="rect">
            <a:avLst/>
          </a:prstGeom>
          <a:solidFill>
            <a:srgbClr val="ffffff">
              <a:alpha val="74000"/>
            </a:srgbClr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готовила педагог-психолог: Афанасьева И.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Рисунок 2" descr="Kurochka_Ryaba"/>
          <p:cNvPicPr/>
          <p:nvPr/>
        </p:nvPicPr>
        <p:blipFill>
          <a:blip r:embed="rId1"/>
          <a:stretch/>
        </p:blipFill>
        <p:spPr>
          <a:xfrm>
            <a:off x="2292480" y="1312920"/>
            <a:ext cx="4787640" cy="4243320"/>
          </a:xfrm>
          <a:prstGeom prst="rect">
            <a:avLst/>
          </a:prstGeom>
          <a:ln w="0">
            <a:noFill/>
          </a:ln>
        </p:spPr>
      </p:pic>
      <p:sp>
        <p:nvSpPr>
          <p:cNvPr id="60" name="Прямоугольник 3"/>
          <p:cNvSpPr/>
          <p:nvPr/>
        </p:nvSpPr>
        <p:spPr>
          <a:xfrm>
            <a:off x="2028960" y="270000"/>
            <a:ext cx="5684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азка «Курочка Ряба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solidFill>
            <a:srgbClr val="ffd966"/>
          </a:solidFill>
          <a:ln w="12600">
            <a:solidFill>
              <a:srgbClr val="5b9bd5"/>
            </a:solidFill>
            <a:miter/>
          </a:ln>
          <a:effectLst>
            <a:outerShdw dist="38183" dir="8100000" blurRad="0" rotWithShape="0">
              <a:srgbClr val="000000">
                <a:alpha val="4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учивание стихотворений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62" name="Содержимое 4" descr="C:\Users\1\Desktop\мнемотаблицы напечатано\Ispolzovanie_metoda_mnemotehniki_v_obychenii_rasskazivaniju\0.page52.jpg"/>
          <p:cNvPicPr/>
          <p:nvPr/>
        </p:nvPicPr>
        <p:blipFill>
          <a:blip r:embed="rId1"/>
          <a:srcRect l="16905" t="13759" r="6236" b="36598"/>
          <a:stretch/>
        </p:blipFill>
        <p:spPr>
          <a:xfrm>
            <a:off x="325440" y="1852560"/>
            <a:ext cx="4187880" cy="4700520"/>
          </a:xfrm>
          <a:prstGeom prst="rect">
            <a:avLst/>
          </a:prstGeom>
          <a:ln w="0">
            <a:noFill/>
          </a:ln>
        </p:spPr>
      </p:pic>
      <p:pic>
        <p:nvPicPr>
          <p:cNvPr id="63" name="Рисунок 5" descr="C:\Documents and Settings\Admin\Мои документы\Мои рисунки\p[.gif"/>
          <p:cNvPicPr/>
          <p:nvPr/>
        </p:nvPicPr>
        <p:blipFill>
          <a:blip r:embed="rId2"/>
          <a:stretch/>
        </p:blipFill>
        <p:spPr>
          <a:xfrm>
            <a:off x="4699080" y="2281320"/>
            <a:ext cx="4295520" cy="39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257040"/>
            <a:ext cx="7886880" cy="1433520"/>
          </a:xfrm>
          <a:prstGeom prst="rect">
            <a:avLst/>
          </a:prstGeom>
          <a:solidFill>
            <a:srgbClr val="ffd966"/>
          </a:solidFill>
          <a:ln w="12600">
            <a:solidFill>
              <a:srgbClr val="5b9bd5"/>
            </a:solidFill>
            <a:miter/>
          </a:ln>
          <a:effectLst>
            <a:outerShdw dist="38183" dir="8100000" blurRad="0" rotWithShape="0">
              <a:srgbClr val="000000">
                <a:alpha val="4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авление и отгадывание загадок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246240" y="1825200"/>
            <a:ext cx="8269200" cy="4351320"/>
          </a:xfrm>
          <a:prstGeom prst="rect">
            <a:avLst/>
          </a:prstGeom>
          <a:solidFill>
            <a:srgbClr val="ffffff">
              <a:alpha val="81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 коричневый, бывает овальный или круглый. Он маленький, растет на грядке в огороде. Его выкапывают. Его можно варить или жарить. (картофель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Рисунок 2" descr="SWScan00_0"/>
          <p:cNvPicPr/>
          <p:nvPr/>
        </p:nvPicPr>
        <p:blipFill>
          <a:blip r:embed="rId1"/>
          <a:srcRect l="10153" t="33227" r="66618" b="51237"/>
          <a:stretch/>
        </p:blipFill>
        <p:spPr>
          <a:xfrm>
            <a:off x="163440" y="3821040"/>
            <a:ext cx="1349280" cy="809640"/>
          </a:xfrm>
          <a:prstGeom prst="rect">
            <a:avLst/>
          </a:prstGeom>
          <a:ln w="0">
            <a:noFill/>
          </a:ln>
        </p:spPr>
      </p:pic>
      <p:pic>
        <p:nvPicPr>
          <p:cNvPr id="67" name="Рисунок 5" descr="Kurochka_Ryaba"/>
          <p:cNvPicPr/>
          <p:nvPr/>
        </p:nvPicPr>
        <p:blipFill>
          <a:blip r:embed="rId2"/>
          <a:srcRect l="41737" t="3042" r="43088" b="82881"/>
          <a:stretch/>
        </p:blipFill>
        <p:spPr>
          <a:xfrm>
            <a:off x="1641600" y="3868560"/>
            <a:ext cx="726840" cy="598680"/>
          </a:xfrm>
          <a:prstGeom prst="rect">
            <a:avLst/>
          </a:prstGeom>
          <a:ln w="0">
            <a:noFill/>
          </a:ln>
        </p:spPr>
      </p:pic>
      <p:pic>
        <p:nvPicPr>
          <p:cNvPr id="68" name="Рисунок 6" descr="Kurochka_Ryaba"/>
          <p:cNvPicPr/>
          <p:nvPr/>
        </p:nvPicPr>
        <p:blipFill>
          <a:blip r:embed="rId3"/>
          <a:srcRect l="34150" t="66581" r="34027" b="3317"/>
          <a:stretch/>
        </p:blipFill>
        <p:spPr>
          <a:xfrm>
            <a:off x="2297160" y="3762360"/>
            <a:ext cx="1523880" cy="12780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7" descr="C:\Users\1\Desktop\мнемотаблицы напечатано\мнемотаблицы\001.jpg"/>
          <p:cNvPicPr/>
          <p:nvPr/>
        </p:nvPicPr>
        <p:blipFill>
          <a:blip r:embed="rId4"/>
          <a:srcRect l="65616" t="52159" r="0" b="1252"/>
          <a:stretch/>
        </p:blipFill>
        <p:spPr>
          <a:xfrm>
            <a:off x="7045200" y="3610080"/>
            <a:ext cx="1271880" cy="13143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7" descr="C:\Users\1\Desktop\мнемотаблицы напечатано\мнемотаблицы\001.jpg"/>
          <p:cNvPicPr/>
          <p:nvPr/>
        </p:nvPicPr>
        <p:blipFill>
          <a:blip r:embed="rId5"/>
          <a:srcRect l="65616" t="0" r="0" b="49515"/>
          <a:stretch/>
        </p:blipFill>
        <p:spPr>
          <a:xfrm>
            <a:off x="3844800" y="3665520"/>
            <a:ext cx="1271880" cy="14223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" descr="C:\Users\1\Desktop\мнемотаблицы напечатано\мнемотаблицы\001.jpg"/>
          <p:cNvPicPr/>
          <p:nvPr/>
        </p:nvPicPr>
        <p:blipFill>
          <a:blip r:embed="rId6"/>
          <a:srcRect l="45957" t="79588" r="33702" b="0"/>
          <a:stretch/>
        </p:blipFill>
        <p:spPr>
          <a:xfrm>
            <a:off x="5064120" y="3587760"/>
            <a:ext cx="1976400" cy="14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1"/>
          <p:cNvSpPr/>
          <p:nvPr/>
        </p:nvSpPr>
        <p:spPr>
          <a:xfrm>
            <a:off x="257040" y="12240"/>
            <a:ext cx="75852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им образом,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ование методов мнемотехники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легчает запоминание и увеличивает объем памяти, развивает речемыслительную деятельность детей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воляет ребенку систематизировать свой непосредственный опыт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бенок с опорой на образы памяти устанавливает причинно-следственные связи, делает выводы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вает творческое познание детей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0600" y="609120"/>
            <a:ext cx="7339320" cy="526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«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йте разумное содержание жизни детей дошкольного возраста, и они у вас не будут ни глупыми, ни вялыми, ни безнравственными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…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о что значит дать разумное содержание жизни ребёнка дошкольного возраста? Это означает умение подыскать материал, пригодный для разнообразных занятий ребёнка, для его игр, упражнений и усовершенствования органов внешних чувств, а также для развития его наблюдательности. Этот материал должен быть доступен для его ума и сердца и должен укреплять его здоровье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»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. Н. Водовозова, 1901 год</a:t>
            </a:r>
            <a:endParaRPr b="0" lang="en-US" sz="2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2"/>
          <p:cNvSpPr/>
          <p:nvPr/>
        </p:nvSpPr>
        <p:spPr>
          <a:xfrm>
            <a:off x="363600" y="1476360"/>
            <a:ext cx="722160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немотехника - это система методов и приёмов, обеспечивающих эффективное запоминание, сохранение и воспроизведение информаци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. Д. Ушинский писал: «Учите ребёнка каким-нибудь неизвестным ему пяти словам - он будет долго и напрасно мучиться, но свяжите двадцать таких слов с картинками, и он усвоит на лету»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82480" y="364680"/>
            <a:ext cx="46080" cy="81000"/>
          </a:xfrm>
          <a:prstGeom prst="rect">
            <a:avLst/>
          </a:prstGeom>
          <a:solidFill>
            <a:srgbClr val="ffd966"/>
          </a:solidFill>
          <a:ln w="12600">
            <a:solidFill>
              <a:srgbClr val="5b9bd5"/>
            </a:solidFill>
            <a:miter/>
          </a:ln>
          <a:effectLst>
            <a:outerShdw dist="38183" dir="8100000" blurRad="0" rotWithShape="0">
              <a:srgbClr val="000000">
                <a:alpha val="40000"/>
              </a:srgbClr>
            </a:outerShdw>
          </a:effectLst>
        </p:spPr>
        <p:txBody>
          <a:bodyPr tIns="35280" bIns="35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2800"/>
            </a:b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 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500040" y="676440"/>
            <a:ext cx="7886880" cy="5783040"/>
          </a:xfrm>
          <a:prstGeom prst="rect">
            <a:avLst/>
          </a:prstGeom>
          <a:solidFill>
            <a:srgbClr val="ffffff">
              <a:alpha val="81000"/>
            </a:srgbClr>
          </a:solidFill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немотехника решает следующие задачи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очь детям в упорядочивании и систематизации познавательной информации об окружающем;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обогащать словарный запас детей, развивать связную речь;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учить последовательности, логичности, полноте и связности изложения;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развивать мышление, внимание, воображение, речеслуховую и зрительную память;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снять речевой негативизм, воспитать у детей потребность в речевом общении для лучшей адаптации в современном обществе;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развивать мелкую моторику у детей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3"/>
          <p:cNvSpPr/>
          <p:nvPr/>
        </p:nvSpPr>
        <p:spPr>
          <a:xfrm>
            <a:off x="363600" y="594360"/>
            <a:ext cx="75261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немотаблицы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ужат дидактическим материалом в работе по развитию связной речи для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оставления описательных рассказов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пересказывания сказок и текстов;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разучивании стихотворений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составлении и отгадывании загадок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3" descr="C:\Users\1\Desktop\мнемотаблицы напечатано\мнемотаблицы\93132837_large_j190126_1268844346.jpg"/>
          <p:cNvPicPr/>
          <p:nvPr/>
        </p:nvPicPr>
        <p:blipFill>
          <a:blip r:embed="rId1"/>
          <a:stretch/>
        </p:blipFill>
        <p:spPr>
          <a:xfrm>
            <a:off x="247680" y="647640"/>
            <a:ext cx="4110120" cy="29052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5" descr="C:\Users\1\Desktop\мнемотаблицы напечатано\мнемотаблицы\про дом животных.jpg"/>
          <p:cNvPicPr/>
          <p:nvPr/>
        </p:nvPicPr>
        <p:blipFill>
          <a:blip r:embed="rId2"/>
          <a:stretch/>
        </p:blipFill>
        <p:spPr>
          <a:xfrm>
            <a:off x="187200" y="3827520"/>
            <a:ext cx="4043520" cy="28544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6" descr="C:\Users\1\Desktop\мнемотаблицы напечатано\мнемотаблицы\мнемотаблица цветы.jpg"/>
          <p:cNvPicPr/>
          <p:nvPr/>
        </p:nvPicPr>
        <p:blipFill>
          <a:blip r:embed="rId3"/>
          <a:stretch/>
        </p:blipFill>
        <p:spPr>
          <a:xfrm>
            <a:off x="4505400" y="3816360"/>
            <a:ext cx="3852720" cy="28972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C:\Users\1\Desktop\мнемотаблицы напечатано\мнемотаблицы\001.jpg"/>
          <p:cNvPicPr/>
          <p:nvPr/>
        </p:nvPicPr>
        <p:blipFill>
          <a:blip r:embed="rId4"/>
          <a:stretch/>
        </p:blipFill>
        <p:spPr>
          <a:xfrm>
            <a:off x="4548240" y="700200"/>
            <a:ext cx="3699000" cy="28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28560" y="151920"/>
            <a:ext cx="7886880" cy="1078200"/>
          </a:xfrm>
          <a:prstGeom prst="rect">
            <a:avLst/>
          </a:prstGeom>
          <a:solidFill>
            <a:srgbClr val="ffd966"/>
          </a:solidFill>
          <a:ln w="12600">
            <a:solidFill>
              <a:srgbClr val="5b9bd5"/>
            </a:solidFill>
            <a:miter/>
          </a:ln>
          <a:effectLst>
            <a:outerShdw dist="38183" dir="8100000" blurRad="0" rotWithShape="0">
              <a:srgbClr val="000000">
                <a:alpha val="40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апы работа с мнемотаблицей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141120" y="1336320"/>
            <a:ext cx="8815680" cy="4840200"/>
          </a:xfrm>
          <a:prstGeom prst="rect">
            <a:avLst/>
          </a:prstGeom>
          <a:solidFill>
            <a:srgbClr val="ffffff">
              <a:alpha val="81000"/>
            </a:srgbClr>
          </a:solidFill>
          <a:ln w="0">
            <a:noFill/>
          </a:ln>
        </p:spPr>
        <p:txBody>
          <a:bodyPr anchor="t">
            <a:normAutofit fontScale="95000"/>
          </a:bodyPr>
          <a:p>
            <a:pPr marL="217080" indent="-217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сматривание таблицы и разбор того, что на ней изображено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17080" indent="-217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Осуществляется так называемое перекодирование информации, т.е. преобразование из абстрактных символов в образы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17080" indent="-217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После перекодирования осуществляется пересказ сказки, чтение стихотворения с опорой на символы (образы), т.е. происходит отработка метода запоминания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17080" indent="-217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Делается графическая зарисовка мнемотабицы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17080" indent="-217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Каждая таблица может быть воспроизведена ребёнком при её показе ему. При воспроизведении сказки основной упор делается на изображение главных героев. Детям задают вопросы: «Кто (что) спрятался в таблице? Про кого это произведение?»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17080" indent="-217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solidFill>
            <a:srgbClr val="ffd966"/>
          </a:solidFill>
          <a:ln w="12600">
            <a:solidFill>
              <a:srgbClr val="5b9bd5"/>
            </a:solidFill>
            <a:miter/>
          </a:ln>
          <a:effectLst>
            <a:outerShdw dist="38183" dir="8100000" blurRad="0" rotWithShape="0">
              <a:srgbClr val="000000">
                <a:alpha val="4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хема описательного рассказа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  временах года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54" name="Рисунок 3" descr="C:\Users\1\Desktop\мнемотаблицы напечатано\мнемотаблицы\003.jpg"/>
          <p:cNvPicPr/>
          <p:nvPr/>
        </p:nvPicPr>
        <p:blipFill>
          <a:blip r:embed="rId1"/>
          <a:stretch/>
        </p:blipFill>
        <p:spPr>
          <a:xfrm>
            <a:off x="1419120" y="1995480"/>
            <a:ext cx="6693120" cy="448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Содержимое 7" descr="C:\Users\1\Desktop\мнемотаблицы напечатано\Учебное пособие. мнемотехника с дошкольниками\0.page31.jpg"/>
          <p:cNvPicPr/>
          <p:nvPr/>
        </p:nvPicPr>
        <p:blipFill>
          <a:blip r:embed="rId1"/>
          <a:srcRect l="13081" t="11489" r="4632" b="35464"/>
          <a:stretch/>
        </p:blipFill>
        <p:spPr>
          <a:xfrm>
            <a:off x="303120" y="210960"/>
            <a:ext cx="7070760" cy="649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87360"/>
            <a:ext cx="7886880" cy="1303200"/>
          </a:xfrm>
          <a:prstGeom prst="rect">
            <a:avLst/>
          </a:prstGeom>
          <a:solidFill>
            <a:srgbClr val="ffd966"/>
          </a:solidFill>
          <a:ln w="12600">
            <a:solidFill>
              <a:srgbClr val="5b9bd5"/>
            </a:solidFill>
            <a:miter/>
          </a:ln>
          <a:effectLst>
            <a:outerShdw dist="38183" dir="8100000" blurRad="0" rotWithShape="0">
              <a:srgbClr val="000000">
                <a:alpha val="4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сказывание сказок и текстов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57" name="Содержимое 3" descr="Masha_i_Medwed"/>
          <p:cNvPicPr/>
          <p:nvPr/>
        </p:nvPicPr>
        <p:blipFill>
          <a:blip r:embed="rId1"/>
          <a:stretch/>
        </p:blipFill>
        <p:spPr>
          <a:xfrm>
            <a:off x="182520" y="1895400"/>
            <a:ext cx="4559400" cy="435132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1"/>
          <p:cNvSpPr/>
          <p:nvPr/>
        </p:nvSpPr>
        <p:spPr>
          <a:xfrm>
            <a:off x="4713120" y="2039760"/>
            <a:ext cx="44308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азка «Маша и медведь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ример: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«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ила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–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была девочка и пошла она в лес за шишками, да и заблудилась, и пришла к домику, где жил медведь. Пригласил он Машу погостить у себя в домике. Вот Маша испекла пирожки и просит Мишку отнести их дедушке и бабушке, а сама забралась в короб и молчит. Идёт Мишка по лесу, хочет сесть на пенёк съесть пирожок, а Маша из короба отвечает: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«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садись на пенёк, не ешь пирожок, неси бабушке и дедушке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»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ишёл медведь в деревню, испугался собак, оставил короб, да и в лес убежал, а Маша вернулась к бабушке и дедушке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»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19T20:52:53Z</dcterms:created>
  <dc:creator>Инна</dc:creator>
  <dc:description/>
  <dc:language>en-US</dc:language>
  <cp:lastModifiedBy>1</cp:lastModifiedBy>
  <dcterms:modified xsi:type="dcterms:W3CDTF">2017-03-09T08:22:33Z</dcterms:modified>
  <cp:revision>26</cp:revision>
  <dc:subject/>
  <dc:title>Название презентации</dc:title>
</cp:coreProperties>
</file>