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jpeg" ContentType="image/jpeg"/>
  <Override PartName="/ppt/media/image18.png" ContentType="image/png"/>
  <Override PartName="/ppt/media/image12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1F0-1790-4D47-A62C-7BCFF2B3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10D-C528-4A80-818C-545486D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18C-980B-4E87-B3EC-1E9A1582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B35-64B3-463D-B8BD-AF89ED85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FB22-1C71-4DC2-A13F-F1A4C2A4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509D-EE72-40C5-B858-C4C19A0B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D2EF-7EAF-4E49-A91E-D76D1695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61D9-EB5C-4544-9346-A0699C1A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50AE-4152-47A6-A3B3-97ED4534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DCA2-B3D4-439B-94A6-AA448ED6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4F8D-7DA1-434F-ACBA-C1C18F3C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DC9-1212-4D42-A26D-26325B9E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8707-29DF-4A7C-82C4-244D06F2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7533-FBD5-45A6-B816-08222A81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F500-4096-429D-9BA3-CE013B29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131B-B9FC-47DE-9424-CC357F69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3F3C-672A-4221-BEB6-94337423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6410-A93E-4EDD-8AB9-E31A4772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03F7-CC90-4168-9D7C-94445BAF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2D8A-E1CB-4CF5-9B4B-C2236C7C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4E39B-47C0-4D59-AEBD-DB04B2C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D6CE-C443-4284-B2EF-EF74DE9E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A22-E5F9-4488-A92E-A5FCAB4F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8C758-4E36-4873-A6E5-8659C86A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6745-7BDA-47F3-ADA0-5965C61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8670-9D52-4BED-9C43-5EA8E99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3312-3056-4757-BBFF-6C0FBC3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39EB-33C1-4EEA-852F-585F7AD2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17DF-7B7C-4769-860C-4F66E237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1EC4-02A1-4A79-91C3-DD4270DE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2928-A814-4705-B2B9-84F8F40E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339A-5C6E-4041-91C7-4B0FEE03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5660-55FE-42DA-9702-42CAF07D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430-EF89-484C-82B2-B24F41A2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4257-F002-473F-8897-4E5D2C1C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E24D0-A3F3-4B5F-BAD1-B3291EF2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49F50-FB91-41BA-A9A2-A51584C6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32F7-742C-4C5A-AE99-21A5E035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2698-551D-49EA-ADA1-AE5018B6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7ABB8-C679-4251-BB8D-3DDB842C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2F29E-ADB5-4B29-ADA9-CF23E61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5809C-840A-4A26-B09B-F147BD93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B442-7826-455B-B9A1-FD5C4DE9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AF81B-2193-47F2-8416-B680F526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4C5-4B7B-49BC-817B-9E8968B1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1236A-75E4-4C1E-AA88-38F2BF41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B5BE4-F12B-41D3-995B-9FD6EBC4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548E-62C5-4254-A747-A74648C3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AE22F-3209-4955-A69B-AD810EA2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CC449-D022-433E-9AC4-ECA2F989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D1185-67A0-491B-9505-96BA9E50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E673-FCCB-4A16-B04B-269EC098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1D85B-C8FE-4FBB-A68A-04D59B7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8D44F-EF8E-403F-9DD3-2F4D6074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BF97-0404-4EFC-8BCB-F0E43651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87A-8C87-4E23-96AB-E6D74EE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109C-C14E-4C43-AC0F-55D4CCB1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68AF-2370-4405-9543-069858B9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0F7F5-63F8-490E-BF62-78CE1F1C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9289F-F087-4D4D-98F5-32000CE9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CDF79-ABA4-4C56-BAF3-A6615E1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07D01-2C3D-4083-89E5-993FCE3A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0F16E-C44A-445F-A6CC-3D6D1AF1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BC7A5-4926-4CF2-BA24-5A804D6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D2CA-5FC7-4CBE-95FA-DBE4120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A706-BCD5-48DF-AA08-19A65BDC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A5E-E0DE-40D3-902B-2DF0EF4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8A75D-2519-4B9F-A34F-1B4AFF1E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EDDF2-00CF-4992-9053-47DFAED7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3801-9AE6-4075-8BCC-D8D8005C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D41E0-4569-4772-B42A-234446CA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EDA3-236E-4C51-9E2E-6C3B65AF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83434-9ED6-48EB-B369-3D17123B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E6B1-7CDE-4F07-A8CD-62D5C246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EA35D-ECED-488F-8A95-EDB7EF2B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74278-D469-4F01-9016-10B2105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15970-AC59-45FC-B43E-C442E38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8F4-42C2-4AD3-97FE-FDB9B1D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782B7-876C-45CE-904B-6992FFCE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DD387-83A0-4063-80D3-6D45CEF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A8E12-D069-4E24-B8F7-F2A9EC36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F0E3-4A04-4AF8-8425-CA53C88B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0240C-A344-4DA2-B55A-D636B45C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D33-D332-4C97-8489-ABA3B3D1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7ED7-1DA2-4D20-8C93-BB02E1AF606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361B-D420-42BD-8A9E-14731B2E9EB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4986-B8EB-4214-BBD7-61E6B5A4A43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ED73-89B6-4D2E-9E6C-DAC89F49E9B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45ED-15D1-4864-B67B-9F1EDECB1E3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371-84C7-4DD2-9FC7-40365919959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B071-9CDA-45E4-AAFA-01631B9B2A1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2"/>
          <p:cNvSpPr/>
          <p:nvPr/>
        </p:nvSpPr>
        <p:spPr>
          <a:xfrm>
            <a:off x="3492360" y="1989000"/>
            <a:ext cx="516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ая презентация на тему: «одеж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4ba4"/>
                </a:solidFill>
                <a:latin typeface="Times New Roman"/>
                <a:ea typeface="Times New Roman"/>
              </a:rPr>
              <a:t>« Оденем куклу Машу на прогул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7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8018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3" descr="jixoXjMxT.gif"/>
          <p:cNvPicPr/>
          <p:nvPr/>
        </p:nvPicPr>
        <p:blipFill>
          <a:blip r:embed="rId1"/>
          <a:stretch/>
        </p:blipFill>
        <p:spPr>
          <a:xfrm>
            <a:off x="244440" y="1773360"/>
            <a:ext cx="5775480" cy="530856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071800" y="2857680"/>
            <a:ext cx="1295280" cy="1295280"/>
          </a:xfrm>
          <a:prstGeom prst="rect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5"/>
          <p:cNvSpPr/>
          <p:nvPr/>
        </p:nvSpPr>
        <p:spPr>
          <a:xfrm>
            <a:off x="2411280" y="4869000"/>
            <a:ext cx="1440000" cy="14396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5435640" y="4325760"/>
            <a:ext cx="1297080" cy="1297080"/>
          </a:xfrm>
          <a:prstGeom prst="rect">
            <a:avLst/>
          </a:prstGeom>
          <a:solidFill>
            <a:srgbClr val="0070c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7"/>
          <p:cNvSpPr/>
          <p:nvPr/>
        </p:nvSpPr>
        <p:spPr>
          <a:xfrm>
            <a:off x="7278840" y="5157720"/>
            <a:ext cx="1439640" cy="1440000"/>
          </a:xfrm>
          <a:prstGeom prst="ellipse">
            <a:avLst/>
          </a:prstGeom>
          <a:solidFill>
            <a:srgbClr val="0070c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107 -0.4912 C 0.27187 -0.49051 0.26267 -0.49074 0.25364 -0.48912 C 0.24514 -0.4875 0.23489 -0.48194 0.22621 -0.4787 C 0.21823 -0.47569 0.21493 -0.47222 0.20712 -0.4662 C 0.20521 -0.46481 0.20156 -0.46204 0.20156 -0.4618 C 0.19861 -0.45532 0.1941 -0.44861 0.19201 -0.4412 C 0.1875 -0.42569 0.18958 -0.42106 0.17691 -0.4162 C 0.15139 -0.4169 0.12587 -0.41713 0.10035 -0.41829 C 0.08507 -0.41898 0.0618 -0.43356 0.04687 -0.4412 C 0.03524 -0.4544 0.04757 -0.44213 0.03594 -0.44954 C 0.02743 -0.45486 0.02291 -0.46134 0.01389 -0.46412 C 0.00833 -0.47083 0.00208 -0.47917 -0.00504 -0.48287 C -0.00851 -0.48472 -0.01597 -0.48704 -0.01597 -0.4868 C -0.04896 -0.48542 -0.05243 -0.49815 -0.06806 -0.47454 C -0.0691 -0.46944 -0.07153 -0.46504 -0.07205 -0.45995 C -0.07535 -0.43518 -0.07483 -0.40972 -0.079 -0.38495 C -0.07934 -0.37893 -0.08038 -0.34907 -0.08177 -0.33912 C -0.08559 -0.31157 -0.09653 -0.28796 -0.09948 -0.25995 C -0.10052 -0.25 -0.10261 -0.24074 -0.10365 -0.23079 C -0.10434 -0.22199 -0.10452 -0.20903 -0.10643 -0.19954 C -0.1125 -0.16782 -0.13559 -0.12847 -0.15695 -0.12037 C -0.15972 -0.1162 -0.1625 -0.11204 -0.16528 -0.10787 C -0.16806 -0.10347 -0.17275 -0.10324 -0.17622 -0.09954 C -0.18108 -0.09421 -0.18299 -0.08773 -0.18854 -0.08495 C -0.20313 -0.06805 -0.21893 -0.05393 -0.23368 -0.03704 C -0.24011 -0.02963 -0.26702 -0.02199 -0.27604 -0.02037 C -0.28368 -0.01643 -0.27882 -0.01875 -0.29115 -0.01412 C -0.29913 -0.01111 -0.3158 -0.00787 -0.3158 -0.00764 C -0.34809 -0.00949 -0.35868 -0.00231 -0.37865 -0.03287 C -0.38004 -0.0412 -0.38108 -0.04653 -0.3842 -0.0537 C -0.38316 -0.13194 -0.38577 -0.12454 -0.38143 -0.16829 C -0.38108 -0.17153 -0.38021 -0.18264 -0.37865 -0.18704 C -0.37622 -0.19352 -0.37205 -0.19861 -0.37049 -0.20579 C -0.36962 -0.20995 -0.36875 -0.21412 -0.36771 -0.21829 C -0.36736 -0.22037 -0.36632 -0.22454 -0.36632 -0.2243 E">
                                      <p:cBhvr>
                                        <p:cTn id="4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68 -0.3743 C 0.01511 -0.37338 -0.00677 -0.38194 -0.02239 -0.36805 C -0.03073 -0.36064 -0.03854 -0.35115 -0.04739 -0.34513 C -0.05034 -0.34328 -0.05694 -0.34097 -0.05694 -0.34074 C -0.06284 -0.33472 -0.06666 -0.33101 -0.07396 -0.32847 C -0.1059 -0.29652 -0.16232 -0.30625 -0.19427 -0.30555 C -0.19583 -0.30347 -0.19705 -0.30092 -0.19896 -0.2993 C -0.20052 -0.29814 -0.20277 -0.29884 -0.20364 -0.29722 C -0.20503 -0.2949 -0.20434 -0.29143 -0.20521 -0.28888 C -0.2059 -0.28657 -0.20781 -0.28495 -0.20833 -0.28263 C -0.20972 -0.2787 -0.21146 -0.27013 -0.21146 -0.2699 C -0.21198 -0.26527 -0.21284 -0.26041 -0.21319 -0.25555 C -0.21406 -0.23449 -0.21007 -0.18657 -0.21927 -0.1618 C -0.22291 -0.15231 -0.22378 -0.14444 -0.23177 -0.14097 C -0.24323 -0.14351 -0.25538 -0.14351 -0.26614 -0.1493 C -0.275 -0.15393 -0.27916 -0.1574 -0.28819 -0.15972 C -0.29427 -0.16458 -0.30104 -0.16782 -0.30677 -0.17222 C -0.31215 -0.17615 -0.31753 -0.18009 -0.32257 -0.18472 C -0.33281 -0.19444 -0.3217 -0.18865 -0.33194 -0.19305 C -0.34097 -0.20532 -0.35191 -0.21527 -0.36302 -0.2243 C -0.36996 -0.23657 -0.3658 -0.23078 -0.37725 -0.24097 C -0.38385 -0.24675 -0.38923 -0.25625 -0.39427 -0.26388 C -0.39861 -0.27013 -0.40434 -0.2743 -0.4085 -0.28055 C -0.41198 -0.28564 -0.41475 -0.29166 -0.41771 -0.29722 C -0.41979 -0.30069 -0.42396 -0.30763 -0.42396 -0.3074 C -0.42743 -0.32152 -0.42274 -0.30601 -0.43021 -0.32013 C -0.43281 -0.32476 -0.43402 -0.33009 -0.43663 -0.33472 C -0.43802 -0.33703 -0.43975 -0.33865 -0.44132 -0.34097 C -0.44948 -0.3537 -0.45208 -0.36666 -0.46319 -0.37638 C -0.47587 -0.40185 -0.49062 -0.43356 -0.51458 -0.44097 C -0.52604 -0.44444 -0.53767 -0.4456 -0.54896 -0.4493 C -0.55104 -0.45 -0.55312 -0.45069 -0.55538 -0.45138 C -0.62361 -0.44976 -0.69149 -0.44629 -0.76007 -0.44305 C -0.77083 -0.43819 -0.78298 -0.43541 -0.79444 -0.43263 C -0.79965 -0.43125 -0.80989 -0.42847 -0.80989 -0.42824 C -0.82257 -0.42013 -0.82448 -0.39907 -0.82864 -0.38263 C -0.83298 -0.3662 -0.83802 -0.35023 -0.83958 -0.33263 C -0.8408 -0.31944 -0.84132 -0.30625 -0.84271 -0.29305 C -0.84392 -0.28101 -0.84826 -0.27476 -0.85364 -0.26597 C -0.86128 -0.2537 -0.86701 -0.23981 -0.87552 -0.22847 C -0.87882 -0.2155 -0.89218 -0.20023 -0.90052 -0.19097 C -0.90364 -0.1875 -0.90694 -0.18425 -0.90989 -0.18055 C -0.91319 -0.17662 -0.91927 -0.16805 -0.91927 -0.16782 C -0.92587 -0.14166 -0.90538 -0.12777 -0.89114 -0.11597 C -0.87916 -0.10601 -0.86684 -0.10254 -0.85364 -0.09722 C -0.84479 -0.09375 -0.83472 -0.08773 -0.82552 -0.0868 C -0.81423 -0.08564 -0.8026 -0.08541 -0.79114 -0.08472 C -0.76805 -0.0743 -0.74184 -0.08333 -0.71771 -0.0868 C -0.70277 -0.09351 -0.73125 -0.08125 -0.69739 -0.09097 C -0.69514 -0.09166 -0.69323 -0.09398 -0.69132 -0.09513 C -0.68298 -0.09953 -0.68125 -0.09976 -0.67239 -0.10138 C -0.6651 -0.10277 -0.65087 -0.10555 -0.65087 -0.10532 C -0.62743 -0.10463 -0.61232 -0.11134 -0.59427 -0.0993 C -0.59149 -0.09745 -0.58923 -0.09444 -0.58663 -0.09305 C -0.58003 -0.08981 -0.57257 -0.09097 -0.56614 -0.0868 C -0.56163 -0.08379 -0.55225 -0.07847 -0.55225 -0.07824 C -0.54618 -0.0706 -0.53923 -0.0655 -0.53333 -0.05763 C -0.53142 -0.05 -0.53003 -0.0412 -0.53489 -0.03472 E">
                                      <p:cBhvr>
                                        <p:cTn id="50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2" descr=""/>
          <p:cNvPicPr/>
          <p:nvPr/>
        </p:nvPicPr>
        <p:blipFill>
          <a:blip r:embed="rId1"/>
          <a:srcRect l="21850" t="0" r="21969" b="0"/>
          <a:stretch/>
        </p:blipFill>
        <p:spPr>
          <a:xfrm>
            <a:off x="857160" y="1071720"/>
            <a:ext cx="2571840" cy="5422680"/>
          </a:xfrm>
          <a:prstGeom prst="rect">
            <a:avLst/>
          </a:prstGeom>
          <a:ln w="0">
            <a:noFill/>
          </a:ln>
        </p:spPr>
      </p:pic>
      <p:sp>
        <p:nvSpPr>
          <p:cNvPr id="366" name="Овал 4"/>
          <p:cNvSpPr/>
          <p:nvPr/>
        </p:nvSpPr>
        <p:spPr>
          <a:xfrm>
            <a:off x="1258920" y="3068640"/>
            <a:ext cx="1297080" cy="12240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2357280" y="4429080"/>
            <a:ext cx="936720" cy="936720"/>
          </a:xfrm>
          <a:prstGeom prst="rect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6"/>
          <p:cNvSpPr/>
          <p:nvPr/>
        </p:nvSpPr>
        <p:spPr>
          <a:xfrm>
            <a:off x="6659640" y="4905360"/>
            <a:ext cx="1297080" cy="1224000"/>
          </a:xfrm>
          <a:prstGeom prst="ellipse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4635360" y="5380200"/>
            <a:ext cx="936720" cy="936360"/>
          </a:xfrm>
          <a:prstGeom prst="rect">
            <a:avLst/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62 -0.02616 C 0.11754 -0.0257 0.11545 -0.02384 0.1132 -0.02454 C 0.10972 -0.02616 0.10243 -0.04445 0.09931 -0.05046 C 0.05035 -0.1956 0.0632 -0.14213 0.04913 -0.20787 C 0.04063 -0.22732 0.04167 -0.23195 0.02552 -0.22755 C 0.02222 -0.22639 0.01927 -0.225 0.01615 -0.22408 C 0.00035 -0.21343 -0.0158 -0.20347 -0.03142 -0.19213 C -0.03906 -0.18681 -0.0434 -0.16181 -0.04323 -0.16204 C -0.04219 -0.15046 -0.03975 -0.14121 -0.03871 -0.13033 C -0.03732 -0.11621 -0.04166 -0.0875 -0.04757 -0.07639 C -0.05104 -0.06991 -0.05694 -0.06644 -0.06146 -0.06134 C -0.1342 -0.01736 -0.15347 -0.00371 -0.21146 0.02245 C -0.21771 0.02407 -0.22448 0.0287 -0.23073 0.03032 C -0.23455 0.03125 -0.23819 0.0294 -0.24132 0.02986 C -0.24548 0.03079 -0.26701 0.04143 -0.2684 0.04213 C -0.28698 0.04954 -0.30451 0.05555 -0.32274 0.06412 C -0.36198 0.0743 -0.39913 0.10139 -0.43507 0.12245 C -0.46319 0.13148 -0.49132 0.14097 -0.51892 0.1537 C -0.53559 0.15463 -0.54705 0.15648 -0.56319 0.16041 C -0.58368 0.15741 -0.56007 0.15926 -0.58125 0.1625 C -0.58316 0.16296 -0.58489 0.16111 -0.5868 0.16134 C -0.61371 0.16204 -0.57778 0.16458 -0.60868 0.16342 C -0.62135 0.16319 -0.63663 0.15162 -0.64826 0.15347 C -0.66666 0.14028 -0.6434 0.15579 -0.66285 0.14629 C -0.66597 0.14491 -0.67048 0.13912 -0.67309 0.1368 C -0.68003 0.12986 -0.68663 0.12454 -0.69357 0.11759 C -0.70486 0.10555 -0.71892 0.09861 -0.73003 0.08704 C -0.73837 0.07801 -0.74791 0.06574 -0.75816 0.06088 C -0.76528 0.04791 -0.77639 0.04352 -0.78385 0.03079 C -0.79097 0.01944 -0.79774 0.00602 -0.80642 -0.00347 C -0.8283 -0.07084 -0.84583 -0.07408 -0.81528 -0.11296 C -0.76996 -0.13935 -0.68819 -0.20023 -0.62552 -0.21667 C -0.61649 -0.22315 -0.60625 -0.22778 -0.59809 -0.23611 C -0.59531 -0.23866 -0.59791 -0.24746 -0.59774 -0.25 C -0.5967 -0.25741 -0.59444 -0.26597 -0.59149 -0.27222 C -0.58368 -0.27431 -0.58333 -0.275 -0.58958 -0.27107 E">
                                      <p:cBhvr>
                                        <p:cTn id="56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427 0.15162 C 0.51771 0.14653 0.49167 0.14166 0.46562 0.13541 C 0.44497 0.13125 0.42691 0.11296 0.4066 0.10625 C 0.38819 0.10069 0.36875 0.09467 0.35052 0.08634 C 0.3408 0.07477 0.33872 0.06273 0.33715 0.04606 C 0.3408 0.02268 0.33889 0.01041 0.35417 0.00046 C 0.36406 -0.01459 0.38212 -0.0169 0.39601 -0.02338 C 0.40208 -0.02639 0.40729 -0.03148 0.41267 -0.03519 C 0.41858 -0.03866 0.42396 -0.04005 0.42969 -0.04468 C 0.43524 -0.04954 0.43872 -0.05625 0.44392 -0.06134 C 0.44774 -0.07222 0.45 -0.08403 0.45347 -0.09537 C 0.45486 -0.11505 0.45642 -0.13403 0.45747 -0.15324 C 0.45799 -0.16273 0.45191 -0.17454 0.44931 -0.18195 C 0.44392 -0.19884 0.43611 -0.21621 0.42361 -0.22454 C 0.41632 -0.23403 0.41632 -0.2375 0.40625 -0.24213 C 0.3967 -0.25185 0.39757 -0.25533 0.38611 -0.26019 C 0.37743 -0.27547 0.38767 -0.25996 0.37292 -0.27084 C 0.37083 -0.27292 0.36962 -0.27662 0.36753 -0.27824 C 0.36163 -0.28264 0.35503 -0.28472 0.34965 -0.28959 C 0.32118 -0.31551 0.29219 -0.33172 0.25868 -0.34329 C 0.25556 -0.34676 0.2526 -0.35116 0.24878 -0.35371 C 0.24549 -0.35579 0.24149 -0.35579 0.23802 -0.35764 C 0.23524 -0.35903 0.23212 -0.36134 0.22934 -0.36343 C 0.20174 -0.38449 0.17205 -0.40486 0.14115 -0.41412 C 0.12847 -0.4257 0.11493 -0.42732 0.10052 -0.43403 C 0.07153 -0.44722 0.10434 -0.43426 0.0783 -0.44422 C 0.06823 -0.45139 0.05885 -0.45764 0.04826 -0.46204 C 0.03333 -0.47547 0.01441 -0.47662 -0.00278 -0.48334 C -0.05538 -0.52269 -0.12049 -0.51181 -0.18003 -0.51435 C -0.18212 -0.51389 -0.18385 -0.51343 -0.18594 -0.51343 C -0.19149 -0.5132 -0.19653 -0.51435 -0.20208 -0.51389 C -0.20382 -0.51343 -0.20608 -0.51134 -0.20868 -0.51111 C -0.22083 -0.50834 -0.23299 -0.50949 -0.24514 -0.50695 C -0.27552 -0.50023 -0.23507 -0.50672 -0.2599 -0.50324 C -0.2658 -0.49884 -0.27101 -0.49699 -0.2776 -0.4956 C -0.28993 -0.47871 -0.28385 -0.48403 -0.29375 -0.47732 C -0.29948 -0.46111 -0.28993 -0.48542 -0.30313 -0.46204 C -0.30799 -0.45347 -0.31076 -0.43727 -0.31597 -0.42685 C -0.31649 -0.41505 -0.31875 -0.40301 -0.31771 -0.39144 C -0.31806 -0.38843 -0.30712 -0.37199 -0.30538 -0.37037 C -0.29878 -0.36158 -0.30434 -0.36806 -0.29375 -0.36204 C -0.28247 -0.35533 -0.27708 -0.34699 -0.26441 -0.34213 C -0.24253 -0.3257 -0.21806 -0.30903 -0.19462 -0.3007 C -0.18229 -0.28959 -0.19583 -0.3007 -0.17951 -0.29167 C -0.17066 -0.28658 -0.16285 -0.28056 -0.15417 -0.27709 C -0.14549 -0.26528 -0.1408 -0.26412 -0.13819 -0.24676 C -0.13958 -0.23403 -0.13976 -0.2213 -0.14358 -0.20972 C -0.14479 -0.20625 -0.15677 -0.20185 -0.16024 -0.19977 C -0.17326 -0.19213 -0.18628 -0.18426 -0.20104 -0.18195 C -0.20365 -0.18033 -0.20573 -0.17894 -0.20833 -0.17685 C -0.21181 -0.17361 -0.21823 -0.16597 -0.21858 -0.16667 C -0.22101 -0.16019 -0.22292 -0.15417 -0.225 -0.14838 C -0.22604 -0.1463 -0.22552 -0.14306 -0.22743 -0.14213 C -0.22969 -0.14144 -0.23177 -0.14074 -0.23385 -0.13935 C -0.23559 -0.13773 -0.23698 -0.13519 -0.23889 -0.13426 C -0.25069 -0.12639 -0.23976 -0.13658 -0.24566 -0.13102 E">
                                      <p:cBhvr>
                                        <p:cTn id="6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2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471760" cy="45561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"/>
          <p:cNvSpPr/>
          <p:nvPr/>
        </p:nvSpPr>
        <p:spPr>
          <a:xfrm>
            <a:off x="3845520" y="2421000"/>
            <a:ext cx="439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ят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3" descr="6282.jpeg"/>
          <p:cNvPicPr/>
          <p:nvPr/>
        </p:nvPicPr>
        <p:blipFill>
          <a:blip r:embed="rId1"/>
          <a:stretch/>
        </p:blipFill>
        <p:spPr>
          <a:xfrm>
            <a:off x="755640" y="213372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2378160" cy="40417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"/>
          <p:cNvSpPr/>
          <p:nvPr/>
        </p:nvSpPr>
        <p:spPr>
          <a:xfrm>
            <a:off x="3492360" y="4046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Назови предмет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3" descr="winter-sweater-clip-art-1480335.jpg"/>
          <p:cNvPicPr/>
          <p:nvPr/>
        </p:nvPicPr>
        <p:blipFill>
          <a:blip r:embed="rId1"/>
          <a:stretch/>
        </p:blipFill>
        <p:spPr>
          <a:xfrm>
            <a:off x="4572000" y="2276640"/>
            <a:ext cx="3745080" cy="2987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31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2" descr=""/>
          <p:cNvPicPr/>
          <p:nvPr/>
        </p:nvPicPr>
        <p:blipFill>
          <a:blip r:embed="rId1"/>
          <a:stretch/>
        </p:blipFill>
        <p:spPr>
          <a:xfrm>
            <a:off x="3260880" y="2097000"/>
            <a:ext cx="7261200" cy="8326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31705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2" descr="7896.jpeg"/>
          <p:cNvPicPr/>
          <p:nvPr/>
        </p:nvPicPr>
        <p:blipFill>
          <a:blip r:embed="rId1"/>
          <a:stretch/>
        </p:blipFill>
        <p:spPr>
          <a:xfrm>
            <a:off x="684360" y="1844640"/>
            <a:ext cx="3527280" cy="3529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970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2" descr=""/>
          <p:cNvPicPr/>
          <p:nvPr/>
        </p:nvPicPr>
        <p:blipFill>
          <a:blip r:embed="rId1"/>
          <a:stretch/>
        </p:blipFill>
        <p:spPr>
          <a:xfrm>
            <a:off x="250920" y="954000"/>
            <a:ext cx="3457440" cy="5875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3357720" y="3571920"/>
            <a:ext cx="2214360" cy="15746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0" descr=""/>
          <p:cNvPicPr/>
          <p:nvPr/>
        </p:nvPicPr>
        <p:blipFill>
          <a:blip r:embed="rId3"/>
          <a:stretch/>
        </p:blipFill>
        <p:spPr>
          <a:xfrm>
            <a:off x="2828880" y="3524400"/>
            <a:ext cx="5761080" cy="6143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4"/>
          <a:srcRect l="22578" t="0" r="20977" b="0"/>
          <a:stretch/>
        </p:blipFill>
        <p:spPr>
          <a:xfrm>
            <a:off x="3786120" y="1500120"/>
            <a:ext cx="1785960" cy="1886040"/>
          </a:xfrm>
          <a:prstGeom prst="rect">
            <a:avLst/>
          </a:prstGeom>
          <a:ln w="0">
            <a:noFill/>
          </a:ln>
        </p:spPr>
      </p:pic>
      <p:sp>
        <p:nvSpPr>
          <p:cNvPr id="351" name="TextBox 9"/>
          <p:cNvSpPr/>
          <p:nvPr/>
        </p:nvSpPr>
        <p:spPr>
          <a:xfrm>
            <a:off x="630360" y="333360"/>
            <a:ext cx="68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ЖЕМ НАШЕЙ ГОСТЬЕ ОДЕТЬСЯ НА ПРОГУ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8" descr="6282.jpeg"/>
          <p:cNvPicPr/>
          <p:nvPr/>
        </p:nvPicPr>
        <p:blipFill>
          <a:blip r:embed="rId5"/>
          <a:srcRect l="19225" t="0" r="20845" b="0"/>
          <a:stretch/>
        </p:blipFill>
        <p:spPr>
          <a:xfrm>
            <a:off x="6929280" y="2643120"/>
            <a:ext cx="1643400" cy="32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4" descr=""/>
          <p:cNvPicPr/>
          <p:nvPr/>
        </p:nvPicPr>
        <p:blipFill>
          <a:blip r:embed="rId1"/>
          <a:stretch/>
        </p:blipFill>
        <p:spPr>
          <a:xfrm>
            <a:off x="5076720" y="2352600"/>
            <a:ext cx="3888000" cy="38880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2"/>
          <p:cNvSpPr/>
          <p:nvPr/>
        </p:nvSpPr>
        <p:spPr>
          <a:xfrm>
            <a:off x="179280" y="2625840"/>
            <a:ext cx="51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«Подбери заплатку к одежд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4" descr="7907.jpeg"/>
          <p:cNvPicPr/>
          <p:nvPr/>
        </p:nvPicPr>
        <p:blipFill>
          <a:blip r:embed="rId1"/>
          <a:stretch/>
        </p:blipFill>
        <p:spPr>
          <a:xfrm>
            <a:off x="3141720" y="1484280"/>
            <a:ext cx="5958000" cy="595944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5"/>
          <p:cNvSpPr/>
          <p:nvPr/>
        </p:nvSpPr>
        <p:spPr>
          <a:xfrm>
            <a:off x="4572000" y="3860640"/>
            <a:ext cx="1008000" cy="897120"/>
          </a:xfrm>
          <a:prstGeom prst="rect">
            <a:avLst/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1332000" y="3906720"/>
            <a:ext cx="1008000" cy="912960"/>
          </a:xfrm>
          <a:prstGeom prst="rect">
            <a:avLst/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7"/>
          <p:cNvSpPr/>
          <p:nvPr/>
        </p:nvSpPr>
        <p:spPr>
          <a:xfrm>
            <a:off x="6215040" y="4857840"/>
            <a:ext cx="1079640" cy="11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8"/>
          <p:cNvSpPr/>
          <p:nvPr/>
        </p:nvSpPr>
        <p:spPr>
          <a:xfrm>
            <a:off x="395280" y="5157720"/>
            <a:ext cx="1081080" cy="112896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0.43912 C 0.10764 -0.4243 0.10244 -0.44051 0.10539 -0.40324 C 0.10556 -0.40023 0.10886 -0.39583 0.10973 -0.39329 C 0.11407 -0.38287 0.1198 -0.37616 0.12726 -0.36713 C 0.12969 -0.36065 0.13386 -0.35972 0.13889 -0.35486 C 0.14184 -0.35208 0.14341 -0.34815 0.14619 -0.34514 C 0.15348 -0.33773 0.1625 -0.32963 0.17101 -0.32315 C 0.1783 -0.31759 0.18803 -0.31481 0.19428 -0.3081 C 0.19601 -0.30602 0.20678 -0.2912 0.21042 -0.28889 C 0.2125 -0.2875 0.21528 -0.28727 0.21754 -0.28588 C 0.225 -0.28148 0.22796 -0.27824 0.23664 -0.27616 C 0.24844 -0.26944 0.24132 -0.27292 0.25834 -0.26643 C 0.26129 -0.26528 0.26719 -0.26389 0.26719 -0.26366 C 0.27032 -0.26088 0.28125 -0.25393 0.28473 -0.25278 C 0.2875 -0.25185 0.29063 -0.25162 0.29341 -0.25 C 0.29653 -0.24792 0.29914 -0.24514 0.30209 -0.24305 C 0.30348 -0.24236 0.30504 -0.24236 0.30643 -0.24167 C 0.31563 -0.23704 0.32744 -0.23148 0.33403 -0.22384 C 0.33976 -0.21759 0.3408 -0.21018 0.34445 -0.20324 C 0.34983 -0.19097 0.34497 -0.20648 0.34879 -0.19491 C 0.34931 -0.19305 0.34966 -0.1912 0.35018 -0.18958 C 0.35105 -0.1868 0.35313 -0.18125 0.35313 -0.18102 C 0.35244 -0.16944 0.35452 -0.15741 0.35018 -0.14653 C 0.34931 -0.14398 0.34688 -0.14213 0.34584 -0.13958 C 0.34132 -0.13009 0.3375 -0.12222 0.33108 -0.11366 C 0.32934 -0.11088 0.31719 -0.10417 0.31528 -0.10255 C 0.29584 -0.08796 0.27275 -0.08102 0.24966 -0.07361 C 0.24289 -0.06713 0.23299 -0.06435 0.22639 -0.05833 C 0.22188 -0.05393 0.21667 -0.05231 0.21181 -0.04861 C 0.19757 -0.03727 0.21598 -0.05116 0.20452 -0.04028 C 0.20174 -0.03773 0.19844 -0.03611 0.19584 -0.03356 C 0.18941 -0.01551 0.1974 0.00023 0.21615 0.0037 C 0.22518 0.00949 0.24879 0.00926 0.26129 0.01088 C 0.27327 0.00972 0.28542 0.00926 0.29757 0.00787 C 0.30157 0.00741 0.30903 0.00509 0.30903 0.00533 C 0.32396 -0.00417 0.33282 -0.00602 0.35018 -0.00602 E">
                                      <p:cBhvr>
                                        <p:cTn id="3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7 -0.27176 C 0.24288 -0.26505 0.24878 -0.26597 0.25243 -0.25972 C 0.25573 -0.25417 0.26093 -0.24884 0.26371 -0.24306 C 0.26736 -0.23565 0.26962 -0.22801 0.27517 -0.2213 C 0.27621 -0.21759 0.27725 -0.21412 0.27986 -0.21065 C 0.28194 -0.20208 0.28576 -0.19375 0.28837 -0.18495 C 0.28941 -0.18218 0.28941 -0.17824 0.29132 -0.17546 C 0.29444 -0.1706 0.29514 -0.17083 0.29878 -0.16644 C 0.30173 -0.1632 0.30382 -0.15926 0.30833 -0.15695 C 0.30989 -0.15625 0.31146 -0.15556 0.31302 -0.1544 C 0.31805 -0.15116 0.32274 -0.14745 0.32916 -0.1456 C 0.33559 -0.14167 0.34201 -0.13935 0.34982 -0.13843 C 0.39288 -0.13889 0.39097 -0.13241 0.4125 -0.14329 C 0.41423 -0.1456 0.41475 -0.14815 0.41718 -0.15046 C 0.4217 -0.15509 0.42743 -0.16042 0.43316 -0.16412 C 0.43489 -0.16852 0.43281 -0.16505 0.43767 -0.16968 C 0.44166 -0.17338 0.44427 -0.17801 0.44739 -0.18195 C 0.44982 -0.18495 0.45173 -0.18843 0.45399 -0.19144 C 0.45451 -0.19213 0.45573 -0.19375 0.45573 -0.19352 C 0.45694 -0.19745 0.45885 -0.20023 0.46059 -0.20347 C 0.46284 -0.20718 0.46354 -0.21111 0.46632 -0.21482 C 0.46805 -0.2206 0.47066 -0.22245 0.47378 -0.22778 C 0.47569 -0.23102 0.47812 -0.23333 0.48038 -0.23657 C 0.48125 -0.23773 0.48142 -0.23889 0.48246 -0.23982 C 0.48316 -0.24051 0.48437 -0.24051 0.48524 -0.24144 C 0.49027 -0.2456 0.48611 -0.24329 0.48993 -0.24861 C 0.49184 -0.25139 0.49583 -0.25417 0.49843 -0.25648 C 0.50173 -0.26482 0.51146 -0.26991 0.51736 -0.27662 C 0.52152 -0.28125 0.52482 -0.28634 0.52968 -0.29051 C 0.53437 -0.29445 0.53975 -0.29792 0.54496 -0.30162 C 0.54652 -0.30301 0.54774 -0.30463 0.54965 -0.30556 C 0.55243 -0.30718 0.55625 -0.30718 0.55902 -0.3088 C 0.56597 -0.31273 0.57343 -0.31574 0.58177 -0.3169 C 0.59045 -0.32176 0.61371 -0.32292 0.62343 -0.32338 C 0.67725 -0.32269 0.67552 -0.32384 0.71232 -0.31782 C 0.71771 -0.31458 0.71423 -0.31644 0.72378 -0.31366 C 0.72968 -0.31204 0.74201 -0.30139 0.74635 -0.29769 C 0.75156 -0.29329 0.75868 -0.28657 0.76163 -0.28079 C 0.76371 -0.27616 0.76614 -0.27292 0.77014 -0.26945 C 0.77135 -0.2662 0.77413 -0.26389 0.77569 -0.26065 C 0.77899 -0.2544 0.78177 -0.24838 0.78524 -0.24213 C 0.78559 -0.24097 0.78541 -0.23958 0.78611 -0.2382 C 0.7868 -0.23727 0.78854 -0.23681 0.78906 -0.23588 C 0.78975 -0.23403 0.78958 -0.23195 0.78993 -0.23009 C 0.7908 -0.22662 0.79201 -0.22269 0.79288 -0.21875 C 0.79479 -0.19653 0.80295 -0.16227 0.78142 -0.14398 C 0.77986 -0.14005 0.78177 -0.14282 0.7776 -0.14005 C 0.77187 -0.13565 0.77326 -0.13426 0.76545 -0.13195 C 0.75937 -0.12685 0.76649 -0.13195 0.75677 -0.1287 C 0.75538 -0.12824 0.75451 -0.12685 0.75312 -0.12639 C 0.75191 -0.1257 0.75052 -0.12593 0.7493 -0.1257 C 0.74149 -0.12292 0.73402 -0.11945 0.72656 -0.11667 C 0.72152 -0.11482 0.7158 -0.11458 0.71041 -0.11343 C 0.69982 -0.11088 0.68941 -0.10972 0.6783 -0.10857 C 0.67413 -0.10764 0.66892 -0.10695 0.6651 -0.10556 C 0.66389 -0.10486 0.66319 -0.10417 0.66215 -0.1037 C 0.65816 -0.10255 0.65816 -0.10394 0.65468 -0.10139 C 0.64201 -0.09282 0.63698 -0.07986 0.63489 -0.06667 C 0.63541 -0.05556 0.63489 -0.05255 0.63941 -0.04421 C 0.64166 -0.04051 0.63923 -0.04306 0.64132 -0.04097 E">
                                      <p:cBhvr>
                                        <p:cTn id="40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13:36:34Z</dcterms:created>
  <dc:creator>1;Васильева И.В</dc:creator>
  <dc:description/>
  <dc:language>en-US</dc:language>
  <cp:lastModifiedBy>a</cp:lastModifiedBy>
  <cp:lastPrinted>2018-12-23T07:21:48Z</cp:lastPrinted>
  <dcterms:modified xsi:type="dcterms:W3CDTF">2018-12-23T07:58:50Z</dcterms:modified>
  <cp:revision>46</cp:revision>
  <dc:subject/>
  <dc:title>Слайд 1</dc:title>
</cp:coreProperties>
</file>