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860-7840-4BC3-A6BE-59F4BF48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E80-5FA3-43D7-90F8-098F9697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D1E-1FB9-4B87-97DA-F96D7516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0BF-5C02-49A3-AAA0-49CCE96B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FFF-74B2-4165-AFA1-0CAAA789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40D-3D86-4289-8769-276EB272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43F-A59A-401C-A2F4-DFBD9B94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46D-15A2-426E-8487-E1D589A2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3CD-8716-4155-9085-7271C42B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4DC-AC03-4302-A313-58D50DBE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F50-CC33-498D-B1DC-F3E98EF4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74D-5222-4A1A-A052-512FF646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0BA2-A7AC-4963-9586-AD701BE69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22160" y="47628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езентация по ПД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Леха</cp:lastModifiedBy>
  <dcterms:modified xsi:type="dcterms:W3CDTF">2015-12-16T18:28:38Z</dcterms:modified>
  <cp:revision>69</cp:revision>
  <dc:subject/>
  <dc:title>Слайд 1</dc:title>
</cp:coreProperties>
</file>