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51F-B694-4FF8-B094-ADC1E708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723-BAB4-462C-93F7-A43EC9B7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BC6-E6C0-4844-8C0B-7F1F6972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421-AE61-409E-ABB8-AE75F432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998-9D59-4DCB-82DD-835BCF0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4CD-5347-4431-BFF5-BC642F1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98C-4FD9-453D-9DD9-A65BD4D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C29-1BFD-4220-970E-F2830F46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A9E-7969-419C-9BB8-CCE2B524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D99-D6ED-40E2-916E-F8180E33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565-302D-4776-8983-863734B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230-1E86-4B0C-A41A-0C602F6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76A-BF7F-45A0-8AA1-E6B3807EE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22160" y="47628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зентация по ПД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Леха</cp:lastModifiedBy>
  <dcterms:modified xsi:type="dcterms:W3CDTF">2015-12-16T18:28:38Z</dcterms:modified>
  <cp:revision>69</cp:revision>
  <dc:subject/>
  <dc:title>Слайд 1</dc:title>
</cp:coreProperties>
</file>