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C25C-0FB5-4755-AAFD-2A9075656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84A4-288B-49B5-BFC1-974F857E2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BA1A1C-EBA8-48B7-8D61-75B46632B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6FA429-F538-4E04-9EE2-BD893AC64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205161-EBCE-4C44-87DA-AC02D00A6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8AFB5D-5968-489B-8DEF-2FD68EDD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5574F3-29C8-4CB0-B076-38D554AD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3A8E2E-1770-4982-83A5-3C6F3D6F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E5EA2A-D046-4699-8378-A3312770C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813517-067A-4A1C-A58C-29495A3D1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173075-4C82-4934-8D52-CC3A5C60F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77929F-B316-4B03-A65B-D013ACBB5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9FBE-4A5D-4461-8CDC-A654FCA28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27DB24-898A-49C1-A64E-D3EADC9A7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D6C771-2E1C-4DDF-9FCB-948305AD0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9FBBAE-EDD3-4B85-9EC8-55114C431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95B47E-F0B7-41FD-98DB-3D14C5233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C69752-5274-471C-9252-DF4440B64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D40853-DA5D-4423-A364-8556AB81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5644AC-BD0F-4C9E-BEED-DB2D881C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73004B-A536-46EE-9885-FAECB594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E2AAB2-C119-42EE-B584-6ABE2FF97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AA5153-BDA3-4416-BEA4-2CC5B144F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658F-2C26-48CC-A62D-B6CDD8D04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C3D766-96C2-4118-890E-1420ED49B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1FB7E0-AE74-4A4C-870E-44BB6BB5C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D17D73-CF79-448F-B165-A2556C528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059F60-4430-4A7E-B476-D7AC11DF2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7B98E5-42DE-454D-A185-07451570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829BB5-9D46-4A4F-BE72-A7319E8CA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BA068D-9324-4A69-B661-ABA618DF2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29494D-563C-4B5B-BE99-514C6C8C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90C48F-7D13-45F6-B39D-24603B84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96CB7B-3A67-4927-93C9-925D480F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BEFEF-0496-40FF-B04D-52BB705EB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FFC703-F9F8-4E2C-9625-77E0F4500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00716C-A55A-480A-B470-1CE62FE6D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A670D2-2A05-436C-89F2-1E6961DFD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406DC6-E780-4783-9B40-60D250983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17B492-FBC7-46C8-8E7A-118D69DC3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078E2F-5498-47B0-AEDC-3EF8A0F62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D78D6C-A587-4E43-A647-311EAA9A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3BFDA0-B042-4614-BE78-E9F112165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311361-4D8A-4416-8073-DFE4B3D61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62BB24-6894-4851-BC98-2ACC0876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6D420-AD74-454C-99C9-2E4D8DA3E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4ED523-092E-4F86-979B-7EBEDDFF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0DD56C-151D-448B-9C44-7E24BC5E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6C0037-A3CB-407F-ACED-19D42FBA1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512DEA-B472-4ADA-BCE4-86C507ED1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8CA811-F2EC-4DD9-950C-4D2B3FC37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B7312-1290-4AA6-90DB-D20529904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3C668-D242-430B-9BF3-147B929E3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C55B2-F595-4AC5-B393-72F772937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EA23A-22E0-4020-A3DF-E8DD7C04D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FD019-7D3E-45E3-997D-3813576E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26C0-7FAD-4C9B-837A-02204630F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56121-6163-41DB-AB9A-6FCBDA5A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B6CC0-9D01-4634-93E6-722CB377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DA476-35A4-4C63-86CA-64ED7DAA0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A57F6-F9C2-44DF-A40A-7767D3505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AD0EF-799D-4BE9-AE0A-21BE67DE7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B11BC-4053-4BE1-B9C9-6740CF655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45826-1359-472B-BDF6-21B863406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9B5BE-F8B4-4EAC-9A77-D84C20132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6D3DD-1034-41FD-825C-C911384C6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4305A-7B38-443B-BBF1-FAEB3A9AF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43DD-6DA6-4911-8825-E6C7100C0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D31DE-1F23-419C-A96B-B14CDA7F5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0819F-0CF9-4204-AB5B-35A0BD39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B5B52-33C3-4E0D-97B0-1C3CCC35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F2AFC-BCCF-4F74-AF9D-CF7E36E3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932BA-DD20-4800-910B-07A63BEA6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844A8-BEB8-4B21-920C-6DED00357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7126C-4227-46B6-87E9-C37A4FC78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D5F94-EB05-4953-85B5-C4857F9A0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D472D-FCE4-41E8-AF9B-4FF2DBD6B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2B8A1-8A14-43CB-8786-4DBCD7FA0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DCCD-C38D-49DD-BDD4-B365F54D1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2F1C5-33C5-4F2B-AC0D-29F61D4EE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746E5-FBD5-416D-A7A0-EC377FF68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D1864-9BC6-461E-890A-182E1DAFE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81470-FD29-4E11-8D92-AC003904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70C47-245F-4544-93C0-5AA10F90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011FD-8F1B-4FEF-97E8-38875D4E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092EF-3EC9-4271-B265-801BC9C00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16E1B-54E1-4210-A366-CAB3AD31F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B1F45-0BB7-42C9-AAAE-D731615A6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6A64B-0B29-4BE2-AC21-EAA3F9217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BE6A-4432-4381-8E1C-6C5488272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1CADD-C0B9-4670-B761-C6C9B9F76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4B44F-8FC6-4F97-B894-4632127C4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3F896-DB91-4206-9C1F-F835CF72F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81F8A-4E1D-4D2B-8A0C-1BE4C87B6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E5C15-3F1F-4F58-9815-A4EFE01A7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F56BF-0FA8-4328-9040-3D5F8921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0E1A7-5F68-4D11-B9F4-89705B2B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FE8DD-E26A-4E3A-BF02-B2FFB584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2B354-3C6B-4BEE-AC19-8AAC81202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71D7A-595E-41A7-A523-4292FECF0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6838-C29B-4241-A1DD-721F059AE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AC03D-F672-4356-A3A5-77D8079AF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B7E4A-F529-46BE-82F8-0FFAFFBDD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4C963-DAFB-457B-B0B8-42BECC953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D8703-450B-41CC-A03A-79953327A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8CF2D-3EAD-4187-9054-48E3E9DCC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33579-666C-4B8E-BC07-785A793FB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6AC8F-CBB4-44E5-944A-8DF9E113F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C6B41-65DD-4305-A87D-ED747CCA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54F9B-D74D-4859-8A12-6260A005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AF4A3-475B-4C3A-8495-600202FE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6DD8-C786-4EB6-B397-522A8A16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0D96A-E813-41F9-84EF-2E75C57AF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32BD8A-EA72-4387-A4CF-C201C79BA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EA23FB-7CA8-469C-812B-91155413D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DC3CA-D446-4F23-AA14-D1D2BAF09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D9302-2674-4691-BECB-11874849F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45C2D-E109-456A-B576-D16C84585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0A83ED-2BD1-477D-BA40-E1D6D912E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613C4E-2991-44AE-B978-511EF2BE4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4F14A-7A99-48D0-AA3D-BF7946335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6BA106-3F8C-4120-8B24-D7E9FA03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81C4-48EF-4515-A70E-559412B2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D44014-B3DA-4741-82B7-89E8090C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D93776-F65D-4599-B3C8-C09AAAB1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AF9E32-DE2E-4B5F-AC68-E1AF58A94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F40279-776D-41D5-A312-A374680DE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7B12FA-1B03-4127-A5CF-ADDF681F0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F20E48-C0BE-46D1-895B-D232F0EA6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E3EF3D-BDF3-478D-AD2F-14F09BE3C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A7990-1F29-4303-BF0B-96F858620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F4E92-F802-469C-B2D0-BF419F300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D2674-E916-4E08-B119-FF247E575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87F8-E2EB-4B82-80A3-DD495342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232942-372D-4CF2-BE4D-CB0CC9C1B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A644F3-9444-494F-BD51-87A82845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A08A04-C77A-4B61-80F5-A45EB64B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D9CB3C-5C82-427D-AAAB-B7CB0180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FB1394-0E6D-465E-8477-591AD505F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FBE918-8B56-473D-A9A5-7FDE81142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A961E0-4F49-4FA8-9C79-CD0EFA6BD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AE5A47-7D5C-45A1-A852-0AF50F5DE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8C18F2-28D6-4B7E-ACC5-062BBB919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ED30B9-2C72-43E7-81C9-C67A4C21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Calibri"/>
              </a:rPr>
              <a:t>FokinaLida.75@mail.ru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7DC9A-9FAF-44FE-B4F5-DFB31FFDB9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оугольник 6"/>
          <p:cNvSpPr/>
          <p:nvPr/>
        </p:nvSpPr>
        <p:spPr>
          <a:xfrm>
            <a:off x="357120" y="428760"/>
            <a:ext cx="8358120" cy="6000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2" descr="C:\Documents and Settings\Admin\Рабочий стол\новые фоны\ПДД\d29ea7e7ccb3.jpg"/>
          <p:cNvPicPr/>
          <p:nvPr/>
        </p:nvPicPr>
        <p:blipFill>
          <a:blip r:embed="rId3"/>
          <a:stretch/>
        </p:blipFill>
        <p:spPr>
          <a:xfrm>
            <a:off x="142920" y="4429080"/>
            <a:ext cx="2000160" cy="200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Прямоугольник 6"/>
          <p:cNvSpPr/>
          <p:nvPr/>
        </p:nvSpPr>
        <p:spPr>
          <a:xfrm>
            <a:off x="357120" y="428760"/>
            <a:ext cx="8358120" cy="6000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2" descr="C:\Documents and Settings\Admin\Рабочий стол\новые фоны\ПДД\d29ea7e7ccb3.jpg"/>
          <p:cNvPicPr/>
          <p:nvPr/>
        </p:nvPicPr>
        <p:blipFill>
          <a:blip r:embed="rId3"/>
          <a:stretch/>
        </p:blipFill>
        <p:spPr>
          <a:xfrm>
            <a:off x="142920" y="4429080"/>
            <a:ext cx="2000160" cy="20001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77E6F-289B-4CF1-8CA2-4ED70CF26E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Прямоугольник 6"/>
          <p:cNvSpPr/>
          <p:nvPr/>
        </p:nvSpPr>
        <p:spPr>
          <a:xfrm>
            <a:off x="357120" y="428760"/>
            <a:ext cx="8358120" cy="6000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2" descr="C:\Documents and Settings\Admin\Рабочий стол\новые фоны\ПДД\d29ea7e7ccb3.jpg"/>
          <p:cNvPicPr/>
          <p:nvPr/>
        </p:nvPicPr>
        <p:blipFill>
          <a:blip r:embed="rId3"/>
          <a:stretch/>
        </p:blipFill>
        <p:spPr>
          <a:xfrm>
            <a:off x="142920" y="4429080"/>
            <a:ext cx="2000160" cy="200016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A8353-3E59-4BFB-9CA4-F730B47FF3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Прямоугольник 6"/>
          <p:cNvSpPr/>
          <p:nvPr/>
        </p:nvSpPr>
        <p:spPr>
          <a:xfrm>
            <a:off x="357120" y="428760"/>
            <a:ext cx="8358120" cy="6000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2" descr="C:\Documents and Settings\Admin\Рабочий стол\новые фоны\ПДД\d29ea7e7ccb3.jpg"/>
          <p:cNvPicPr/>
          <p:nvPr/>
        </p:nvPicPr>
        <p:blipFill>
          <a:blip r:embed="rId3"/>
          <a:stretch/>
        </p:blipFill>
        <p:spPr>
          <a:xfrm>
            <a:off x="142920" y="4429080"/>
            <a:ext cx="2000160" cy="200016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A5048-0CD5-4D91-AE65-F35B13CC44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6"/>
          <p:cNvSpPr/>
          <p:nvPr/>
        </p:nvSpPr>
        <p:spPr>
          <a:xfrm>
            <a:off x="357120" y="428760"/>
            <a:ext cx="8358120" cy="6000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\Рабочий стол\новые фоны\ПДД\d29ea7e7ccb3.jpg"/>
          <p:cNvPicPr/>
          <p:nvPr/>
        </p:nvPicPr>
        <p:blipFill>
          <a:blip r:embed="rId3"/>
          <a:stretch/>
        </p:blipFill>
        <p:spPr>
          <a:xfrm>
            <a:off x="142920" y="4429080"/>
            <a:ext cx="2000160" cy="20001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70D54-942F-4260-97D9-D1018D9CB4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6"/>
          <p:cNvSpPr/>
          <p:nvPr/>
        </p:nvSpPr>
        <p:spPr>
          <a:xfrm>
            <a:off x="357120" y="428760"/>
            <a:ext cx="8358120" cy="6000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C:\Documents and Settings\Admin\Рабочий стол\новые фоны\ПДД\d29ea7e7ccb3.jpg"/>
          <p:cNvPicPr/>
          <p:nvPr/>
        </p:nvPicPr>
        <p:blipFill>
          <a:blip r:embed="rId3"/>
          <a:stretch/>
        </p:blipFill>
        <p:spPr>
          <a:xfrm>
            <a:off x="142920" y="4429080"/>
            <a:ext cx="2000160" cy="20001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1AE34-6890-4BBA-B477-1267F43277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6"/>
          <p:cNvSpPr/>
          <p:nvPr/>
        </p:nvSpPr>
        <p:spPr>
          <a:xfrm>
            <a:off x="357120" y="428760"/>
            <a:ext cx="8358120" cy="6000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C:\Documents and Settings\Admin\Рабочий стол\новые фоны\ПДД\d29ea7e7ccb3.jpg"/>
          <p:cNvPicPr/>
          <p:nvPr/>
        </p:nvPicPr>
        <p:blipFill>
          <a:blip r:embed="rId3"/>
          <a:stretch/>
        </p:blipFill>
        <p:spPr>
          <a:xfrm>
            <a:off x="142920" y="4429080"/>
            <a:ext cx="2000160" cy="20001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68A60-F4A6-48F8-9E0D-BDF554DBE6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Прямоугольник 6"/>
          <p:cNvSpPr/>
          <p:nvPr/>
        </p:nvSpPr>
        <p:spPr>
          <a:xfrm>
            <a:off x="357120" y="428760"/>
            <a:ext cx="8358120" cy="6000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C:\Documents and Settings\Admin\Рабочий стол\новые фоны\ПДД\d29ea7e7ccb3.jpg"/>
          <p:cNvPicPr/>
          <p:nvPr/>
        </p:nvPicPr>
        <p:blipFill>
          <a:blip r:embed="rId3"/>
          <a:stretch/>
        </p:blipFill>
        <p:spPr>
          <a:xfrm>
            <a:off x="142920" y="4429080"/>
            <a:ext cx="2000160" cy="20001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82F5C-5386-44C0-B55F-08D62B26BF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6"/>
          <p:cNvSpPr/>
          <p:nvPr/>
        </p:nvSpPr>
        <p:spPr>
          <a:xfrm>
            <a:off x="357120" y="428760"/>
            <a:ext cx="8358120" cy="6000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" descr="C:\Documents and Settings\Admin\Рабочий стол\новые фоны\ПДД\d29ea7e7ccb3.jpg"/>
          <p:cNvPicPr/>
          <p:nvPr/>
        </p:nvPicPr>
        <p:blipFill>
          <a:blip r:embed="rId3"/>
          <a:stretch/>
        </p:blipFill>
        <p:spPr>
          <a:xfrm>
            <a:off x="142920" y="4429080"/>
            <a:ext cx="2000160" cy="200016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2A3FB-01A7-4F31-83D8-C14AAD4AD0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Прямоугольник 6"/>
          <p:cNvSpPr/>
          <p:nvPr/>
        </p:nvSpPr>
        <p:spPr>
          <a:xfrm>
            <a:off x="357120" y="428760"/>
            <a:ext cx="8358120" cy="6000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2" descr="C:\Documents and Settings\Admin\Рабочий стол\новые фоны\ПДД\d29ea7e7ccb3.jpg"/>
          <p:cNvPicPr/>
          <p:nvPr/>
        </p:nvPicPr>
        <p:blipFill>
          <a:blip r:embed="rId3"/>
          <a:stretch/>
        </p:blipFill>
        <p:spPr>
          <a:xfrm>
            <a:off x="142920" y="4429080"/>
            <a:ext cx="2000160" cy="200016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10B2D-BDEE-43C9-8172-3099709D77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Прямоугольник 6"/>
          <p:cNvSpPr/>
          <p:nvPr/>
        </p:nvSpPr>
        <p:spPr>
          <a:xfrm>
            <a:off x="357120" y="428760"/>
            <a:ext cx="8358120" cy="6000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2" descr="C:\Documents and Settings\Admin\Рабочий стол\новые фоны\ПДД\d29ea7e7ccb3.jpg"/>
          <p:cNvPicPr/>
          <p:nvPr/>
        </p:nvPicPr>
        <p:blipFill>
          <a:blip r:embed="rId3"/>
          <a:stretch/>
        </p:blipFill>
        <p:spPr>
          <a:xfrm>
            <a:off x="142920" y="4429080"/>
            <a:ext cx="2000160" cy="200016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D66DE-AA5E-4DC6-B549-69E4066444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Прямоугольник 6"/>
          <p:cNvSpPr/>
          <p:nvPr/>
        </p:nvSpPr>
        <p:spPr>
          <a:xfrm>
            <a:off x="357120" y="428760"/>
            <a:ext cx="8358120" cy="6000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2" descr="C:\Documents and Settings\Admin\Рабочий стол\новые фоны\ПДД\d29ea7e7ccb3.jpg"/>
          <p:cNvPicPr/>
          <p:nvPr/>
        </p:nvPicPr>
        <p:blipFill>
          <a:blip r:embed="rId3"/>
          <a:stretch/>
        </p:blipFill>
        <p:spPr>
          <a:xfrm>
            <a:off x="142920" y="4429080"/>
            <a:ext cx="2000160" cy="200016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7F48A-F590-44EA-B9A0-7FE45C6E1A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269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одительское собра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Calibri"/>
              </a:rPr>
              <a:t>Профилактика детского </a:t>
            </a:r>
            <a:br>
              <a:rPr sz="3600"/>
            </a:br>
            <a:r>
              <a:rPr b="0" lang="ru-RU" sz="3600" spc="-1" strike="noStrike">
                <a:solidFill>
                  <a:srgbClr val="1f497d"/>
                </a:solidFill>
                <a:latin typeface="Calibri"/>
              </a:rPr>
              <a:t>дорожно-транспортного травматизм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 забывайте!!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дители должны быть примером для детей в      соблюдении правил дорожного движ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1" name="Picture 4" descr="C09-33"/>
          <p:cNvPicPr/>
          <p:nvPr/>
        </p:nvPicPr>
        <p:blipFill>
          <a:blip r:embed="rId1"/>
          <a:stretch/>
        </p:blipFill>
        <p:spPr>
          <a:xfrm>
            <a:off x="4591080" y="2517840"/>
            <a:ext cx="266364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ичный пример – самая доходчивая форма обуч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Monotype Corsiva"/>
              </a:rPr>
              <a:t>Сохранить наше будущее, наших детей, обеспечить им здоровье и жизнь –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Monotype Corsiva"/>
              </a:rPr>
              <a:t>главная наша задач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4" name="Picture 2" descr="C:\Documents and Settings\Пользователь\Мои документы\HPIM0705.JPG"/>
          <p:cNvPicPr/>
          <p:nvPr/>
        </p:nvPicPr>
        <p:blipFill>
          <a:blip r:embed="rId1"/>
          <a:stretch/>
        </p:blipFill>
        <p:spPr>
          <a:xfrm>
            <a:off x="2560680" y="3645000"/>
            <a:ext cx="352908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Спасибо за внимание!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ная задача в работе школ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ирование у учащихся устойчивых навыков безопасного поведения на улицах и дорог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0" name="Picture 5" descr="C09-32"/>
          <p:cNvPicPr/>
          <p:nvPr/>
        </p:nvPicPr>
        <p:blipFill>
          <a:blip r:embed="rId1"/>
          <a:stretch/>
        </p:blipFill>
        <p:spPr>
          <a:xfrm>
            <a:off x="3348000" y="2349360"/>
            <a:ext cx="3078360" cy="3810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ждый год 1 сентября за парты не садится буквально целая школа: это дети, погибшие в автоавариях. К началу учебного года на больничных койках лежит, по скромным подсчетам, численность учеников 15 шко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Picture 4" descr=""/>
          <p:cNvPicPr/>
          <p:nvPr/>
        </p:nvPicPr>
        <p:blipFill>
          <a:blip r:embed="rId1"/>
          <a:stretch/>
        </p:blipFill>
        <p:spPr>
          <a:xfrm>
            <a:off x="2556000" y="2781360"/>
            <a:ext cx="381636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Росс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1 тыс. ДТП, в которых погибли 520 дете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12 тыс.  получили травм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личеств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гибших детей возросло на 33, 3 %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ибольшее количество ДТП более 52% происходит с учащимися в возрасте от 7 до 14 л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вичные навыки безопасного поведения ребенка на улице должны сознательно прививаться семь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8" name="Picture 10" descr=""/>
          <p:cNvPicPr/>
          <p:nvPr/>
        </p:nvPicPr>
        <p:blipFill>
          <a:blip r:embed="rId1"/>
          <a:stretch/>
        </p:blipFill>
        <p:spPr>
          <a:xfrm>
            <a:off x="2700360" y="1628640"/>
            <a:ext cx="3990960" cy="42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чиной дорожно-транспортных происшествий являются и сами дети, которые знают о правилах дорожной безопасности, но не спешат их выполня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1" name="Picture 6" descr=""/>
          <p:cNvPicPr/>
          <p:nvPr/>
        </p:nvPicPr>
        <p:blipFill>
          <a:blip r:embed="rId1"/>
          <a:stretch/>
        </p:blipFill>
        <p:spPr>
          <a:xfrm>
            <a:off x="2556000" y="1773360"/>
            <a:ext cx="5092560" cy="38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нципы обучения основам безопасности движ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стематичность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ледовательность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глядно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4" name="Picture 4" descr=""/>
          <p:cNvPicPr/>
          <p:nvPr/>
        </p:nvPicPr>
        <p:blipFill>
          <a:blip r:embed="rId1"/>
          <a:stretch/>
        </p:blipFill>
        <p:spPr>
          <a:xfrm>
            <a:off x="3132000" y="3429000"/>
            <a:ext cx="366732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обенности психофизиологического развития детей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зрелость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способность правильно оценивать обстановк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ыстрое образование условных рефлексов и быстрое их исчезновени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ремление подражать взрослы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оценка своих возможносте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ецифичность реакции на приближающийся автомобил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АМЯТКА ДЛЯ РОДИТЕЛЕ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аш ребенок должен играть только во дворе под вашим  наблюдением и знать: на дорогу выходить нельзя!                                                                                                        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 запугивайте ребенка, а наблюдайте вместе с ним, используя ситуации на дороге, улице, во  дворе, объясняйте, что происходит с транспортом, пешеходам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 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вивайте у ребенка зрительную память, внимание. Для этого создавайте игровые ситуации дома. Закрепляйте в рисунках впечатления от увиденног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 ускоряйте шаг и не бегите вместе с ребенком на остановку нужного маршрутного транспорта. Объясните ребенку, что это опасно, лучше подождать следующий автобус (троллейбус) и т. д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остановках маршрутного транспорта держите ребенка крепко за руку. Нередки случаи, когда ребенок вырывается и выбегает на проезжую часть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еходите проезжую часть только на пешеходных переходах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 обходите маршрутный транспорт спереди или сзад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сли поблизости нет пешеходного перехода, дождитесь, когда транспорт отъедет подальше, и переходите дорогу в том месте, где она хорошо просматривается в обе стороны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 высадке из автобуса, троллейбуса, трамвая, такси выходите первыми. В                                             противном случае ребенок может упасть или выбежать на проезжую часть дорог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   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3T10:50:27Z</dcterms:created>
  <dc:creator>user</dc:creator>
  <dc:description/>
  <dc:language>en-US</dc:language>
  <cp:lastModifiedBy>Борозденская ООШ</cp:lastModifiedBy>
  <dcterms:modified xsi:type="dcterms:W3CDTF">2012-12-02T10:10:56Z</dcterms:modified>
  <cp:revision>8</cp:revision>
  <dc:subject/>
  <dc:title>Слайд 1</dc:title>
</cp:coreProperties>
</file>