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7C1-77E6-45C3-B60E-38CBFDC5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BD1E-CD91-4F52-8F77-ECD33B12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C46DD-9DEC-4D25-8174-AE6D8910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2077D-6CCA-4DBE-834D-9A662C04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4951F-D02F-470A-B600-048935F5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406EA-C168-4983-887F-0551480F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A61C6-DADB-4E36-AAD2-2ABE78A4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3C3E0-0B1A-454D-A772-5AA375DF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610E6-E479-4F5D-A5E3-5FF8908D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4ADAB-ECBB-475C-BE35-9F1C37FA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0F591-8131-4258-B975-E0EC6DB2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7E43C-AC77-4CE8-BC41-F327304A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082-A3ED-4980-AACE-EA25036C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EC2BC-0D08-444D-9DE4-AD350664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E3F38-C4AA-4831-A033-6E63A1E0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77151-DE78-4B39-8D30-8AA53CB3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10895-3B30-4F76-BA6E-84806F0F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B8733-2D67-4B07-A8FB-C87C3508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F8D91-92C2-40A8-A9BD-4036EAD1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94F18-7C25-4205-A8A6-09AB1F9C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3EE56-2F67-4628-B466-BF9F2848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54540-D13E-4E46-AB40-AF26100A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14C3E-B90A-471E-A008-98B4AF17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7E7F-235D-4B32-A31B-684AF0D4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B1D25-8CE5-48AF-9E0F-9732EFC9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C1789-3865-4DB5-989A-DBE94721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AA22F-D8FA-4A27-B5EA-9DD66962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98220-9DC9-46B3-B412-0B8CE6C3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C71D2-8372-47B0-85EF-F3EED176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270B9-792E-4D67-A8F8-5CC2E0C6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9202F-006B-41DE-BFDD-ACD25D6C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46A2F-E392-47CD-9511-13A98466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4B44A-DDA8-4A84-88E7-02B5C1DD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B04D4-2CA4-4221-A267-85584988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0B03-83F7-47EE-AE54-90588354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EF643-39D0-434B-9026-145DD16C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30FE8-84EB-4971-908D-82069B5A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943A5-9466-49DB-9569-BBB39812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E1829-E560-418E-A34F-1EBFCFB4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91D27-3659-4580-8880-98EFE72D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030B1-65F6-49D3-8A8F-EAD9E52D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C1463-11D7-49E4-A73E-845677AD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530B9-942B-4FDE-965D-A3168920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5B61F-852F-42DD-8B05-A5D4D410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7E6AF-D00B-4BF3-ABBD-73AF5AAE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047A-50E3-47CC-93E1-323C7C3C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97E2E-7490-4CD0-B17E-93799159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EA029-600C-402A-AA48-00AFEAE6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C37AC-F060-410A-831B-2D555F87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8AE2E-04D9-4C37-BFEC-626588F8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604E9-BE45-45A6-912A-07F02568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C45B-24BF-451A-8B3D-17BE037A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4EBE-E22F-4AC4-956C-B357890F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31AB-C90C-45D7-ACF9-D58C691E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DA16-9987-41B7-9A26-8ACF0072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E6D2-FDDB-4E81-8606-BF6DF607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A459-C1DC-4F81-A468-D226B029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0387-D8BE-45E1-AD54-B01A4B86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42B4-1A93-4DBC-BC9F-F7132E7B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9921-CBA3-441F-8244-DFE739D4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09DC-7411-48F3-83E5-BF3E15A8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1497-5B14-46D3-A466-BFA094BC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31503-7BC2-4F19-A487-33D5E88F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39E48-8258-4FC4-B2AF-DD83C7FF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55B7D-D366-4D2B-9031-E6F73688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366E9-9B7D-4654-8A20-6B9AD254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EDC8F-D588-44C1-8666-E517B7EA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0361-F2A8-4FA0-93B5-1B729ED0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BD5A1-5230-4741-A4D4-47D00D59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8FB6C-E98E-4320-A7C5-37869E85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95ED0-2C69-4ECD-B140-D67295E5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BF053-69EA-4428-9923-F2A428B0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A711B-9E18-4255-913F-3EC47E4A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4F3FE-B7E2-47D9-A1EA-7FF504E3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369B7-D12A-4719-BE6E-79CBBEEE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0F2DB-C9FB-46AE-AAF1-A4BBB860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ED6C0-8B51-4AB7-8030-06046432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D00DE-CD12-4922-B03D-8B070B3C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4606-7845-45C5-A0AE-CA1A0029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BF64F-CA3B-4FBE-81F8-ABEDF7F6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5BECE-864D-4532-9928-27471DDA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CAA73-D0F9-4495-8C92-08BBBD49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D8BB9-FFDB-422F-90CB-6563BC13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C14CF-A597-44C1-BC7E-62FE399F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8C1AE-F6DB-4A4E-A192-185846DE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EE4B9-B277-47E2-8299-A54CAFD6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B3A69-873A-43D9-A629-12112208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6AB1D-5742-4F88-A788-D618C8E3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9479D-865C-4B9F-AD81-AF648611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9029-72C4-4CFB-826A-DC08915B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4CE83-702E-4738-9F55-276FDF59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570E4-630A-4131-B83F-37912344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DAC13-3C8F-4F44-A323-42BC849C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3FA2F-D2AA-40AA-8CA2-FEAC7931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9B3D8-AD40-4274-A813-457D7ADE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BD35A-49BF-476C-9B46-A102CE34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B7F42-AB5A-4788-8BF0-82D5926D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E14C5-5087-4263-B195-D0DC36EB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F74F9-1D69-4AFE-A07E-CDEC1643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B0B3D-96D7-43A2-B724-2673ADF2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ACC2-DC6B-4310-9239-B34E3A95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0B3DA-B6A9-444B-BAF4-ED18E023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B7442-7C30-4F6D-876C-00C4C209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E2CDA-1F86-4B16-A19B-0AFA1FCD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EEE97-A0AB-40BB-B8D3-E2A3772D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A70EF-850E-483C-B99F-9701CC9D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D2870-D8DB-4AFE-9ED4-293A6AB6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CEE00-A3DD-4B1B-8866-8E44F480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1539E-9270-4051-8BE5-25328283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2065C-8ACB-4AE4-9C3B-9F14B0F0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6FDD0-9AAF-4C7D-8A2A-4F6BCD39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EB13-335C-4A1E-9AAE-FD8BF1BE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0E4EA-B4A4-424B-802C-34B35EB5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F30FC-63CE-454E-98F9-F6B39521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89D72-525F-4A63-AB8F-AAC761B4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1CE5B-A34F-4B7F-BD3B-0F8AABD2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79F71-06AA-4FB9-8B05-927AE638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DD0D5-66BF-4CD7-BE9A-A2CCD835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6FF71-95ED-46B7-9927-41FA96AB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9021F-1F38-45ED-AF09-E9DC3550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F6BD9-F1AF-40F2-BA63-B17705B6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BB417-EA9D-4A38-9857-2F808E27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26A3-CE13-4AE9-B1AF-67EDA441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B3FA7-3AA8-4A47-B457-285BFB80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5776F-4007-4728-92DC-B2CAAD5F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3B077-06E6-4961-8BCA-AEDC3C85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78F43-30CC-4D62-8013-9331FF8C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9806C-56FF-4720-97FB-3BCC6787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4759F-835B-4162-8891-E5EE9320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AAF63-FE1B-4482-9759-BD8682AC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3285A-257E-47BF-A091-B72F003D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278EC-64FF-403C-9446-EDEFD657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70718-B9AF-4559-8993-134BD8AA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EE1-137A-4424-B926-1706492E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47E4F-EB7E-476F-81A5-FFD43CD4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B2AAC-671A-465C-9CAD-6FB1AA6F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54FFB-736A-4A7E-933A-A174402E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C9D0C-A644-45B3-AE8E-F3BDF582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82907-3319-46C0-8995-07BE20A8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C19F3-D193-46F5-9147-41D83FA5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48511-BA38-41BA-9B48-CC161A5C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35E78-71DD-4EF4-B1B5-08868AD8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47900-E4D2-4143-8335-2CD7F15F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3EC07-3436-4175-9345-6E665909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4BFE-1CF4-4281-97AF-FF83B012DF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6FA5-F597-4E83-824B-14801B8DCF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CAAF-92D7-4388-AAAD-B69D55B82E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B332-C48F-4493-8EA1-05D505AF54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7411-6B1D-4C0D-A32D-424FDC3DAD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FD8A-4837-43D1-98AC-C746FFBB15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171F-7D09-4EAA-8E14-02C5C6AF7A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F579-7985-4BE2-B132-DDBDA8E7CA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1FBD-B0DB-4301-BEEF-414A02C9C6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D994-6CCF-4FF0-9EEC-3DB2EC1DDC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55C5-9364-4A71-B80D-73F6ABC80B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852E-A768-4947-892A-E6A3C60888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дительское собра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Профилактика детского </a:t>
            </a:r>
            <a:br>
              <a:rPr sz="3600"/>
            </a:b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дорожно-транспортного травматиз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забывайте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тели должны быть примером для детей в      соблюдении правил дорожного дви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4" descr="C09-33"/>
          <p:cNvPicPr/>
          <p:nvPr/>
        </p:nvPicPr>
        <p:blipFill>
          <a:blip r:embed="rId1"/>
          <a:stretch/>
        </p:blipFill>
        <p:spPr>
          <a:xfrm>
            <a:off x="4591080" y="2517840"/>
            <a:ext cx="266364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чный пример – самая доходчивая форма обу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Сохранить наше будущее, наших детей, обеспечить им здоровье и жизнь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главная наша задач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Picture 2" descr="C:\Documents and Settings\Пользователь\Мои документы\HPIM0705.JPG"/>
          <p:cNvPicPr/>
          <p:nvPr/>
        </p:nvPicPr>
        <p:blipFill>
          <a:blip r:embed="rId1"/>
          <a:stretch/>
        </p:blipFill>
        <p:spPr>
          <a:xfrm>
            <a:off x="2560680" y="3645000"/>
            <a:ext cx="352908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 в работе школ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у учащихся устойчивых навыков безопасного поведения на улицах и дорог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5" descr="C09-32"/>
          <p:cNvPicPr/>
          <p:nvPr/>
        </p:nvPicPr>
        <p:blipFill>
          <a:blip r:embed="rId1"/>
          <a:stretch/>
        </p:blipFill>
        <p:spPr>
          <a:xfrm>
            <a:off x="3348000" y="2349360"/>
            <a:ext cx="3078360" cy="381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ый год 1 сентября за парты не садится буквально целая школа: это дети, погибшие в автоавариях. К началу учебного года на больничных койках лежит, по скромным подсчетам, численность учеников 15 шко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2556000" y="2781360"/>
            <a:ext cx="381636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Ро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 тыс. ДТП, в которых погибли 520 дете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12 тыс.  получили трав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гибших детей возросло на 33, 3 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ьшее количество ДТП более 52% происходит с учащимися в возрасте от 7 до 14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ичные навыки безопасного поведения ребенка на улице должны сознательно прививаться семь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Picture 10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399096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чиной дорожно-транспортных происшествий являются и сами дети, которые знают о правилах дорожной безопасности, но не спешат их выполня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Picture 6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50925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нципы обучения основам безопасности дви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тич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дователь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ляд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3132000" y="3429000"/>
            <a:ext cx="366732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обенности психофизиологического развития дете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зрел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пособность правильно оценивать обстановк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строе образование условных рефлексов и быстрое их исчезнов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емление подражать взрослы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оценка своих возможнос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фичность реакции на приближающийся автомоби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МЯТКА ДЛЯ РОДИ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ш ребенок должен играть только во дворе под вашим  наблюдением и знать: на дорогу выходить нельзя!                                                                                                        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запугивайте ребенка, а наблюдайте вместе с ним, используя ситуации на дороге, улице, во  дворе, объясняйте, что происходит с транспортом, пешеход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 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вайте у ребенка зрительную память, внимание. Для этого создавайте игровые ситуации дома. Закрепляйте в рисунках впечатления от увиденног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ускоряйте шаг и не бегите вместе с ребенком на остановку нужного маршрутного транспорта. Объясните ребенку, что это опасно, лучше подождать следующий автобус (троллейбус) и т. д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остановках маршрутного транспорта держите ребенка крепко за руку. Нередки случаи, когда ребенок вырывается и выбегает на проезжую час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ходите проезжую часть только на пешеходных перехода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обходите маршрутный транспорт спереди или сзад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поблизости нет пешеходного перехода, дождитесь, когда транспорт отъедет подальше, и переходите дорогу в том месте, где она хорошо просматривается в обе сторон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высадке из автобуса, троллейбуса, трамвая, такси выходите первыми. В                                             противном случае ребенок может упасть или выбежать на проезжую часть дорог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0:50:27Z</dcterms:created>
  <dc:creator>user</dc:creator>
  <dc:description/>
  <dc:language>en-US</dc:language>
  <cp:lastModifiedBy>Борозденская ООШ</cp:lastModifiedBy>
  <dcterms:modified xsi:type="dcterms:W3CDTF">2012-12-02T10:10:56Z</dcterms:modified>
  <cp:revision>8</cp:revision>
  <dc:subject/>
  <dc:title>Слайд 1</dc:title>
</cp:coreProperties>
</file>