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01E-3742-49D2-9BC3-F148DC96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B3A-D04E-4667-B5D7-7E594CAB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EDE-5B43-40FB-85D3-35D3AA50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5E9-7E05-4091-9494-7389CF45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315-651A-4EE5-8DA5-E41815BC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863-D35F-44AC-9E0F-2D5D2CDD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E17-F4FE-4862-BE90-C078DD45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7B3-14E6-4A99-9D13-2B1D6D5F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33D-6E9E-4627-9912-55E69B31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FCB-5070-4DC1-8125-3ABCC6F0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517-4474-47C9-9C81-79C92CF0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0B2-6BCB-4C73-9E83-97324E9B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D290-01EB-4D72-B878-AD2B3B91D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1122480"/>
            <a:ext cx="8775720" cy="12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d0d0d"/>
                </a:solidFill>
                <a:uFillTx/>
                <a:latin typeface="Calibri Ligh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30360" y="258840"/>
            <a:ext cx="914400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Фиалка для мам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7056360" y="1554120"/>
            <a:ext cx="4470480" cy="3352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12840" y="1124640"/>
            <a:ext cx="672444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ль 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 умения проявлять заботу и любовь к близким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у дошкольников любовь к близким, желание делать прият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становлению доброжелательного отношения к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с особенностями выращивания фиа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мотреть виды фиалок и стро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традиции празднования Международного Женского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752560" y="5486040"/>
            <a:ext cx="69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проек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евраль-март 2018 г., краткосроч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ети, воспитатели,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14400" y="711360"/>
          <a:ext cx="10401480" cy="5668920"/>
        </p:xfrm>
        <a:graphic>
          <a:graphicData uri="http://schemas.openxmlformats.org/drawingml/2006/table">
            <a:tbl>
              <a:tblPr/>
              <a:tblGrid>
                <a:gridCol w="3798720"/>
                <a:gridCol w="3297240"/>
                <a:gridCol w="3305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даго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де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од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ка результатов педагогического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сти итоги педагогического проекта :собрать файловую  папку на тему «Фиалка для мамы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днесение фиалок для м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результатом совместной деятельности в рамках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раздника для мам, бабушек, сес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праздн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 с детьми о дальнейшем росте фиа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е минипроекты «Комнатные цветы», «Мой сад», «Бабушкин сад на подоконник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 с детьми о реакции близких на их подаро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87240" y="368280"/>
            <a:ext cx="104000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в повседневной жизн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яют полученные знания в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т представление о требованиях к условиям жизни раст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являют любовь и уважение к  прир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иентируются в традициях празднования 8 м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н стойкий интерес к жизни детей в са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 полученные знания в процессе воспит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ют детей к уходу за комнатными раст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адеет  разнообразными методами и формами воспитания у дошкольников интереса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79520" y="240120"/>
            <a:ext cx="11436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следовательско- твор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участников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лек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должительност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ткоср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в повседневной жиз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яют полученные знания в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т представление о требованиях растений к условиям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иентируются в традициях празднования 8 ма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являют интерес к жизни детей в са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яют полученные знания в процессе воспит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екают детей к уходу за комнатными раст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адеет  разнообразными методами и формами воспитания у дошкольников интереса к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868320" y="742320"/>
            <a:ext cx="104713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ервого этапа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пределение темы, цели и задач проек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ение необходимых     технических,  информационных и методических ресурс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ние стратегии работы по проек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365040"/>
          <a:ext cx="11048760" cy="5916600"/>
        </p:xfrm>
        <a:graphic>
          <a:graphicData uri="http://schemas.openxmlformats.org/drawingml/2006/table">
            <a:tbl>
              <a:tblPr/>
              <a:tblGrid>
                <a:gridCol w="4071960"/>
                <a:gridCol w="3531960"/>
                <a:gridCol w="3444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даг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оди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информации о фиалках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ятся с видами фиалки и особенностями их выращи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информации об истории празднования 8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ятся с историей празднования 8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15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технических средств для высадки раст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подборе материа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родителей  о предстоящем празднике 8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ка инвентаря и материалов для посад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584280" y="769320"/>
            <a:ext cx="10821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результате совместной работы  всех участников проекта сформулированы  цели и задачи проекта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ределены формы и методы работы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готовлена информационная база по проблем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17520" y="414000"/>
            <a:ext cx="10895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второго этап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знакомить с условиями роста фиал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особствовать формированию нравственных качеств: любовь к близким, желание делать им прият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пособствовать формированию понимания традиции празднования 8 м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44600" y="162000"/>
          <a:ext cx="11175840" cy="6261120"/>
        </p:xfrm>
        <a:graphic>
          <a:graphicData uri="http://schemas.openxmlformats.org/drawingml/2006/table">
            <a:tbl>
              <a:tblPr/>
              <a:tblGrid>
                <a:gridCol w="2946240"/>
                <a:gridCol w="5232600"/>
                <a:gridCol w="2997000"/>
              </a:tblGrid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ятельность педаго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ятельность род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различными сортами фиа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ятся с различными сортами фиа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подборе матери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653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поисково- исследовательской деятельности  в уголке природы, создание огорода на ок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грунта к посад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ка   упаковочного материала, ленточек, наклеек для оформления цветочных горшоч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95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адка в грунт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исовка опыта в блокнотах юного исследов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ход за растением (рыхление почвы, удобрение, поли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весеннему утренни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учивание стихотворений 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ен  к празднику и оформление горшочков с фиалками д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рка мамам на утренн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альбома 8 ма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987480" y="660240"/>
            <a:ext cx="10447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ны и обобщены знания детей о фиалк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ивлечены к организации праздника для близки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749160" y="1148760"/>
            <a:ext cx="10696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 эта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третьего этап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действовать поддержанию дальнейшего интереса к жизнедеятельности комнатных расте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влечь родителей к дальнейшему сотрудничеству в рамках проекта: семейные мини-проек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11:56:54Z</dcterms:created>
  <dc:creator>Пользователь</dc:creator>
  <dc:description/>
  <dc:language>en-US</dc:language>
  <cp:lastModifiedBy>User</cp:lastModifiedBy>
  <dcterms:modified xsi:type="dcterms:W3CDTF">2018-12-23T14:53:48Z</dcterms:modified>
  <cp:revision>45</cp:revision>
  <dc:subject/>
  <dc:title>Проект « Фиалка для мамы»</dc:title>
</cp:coreProperties>
</file>