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1315A-CDC4-4223-BBE0-289D28D2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48FE3-E845-43C7-859E-B2098875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CE72B-A73C-4600-B6CC-996D7745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B414C-D861-4126-AE14-6211B917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36CD-2699-4D0A-9B18-24C76BBB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92FA-9815-4119-A1E3-741FFD3D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BBE1-EA81-4D71-80D4-F26794D4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4A89-C0CB-42AF-A426-00FC7178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4E35-D6BE-4F9E-BB7D-B995B224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D943-92CB-4271-9648-0B58E2F3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0F0C-4606-48EA-B9C6-E16747EC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D012D-1973-49DA-BF59-DC23C59F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BB41-8015-4A4C-968F-F3235770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BF50-F7A4-4572-9026-190302C4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231E-EFB6-4AB8-9DFE-B5C4748A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27A6-0D54-4B6E-B290-182B6F53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DDDA-8FD4-4DBA-AA33-A64342B4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044F5-AA67-4759-8BB8-5FA308DE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4A887-7C3C-497A-88FD-A653B42E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255B6-625C-4390-9DC4-551A91D1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E6070-FB0E-47E9-844F-16C024EF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E5305-B2E6-47BA-B2EB-AD001811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A0186-488F-4B7B-BF58-DBC27B5F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176C0-1A93-4DFD-B10E-651D4CE8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B89C-12C4-43E0-9BA4-94D21C8060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1E74-FA0E-4A8E-8E84-DBFCE2BEC9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Правила выразительного чтения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Читая вслух предложение, выделяем речевое звено (синтагмы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В речевом звене выделяем голосом ключевые слов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Между речевыми звеньями делаем пауз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Длинную паузу делаем в конце предлож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Правильно ставим ударение в слов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Обращаем внимание на знаки препинания в конце и в середине предлож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 Передаем настроение героя голосом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СКОРОГОВОР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.Села мышка в уголок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ъела бублика кусок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. Белые голуби голубоглазых    голубят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. На четырех черепах черепашата по-черепашьи глядят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. Был сер, стал бел, он за зиму поседел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к а ч о б а 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5e5ff"/>
                </a:solidFill>
                <a:latin typeface="Times New Roman"/>
              </a:rPr>
              <a:t>Юрий Иосифович Коваль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8764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«Бабочка»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380664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8920" y="549360"/>
            <a:ext cx="85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Трухлявое дерево  – превращающееся в труху от гнил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27280" y="2133720"/>
            <a:ext cx="5904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Распластать - расположить пластом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плашмя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8196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9T16:59:15Z</dcterms:created>
  <dc:creator>User</dc:creator>
  <dc:description/>
  <dc:language>en-US</dc:language>
  <cp:lastModifiedBy>User</cp:lastModifiedBy>
  <dcterms:modified xsi:type="dcterms:W3CDTF">2018-12-09T17:20:15Z</dcterms:modified>
  <cp:revision>6</cp:revision>
  <dc:subject/>
  <dc:title>Юрий Иосифович Коваль</dc:title>
</cp:coreProperties>
</file>