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3C0AA-E9F0-4916-A3C2-D6C2034C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6E493-B6ED-4E57-8E37-DFA69A31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6EBD-85F7-497D-B211-DE6927C8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63662-BF0A-435C-AA6D-BB8A71C3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A4DD-CA6B-4396-83F2-CDD2BFA4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7F16-BCF5-4E8E-814C-AA3166B1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C0A6-58F6-4815-8DB7-218D5DEE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B137-6A20-4AEC-9E5E-3EF520BB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03E0-6493-40E2-AF20-4098784F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4559-9020-4390-B2F1-AFB1EB53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891D-259D-414A-84B3-A104B103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5E4E0-53BF-4505-91A8-3AC40423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A389-080D-4919-B4DB-8255E8C1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AA1A-B3F5-4540-A70C-40153232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BBD9-EB97-46C4-82ED-4F7C4418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C8EF-CD12-4973-96AA-48E89ED1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789D-5AD4-4335-AE9C-D657DC97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F0A0-B899-4072-A1B1-A02E2728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C78DE-CA33-4A7E-BA07-A2F8DEF1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700C6-0571-4952-A870-B6647612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12C38-199D-4858-A572-FF85C341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D8B9A-3F6D-42E3-B17C-9CB74860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9B85F-B4C0-49E4-B15A-6D43972C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1C840-1DA3-4ACC-B656-8D34A901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D25D-9B2D-4042-A901-DCFC754853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8A65-2AAC-4EC6-99A8-258EE8134B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Правила выразительного чтени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Читая вслух предложение, выделяем речевое звено (синтагмы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В речевом звене выделяем голосом ключевые сло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Между речевыми звеньями делаем пауз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Длинную паузу делаем в конце предлож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Правильно ставим ударение в слов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Обращаем внимание на знаки препинания в конце и в середине предлож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Передаем настроение героя голосом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СКОРОГОВОР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.Села мышка в уголок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ъела бублика кусок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. Белые голуби голубоглазых    голубят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. На четырех черепах черепашата по-черепашьи глядят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. Был сер, стал бел, он за зиму поседе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к а ч о б а 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5e5ff"/>
                </a:solidFill>
                <a:latin typeface="Times New Roman"/>
              </a:rPr>
              <a:t>Юрий Иосифович Коваль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8764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«Бабочка»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380664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Трухлявое дерево  – превращающееся в труху от гнил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5904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Распластать - расположить пластом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лашмя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8196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9T16:59:15Z</dcterms:created>
  <dc:creator>User</dc:creator>
  <dc:description/>
  <dc:language>en-US</dc:language>
  <cp:lastModifiedBy>User</cp:lastModifiedBy>
  <dcterms:modified xsi:type="dcterms:W3CDTF">2018-12-09T17:20:15Z</dcterms:modified>
  <cp:revision>6</cp:revision>
  <dc:subject/>
  <dc:title>Юрий Иосифович Коваль</dc:title>
</cp:coreProperties>
</file>