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720720" y="899640"/>
            <a:ext cx="611352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20720" y="4679640"/>
            <a:ext cx="61135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348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6320"/>
            <a:ext cx="3273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6D89F-D4FA-4090-908F-CD48DF27C0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33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53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35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39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7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9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B54-6F36-4B7F-8087-66E9005E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1112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0E7-FC21-4A69-9F65-4FE14D36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B86-69BF-4ADD-9294-A2A94826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679-41E8-4E47-91C5-229CB7F8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3D35-D5C8-4544-AEC6-B645447D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1CBF-FF53-4468-B9D4-D3F8E1E0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56B9-24B1-4181-8803-567879E4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E420-682A-4542-99CF-17DAD9BB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98C5-9AC2-4CBA-B750-CAFF0CF4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286920"/>
            <a:ext cx="906624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355C-9C1B-4E52-A151-465EAA72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424C-BDBB-47C6-99C9-97CFA4AD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AF6-8052-4B94-AEE4-DA6CC4D6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0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20D5-8A12-48F4-A4EE-21D50A8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88DA-7979-4432-9B97-52976DE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1112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F403-F1D0-43A1-B137-EC1AB745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0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3215-326A-4A62-BB10-CB19CEAC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04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444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04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444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2BC1-B5BC-4898-89EC-95E83472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BF0-5C05-4CEA-A6CB-4C0D8E4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869-C35B-44A1-A419-5BA236DD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576-F75D-4D38-AF48-8204FD8C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6920"/>
            <a:ext cx="906624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F63-86D4-427D-8892-7D11C9F8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585-F303-407D-BDAC-B76CE17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88D-76B1-4D48-878A-AF8FE99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1DB-EB39-4F9B-A662-71FBB84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810AD-A56A-449B-BABA-63D25FD2A41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28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6EFA9-E7CC-45C7-81E4-2C9D2C460E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58840"/>
            <a:ext cx="90709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КАЖДЫЙ Д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Ожигановой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развития ребёнка — д/с № 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9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3280" y="2016000"/>
            <a:ext cx="4425840" cy="3998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00720" y="2687760"/>
            <a:ext cx="4425840" cy="2208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Стимулирование кровообращения в области глаз, лица, мозг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3280" y="235584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92720" y="2327040"/>
            <a:ext cx="442584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близорукости, возрастного ухудшения зрения и затуманенного зре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69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рядка для ленив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1744560"/>
            <a:ext cx="3997080" cy="22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13280" y="1728720"/>
            <a:ext cx="1854360" cy="329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848720" y="1654200"/>
            <a:ext cx="1944720" cy="3457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264360" y="3886200"/>
            <a:ext cx="1944720" cy="3457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311640" y="3743280"/>
            <a:ext cx="2049480" cy="3643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519120" y="3803760"/>
            <a:ext cx="20131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204840"/>
            <a:ext cx="907092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доровье в наших рук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08000" y="1852560"/>
            <a:ext cx="7920000" cy="55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3280" y="2430360"/>
            <a:ext cx="4425840" cy="316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36720" y="2687400"/>
            <a:ext cx="44262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и лечение всех заболеваний области лиц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3280" y="1986120"/>
            <a:ext cx="4425840" cy="4057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56360" y="2687760"/>
            <a:ext cx="4425840" cy="2208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заболеваний области головы и ше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3280" y="2427120"/>
            <a:ext cx="4425840" cy="317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65800" y="2735280"/>
            <a:ext cx="4425840" cy="2208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и лечение заболеваний сердц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3280" y="235584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436720" y="2903400"/>
            <a:ext cx="4426200" cy="2208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и лечение периферического кровообраще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3280" y="235584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36720" y="2903400"/>
            <a:ext cx="4426200" cy="21369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и лечение периферического кровообраще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6 и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1468440"/>
            <a:ext cx="3527640" cy="3139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8600" y="4680000"/>
            <a:ext cx="3605040" cy="2703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21440" y="3408120"/>
            <a:ext cx="44258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Снятие усталости и поднятие дух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3280" y="2627280"/>
            <a:ext cx="4425840" cy="2774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27640" y="2376360"/>
            <a:ext cx="44258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егулирование функций внутренних органов, профилактика и лечение диабет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16:44:32Z</dcterms:created>
  <dc:creator/>
  <dc:description/>
  <dc:language>en-US</dc:language>
  <cp:lastModifiedBy/>
  <dcterms:modified xsi:type="dcterms:W3CDTF">2018-12-23T10:39:33Z</dcterms:modified>
  <cp:revision>4</cp:revision>
  <dc:subject/>
  <dc:title/>
</cp:coreProperties>
</file>