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720720" y="899640"/>
            <a:ext cx="6113520" cy="34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20720" y="4679640"/>
            <a:ext cx="61135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348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7"/>
          </p:nvPr>
        </p:nvSpPr>
        <p:spPr>
          <a:xfrm>
            <a:off x="4280040" y="0"/>
            <a:ext cx="32731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10156320"/>
            <a:ext cx="327348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280040" y="10156320"/>
            <a:ext cx="327312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E33F64-4442-47D9-A96F-86DF35DB601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960"/>
          </a:xfrm>
          <a:prstGeom prst="rect">
            <a:avLst/>
          </a:prstGeom>
          <a:ln w="0">
            <a:noFill/>
          </a:ln>
        </p:spPr>
      </p:sp>
      <p:sp>
        <p:nvSpPr>
          <p:cNvPr id="133" name=""/>
          <p:cNvSpPr/>
          <p:nvPr/>
        </p:nvSpPr>
        <p:spPr>
          <a:xfrm>
            <a:off x="720720" y="4680000"/>
            <a:ext cx="61196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8200" cy="3440160"/>
          </a:xfrm>
          <a:prstGeom prst="rect">
            <a:avLst/>
          </a:prstGeom>
          <a:ln w="0">
            <a:noFill/>
          </a:ln>
        </p:spPr>
      </p:sp>
      <p:sp>
        <p:nvSpPr>
          <p:cNvPr id="151" name=""/>
          <p:cNvSpPr/>
          <p:nvPr/>
        </p:nvSpPr>
        <p:spPr>
          <a:xfrm>
            <a:off x="72072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8200" cy="3440160"/>
          </a:xfrm>
          <a:prstGeom prst="rect">
            <a:avLst/>
          </a:prstGeom>
          <a:ln w="0">
            <a:noFill/>
          </a:ln>
        </p:spPr>
      </p:sp>
      <p:sp>
        <p:nvSpPr>
          <p:cNvPr id="153" name=""/>
          <p:cNvSpPr/>
          <p:nvPr/>
        </p:nvSpPr>
        <p:spPr>
          <a:xfrm>
            <a:off x="72072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8200" cy="3440160"/>
          </a:xfrm>
          <a:prstGeom prst="rect">
            <a:avLst/>
          </a:prstGeom>
          <a:ln w="0">
            <a:noFill/>
          </a:ln>
        </p:spPr>
      </p:sp>
      <p:sp>
        <p:nvSpPr>
          <p:cNvPr id="135" name=""/>
          <p:cNvSpPr/>
          <p:nvPr/>
        </p:nvSpPr>
        <p:spPr>
          <a:xfrm>
            <a:off x="72072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8200" cy="3440160"/>
          </a:xfrm>
          <a:prstGeom prst="rect">
            <a:avLst/>
          </a:prstGeom>
          <a:ln w="0">
            <a:noFill/>
          </a:ln>
        </p:spPr>
      </p:sp>
      <p:sp>
        <p:nvSpPr>
          <p:cNvPr id="137" name=""/>
          <p:cNvSpPr/>
          <p:nvPr/>
        </p:nvSpPr>
        <p:spPr>
          <a:xfrm>
            <a:off x="72072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8200" cy="3440160"/>
          </a:xfrm>
          <a:prstGeom prst="rect">
            <a:avLst/>
          </a:prstGeom>
          <a:ln w="0">
            <a:noFill/>
          </a:ln>
        </p:spPr>
      </p:sp>
      <p:sp>
        <p:nvSpPr>
          <p:cNvPr id="139" name=""/>
          <p:cNvSpPr/>
          <p:nvPr/>
        </p:nvSpPr>
        <p:spPr>
          <a:xfrm>
            <a:off x="72072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8200" cy="3440160"/>
          </a:xfrm>
          <a:prstGeom prst="rect">
            <a:avLst/>
          </a:prstGeom>
          <a:ln w="0">
            <a:noFill/>
          </a:ln>
        </p:spPr>
      </p:sp>
      <p:sp>
        <p:nvSpPr>
          <p:cNvPr id="141" name=""/>
          <p:cNvSpPr/>
          <p:nvPr/>
        </p:nvSpPr>
        <p:spPr>
          <a:xfrm>
            <a:off x="72072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8200" cy="3440160"/>
          </a:xfrm>
          <a:prstGeom prst="rect">
            <a:avLst/>
          </a:prstGeom>
          <a:ln w="0">
            <a:noFill/>
          </a:ln>
        </p:spPr>
      </p:sp>
      <p:sp>
        <p:nvSpPr>
          <p:cNvPr id="143" name=""/>
          <p:cNvSpPr/>
          <p:nvPr/>
        </p:nvSpPr>
        <p:spPr>
          <a:xfrm>
            <a:off x="72072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8200" cy="3440160"/>
          </a:xfrm>
          <a:prstGeom prst="rect">
            <a:avLst/>
          </a:prstGeom>
          <a:ln w="0">
            <a:noFill/>
          </a:ln>
        </p:spPr>
      </p:sp>
      <p:sp>
        <p:nvSpPr>
          <p:cNvPr id="145" name=""/>
          <p:cNvSpPr/>
          <p:nvPr/>
        </p:nvSpPr>
        <p:spPr>
          <a:xfrm>
            <a:off x="72072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8200" cy="3440160"/>
          </a:xfrm>
          <a:prstGeom prst="rect">
            <a:avLst/>
          </a:prstGeom>
          <a:ln w="0">
            <a:noFill/>
          </a:ln>
        </p:spPr>
      </p:sp>
      <p:sp>
        <p:nvSpPr>
          <p:cNvPr id="147" name=""/>
          <p:cNvSpPr/>
          <p:nvPr/>
        </p:nvSpPr>
        <p:spPr>
          <a:xfrm>
            <a:off x="72072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8200" cy="3440160"/>
          </a:xfrm>
          <a:prstGeom prst="rect">
            <a:avLst/>
          </a:prstGeom>
          <a:ln w="0">
            <a:noFill/>
          </a:ln>
        </p:spPr>
      </p:sp>
      <p:sp>
        <p:nvSpPr>
          <p:cNvPr id="149" name=""/>
          <p:cNvSpPr/>
          <p:nvPr/>
        </p:nvSpPr>
        <p:spPr>
          <a:xfrm>
            <a:off x="72072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CE87-066E-424F-9484-211B3A1C5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86920"/>
            <a:ext cx="90662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82412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11120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D1EE-58B8-4B24-BCF3-F3A59B67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86920"/>
            <a:ext cx="90662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8241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8241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1112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1112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C76B-E414-40CD-9FA8-4F2AB8DD8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86920"/>
            <a:ext cx="90662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8241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8241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8241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1112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1112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1112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35C9-85FE-454B-8587-0E094C7F0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F4B5-0851-485A-88BC-6FA70EC97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3280" y="286920"/>
            <a:ext cx="90662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3280" y="18241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87BBA-EBF5-43C6-A569-0C7AEDA7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286920"/>
            <a:ext cx="90662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3280" y="18241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54B9-0965-4C6B-94CD-5E36928D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286920"/>
            <a:ext cx="90662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3280" y="18241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9080" y="18241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6BC3-E598-4115-876B-B460A93D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286920"/>
            <a:ext cx="90662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6501-0D8C-4E23-805B-129A74D9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3280" y="286920"/>
            <a:ext cx="9066240" cy="575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D8AE-9ECA-4471-AD3E-E3C3B19E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286920"/>
            <a:ext cx="90662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18241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9080" y="18241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3280" y="41112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053B-D3C9-496E-BA0A-FD52B96F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86920"/>
            <a:ext cx="90662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8241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2211-4B3D-4218-92DD-A656314B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286920"/>
            <a:ext cx="90662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18241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9080" y="18241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49080" y="41112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14B16-2F93-4FB0-8C97-BA12E516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286920"/>
            <a:ext cx="90662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3280" y="18241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9080" y="18241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280" y="411120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DB4A-E9CE-4B13-9C65-7F8E93F1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286920"/>
            <a:ext cx="90662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182412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280" y="411120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DE7B6-F969-46B7-A00E-3AE9ED23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286920"/>
            <a:ext cx="90662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18241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9080" y="18241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41112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49080" y="41112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DFA8-CB46-41D8-8582-6C82F9BD2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286920"/>
            <a:ext cx="90662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18241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69040" y="18241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4440" y="18241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3280" y="41112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69040" y="41112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4440" y="41112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2CB0-F53D-49C6-9CFC-12C401931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86920"/>
            <a:ext cx="90662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8241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A73E-A966-4566-8140-186908E4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86920"/>
            <a:ext cx="90662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8241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8241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5A55-031E-4921-A012-796065C1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86920"/>
            <a:ext cx="90662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1CDC-4C52-4642-A1F8-E746C5E6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86920"/>
            <a:ext cx="9066240" cy="575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B4DC-92CE-4681-BFA9-51C66B05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86920"/>
            <a:ext cx="90662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8241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8241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1112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3B18-79F6-438F-85BC-4149FFBC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86920"/>
            <a:ext cx="90662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8241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8241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1112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2E72-1655-4A12-82F8-E9FDA5AA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86920"/>
            <a:ext cx="90662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8241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8241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11120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E600-D6EE-4247-AA9E-F2D6A891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44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9133AF-7249-4CE4-9DA9-025A8C49D2BD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3280" y="286920"/>
            <a:ext cx="90662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3280" y="18241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 fontScale="93000"/>
          </a:bodyPr>
          <a:p>
            <a:pPr marL="318960" indent="0">
              <a:lnSpc>
                <a:spcPct val="93000"/>
              </a:lnSpc>
              <a:spcAft>
                <a:spcPts val="153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628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5E7D6-40F9-4E2E-87C4-020443FB6B1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6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6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2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6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6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6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6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6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9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6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258840"/>
            <a:ext cx="90709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ЗДОРОВЬЕСБЕРЕГАЮЩИЕ ТЕХНОЛОГИИ КАЖДЫЙ ДЕН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02920" y="182376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я Ожигановой Е.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нтр развития ребёнка — д/с № 1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структор по физической культу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К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Жест 9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03280" y="2016000"/>
            <a:ext cx="4425840" cy="39988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00720" y="2687760"/>
            <a:ext cx="4425840" cy="22082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Стимулирование кровообращения в области глаз, лица, мозга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Жест 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3280" y="2355840"/>
            <a:ext cx="4425840" cy="33195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292720" y="2327040"/>
            <a:ext cx="4425840" cy="31446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Профилактика близорукости, возрастного ухудшения зрения и затуманенного зрения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2920" y="286920"/>
            <a:ext cx="90694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Зарядка для ленивы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76360" y="1744560"/>
            <a:ext cx="3997080" cy="22478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913280" y="1728720"/>
            <a:ext cx="1854360" cy="3297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7848720" y="1654200"/>
            <a:ext cx="1944720" cy="3457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6264360" y="3886200"/>
            <a:ext cx="1944720" cy="3457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3311640" y="3743280"/>
            <a:ext cx="2049480" cy="3643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519120" y="3803760"/>
            <a:ext cx="2013120" cy="357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204840"/>
            <a:ext cx="9070920" cy="14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Здоровье в наших рука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008000" y="1852560"/>
            <a:ext cx="7920000" cy="55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Жест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03280" y="2430360"/>
            <a:ext cx="4425840" cy="31687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436720" y="2687400"/>
            <a:ext cx="44262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Профилактика и лечение всех заболеваний области лица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Жест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03280" y="1986120"/>
            <a:ext cx="4425840" cy="40575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256360" y="2687760"/>
            <a:ext cx="4425840" cy="22082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Профилактика заболеваний области головы и шеи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Жест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03280" y="2427120"/>
            <a:ext cx="4425840" cy="31752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65800" y="2735280"/>
            <a:ext cx="4425840" cy="22082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Профилактика и лечение заболеваний сердца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Жест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03280" y="2355840"/>
            <a:ext cx="4425840" cy="33195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436720" y="2903400"/>
            <a:ext cx="4426200" cy="22082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Профилактика и лечение периферического кровообращения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Жест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03280" y="2355840"/>
            <a:ext cx="4425840" cy="33195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436720" y="2903400"/>
            <a:ext cx="4426200" cy="21369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Профилактика и лечение периферического кровообращения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Жест 6 и 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95280" y="1468440"/>
            <a:ext cx="3527640" cy="3139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98600" y="4680000"/>
            <a:ext cx="3605040" cy="27036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221440" y="3408120"/>
            <a:ext cx="442584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Снятие усталости и поднятие духа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Жест 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03280" y="2627280"/>
            <a:ext cx="4425840" cy="27748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27640" y="2376360"/>
            <a:ext cx="4425840" cy="31687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Регулирование функций внутренних органов, профилактика и лечение диабета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7T16:44:32Z</dcterms:created>
  <dc:creator/>
  <dc:description/>
  <dc:language>en-US</dc:language>
  <cp:lastModifiedBy/>
  <dcterms:modified xsi:type="dcterms:W3CDTF">2018-12-23T10:39:33Z</dcterms:modified>
  <cp:revision>4</cp:revision>
  <dc:subject/>
  <dc:title/>
</cp:coreProperties>
</file>