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gif" ContentType="image/gif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 класс физика распространение колебаний в среде  вол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1) ввести понятие волны, рассмотреть виды волн, характеристики волны, учить применять знания на практике                               2)развитие памяти, логического мышления, практических умений            3)воспитание культуры труда, культуры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66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тилова Н.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4C46-C4E7-4B7D-A4E0-62B2AB8360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9 класс физика распространение колебаний в среде  волны</a:t>
            </a:r>
            <a:endParaRPr b="0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Цель:1) ввести понятие волны, рассмотреть виды волн, характеристики волны, учить применять знания на практике                               2)развитие памяти, логического мышления, практических умений            3)воспитание культуры труда, культуры труда</a:t>
            </a:r>
            <a:endParaRPr b="0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Шатилова Н.Н.</a:t>
            </a:r>
            <a:endParaRPr b="0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D60C-BB4F-499E-8ECB-1AF8C588CBE6}" type="slidenum">
              <a:rPr b="0" lang="ru-RU" sz="12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9C39-E3DB-4B58-809A-2610ACFE3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647E-EF80-4F93-89C1-132A7986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D33E-4946-4C40-9031-A2F58E045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4EF3-4A79-4D6A-B2CC-D31E34255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6333-3255-4B5F-8ABC-8CF259442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5A7F-E07E-4345-BE04-16B60331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A7EA-56C0-4B00-BD74-22F5A1EA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7308-7908-4DDF-B772-CB9F1902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C19C-9AAF-4FA4-A26A-471D930C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24116-3DFB-4DBA-8B17-8784E0E2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6332-8F54-485C-A83B-B9FA2C30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4D2C-7F28-47BC-B771-7000384B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ECBF-E178-4311-A0C5-B9E5C756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6D72-06A6-40E1-B23F-500E6055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EE0CD-E6E7-4010-8F16-1B2411D3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87F2-0957-436F-BEBB-59FA38FD4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D845-37A5-46DC-9400-F08E0A5A1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FEB9-66D1-41A3-BE94-85A35FA5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8FA9-4B43-4E0D-9BE5-F7FA0732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A17F-C1F2-4998-81BF-3BE78069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2FD0-E005-4762-9002-1C141685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FBDA-E79B-4FD8-8F8A-9373506B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7ADB-AED2-4764-AF3C-DD975CDE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03BD-60BA-4CF2-8D66-11CCDFDC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66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76FD-EE7A-403A-8905-B27A07FDE3C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66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99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C404-DBC2-4625-B830-FDC001FE31B6}" type="slidenum">
              <a:rPr b="0" lang="ru-RU" sz="1200" spc="-1" strike="noStrike">
                <a:solidFill>
                  <a:srgbClr val="ffff9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66"/>
                </a:solidFill>
                <a:latin typeface="Garamond"/>
              </a:rPr>
              <a:t>Повторение:</a:t>
            </a: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Колебательное движение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Свободные колебания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Вынужденные колебания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Затухающие колебания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Колебательная система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Маятник (нитяной и пружинный)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66"/>
                </a:solidFill>
                <a:latin typeface="Garamond"/>
              </a:rPr>
              <a:t>Условия равновесия тел- СТАТИКА</a:t>
            </a: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1) СУММА ВСЕХ СИЛ =0  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2)  СУММА МОМЕНТОВ СИЛ =0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Д.з.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ЛЮБОЕ ИЗ НИХ ИЛИ ОБА ОДНОВРЕМЕННО?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СТР. 53 №1.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66"/>
                </a:solidFill>
                <a:latin typeface="Garamond"/>
              </a:rPr>
              <a:t>Волны на поверхности жидкости</a:t>
            </a: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36100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Волны на поверхности жидкости существуют благодаря действию на частицы сил тяжести и сил межмолекулярного взаимодействия.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24" name="Picture 4" descr="Картинка 14 из 63"/>
          <p:cNvPicPr/>
          <p:nvPr/>
        </p:nvPicPr>
        <p:blipFill>
          <a:blip r:embed="rId1"/>
          <a:stretch/>
        </p:blipFill>
        <p:spPr>
          <a:xfrm>
            <a:off x="4356000" y="2349360"/>
            <a:ext cx="4176720" cy="31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66"/>
                </a:solidFill>
                <a:latin typeface="Garamond"/>
              </a:rPr>
              <a:t>Морские волны</a:t>
            </a: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788000" y="1599840"/>
            <a:ext cx="3898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Высота волн в Балтийском море доходит до 5 м, в Атлантическом океане – до 9 м, в водах южного полушария – до 12-13 м (скорость 20 м/с).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27" name="Picture 4" descr="Картинка 3 из 104"/>
          <p:cNvPicPr/>
          <p:nvPr/>
        </p:nvPicPr>
        <p:blipFill>
          <a:blip r:embed="rId1"/>
          <a:stretch/>
        </p:blipFill>
        <p:spPr>
          <a:xfrm>
            <a:off x="324000" y="2421000"/>
            <a:ext cx="4572000" cy="30621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468360" y="57340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Times New Roman"/>
              </a:rPr>
              <a:t>И.Айвазовский. </a:t>
            </a:r>
            <a:r>
              <a:rPr b="1" lang="ru-RU" sz="1800" spc="-1" strike="noStrike">
                <a:solidFill>
                  <a:srgbClr val="ffff99"/>
                </a:solidFill>
                <a:latin typeface="Times New Roman"/>
              </a:rPr>
              <a:t>Девятый вал.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ru-RU" sz="3800" spc="-1" strike="noStrike">
                <a:solidFill>
                  <a:srgbClr val="ffff66"/>
                </a:solidFill>
                <a:latin typeface="Garamond"/>
              </a:rPr>
              <a:t>возмущения, распространяющиеся в пространстве  </a:t>
            </a:r>
            <a:endParaRPr b="0" lang="en-US" sz="38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6868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ВОЛНЫ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                 </a:t>
            </a: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на поверхности   электромагнитные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                         </a:t>
            </a: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жидкости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1" name="Line 4"/>
          <p:cNvSpPr/>
          <p:nvPr/>
        </p:nvSpPr>
        <p:spPr>
          <a:xfrm flipH="1">
            <a:off x="1980720" y="2819520"/>
            <a:ext cx="1752840" cy="6094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4343400" y="2819520"/>
            <a:ext cx="0" cy="6094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Line 6"/>
          <p:cNvSpPr/>
          <p:nvPr/>
        </p:nvSpPr>
        <p:spPr>
          <a:xfrm>
            <a:off x="5334120" y="2819520"/>
            <a:ext cx="91440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304920" y="586728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380880" y="3581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УПРУГИЕ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533520" y="380880"/>
            <a:ext cx="83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МЕХАНИЧЕСКИЕ ВОЛНЫ</a:t>
            </a:r>
            <a:r>
              <a:rPr b="1" lang="ru-RU" sz="4400" spc="-1" strike="noStrike">
                <a:solidFill>
                  <a:srgbClr val="ffff66"/>
                </a:solidFill>
                <a:latin typeface="Arial"/>
              </a:rPr>
              <a:t> –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37" name="Picture 12" descr="851BC769"/>
          <p:cNvPicPr/>
          <p:nvPr/>
        </p:nvPicPr>
        <p:blipFill>
          <a:blip r:embed="rId1">
            <a:lum contrast="12000"/>
          </a:blip>
          <a:srcRect l="29027" t="27852" r="22572" b="57722"/>
          <a:stretch/>
        </p:blipFill>
        <p:spPr>
          <a:xfrm>
            <a:off x="838080" y="4419720"/>
            <a:ext cx="723924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060"/>
                            </p:stCondLst>
                            <p:childTnLst>
                              <p:par>
                                <p:cTn id="169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17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4059"/>
                            </p:stCondLst>
                            <p:childTnLst>
                              <p:par>
                                <p:cTn id="17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66"/>
                </a:solidFill>
                <a:latin typeface="Garamond"/>
              </a:rPr>
              <a:t>ФИЗМИНУТКА</a:t>
            </a:r>
            <a:endParaRPr b="0" lang="en-US" sz="50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Organization Chart 6"/>
          <p:cNvGrpSpPr/>
          <p:nvPr/>
        </p:nvGrpSpPr>
        <p:grpSpPr>
          <a:xfrm>
            <a:off x="457200" y="307800"/>
            <a:ext cx="8228520" cy="3043800"/>
            <a:chOff x="457200" y="307800"/>
            <a:chExt cx="8228520" cy="3043800"/>
          </a:xfrm>
        </p:grpSpPr>
        <p:cxnSp>
          <p:nvCxnSpPr>
            <p:cNvPr id="141" name="_s1028"/>
            <p:cNvCxnSpPr>
              <a:stCxn id="142" idx="0"/>
              <a:endCxn id="143" idx="2"/>
            </p:cNvCxnSpPr>
            <p:nvPr/>
          </p:nvCxnSpPr>
          <p:spPr>
            <a:xfrm flipV="1" rot="16200000">
              <a:off x="5374440" y="721440"/>
              <a:ext cx="609480" cy="2215440"/>
            </a:xfrm>
            <a:prstGeom prst="bentConnector3">
              <a:avLst>
                <a:gd name="adj1" fmla="val 9810"/>
              </a:avLst>
            </a:prstGeom>
            <a:ln w="28440">
              <a:solidFill>
                <a:srgbClr val="ffff99"/>
              </a:solidFill>
              <a:miter/>
            </a:ln>
          </p:spPr>
        </p:cxnSp>
        <p:cxnSp>
          <p:nvCxnSpPr>
            <p:cNvPr id="144" name="_s1029"/>
            <p:cNvCxnSpPr>
              <a:stCxn id="145" idx="0"/>
              <a:endCxn id="143" idx="2"/>
            </p:cNvCxnSpPr>
            <p:nvPr/>
          </p:nvCxnSpPr>
          <p:spPr>
            <a:xfrm flipH="1" flipV="1" rot="5400000">
              <a:off x="3158640" y="721440"/>
              <a:ext cx="609480" cy="2216160"/>
            </a:xfrm>
            <a:prstGeom prst="bentConnector3">
              <a:avLst>
                <a:gd name="adj1" fmla="val 9810"/>
              </a:avLst>
            </a:prstGeom>
            <a:ln w="28440">
              <a:solidFill>
                <a:srgbClr val="ffff99"/>
              </a:solidFill>
              <a:miter/>
            </a:ln>
          </p:spPr>
        </p:cxnSp>
        <p:sp>
          <p:nvSpPr>
            <p:cNvPr id="143" name="_s1030"/>
            <p:cNvSpPr/>
            <p:nvPr/>
          </p:nvSpPr>
          <p:spPr>
            <a:xfrm>
              <a:off x="2673000" y="307800"/>
              <a:ext cx="3797640" cy="12175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820000"/>
                  </a:solidFill>
                  <a:latin typeface="Arial"/>
                  <a:ea typeface="Arial"/>
                </a:rPr>
                <a:t>ВОЛНЫ</a:t>
              </a:r>
              <a:endParaRPr b="0" lang="en-US" sz="31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45" name="_s1031"/>
            <p:cNvSpPr/>
            <p:nvPr/>
          </p:nvSpPr>
          <p:spPr>
            <a:xfrm>
              <a:off x="457200" y="2134080"/>
              <a:ext cx="3797640" cy="12175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3300"/>
                  </a:solidFill>
                  <a:latin typeface="Arial"/>
                  <a:ea typeface="Arial"/>
                </a:rPr>
                <a:t>ПРОДОЛЬНЫЕ</a:t>
              </a:r>
              <a:endParaRPr b="0" lang="en-US" sz="3100" spc="-1" strike="noStrike">
                <a:solidFill>
                  <a:srgbClr val="ffff99"/>
                </a:solidFill>
                <a:latin typeface="Arial"/>
              </a:endParaRPr>
            </a:p>
          </p:txBody>
        </p:sp>
        <p:sp>
          <p:nvSpPr>
            <p:cNvPr id="142" name="_s1032"/>
            <p:cNvSpPr/>
            <p:nvPr/>
          </p:nvSpPr>
          <p:spPr>
            <a:xfrm>
              <a:off x="4888080" y="2134080"/>
              <a:ext cx="3797640" cy="12175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3300"/>
                  </a:solidFill>
                  <a:latin typeface="Arial"/>
                  <a:ea typeface="Arial"/>
                </a:rPr>
                <a:t>ПОПЕРЕЧНЫЕ</a:t>
              </a:r>
              <a:endParaRPr b="0" lang="en-US" sz="3100" spc="-1" strike="noStrike">
                <a:solidFill>
                  <a:srgbClr val="ffff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66"/>
                </a:solidFill>
                <a:latin typeface="Garamond"/>
              </a:rPr>
              <a:t>Характер волн на поверхности жидкости</a:t>
            </a:r>
            <a:endParaRPr b="0" lang="en-US" sz="38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4191120"/>
            <a:ext cx="83822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Волны на поверхности жидкости имеют сложный продольно-поперечный характер, при котором частицы жидкости движутся либо по окружностям, либо по вытянутым в горизонтальном направлении эллипсам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48" name="Picture 4" descr="A4808A77"/>
          <p:cNvPicPr/>
          <p:nvPr/>
        </p:nvPicPr>
        <p:blipFill>
          <a:blip r:embed="rId1">
            <a:lum contrast="36000"/>
          </a:blip>
          <a:srcRect l="5331" t="34014" r="5331" b="17511"/>
          <a:stretch/>
        </p:blipFill>
        <p:spPr>
          <a:xfrm>
            <a:off x="152280" y="2286000"/>
            <a:ext cx="8763120" cy="17384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5"/>
          <p:cNvSpPr/>
          <p:nvPr/>
        </p:nvSpPr>
        <p:spPr>
          <a:xfrm>
            <a:off x="76320" y="1447920"/>
            <a:ext cx="857556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Направление распространения волны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0" name="Line 6"/>
          <p:cNvSpPr/>
          <p:nvPr/>
        </p:nvSpPr>
        <p:spPr>
          <a:xfrm>
            <a:off x="2362320" y="2133720"/>
            <a:ext cx="38163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66"/>
                </a:solidFill>
                <a:latin typeface="Garamond"/>
              </a:rPr>
              <a:t>ХАРАКТЕРИСТИКИ ВОЛН</a:t>
            </a: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99"/>
                </a:solidFill>
                <a:latin typeface="Arial"/>
              </a:rPr>
              <a:t>ДЛИНА ВОЛНЫ</a:t>
            </a: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,  </a:t>
            </a:r>
            <a:r>
              <a:rPr b="1" lang="el-GR" sz="4800" spc="-1" strike="noStrike">
                <a:solidFill>
                  <a:srgbClr val="ffff00"/>
                </a:solidFill>
                <a:latin typeface="Arial"/>
              </a:rPr>
              <a:t>λ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 , </a:t>
            </a: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м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СКОРОСТЬ ВОЛНЫ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ʋ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, м/с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66"/>
                </a:solidFill>
                <a:latin typeface="Arial"/>
              </a:rPr>
              <a:t>ПЕРИОД</a:t>
            </a: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,    Т,    с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66"/>
                </a:solidFill>
                <a:latin typeface="Arial"/>
              </a:rPr>
              <a:t>ЧАСТОТА</a:t>
            </a: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,     ,  Гц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Freeform 4"/>
          <p:cNvSpPr/>
          <p:nvPr/>
        </p:nvSpPr>
        <p:spPr>
          <a:xfrm>
            <a:off x="4114800" y="1676520"/>
            <a:ext cx="185760" cy="169920"/>
          </a:xfrm>
          <a:custGeom>
            <a:avLst/>
            <a:gdLst>
              <a:gd name="textAreaLeft" fmla="*/ 0 w 185760"/>
              <a:gd name="textAreaRight" fmla="*/ 186120 w 18576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117" h="107">
                <a:moveTo>
                  <a:pt x="117" y="107"/>
                </a:moveTo>
                <a:cubicBezTo>
                  <a:pt x="108" y="79"/>
                  <a:pt x="105" y="38"/>
                  <a:pt x="74" y="22"/>
                </a:cubicBezTo>
                <a:cubicBezTo>
                  <a:pt x="54" y="12"/>
                  <a:pt x="10" y="0"/>
                  <a:pt x="10" y="0"/>
                </a:cubicBezTo>
                <a:cubicBezTo>
                  <a:pt x="7" y="18"/>
                  <a:pt x="0" y="54"/>
                  <a:pt x="0" y="54"/>
                </a:cubicBezTo>
              </a:path>
            </a:pathLst>
          </a:custGeom>
          <a:noFill/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Freeform 6"/>
          <p:cNvSpPr/>
          <p:nvPr/>
        </p:nvSpPr>
        <p:spPr>
          <a:xfrm>
            <a:off x="4648320" y="3505320"/>
            <a:ext cx="304560" cy="152280"/>
          </a:xfrm>
          <a:custGeom>
            <a:avLst/>
            <a:gdLst>
              <a:gd name="textAreaLeft" fmla="*/ 0 w 304560"/>
              <a:gd name="textAreaRight" fmla="*/ 304920 w 3045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34" h="107">
                <a:moveTo>
                  <a:pt x="70" y="64"/>
                </a:moveTo>
                <a:cubicBezTo>
                  <a:pt x="59" y="61"/>
                  <a:pt x="48" y="49"/>
                  <a:pt x="38" y="54"/>
                </a:cubicBezTo>
                <a:cubicBezTo>
                  <a:pt x="0" y="73"/>
                  <a:pt x="40" y="98"/>
                  <a:pt x="49" y="107"/>
                </a:cubicBezTo>
                <a:cubicBezTo>
                  <a:pt x="81" y="86"/>
                  <a:pt x="105" y="67"/>
                  <a:pt x="123" y="32"/>
                </a:cubicBezTo>
                <a:cubicBezTo>
                  <a:pt x="128" y="22"/>
                  <a:pt x="134" y="0"/>
                  <a:pt x="134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5" name="Freeform 7"/>
          <p:cNvSpPr/>
          <p:nvPr/>
        </p:nvSpPr>
        <p:spPr>
          <a:xfrm>
            <a:off x="3048120" y="4648320"/>
            <a:ext cx="139680" cy="439560"/>
          </a:xfrm>
          <a:custGeom>
            <a:avLst/>
            <a:gdLst>
              <a:gd name="textAreaLeft" fmla="*/ 0 w 139680"/>
              <a:gd name="textAreaRight" fmla="*/ 140040 w 139680"/>
              <a:gd name="textAreaTop" fmla="*/ 0 h 439560"/>
              <a:gd name="textAreaBottom" fmla="*/ 439920 h 439560"/>
            </a:gdLst>
            <a:ahLst/>
            <a:rect l="textAreaLeft" t="textAreaTop" r="textAreaRight" b="textAreaBottom"/>
            <a:pathLst>
              <a:path w="88" h="277">
                <a:moveTo>
                  <a:pt x="0" y="138"/>
                </a:moveTo>
                <a:cubicBezTo>
                  <a:pt x="29" y="226"/>
                  <a:pt x="18" y="180"/>
                  <a:pt x="32" y="277"/>
                </a:cubicBezTo>
                <a:cubicBezTo>
                  <a:pt x="36" y="266"/>
                  <a:pt x="38" y="255"/>
                  <a:pt x="43" y="245"/>
                </a:cubicBezTo>
                <a:cubicBezTo>
                  <a:pt x="49" y="234"/>
                  <a:pt x="59" y="225"/>
                  <a:pt x="64" y="213"/>
                </a:cubicBezTo>
                <a:cubicBezTo>
                  <a:pt x="74" y="189"/>
                  <a:pt x="82" y="126"/>
                  <a:pt x="85" y="106"/>
                </a:cubicBezTo>
                <a:cubicBezTo>
                  <a:pt x="71" y="33"/>
                  <a:pt x="88" y="66"/>
                  <a:pt x="32" y="10"/>
                </a:cubicBezTo>
                <a:cubicBezTo>
                  <a:pt x="24" y="2"/>
                  <a:pt x="0" y="0"/>
                  <a:pt x="0" y="0"/>
                </a:cubicBezTo>
              </a:path>
            </a:pathLst>
          </a:custGeom>
          <a:noFill/>
          <a:ln w="2844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66"/>
                </a:solidFill>
                <a:latin typeface="Garamond"/>
              </a:rPr>
              <a:t>Переход волны в другую среду</a:t>
            </a: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218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Частота колебаний в волне совпадает с частотой колебаний источника и не зависит от свойств среды.   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     </a:t>
            </a:r>
            <a:endParaRPr b="0" lang="en-US" sz="2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ри переходе волны из одной среды в другую ее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частота не изменяется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еняются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лишь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корость и длина волны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66"/>
                </a:solidFill>
                <a:latin typeface="Garamond"/>
              </a:rPr>
              <a:t>Характеристики колебательного движения</a:t>
            </a:r>
            <a:endParaRPr b="0" lang="en-US" sz="38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66"/>
                </a:solidFill>
                <a:latin typeface="Arial"/>
              </a:rPr>
              <a:t>ПЕРИОД</a:t>
            </a: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,    Т,    с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66"/>
                </a:solidFill>
                <a:latin typeface="Arial"/>
              </a:rPr>
              <a:t>ЧАСТОТА</a:t>
            </a: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,     ,  Гц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АМПЛИТУДА,   А, м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" name="Freeform 6"/>
          <p:cNvSpPr/>
          <p:nvPr/>
        </p:nvSpPr>
        <p:spPr>
          <a:xfrm>
            <a:off x="3200400" y="2209680"/>
            <a:ext cx="139680" cy="439920"/>
          </a:xfrm>
          <a:custGeom>
            <a:avLst/>
            <a:gdLst>
              <a:gd name="textAreaLeft" fmla="*/ 0 w 139680"/>
              <a:gd name="textAreaRight" fmla="*/ 140040 w 139680"/>
              <a:gd name="textAreaTop" fmla="*/ 0 h 439920"/>
              <a:gd name="textAreaBottom" fmla="*/ 440280 h 439920"/>
            </a:gdLst>
            <a:ahLst/>
            <a:rect l="textAreaLeft" t="textAreaTop" r="textAreaRight" b="textAreaBottom"/>
            <a:pathLst>
              <a:path w="88" h="277">
                <a:moveTo>
                  <a:pt x="0" y="138"/>
                </a:moveTo>
                <a:cubicBezTo>
                  <a:pt x="29" y="226"/>
                  <a:pt x="18" y="180"/>
                  <a:pt x="32" y="277"/>
                </a:cubicBezTo>
                <a:cubicBezTo>
                  <a:pt x="36" y="266"/>
                  <a:pt x="38" y="255"/>
                  <a:pt x="43" y="245"/>
                </a:cubicBezTo>
                <a:cubicBezTo>
                  <a:pt x="49" y="234"/>
                  <a:pt x="59" y="225"/>
                  <a:pt x="64" y="213"/>
                </a:cubicBezTo>
                <a:cubicBezTo>
                  <a:pt x="74" y="189"/>
                  <a:pt x="82" y="126"/>
                  <a:pt x="85" y="106"/>
                </a:cubicBezTo>
                <a:cubicBezTo>
                  <a:pt x="71" y="33"/>
                  <a:pt x="88" y="66"/>
                  <a:pt x="32" y="10"/>
                </a:cubicBezTo>
                <a:cubicBezTo>
                  <a:pt x="24" y="2"/>
                  <a:pt x="0" y="0"/>
                  <a:pt x="0" y="0"/>
                </a:cubicBezTo>
              </a:path>
            </a:pathLst>
          </a:custGeom>
          <a:noFill/>
          <a:ln w="2844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66"/>
                </a:solidFill>
                <a:latin typeface="Garamond"/>
              </a:rPr>
              <a:t>РЕШЕНИЕ ЗАДАЧ</a:t>
            </a:r>
            <a:br>
              <a:rPr sz="3800"/>
            </a:br>
            <a:endParaRPr b="0" lang="en-US" sz="38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УПРАЖНЕНИЕ 28.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66"/>
                </a:solidFill>
                <a:latin typeface="Garamond"/>
              </a:rPr>
              <a:t>ДОМАШНЕЕ ЗАДАНИЕ</a:t>
            </a: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ЧИТАТЬ: параграфы 31-33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ПИСЬМЕННО: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придумать и решить задачи как №1 и №2 из упр. 28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324000" y="1341360"/>
          <a:ext cx="8429400" cy="3119400"/>
        </p:xfrm>
        <a:graphic>
          <a:graphicData uri="http://schemas.openxmlformats.org/drawingml/2006/table">
            <a:tbl>
              <a:tblPr/>
              <a:tblGrid>
                <a:gridCol w="2214360"/>
                <a:gridCol w="1857600"/>
                <a:gridCol w="2301840"/>
                <a:gridCol w="2055600"/>
              </a:tblGrid>
              <a:tr h="385920">
                <a:tc gridSpan="4">
                  <a:txBody>
                    <a:bodyPr lIns="68760" rIns="68760" tIns="0" bIns="0" anchor="t">
                      <a:noAutofit/>
                    </a:bodyPr>
                    <a:p>
                      <a:pPr marL="1193760" indent="-1101600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  </a:t>
                      </a:r>
                      <a:endParaRPr b="0" lang="en-US" sz="22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Аисты</a:t>
                      </a:r>
                      <a:endParaRPr b="0" lang="en-US" sz="26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Бабочки</a:t>
                      </a:r>
                      <a:endParaRPr b="0" lang="en-US" sz="26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Воробьи  </a:t>
                      </a:r>
                      <a:endParaRPr b="0" lang="en-US" sz="26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Вороны </a:t>
                      </a:r>
                      <a:endParaRPr b="0" lang="en-US" sz="26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Колибри  </a:t>
                      </a:r>
                      <a:endParaRPr b="0" lang="en-US" sz="26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Комары   </a:t>
                      </a:r>
                      <a:endParaRPr b="0" lang="en-US" sz="26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92160" indent="-92160" algn="ctr">
                        <a:lnSpc>
                          <a:spcPct val="115000"/>
                        </a:lnSpc>
                        <a:tabLst>
                          <a:tab algn="l" pos="0"/>
                          <a:tab algn="l" pos="165240"/>
                          <a:tab algn="l" pos="330120"/>
                          <a:tab algn="l" pos="495360"/>
                          <a:tab algn="l" pos="660240"/>
                          <a:tab algn="l" pos="825480"/>
                          <a:tab algn="l" pos="990720"/>
                          <a:tab algn="l" pos="1155600"/>
                          <a:tab algn="l" pos="1320840"/>
                          <a:tab algn="l" pos="1486080"/>
                          <a:tab algn="l" pos="1650960"/>
                          <a:tab algn="l" pos="1816200"/>
                          <a:tab algn="l" pos="1981080"/>
                          <a:tab algn="l" pos="2146320"/>
                          <a:tab algn="l" pos="2311560"/>
                          <a:tab algn="l" pos="2476440"/>
                          <a:tab algn="l" pos="2641680"/>
                          <a:tab algn="l" pos="2806560"/>
                          <a:tab algn="l" pos="2971800"/>
                          <a:tab algn="l" pos="3137040"/>
                          <a:tab algn="l" pos="3301920"/>
                        </a:tabLst>
                      </a:pPr>
                      <a:r>
                        <a:rPr b="1" i="1" lang="ru-RU" sz="2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  <a:p>
                      <a:pPr marL="92160" indent="-92160" algn="ctr">
                        <a:lnSpc>
                          <a:spcPct val="115000"/>
                        </a:lnSpc>
                        <a:tabLst>
                          <a:tab algn="l" pos="0"/>
                          <a:tab algn="l" pos="165240"/>
                          <a:tab algn="l" pos="330120"/>
                          <a:tab algn="l" pos="495360"/>
                          <a:tab algn="l" pos="660240"/>
                          <a:tab algn="l" pos="825480"/>
                          <a:tab algn="l" pos="990720"/>
                          <a:tab algn="l" pos="1155600"/>
                          <a:tab algn="l" pos="1320840"/>
                          <a:tab algn="l" pos="1486080"/>
                          <a:tab algn="l" pos="1650960"/>
                          <a:tab algn="l" pos="1816200"/>
                          <a:tab algn="l" pos="1981080"/>
                          <a:tab algn="l" pos="2146320"/>
                          <a:tab algn="l" pos="2311560"/>
                          <a:tab algn="l" pos="2476440"/>
                          <a:tab algn="l" pos="2641680"/>
                          <a:tab algn="l" pos="2806560"/>
                          <a:tab algn="l" pos="2971800"/>
                          <a:tab algn="l" pos="3137040"/>
                          <a:tab algn="l" pos="3301920"/>
                        </a:tabLst>
                      </a:pPr>
                      <a:r>
                        <a:rPr b="1" i="1" lang="ru-RU" sz="2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до 9</a:t>
                      </a:r>
                      <a:endParaRPr b="0" lang="en-US" sz="26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  <a:p>
                      <a:pPr marL="92160" indent="-92160" algn="ctr">
                        <a:lnSpc>
                          <a:spcPct val="115000"/>
                        </a:lnSpc>
                        <a:tabLst>
                          <a:tab algn="l" pos="0"/>
                          <a:tab algn="l" pos="165240"/>
                          <a:tab algn="l" pos="330120"/>
                          <a:tab algn="l" pos="495360"/>
                          <a:tab algn="l" pos="660240"/>
                          <a:tab algn="l" pos="825480"/>
                          <a:tab algn="l" pos="990720"/>
                          <a:tab algn="l" pos="1155600"/>
                          <a:tab algn="l" pos="1320840"/>
                          <a:tab algn="l" pos="1486080"/>
                          <a:tab algn="l" pos="1650960"/>
                          <a:tab algn="l" pos="1816200"/>
                          <a:tab algn="l" pos="1981080"/>
                          <a:tab algn="l" pos="2146320"/>
                          <a:tab algn="l" pos="2311560"/>
                          <a:tab algn="l" pos="2476440"/>
                          <a:tab algn="l" pos="2641680"/>
                          <a:tab algn="l" pos="2806560"/>
                          <a:tab algn="l" pos="2971800"/>
                          <a:tab algn="l" pos="3137040"/>
                          <a:tab algn="l" pos="3301920"/>
                        </a:tabLst>
                      </a:pPr>
                      <a:r>
                        <a:rPr b="1" i="1" lang="ru-RU" sz="2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до 13</a:t>
                      </a:r>
                      <a:endParaRPr b="0" lang="en-US" sz="26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  <a:p>
                      <a:pPr marL="92160" indent="-92160" algn="ctr">
                        <a:lnSpc>
                          <a:spcPct val="115000"/>
                        </a:lnSpc>
                        <a:tabLst>
                          <a:tab algn="l" pos="0"/>
                          <a:tab algn="l" pos="165240"/>
                          <a:tab algn="l" pos="330120"/>
                          <a:tab algn="l" pos="495360"/>
                          <a:tab algn="l" pos="660240"/>
                          <a:tab algn="l" pos="825480"/>
                          <a:tab algn="l" pos="990720"/>
                          <a:tab algn="l" pos="1155600"/>
                          <a:tab algn="l" pos="1320840"/>
                          <a:tab algn="l" pos="1486080"/>
                          <a:tab algn="l" pos="1650960"/>
                          <a:tab algn="l" pos="1816200"/>
                          <a:tab algn="l" pos="1981080"/>
                          <a:tab algn="l" pos="2146320"/>
                          <a:tab algn="l" pos="2311560"/>
                          <a:tab algn="l" pos="2476440"/>
                          <a:tab algn="l" pos="2641680"/>
                          <a:tab algn="l" pos="2806560"/>
                          <a:tab algn="l" pos="2971800"/>
                          <a:tab algn="l" pos="3137040"/>
                          <a:tab algn="l" pos="3301920"/>
                        </a:tabLst>
                      </a:pPr>
                      <a:r>
                        <a:rPr b="1" i="1" lang="ru-RU" sz="2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3 – 4</a:t>
                      </a:r>
                      <a:endParaRPr b="0" lang="en-US" sz="26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  <a:p>
                      <a:pPr marL="92160" indent="-92160" algn="ctr">
                        <a:lnSpc>
                          <a:spcPct val="115000"/>
                        </a:lnSpc>
                        <a:tabLst>
                          <a:tab algn="l" pos="0"/>
                          <a:tab algn="l" pos="165240"/>
                          <a:tab algn="l" pos="330120"/>
                          <a:tab algn="l" pos="495360"/>
                          <a:tab algn="l" pos="660240"/>
                          <a:tab algn="l" pos="825480"/>
                          <a:tab algn="l" pos="990720"/>
                          <a:tab algn="l" pos="1155600"/>
                          <a:tab algn="l" pos="1320840"/>
                          <a:tab algn="l" pos="1486080"/>
                          <a:tab algn="l" pos="1650960"/>
                          <a:tab algn="l" pos="1816200"/>
                          <a:tab algn="l" pos="1981080"/>
                          <a:tab algn="l" pos="2146320"/>
                          <a:tab algn="l" pos="2311560"/>
                          <a:tab algn="l" pos="2476440"/>
                          <a:tab algn="l" pos="2641680"/>
                          <a:tab algn="l" pos="2806560"/>
                          <a:tab algn="l" pos="2971800"/>
                          <a:tab algn="l" pos="3137040"/>
                          <a:tab algn="l" pos="3301920"/>
                        </a:tabLst>
                      </a:pPr>
                      <a:r>
                        <a:rPr b="1" i="1" lang="ru-RU" sz="2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50</a:t>
                      </a:r>
                      <a:endParaRPr b="0" lang="en-US" sz="26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  <a:p>
                      <a:pPr marL="92160" indent="-92160">
                        <a:lnSpc>
                          <a:spcPct val="115000"/>
                        </a:lnSpc>
                        <a:tabLst>
                          <a:tab algn="l" pos="0"/>
                          <a:tab algn="l" pos="165240"/>
                          <a:tab algn="l" pos="330120"/>
                          <a:tab algn="l" pos="495360"/>
                          <a:tab algn="l" pos="660240"/>
                          <a:tab algn="l" pos="825480"/>
                          <a:tab algn="l" pos="990720"/>
                          <a:tab algn="l" pos="1155600"/>
                          <a:tab algn="l" pos="1320840"/>
                          <a:tab algn="l" pos="1486080"/>
                          <a:tab algn="l" pos="1650960"/>
                          <a:tab algn="l" pos="1816200"/>
                          <a:tab algn="l" pos="1981080"/>
                          <a:tab algn="l" pos="2146320"/>
                          <a:tab algn="l" pos="2311560"/>
                          <a:tab algn="l" pos="2476440"/>
                          <a:tab algn="l" pos="2641680"/>
                          <a:tab algn="l" pos="2806560"/>
                          <a:tab algn="l" pos="2971800"/>
                          <a:tab algn="l" pos="3137040"/>
                          <a:tab algn="l" pos="3301920"/>
                        </a:tabLst>
                      </a:pPr>
                      <a:r>
                        <a:rPr b="1" i="1" lang="ru-RU" sz="2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300 – 600</a:t>
                      </a:r>
                      <a:endParaRPr b="0" lang="en-US" sz="26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Мухи</a:t>
                      </a:r>
                      <a:endParaRPr b="0" lang="en-US" sz="26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 </a:t>
                      </a:r>
                      <a:r>
                        <a:rPr b="1" i="1" lang="ru-RU" sz="2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Пчелы </a:t>
                      </a:r>
                      <a:endParaRPr b="0" lang="en-US" sz="26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Саранча </a:t>
                      </a:r>
                      <a:endParaRPr b="0" lang="en-US" sz="26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Слепни   </a:t>
                      </a:r>
                      <a:endParaRPr b="0" lang="en-US" sz="26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Стрекозы </a:t>
                      </a:r>
                      <a:endParaRPr b="0" lang="en-US" sz="26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Шмели </a:t>
                      </a:r>
                      <a:endParaRPr b="0" lang="en-US" sz="26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55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90 – 330</a:t>
                      </a:r>
                      <a:endParaRPr b="0" lang="en-US" sz="26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  <a:p>
                      <a:pPr marL="255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00 – 250</a:t>
                      </a:r>
                      <a:endParaRPr b="0" lang="en-US" sz="26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  <a:p>
                      <a:pPr marL="255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0</a:t>
                      </a:r>
                      <a:endParaRPr b="0" lang="en-US" sz="26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  <a:p>
                      <a:pPr marL="255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00</a:t>
                      </a:r>
                      <a:endParaRPr b="0" lang="en-US" sz="26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  <a:p>
                      <a:pPr marL="255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38 – 100</a:t>
                      </a:r>
                      <a:endParaRPr b="0" lang="en-US" sz="26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  <a:p>
                      <a:pPr marL="255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80 – 240</a:t>
                      </a:r>
                      <a:endParaRPr b="0" lang="en-US" sz="2600" spc="-1" strike="noStrike">
                        <a:solidFill>
                          <a:srgbClr val="ffff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99" name="Прямоугольник 6"/>
          <p:cNvSpPr/>
          <p:nvPr/>
        </p:nvSpPr>
        <p:spPr>
          <a:xfrm>
            <a:off x="325800" y="40464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00" name="Рисунок 7" descr="823446_900x600.jpg"/>
          <p:cNvPicPr/>
          <p:nvPr/>
        </p:nvPicPr>
        <p:blipFill>
          <a:blip r:embed="rId1"/>
          <a:stretch/>
        </p:blipFill>
        <p:spPr>
          <a:xfrm>
            <a:off x="324000" y="4869000"/>
            <a:ext cx="2214360" cy="15714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9" descr="823418_900x604.jpg"/>
          <p:cNvPicPr/>
          <p:nvPr/>
        </p:nvPicPr>
        <p:blipFill>
          <a:blip r:embed="rId2"/>
          <a:stretch/>
        </p:blipFill>
        <p:spPr>
          <a:xfrm>
            <a:off x="6732720" y="4869000"/>
            <a:ext cx="2143080" cy="15714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0" descr="11 - WAP.jpg"/>
          <p:cNvPicPr/>
          <p:nvPr/>
        </p:nvPicPr>
        <p:blipFill>
          <a:blip r:embed="rId3"/>
          <a:stretch/>
        </p:blipFill>
        <p:spPr>
          <a:xfrm>
            <a:off x="3352680" y="4876920"/>
            <a:ext cx="2071800" cy="15541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21"/>
          <p:cNvSpPr/>
          <p:nvPr/>
        </p:nvSpPr>
        <p:spPr>
          <a:xfrm>
            <a:off x="2489760" y="281160"/>
            <a:ext cx="564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Частота колебаний крыльев  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насекомых и птиц в полете, Гц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66"/>
                </a:solidFill>
                <a:latin typeface="Garamond"/>
              </a:rPr>
              <a:t>Практическое задание</a:t>
            </a: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ОПРЕДЕЛИТЬ ЧАСТОТУ И ПЕРИОД работы лёгких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371600" y="2971800"/>
            <a:ext cx="70866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КОЛИБРИ 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1000 сокращений сердца в минуту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Частота  1000/60 = 16,7 Гц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09480" y="2327040"/>
            <a:ext cx="822960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20200" indent="-520200">
              <a:spcBef>
                <a:spcPts val="901"/>
              </a:spcBef>
              <a:buClr>
                <a:srgbClr val="ff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При увеличении массы груза пружинного маятника в 9 раз период колебаний ….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 marL="520200" indent="-520200">
              <a:spcBef>
                <a:spcPts val="901"/>
              </a:spcBef>
              <a:buClr>
                <a:srgbClr val="ff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При увеличении жёсткости пружины в 16 раз период колебаний пружинного маятника …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 marL="520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5410080" y="228600"/>
            <a:ext cx="3505320" cy="18144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914400" y="457200"/>
            <a:ext cx="411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ПРУЖИННЫЙ МАЯТНИК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6019920" y="304920"/>
            <a:ext cx="3124080" cy="175104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457200" y="1905120"/>
            <a:ext cx="8077320" cy="35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901"/>
              </a:spcBef>
              <a:buClr>
                <a:srgbClr val="ff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При увеличении  длины  математического маятника период колебаний ….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ff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При уменьшении длины  математического маятника  в 4 раза период колебаний ….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ff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57200" y="457200"/>
            <a:ext cx="5791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МАТЕМАТИЧЕСКИЙ МАЯТНИК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66"/>
                </a:solidFill>
                <a:latin typeface="Garamond"/>
              </a:rPr>
              <a:t>ХАРАКТЕРИСТИКИ КОЛЕБАНИЯ </a:t>
            </a:r>
            <a:endParaRPr b="0" lang="en-US" sz="38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КООРДИНАТА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СКОРОСТЬ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АМПЛИТУДА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ПЕРИОД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ЧАСТОТА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ru-RU" sz="3000" spc="-1" strike="noStrike" u="sng">
                <a:solidFill>
                  <a:srgbClr val="ffff99"/>
                </a:solidFill>
                <a:uFillTx/>
                <a:latin typeface="Arial"/>
              </a:rPr>
              <a:t>КАКИЕ ФУНКЦИИ ОПИСЫВАЮТ КОЛЕБАНИЯ?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Классная работа                 20.10.18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ГАРМОНИЧЕСКИЕ КОЛЕБАНИЯ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66"/>
                </a:solidFill>
                <a:latin typeface="Garamond"/>
              </a:rPr>
              <a:t>Стр. </a:t>
            </a:r>
            <a:r>
              <a:rPr b="0" lang="en-US" sz="4200" spc="-1" strike="noStrike">
                <a:solidFill>
                  <a:srgbClr val="ffff66"/>
                </a:solidFill>
                <a:latin typeface="Garamond"/>
              </a:rPr>
              <a:t> 47</a:t>
            </a:r>
            <a:r>
              <a:rPr b="0" lang="ru-RU" sz="4200" spc="-1" strike="noStrike">
                <a:solidFill>
                  <a:srgbClr val="ffff66"/>
                </a:solidFill>
                <a:latin typeface="Garamond"/>
              </a:rPr>
              <a:t>  момент инерции-</a:t>
            </a:r>
            <a:r>
              <a:rPr b="0" lang="en-US" sz="4200" spc="-1" strike="noStrike">
                <a:solidFill>
                  <a:srgbClr val="ffff66"/>
                </a:solidFill>
                <a:latin typeface="Garamond"/>
              </a:rPr>
              <a:t>I</a:t>
            </a:r>
            <a:r>
              <a:rPr b="0" lang="ru-RU" sz="4200" spc="-1" strike="noStrike">
                <a:solidFill>
                  <a:srgbClr val="ffff66"/>
                </a:solidFill>
                <a:latin typeface="Garamond"/>
              </a:rPr>
              <a:t>,  кг*м2</a:t>
            </a: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Теорема Штейнера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№ </a:t>
            </a: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6.1. (стр. 49)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А) 0,5 </a:t>
            </a: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mR</a:t>
            </a:r>
            <a:r>
              <a:rPr b="0" lang="en-US" sz="3000" spc="-1" strike="noStrike" baseline="30000">
                <a:solidFill>
                  <a:srgbClr val="ffff99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Б) 1,5 </a:t>
            </a: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mR</a:t>
            </a:r>
            <a:r>
              <a:rPr b="0" lang="en-US" sz="3000" spc="-1" strike="noStrike" baseline="30000">
                <a:solidFill>
                  <a:srgbClr val="ffff99"/>
                </a:solidFill>
                <a:latin typeface="Arial"/>
              </a:rPr>
              <a:t>2</a:t>
            </a:r>
            <a:r>
              <a:rPr b="0" lang="ru-RU" sz="3000" spc="-1" strike="noStrike" baseline="30000">
                <a:solidFill>
                  <a:srgbClr val="ffff9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0T19:47:35Z</dcterms:created>
  <dc:creator>славик</dc:creator>
  <dc:description/>
  <dc:language>en-US</dc:language>
  <cp:lastModifiedBy>Шатилова Нина Никола</cp:lastModifiedBy>
  <dcterms:modified xsi:type="dcterms:W3CDTF">2018-10-20T06:18:43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