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097-0089-4989-9201-C2413DCE3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8F2-099D-4250-8FBA-507A66D40C98}" type="slidenum">
              <a:rPr b="0" lang="ru-RU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98E-7697-47AE-A142-91E90B3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85E-930A-4B60-A126-B5ACB11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6A3-5D23-4448-84D3-F2883D08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604-9471-458E-A31D-E9CA55B0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1466-6F40-424B-A78D-CE942FD1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E0B3-89AD-410F-93A1-2F21398B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51AA-A23D-497D-8A9D-97AC3F3A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B51-71F2-4EC3-900E-6492E919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D44-9FB8-4E50-97F5-DD0DBEB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EFD4-206F-46DB-BDDE-1596F7D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3745-04F5-4D68-AE6B-29EA01B4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500-E714-4136-9523-4BA66C6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1B0-5158-43F0-8E39-6A9FBF9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D09E-A08F-4379-80C3-5F312B5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6DAA-FEB0-4E61-9654-B3E13F19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B994-3E52-4783-86AF-5319218D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DBE1-8B4A-4A2E-92A1-6CB10A6A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A22-2F0E-4D2B-80A2-602701E5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457-B57B-4CBF-AC44-38B792C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5EF-630A-4EB3-B17C-97BA238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1C0-6882-438B-AAAC-E8C96BC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669-35AE-47D1-A401-17B9F47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E15-BB52-4AE6-8DE8-6ADABDED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5A1-3144-4ED1-8D73-B30F9BD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C194-E8B7-4AC3-874A-D442A0A4DF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E2F-62E6-4D1A-9A04-3AFEE79BE384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овторение: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Условия равновесия тел- СТАТИКА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1) СУММА ВСЕХ СИЛ =0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2)  СУММА МОМЕНТОВ СИЛ =0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.з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ЮБОЕ ИЗ НИХ ИЛИ ОБА ОДНОВРЕМЕННО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ТР. 53 №1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Волны на поверхности жидкости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олны на поверхности жидкости существуют благодаря действию на частицы сил тяжести и сил межмолекулярного взаимодействия.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4" name="Picture 4" descr="Картинка 14 из 63"/>
          <p:cNvPicPr/>
          <p:nvPr/>
        </p:nvPicPr>
        <p:blipFill>
          <a:blip r:embed="rId1"/>
          <a:stretch/>
        </p:blipFill>
        <p:spPr>
          <a:xfrm>
            <a:off x="4356000" y="2349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Морские волны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ысота волн в Балтийском море доходит до 5 м, в Атлантическом океане – до 9 м, в водах южного полушария – до 12-13 м (скорость 20 м/с)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7" name="Picture 4" descr="Картинка 3 из 104"/>
          <p:cNvPicPr/>
          <p:nvPr/>
        </p:nvPicPr>
        <p:blipFill>
          <a:blip r:embed="rId1"/>
          <a:stretch/>
        </p:blipFill>
        <p:spPr>
          <a:xfrm>
            <a:off x="324000" y="2421000"/>
            <a:ext cx="4572000" cy="3062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68360" y="5734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И.Айвазовский. </a:t>
            </a: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Девятый вал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возмущения, распространяющиеся в пространстве 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ОЛН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а поверхности   электромагнитные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жидкост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1980720" y="2819520"/>
            <a:ext cx="175284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343400" y="28195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5334120" y="2819520"/>
            <a:ext cx="914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0492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8088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ПРУГ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33520" y="380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ХАНИЧЕСКИЕ ВОЛНЫ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7" name="Picture 12" descr="851BC769"/>
          <p:cNvPicPr/>
          <p:nvPr/>
        </p:nvPicPr>
        <p:blipFill>
          <a:blip r:embed="rId1">
            <a:lum contrast="12000"/>
          </a:blip>
          <a:srcRect l="29027" t="27852" r="22572" b="57722"/>
          <a:stretch/>
        </p:blipFill>
        <p:spPr>
          <a:xfrm>
            <a:off x="838080" y="4419720"/>
            <a:ext cx="72392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16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1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66"/>
                </a:solidFill>
                <a:latin typeface="Garamond"/>
              </a:rPr>
              <a:t>ФИЗМИНУТКА</a:t>
            </a:r>
            <a:endParaRPr b="0" lang="en-US" sz="5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Organization Chart 6"/>
          <p:cNvGrpSpPr/>
          <p:nvPr/>
        </p:nvGrpSpPr>
        <p:grpSpPr>
          <a:xfrm>
            <a:off x="457200" y="307800"/>
            <a:ext cx="8228520" cy="3043800"/>
            <a:chOff x="457200" y="307800"/>
            <a:chExt cx="8228520" cy="3043800"/>
          </a:xfrm>
        </p:grpSpPr>
        <p:cxnSp>
          <p:nvCxnSpPr>
            <p:cNvPr id="141" name="_s1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374440" y="721440"/>
              <a:ext cx="609480" cy="2215440"/>
            </a:xfrm>
            <a:prstGeom prst="bentConnector3">
              <a:avLst>
                <a:gd name="adj1" fmla="val 9810"/>
              </a:avLst>
            </a:prstGeom>
            <a:ln w="28440">
              <a:solidFill>
                <a:srgbClr val="ffff99"/>
              </a:solidFill>
              <a:miter/>
            </a:ln>
          </p:spPr>
        </p:cxnSp>
        <p:cxnSp>
          <p:nvCxnSpPr>
            <p:cNvPr id="144" name="_s1029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158640" y="721440"/>
              <a:ext cx="609480" cy="2216160"/>
            </a:xfrm>
            <a:prstGeom prst="bentConnector3">
              <a:avLst>
                <a:gd name="adj1" fmla="val 9810"/>
              </a:avLst>
            </a:prstGeom>
            <a:ln w="28440">
              <a:solidFill>
                <a:srgbClr val="ffff99"/>
              </a:solidFill>
              <a:miter/>
            </a:ln>
          </p:spPr>
        </p:cxnSp>
        <p:sp>
          <p:nvSpPr>
            <p:cNvPr id="143" name="_s1030"/>
            <p:cNvSpPr/>
            <p:nvPr/>
          </p:nvSpPr>
          <p:spPr>
            <a:xfrm>
              <a:off x="2673000" y="30780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820000"/>
                  </a:solidFill>
                  <a:latin typeface="Arial"/>
                  <a:ea typeface="Arial"/>
                </a:rPr>
                <a:t>ВОЛНЫ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45" name="_s1031"/>
            <p:cNvSpPr/>
            <p:nvPr/>
          </p:nvSpPr>
          <p:spPr>
            <a:xfrm>
              <a:off x="457200" y="213408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3300"/>
                  </a:solidFill>
                  <a:latin typeface="Arial"/>
                  <a:ea typeface="Arial"/>
                </a:rPr>
                <a:t>ПРОДОЛЬНЫЕ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42" name="_s1032"/>
            <p:cNvSpPr/>
            <p:nvPr/>
          </p:nvSpPr>
          <p:spPr>
            <a:xfrm>
              <a:off x="4888080" y="213408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3300"/>
                  </a:solidFill>
                  <a:latin typeface="Arial"/>
                  <a:ea typeface="Arial"/>
                </a:rPr>
                <a:t>ПОПЕРЕЧНЫЕ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 волн на поверхности жидкости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олны на поверхности жидкости имеют сложный продольно-поперечный характер, при котором частицы жидкости движутся либо по окружностям, либо по вытянутым в горизонтальном направлении эллипсам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8" name="Picture 4" descr="A4808A77"/>
          <p:cNvPicPr/>
          <p:nvPr/>
        </p:nvPicPr>
        <p:blipFill>
          <a:blip r:embed="rId1">
            <a:lum contrast="36000"/>
          </a:blip>
          <a:srcRect l="5331" t="34014" r="5331" b="17511"/>
          <a:stretch/>
        </p:blipFill>
        <p:spPr>
          <a:xfrm>
            <a:off x="152280" y="2286000"/>
            <a:ext cx="8763120" cy="1738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6320" y="1447920"/>
            <a:ext cx="8575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правление распространения волн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362320" y="2133720"/>
            <a:ext cx="381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ХАРАКТЕРИСТИКИ ВОЛН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ДЛИНА ВОЛНЫ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</a:t>
            </a:r>
            <a:r>
              <a:rPr b="1" lang="el-GR" sz="4800" spc="-1" strike="noStrike">
                <a:solidFill>
                  <a:srgbClr val="ffff00"/>
                </a:solidFill>
                <a:latin typeface="Arial"/>
              </a:rPr>
              <a:t>λ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КОРОСТЬ ВОЛНЫ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ʋ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 м/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ПЕРИОД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Т,    с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ЧАСТОТА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 ,  Гц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>
            <a:off x="4114800" y="1676520"/>
            <a:ext cx="185760" cy="169920"/>
          </a:xfrm>
          <a:custGeom>
            <a:avLst/>
            <a:gdLst>
              <a:gd name="textAreaLeft" fmla="*/ 0 w 185760"/>
              <a:gd name="textAreaRight" fmla="*/ 186120 w 185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17" h="107">
                <a:moveTo>
                  <a:pt x="117" y="107"/>
                </a:moveTo>
                <a:cubicBezTo>
                  <a:pt x="108" y="79"/>
                  <a:pt x="105" y="38"/>
                  <a:pt x="74" y="22"/>
                </a:cubicBezTo>
                <a:cubicBezTo>
                  <a:pt x="54" y="12"/>
                  <a:pt x="10" y="0"/>
                  <a:pt x="10" y="0"/>
                </a:cubicBezTo>
                <a:cubicBezTo>
                  <a:pt x="7" y="18"/>
                  <a:pt x="0" y="54"/>
                  <a:pt x="0" y="54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4648320" y="3505320"/>
            <a:ext cx="304560" cy="152280"/>
          </a:xfrm>
          <a:custGeom>
            <a:avLst/>
            <a:gdLst>
              <a:gd name="textAreaLeft" fmla="*/ 0 w 304560"/>
              <a:gd name="textAreaRight" fmla="*/ 304920 w 30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4" h="107">
                <a:moveTo>
                  <a:pt x="70" y="64"/>
                </a:moveTo>
                <a:cubicBezTo>
                  <a:pt x="59" y="61"/>
                  <a:pt x="48" y="49"/>
                  <a:pt x="38" y="54"/>
                </a:cubicBezTo>
                <a:cubicBezTo>
                  <a:pt x="0" y="73"/>
                  <a:pt x="40" y="98"/>
                  <a:pt x="49" y="107"/>
                </a:cubicBezTo>
                <a:cubicBezTo>
                  <a:pt x="81" y="86"/>
                  <a:pt x="105" y="67"/>
                  <a:pt x="123" y="32"/>
                </a:cubicBezTo>
                <a:cubicBezTo>
                  <a:pt x="128" y="22"/>
                  <a:pt x="134" y="0"/>
                  <a:pt x="13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3048120" y="4648320"/>
            <a:ext cx="139680" cy="439560"/>
          </a:xfrm>
          <a:custGeom>
            <a:avLst/>
            <a:gdLst>
              <a:gd name="textAreaLeft" fmla="*/ 0 w 139680"/>
              <a:gd name="textAreaRight" fmla="*/ 140040 w 13968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88" h="277">
                <a:moveTo>
                  <a:pt x="0" y="138"/>
                </a:moveTo>
                <a:cubicBezTo>
                  <a:pt x="29" y="226"/>
                  <a:pt x="18" y="180"/>
                  <a:pt x="32" y="277"/>
                </a:cubicBezTo>
                <a:cubicBezTo>
                  <a:pt x="36" y="266"/>
                  <a:pt x="38" y="255"/>
                  <a:pt x="43" y="245"/>
                </a:cubicBezTo>
                <a:cubicBezTo>
                  <a:pt x="49" y="234"/>
                  <a:pt x="59" y="225"/>
                  <a:pt x="64" y="213"/>
                </a:cubicBezTo>
                <a:cubicBezTo>
                  <a:pt x="74" y="189"/>
                  <a:pt x="82" y="126"/>
                  <a:pt x="85" y="106"/>
                </a:cubicBezTo>
                <a:cubicBezTo>
                  <a:pt x="71" y="33"/>
                  <a:pt x="88" y="66"/>
                  <a:pt x="32" y="10"/>
                </a:cubicBezTo>
                <a:cubicBezTo>
                  <a:pt x="24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ереход волны в другую среду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Частота колебаний в волне совпадает с частотой колебаний источника и не зависит от свойств среды.  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 переходе волны из одной среды в другую е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стота не изменяетс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няютс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лишь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корость и длина волны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тельного движения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ПЕРИОД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Т,    с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ЧАСТОТА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 ,  Гц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,   А, м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Freeform 6"/>
          <p:cNvSpPr/>
          <p:nvPr/>
        </p:nvSpPr>
        <p:spPr>
          <a:xfrm>
            <a:off x="3200400" y="2209680"/>
            <a:ext cx="139680" cy="439920"/>
          </a:xfrm>
          <a:custGeom>
            <a:avLst/>
            <a:gdLst>
              <a:gd name="textAreaLeft" fmla="*/ 0 w 139680"/>
              <a:gd name="textAreaRight" fmla="*/ 140040 w 13968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8" h="277">
                <a:moveTo>
                  <a:pt x="0" y="138"/>
                </a:moveTo>
                <a:cubicBezTo>
                  <a:pt x="29" y="226"/>
                  <a:pt x="18" y="180"/>
                  <a:pt x="32" y="277"/>
                </a:cubicBezTo>
                <a:cubicBezTo>
                  <a:pt x="36" y="266"/>
                  <a:pt x="38" y="255"/>
                  <a:pt x="43" y="245"/>
                </a:cubicBezTo>
                <a:cubicBezTo>
                  <a:pt x="49" y="234"/>
                  <a:pt x="59" y="225"/>
                  <a:pt x="64" y="213"/>
                </a:cubicBezTo>
                <a:cubicBezTo>
                  <a:pt x="74" y="189"/>
                  <a:pt x="82" y="126"/>
                  <a:pt x="85" y="106"/>
                </a:cubicBezTo>
                <a:cubicBezTo>
                  <a:pt x="71" y="33"/>
                  <a:pt x="88" y="66"/>
                  <a:pt x="32" y="10"/>
                </a:cubicBezTo>
                <a:cubicBezTo>
                  <a:pt x="24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РЕШЕНИЕ ЗАДАЧ</a:t>
            </a:r>
            <a:br>
              <a:rPr sz="3800"/>
            </a:b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ПРАЖНЕНИЕ 28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ЧИТАТЬ: параграфы 31-33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ИСЬМЕННО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идумать и решить задачи как №1 и №2 из упр. 2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24000" y="1341360"/>
          <a:ext cx="8429400" cy="3119400"/>
        </p:xfrm>
        <a:graphic>
          <a:graphicData uri="http://schemas.openxmlformats.org/drawingml/2006/table">
            <a:tbl>
              <a:tblPr/>
              <a:tblGrid>
                <a:gridCol w="2214360"/>
                <a:gridCol w="1857600"/>
                <a:gridCol w="2301840"/>
                <a:gridCol w="2055600"/>
              </a:tblGrid>
              <a:tr h="3859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  </a:t>
                      </a:r>
                      <a:endParaRPr b="0" lang="en-US" sz="22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исты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абочки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оробьи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орон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либри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мары 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 9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 13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 – 4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0 – 6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ухи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 </a:t>
                      </a: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чел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аранча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лепни 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трекоз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мели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90 – 33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 – 25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8 – 1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0 – 24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9" name="Прямоугольник 6"/>
          <p:cNvSpPr/>
          <p:nvPr/>
        </p:nvSpPr>
        <p:spPr>
          <a:xfrm>
            <a:off x="325800" y="4046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Рисунок 7" descr="823446_900x600.jpg"/>
          <p:cNvPicPr/>
          <p:nvPr/>
        </p:nvPicPr>
        <p:blipFill>
          <a:blip r:embed="rId1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823418_900x604.jpg"/>
          <p:cNvPicPr/>
          <p:nvPr/>
        </p:nvPicPr>
        <p:blipFill>
          <a:blip r:embed="rId2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11 - WAP.jpg"/>
          <p:cNvPicPr/>
          <p:nvPr/>
        </p:nvPicPr>
        <p:blipFill>
          <a:blip r:embed="rId3"/>
          <a:stretch/>
        </p:blipFill>
        <p:spPr>
          <a:xfrm>
            <a:off x="3352680" y="48769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актическо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ПРЕДЕЛИТЬ ЧАСТОТУ И ПЕРИОД работы лёгких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297180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ОЛИБРИ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1000 сокращений сердца в минут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Частота  1000/60 = 16,7 Гц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23270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в 9 раз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20200" indent="-52020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в 16 раз период колебаний пружинного маятника 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2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505320" cy="1814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14400" y="4572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УЖИННЫ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3124080" cy="1751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57200" y="1905120"/>
            <a:ext cx="807732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 длины  математического маятника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меньшении длины  математического маятника  в 4 раза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45720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АТЕМАТИЧЕСКИ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НИЯ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ОРДИНА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КОР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ИОД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ЧАСТО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ffff99"/>
                </a:solidFill>
                <a:uFillTx/>
                <a:latin typeface="Arial"/>
              </a:rPr>
              <a:t>КАКИЕ ФУНКЦИИ ОПИСЫВАЮТ КОЛЕБАНИЯ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20.10.18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ГАРМОНИЧЕСК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Стр. </a:t>
            </a: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 47</a:t>
            </a: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  момент инерции-</a:t>
            </a: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I</a:t>
            </a: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,  кг*м2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Теорема Штейнер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6.1. (стр. 49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) 0,5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mR</a:t>
            </a:r>
            <a:r>
              <a:rPr b="0" lang="en-US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Б) 1,5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mR</a:t>
            </a:r>
            <a:r>
              <a:rPr b="0" lang="en-US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Шатилова Нина Никола</cp:lastModifiedBy>
  <dcterms:modified xsi:type="dcterms:W3CDTF">2018-10-20T06:18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