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4AD-78D1-45BD-8A90-88FBC9A6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4443-F195-4555-9ACF-47D64D1B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395-0715-4457-B23E-CE2B4B44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DBA1-D146-4C79-9512-2714E4A6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98AF-B871-415E-9423-236906CC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9926-4637-484C-A6AF-6FEDD485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9846-3C8E-40E3-8739-819CC0AF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22B8-F73D-4F5F-8A28-F71B7B69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9F90-2E10-40F4-AC02-4AF864EE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375B-93EB-470E-86AE-0039EDF5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6CF6-E8B4-46B4-96F1-2FA45DB1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718-E434-4A10-9DE9-A7171E63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56ED-2108-4CDA-8C23-1A1059DF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97D1-CD63-449F-B529-5378F342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980E-6E47-41A5-92A0-DF2F208C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D853-077F-42B4-9AF5-4B1D261A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E7EB-8685-429E-9836-60191E9A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4661-9169-4D61-AAB5-F68AD79E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8E2-3966-497F-8860-E2970C97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1B76-4C01-407F-88F0-E3894AC7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679-46E1-4046-AC47-045B4737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5542-31EA-4BC9-8094-4A31E2EC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D810-7A70-454B-BBC6-C4611F2F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AAC-58EC-43F1-9731-06603EEE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B7BB-E7B2-4412-9998-CDB9BFA2AF8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4847-64A4-411D-8153-B208860F31A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ПРОВЕРКА ДОМАШНЕГО ЗАДАНИЯ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учить тему «Отражение звука. Эхо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думать и решить в тетради 1 задачу по 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ПОЛНИТЕЛЬНО читать : «Интерференция зву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мотреть фильм «За гранью тишины. Инфразвук – убийц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8161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ХОЛОКАЦИ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устические сигналы у насекомых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устические сигналы рыб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холокация у летучих мыше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вуковой резонанс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954760" y="251928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6A2A-6A7F-4C65-AFB7-94700555F8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EC1D-8D3D-4E8B-9DDA-321E5B63CA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ешаем в тетради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 каком расстоянии от корабля находится айсберг, если посланный гидролокатором ультразвуковой сигнал , имеющий скорость 1500 м/с, вернулся назад через 10 с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975-0A7F-4D32-A0D8-B750CCB5A8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77920"/>
            <a:ext cx="891540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Самостоятельная работа 01.02.14.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 теме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«Колебательное движение. Волны. Звук»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23920" y="2819520"/>
            <a:ext cx="403884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BF35-0CFE-4220-8E36-78E4A012BA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учить все формулы по теме «Колебательное движение. Волн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думать и решить 2 задачи по те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71A5-1B33-4FCA-A057-FD7320CE15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УСТНАЯ РАБОТ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89156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нфразву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789156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ызыва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891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Чувство страха, тоски, усталость, морскую болезнь с головокружением и рвот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891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сточники в городах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891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ранспорт и произво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D72-646F-4B32-BAA9-1C86073590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305320" cy="4943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029560" y="761400"/>
            <a:ext cx="35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0 тысяч колебаний в секунд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FC5-5EF6-4387-9B1E-77B7BF0F16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638680" cy="5638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0B0A-2D66-409F-A136-66AA079998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2895480"/>
            <a:ext cx="822960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Цель урока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дготовиться к контрольной работ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лассная работа         01.02.14.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шение задач по теме «Колебательное движение. Волны»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78B-11EB-4764-B5A3-167049717B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ешаем устно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УЖИННЫЙ МАЯТНИК СОВЕРШИЛ 40 КОЛЕБАЕНИЙ ЗА 10 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ИТЕ ПЕРИОД И ЧАСТОТУ ЕГО КОЛЕБА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623B-C1ED-49DA-8B06-1E7829818A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7160"/>
          <a:ext cx="6201000" cy="4520880"/>
        </p:xfrm>
        <a:graphic>
          <a:graphicData uri="http://schemas.openxmlformats.org/drawingml/2006/table">
            <a:tbl>
              <a:tblPr/>
              <a:tblGrid>
                <a:gridCol w="563760"/>
                <a:gridCol w="563400"/>
                <a:gridCol w="565200"/>
                <a:gridCol w="563760"/>
                <a:gridCol w="563400"/>
                <a:gridCol w="563400"/>
                <a:gridCol w="563760"/>
                <a:gridCol w="563400"/>
                <a:gridCol w="563760"/>
                <a:gridCol w="563400"/>
                <a:gridCol w="56376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1066680" y="3657600"/>
            <a:ext cx="723924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523880" y="609120"/>
            <a:ext cx="0" cy="5867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33520"/>
            <a:ext cx="1219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,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3809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1968480"/>
            <a:ext cx="4419720" cy="3390840"/>
          </a:xfrm>
          <a:custGeom>
            <a:avLst/>
            <a:gdLst/>
            <a:ahLst/>
            <a:rect l="l" t="t" r="r" b="b"/>
            <a:pathLst>
              <a:path w="2784" h="2136">
                <a:moveTo>
                  <a:pt x="0" y="1064"/>
                </a:moveTo>
                <a:cubicBezTo>
                  <a:pt x="220" y="540"/>
                  <a:pt x="440" y="16"/>
                  <a:pt x="672" y="8"/>
                </a:cubicBezTo>
                <a:cubicBezTo>
                  <a:pt x="904" y="0"/>
                  <a:pt x="1152" y="664"/>
                  <a:pt x="1392" y="1016"/>
                </a:cubicBezTo>
                <a:cubicBezTo>
                  <a:pt x="1632" y="1368"/>
                  <a:pt x="1880" y="2104"/>
                  <a:pt x="2112" y="2120"/>
                </a:cubicBezTo>
                <a:cubicBezTo>
                  <a:pt x="2344" y="2136"/>
                  <a:pt x="2672" y="1280"/>
                  <a:pt x="2784" y="1112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0481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,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2819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002-DCAB-4E8C-B373-97C11F5572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ешаем в тетрад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ЛНА РАСПРОСРАНЯЕТСЯ СО СКОРОСТЬЮ 500 м/с. Определите длину волны, если период равен 5 мс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0E4-E721-4B5F-86F5-512B47C980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ешаем в тетрад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альную деталь проверяют ультразвуковым дефектоскопом, работающим на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частоте 1МГц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Отражённый от дефекта сигнал возвратился на поверхность детали через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,5 мк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после посылки. Определите,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на какой глубин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находится дефект, если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длин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ультразвуковой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олны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стали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мм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D05-B4C5-4F18-9FC1-78A797EF07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</cp:lastModifiedBy>
  <dcterms:modified xsi:type="dcterms:W3CDTF">2014-01-31T23:51:56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