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2B7-D9B3-4E7D-9C3A-03D5A8E0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B0E-7CBB-4F03-A579-FCA7D38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971-3437-4F05-9202-BB70346B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5E7-04BD-48A7-A251-0EDE6AF6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53E7-6073-4DE5-8368-79E2B90D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032-87AB-4804-ABFB-8680C295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743-98CE-4966-A3C2-ECC9CE6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9BC2-A1B6-4823-A35F-17AAD5D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72C2-03F2-491B-89F7-6FE9508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28A-78DA-4CF0-9D2E-2F7CA82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716-1134-4A92-9AD3-511AFE1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924-0085-4612-9810-30B7C64A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6EB1-8C76-4DCC-A41B-04B9924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7DC2-04CF-4BF1-A92B-82ACDF9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159D-3773-43CF-918F-150A9A9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90B4-49D1-4AB8-BF50-B6706C5D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12C-2D0B-4789-AF28-83EAD04F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944-5042-4473-8AA8-B3B45326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A9D-DAB0-4745-8363-64E33319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18F-9E8D-4CC6-AF18-B5F9089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415-FCEA-49DA-85D8-5B093E27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5A9-06DE-4206-BE51-292D5D6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422-7E4D-43A1-B96D-96A85A8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9B8-BFB5-4330-B221-F9EF3D5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985-BF05-4281-BFA0-E68E4D9EA8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0FF-9468-4466-9EC8-CCCD65D171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тему «Отражение звука. Эхо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умать и решить в тетради 1 задачу по 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ПОЛНИТЕЛЬНО читать : «Интерференция зву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мотреть фильм «За гранью тишины. Инфразвук – убий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161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у насекомы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ры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 у летучих мыш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161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54760" y="251928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982-955A-44A0-B039-FE0A9F31DC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CA3-21A1-4989-B5D6-42E166680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 каком расстоянии от корабля находится айсберг, если посланный гидролокатором ультразвуковой сигнал , имеющий скорость 1500 м/с, вернулся назад через 10 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7C3-9B3B-40A9-BBDC-E4D90E1A7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91540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амостоятельная работа 01.02.14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 тем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Колебательное движение. Волны. Звук»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23920" y="281952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6ED-6209-4DF7-9A11-928503973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учить все формулы по теме «Колебательное движение. Волн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думать и решить 2 задачи по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1D3-2013-419A-A904-8B61C54B6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ф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зыва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увство страха, тоски, усталость, морскую болезнь с головокружением и рво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чники в города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891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анспорт и произв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AFD-42DB-425B-9D71-A440383B1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05320" cy="4943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560" y="76140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тысяч колебаний в секун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3CD-622C-4DAD-8389-EC4167C08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EF7-6F4D-42C2-97D3-80CA26EE2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895480"/>
            <a:ext cx="822960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готовиться к контрольной работ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сная работа         01.02.14.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шение задач по теме «Колебательное движение. Волны»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EE1-6534-4920-9433-255387FE2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устно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УЖИННЫЙ МАЯТНИК СОВЕРШИЛ 40 КОЛЕБАЕНИЙ ЗА 10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ИТЕ ПЕРИОД И ЧАСТОТУ ЕГО КОЛЕБ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113-4B63-4909-A741-A5CC6D1C0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7160"/>
          <a:ext cx="6201000" cy="4520880"/>
        </p:xfrm>
        <a:graphic>
          <a:graphicData uri="http://schemas.openxmlformats.org/drawingml/2006/table">
            <a:tbl>
              <a:tblPr/>
              <a:tblGrid>
                <a:gridCol w="563760"/>
                <a:gridCol w="563400"/>
                <a:gridCol w="565200"/>
                <a:gridCol w="563760"/>
                <a:gridCol w="563400"/>
                <a:gridCol w="563400"/>
                <a:gridCol w="563760"/>
                <a:gridCol w="563400"/>
                <a:gridCol w="563760"/>
                <a:gridCol w="563400"/>
                <a:gridCol w="563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9120"/>
            <a:ext cx="0" cy="5867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52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,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968480"/>
            <a:ext cx="4419720" cy="3390840"/>
          </a:xfrm>
          <a:custGeom>
            <a:avLst/>
            <a:gdLst/>
            <a:ahLst/>
            <a:rect l="l" t="t" r="r" b="b"/>
            <a:pathLst>
              <a:path w="2784" h="2136">
                <a:moveTo>
                  <a:pt x="0" y="1064"/>
                </a:moveTo>
                <a:cubicBezTo>
                  <a:pt x="220" y="540"/>
                  <a:pt x="440" y="16"/>
                  <a:pt x="672" y="8"/>
                </a:cubicBezTo>
                <a:cubicBezTo>
                  <a:pt x="904" y="0"/>
                  <a:pt x="1152" y="664"/>
                  <a:pt x="1392" y="1016"/>
                </a:cubicBezTo>
                <a:cubicBezTo>
                  <a:pt x="1632" y="1368"/>
                  <a:pt x="1880" y="2104"/>
                  <a:pt x="2112" y="2120"/>
                </a:cubicBezTo>
                <a:cubicBezTo>
                  <a:pt x="2344" y="2136"/>
                  <a:pt x="2672" y="1280"/>
                  <a:pt x="2784" y="1112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8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57A-B19E-43DA-AD55-6F51DAC3E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А РАСПРОСРАНЯЕТСЯ СО СКОРОСТЬЮ 500 м/с. Определите длину волны, если период равен 5 м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9FE-26D0-4BB6-AC6B-112E9D777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льную деталь проверяют ультразвуковым дефектоскопом, работающим н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стоте 1МГ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Отражённый от дефекта сигнал возвратился на поверхность детали через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,5 м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сле посылки. Определите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 какой глубин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ходится дефект, есл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ли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ультразвуковой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олн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стал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м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CB7-1CE4-4D70-9260-5503A4092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</cp:lastModifiedBy>
  <dcterms:modified xsi:type="dcterms:W3CDTF">2014-01-31T23:51:5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