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7B92-DAC6-4AED-8276-A408D0579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C858-8B80-40B4-8B28-6DF34FDE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983E-34BE-444E-9454-B4BE74B05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696-8335-481A-A494-5BA3EB22F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8A0-A658-4C76-8A93-AC7F3CD1C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4613-D9A1-4E47-AA3D-33328A2A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7D71-DAFB-4529-AF73-487DC4A8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060E-1A4E-444C-873D-9CC3BFA3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9AB9B-0A80-4303-A684-A6EB0536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ECE2-F208-4134-B61A-FB37615A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8ABDE-21BC-4374-B10B-DFE2CC982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644-34E9-4C54-80C1-43FEF59A6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867F-3A4B-4EC2-B5FB-F01325C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424E-80C0-4734-93C3-5DD962B1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A6E3-EDDB-4243-810B-72C335B4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DA9D-6B50-442E-A87F-14850F0F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8C2D-5EB2-4F93-9BC2-2B4CB85A3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5E22-5867-4BA7-92F9-4C9CD223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01B-F7C1-4CE3-96A5-26299B25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FFEC-AC0E-4A3E-A76F-EAED136E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B3C6-9B72-4127-9991-5D5B03C9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7A5-C864-494A-B5E0-E2524DB1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4469-E032-45FD-A6C1-7061E2FB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3864-8082-4773-A3E6-754373CE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62EF-61FB-4537-94C8-E1E74009D88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B5817-00FB-407E-A2E5-F734B2914EF2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МИКЕНЫ И ТРОЯ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Древнейшая Греция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План урок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1.Микен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2.Троянская война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Font typeface="Times New Roman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3.Миф о начале троянской войны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39640" y="764640"/>
            <a:ext cx="3809880" cy="38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99"/>
                </a:solidFill>
                <a:uFillTx/>
                <a:latin typeface="Times New Roman"/>
              </a:rPr>
              <a:t>1.Мике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038480" cy="487692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В середине 2 тыся-челетия до н.э. од-ним из самых могу-щественных стал г.Микен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Крепость города была сложена из огром-ных каменных плит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Греки думали,что ее построили циклоп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92280" y="1484280"/>
            <a:ext cx="3735360" cy="49672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" dur="1" fill="hold"/>
                                  <p:tgtEl>
                                    <p:spTgt spid="18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2.Троянская война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3925800"/>
            <a:ext cx="7772400" cy="27432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В 1200 году до н.э. началась война между грека-ми и Троянским царством за побережье Малой Азии.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Греки разрушили Трою, но вскоре подверглись нашествию северных племен и Микены при-шли в упадок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898560" y="1469880"/>
            <a:ext cx="7345440" cy="24004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" dur="1" fill="hold"/>
                                  <p:tgtEl>
                                    <p:spTgt spid="18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280" y="5084640"/>
            <a:ext cx="8077320" cy="152424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Троянская война породила несколько мифов-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«Троянский конь», «Ахиллесова пята», но са-мым знаменитым стал миф о начале войны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258920" y="1281240"/>
            <a:ext cx="6676920" cy="376236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4" dur="1" fill="hold"/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484520" y="1988640"/>
            <a:ext cx="4191120" cy="4038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Предводителем Греков был царь Микен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-Агамемнон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С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99"/>
                </a:solidFill>
                <a:latin typeface="Times New Roman"/>
              </a:rPr>
              <a:t>его именем археологи связывают огромное количество находок на месте разрушен-ной Трои и в Мике-нах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11280" y="1844640"/>
            <a:ext cx="3735360" cy="40417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92" name=""/>
          <p:cNvSpPr/>
          <p:nvPr/>
        </p:nvSpPr>
        <p:spPr>
          <a:xfrm>
            <a:off x="516240" y="5950080"/>
            <a:ext cx="405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Times New Roman"/>
              </a:rPr>
              <a:t>Золотая маска Агамемнона.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" dur="1" fill="hold"/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8ba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cc00"/>
                </a:solidFill>
                <a:uFillTx/>
                <a:latin typeface="Times New Roman"/>
              </a:rPr>
              <a:t>3.Миф о начале троянской войн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63560" y="4797360"/>
            <a:ext cx="7696080" cy="18288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46005e"/>
              </a:gs>
              <a:gs pos="100000">
                <a:srgbClr val="9900cc"/>
              </a:gs>
            </a:gsLst>
            <a:lin ang="5400000"/>
          </a:gradFill>
          <a:ln w="76320">
            <a:solidFill>
              <a:srgbClr val="ffcc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Гробница Агамемнона. В этой сокровищнице было обнаружено огромное количество находок относящихся к периоду Троянской войны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866880" y="1465200"/>
            <a:ext cx="7488000" cy="32371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Домашнее задание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Параграф 19, составить  кроссворд из слов, выделенных в параграфе. 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1T11:03:29Z</dcterms:created>
  <dc:creator>ЧЕРНОВ АЛЕКСЕЙ</dc:creator>
  <dc:description/>
  <dc:language>en-US</dc:language>
  <cp:lastModifiedBy>Admin</cp:lastModifiedBy>
  <dcterms:modified xsi:type="dcterms:W3CDTF">2014-01-15T14:09:04Z</dcterms:modified>
  <cp:revision>11</cp:revision>
  <dc:subject/>
  <dc:title>МИКЕНЫ И ТРОЯ</dc:title>
</cp:coreProperties>
</file>