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20D-139C-4EC2-90BA-2E89D3420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C45D-7E18-478A-A1B5-254B94B6D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791-B590-4051-AA56-37736930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B472-B8CF-4E09-801F-9D301ECA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75C6-8525-4334-93F0-B9919028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427A-A27A-4211-AE97-0822C28F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208B-221B-42B6-BAFE-B3FAD221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4F96-3921-4FE7-AB4B-966D1085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3B3E-5A0B-48F7-AA35-18A0B61F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A6A06-04C1-4068-9E73-2C706F33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A403F-4988-4F61-AEB1-F0491A93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796-3554-4F0A-AEF8-9D452C0A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1D5A-ED20-4EBF-BC02-AC45C15E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2D91-7012-43D8-ABD8-0471937E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2167-B16B-44BF-873F-B506887B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2441-5EEA-4F67-900F-0DD7C4E0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7503-B72A-43AD-92D1-F8C4A9A6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AF6-BC55-438F-97C2-A111CA22F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CC66-7F19-495A-B852-8FE08ACA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5A16-29E1-402B-94EC-FE5083B4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6A6-AABE-4F04-B25A-FF97B1BB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C1A1-EBFA-4B52-B107-514AEA4A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F05-8844-4C29-893C-F573E3E9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66B-A379-4EF1-96F6-8FA44561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927A-247B-4882-8C6E-056610E79BB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EEF2-3413-4705-A3DA-3EF7637877F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МИКЕНЫ И ТРО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Древнейшая Греция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1.Микены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2.Троянская война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3.Миф о начале троянской войны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39640" y="764640"/>
            <a:ext cx="3809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imes New Roman"/>
              </a:rPr>
              <a:t>1.Микен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48769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46005e"/>
              </a:gs>
              <a:gs pos="100000">
                <a:srgbClr val="9900cc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В середине 2 тыся-челетия до н.э. од-ним из самых могу-щественных стал г.Микены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Крепость города была сложена из огром-ных каменных плит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Греки думали,что ее построили циклопы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92280" y="1484280"/>
            <a:ext cx="3735360" cy="4967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2.Троянская войн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3925800"/>
            <a:ext cx="7772400" cy="27432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46005e"/>
              </a:gs>
              <a:gs pos="100000">
                <a:srgbClr val="9900cc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В 1200 году до н.э. началась война между грека-ми и Троянским царством за побережье Малой Азии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Греки разрушили Трою, но вскоре подверглись нашествию северных племен и Микены при-шли в упадок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98560" y="1469880"/>
            <a:ext cx="7345440" cy="24004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1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3.Миф о начале троянской войн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5084640"/>
            <a:ext cx="8077320" cy="152424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46005e"/>
              </a:gs>
              <a:gs pos="100000">
                <a:srgbClr val="9900cc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Троянская война породила несколько мифов-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«Троянский конь», «Ахиллесова пята», но са-мым знаменитым стал миф о начале войны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1281240"/>
            <a:ext cx="6676920" cy="3762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" dur="1" fill="hold"/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3.Миф о начале троянской войн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84520" y="1988640"/>
            <a:ext cx="4191120" cy="4038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Предводителем Греков был царь Микен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-Агамемнон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его именем археологи связывают огромное количество находок на месте разрушен-ной Трои и в Мике-нах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735360" cy="4041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516240" y="5950080"/>
            <a:ext cx="40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Золотая маска Агамемнона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3.Миф о начале троянской войн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3560" y="4797360"/>
            <a:ext cx="7696080" cy="18288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46005e"/>
              </a:gs>
              <a:gs pos="100000">
                <a:srgbClr val="9900cc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Гробница Агамемнона. В этой сокровищнице было обнаружено огромное количество находок относящихся к периоду Троянской войны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66880" y="1465200"/>
            <a:ext cx="7488000" cy="32371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Домашнее задание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Параграф 19, составить  кроссворд из слов, выделенных в параграфе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1:03:29Z</dcterms:created>
  <dc:creator>ЧЕРНОВ АЛЕКСЕЙ</dc:creator>
  <dc:description/>
  <dc:language>en-US</dc:language>
  <cp:lastModifiedBy>Admin</cp:lastModifiedBy>
  <dcterms:modified xsi:type="dcterms:W3CDTF">2014-01-15T14:09:04Z</dcterms:modified>
  <cp:revision>11</cp:revision>
  <dc:subject/>
  <dc:title>МИКЕНЫ И ТРОЯ</dc:title>
</cp:coreProperties>
</file>