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7B42E-76D6-45D7-9A72-9E559743A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463DC-854A-4014-88FB-C2C0F1445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210AF-FFD5-4472-B916-5F242733F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193DF-6601-403B-B4EB-B9BF4CF30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EB0D1-91E5-4092-BD9F-0E43D472D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72206-8511-4291-8618-65A0E44F5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82A2D-0706-47EC-8E29-CB592D1C8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38E42-A7F8-4FF7-8AA2-70FF00DDC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E44C4-F5F2-4052-A71B-B54067ED1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261F8-343A-4AFA-976D-651738FBF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42C15-FBE5-4F0F-9AAF-DF75F21C2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2931C-D077-40B0-ADFE-1D5D3666B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8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6D2AD-84E4-4EB6-95EE-AAB2EA006DD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"/>
          <p:cNvSpPr/>
          <p:nvPr/>
        </p:nvSpPr>
        <p:spPr>
          <a:xfrm>
            <a:off x="914400" y="38088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лан отве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2"/>
          <p:cNvSpPr/>
          <p:nvPr/>
        </p:nvSpPr>
        <p:spPr>
          <a:xfrm>
            <a:off x="1295280" y="838080"/>
            <a:ext cx="78487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caff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aff61"/>
                </a:solidFill>
                <a:latin typeface="Arial"/>
              </a:rPr>
              <a:t>ТЕПЛОВЫЕ ЯВ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aff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aff61"/>
                </a:solidFill>
                <a:latin typeface="Arial"/>
              </a:rPr>
              <a:t>ТЕПЛОВОЕ ДВИЖ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aff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aff61"/>
                </a:solidFill>
                <a:latin typeface="Arial"/>
              </a:rPr>
              <a:t>ВНУТРЕННЯЯ ЭНЕРГ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aff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aff61"/>
                </a:solidFill>
                <a:latin typeface="Arial"/>
              </a:rPr>
              <a:t>ДВА СПОСОБА ИЗМЕНЕНИЯ ВНУТРЕННЕЙ ЭНЕРГ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aff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aff61"/>
                </a:solidFill>
                <a:latin typeface="Arial"/>
              </a:rPr>
              <a:t>ВИДЫ ТЕПЛОПЕРЕДАЧ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aff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aff61"/>
                </a:solidFill>
                <a:latin typeface="Arial"/>
              </a:rPr>
              <a:t>КОЛИЧЕСТВО ТЕПЛО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aff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aff61"/>
                </a:solidFill>
                <a:latin typeface="Arial"/>
              </a:rPr>
              <a:t>УДЕЛЬНАЯ ТЕПЛОЁМК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aff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aff61"/>
                </a:solidFill>
                <a:latin typeface="Arial"/>
              </a:rPr>
              <a:t>ФОРМУЛА ДЛЯ РАСЧЁТА КОЛИЧЕСТВА ТЕПЛОТЫ ПРИ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aff61"/>
                </a:solidFill>
                <a:latin typeface="Arial"/>
              </a:rPr>
              <a:t>                                 </a:t>
            </a:r>
            <a:r>
              <a:rPr b="1" lang="ru-RU" sz="2000" spc="-1" strike="noStrike">
                <a:solidFill>
                  <a:srgbClr val="caff61"/>
                </a:solidFill>
                <a:latin typeface="Arial"/>
              </a:rPr>
              <a:t>НАГРЕВАНИИ И ОХЛАЖДЕНИИ ТЕ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1"/>
          <p:cNvSpPr/>
          <p:nvPr/>
        </p:nvSpPr>
        <p:spPr>
          <a:xfrm>
            <a:off x="1905120" y="22860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Классная работа     18.10.1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4"/>
          <p:cNvSpPr/>
          <p:nvPr/>
        </p:nvSpPr>
        <p:spPr>
          <a:xfrm>
            <a:off x="1143000" y="99072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Повтор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3"/>
          <p:cNvSpPr/>
          <p:nvPr/>
        </p:nvSpPr>
        <p:spPr>
          <a:xfrm>
            <a:off x="1295280" y="1447920"/>
            <a:ext cx="78487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caff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aff61"/>
                </a:solidFill>
                <a:latin typeface="Arial"/>
              </a:rPr>
              <a:t>ТЕПЛОВЫЕ ЯВ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aff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aff61"/>
                </a:solidFill>
                <a:latin typeface="Arial"/>
              </a:rPr>
              <a:t>ТЕПЛОВОЕ ДВИЖ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aff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aff61"/>
                </a:solidFill>
                <a:latin typeface="Arial"/>
              </a:rPr>
              <a:t>ВНУТРЕННЯЯ ЭНЕРГ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aff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aff61"/>
                </a:solidFill>
                <a:latin typeface="Arial"/>
              </a:rPr>
              <a:t>ДВА СПОСОБА ИЗМЕНЕНИЯ ВНУТРЕННЕЙ ЭНЕРГ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aff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aff61"/>
                </a:solidFill>
                <a:latin typeface="Arial"/>
              </a:rPr>
              <a:t>ВИДЫ ТЕПЛОПЕРЕДАЧ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aff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aff61"/>
                </a:solidFill>
                <a:latin typeface="Arial"/>
              </a:rPr>
              <a:t>КОЛИЧЕСТВО ТЕПЛО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aff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aff61"/>
                </a:solidFill>
                <a:latin typeface="Arial"/>
              </a:rPr>
              <a:t>УДЕЛЬНАЯ ТЕПЛОЁМК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aff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aff61"/>
                </a:solidFill>
                <a:latin typeface="Arial"/>
              </a:rPr>
              <a:t>ФОРМУЛА ДЛЯ РАСЧЁТА КОЛИЧЕСТВА ТЕПЛОТЫ ПРИ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aff61"/>
                </a:solidFill>
                <a:latin typeface="Arial"/>
              </a:rPr>
              <a:t>                                 </a:t>
            </a:r>
            <a:r>
              <a:rPr b="1" lang="ru-RU" sz="2000" spc="-1" strike="noStrike">
                <a:solidFill>
                  <a:srgbClr val="caff61"/>
                </a:solidFill>
                <a:latin typeface="Arial"/>
              </a:rPr>
              <a:t>НАГРЕВАНИИ И ОХЛАЖДЕНИИ ТЕ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Box 1"/>
          <p:cNvSpPr/>
          <p:nvPr/>
        </p:nvSpPr>
        <p:spPr>
          <a:xfrm>
            <a:off x="1905120" y="22860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дачи на повтор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4"/>
          <p:cNvSpPr/>
          <p:nvPr/>
        </p:nvSpPr>
        <p:spPr>
          <a:xfrm>
            <a:off x="1143000" y="762120"/>
            <a:ext cx="7696080" cy="42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1 уровень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медной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кастрюле массой 1500 г находится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вода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, массой 1,5 кг. Какое количество теплоты потребуется для нагревания воды от температуры 10ºС до кипени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Arial"/>
              </a:rPr>
              <a:t>2 уровень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стальной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астрюле, массой 1 кг 600 г, нагрели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воду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, массой 8,5 кг от температуры 30 ºС до кипения. Какое количество теплоты было при этом затрачено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1"/>
          <p:cNvSpPr/>
          <p:nvPr/>
        </p:nvSpPr>
        <p:spPr>
          <a:xfrm>
            <a:off x="1905120" y="22860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ДАЧ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4"/>
          <p:cNvSpPr/>
          <p:nvPr/>
        </p:nvSpPr>
        <p:spPr>
          <a:xfrm>
            <a:off x="1143000" y="762120"/>
            <a:ext cx="76960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Сколько воды можно нагреть на 10 ºС, если ей передать всю энергию, выделившуюся при сгорании керосина массой 50 г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Box 1"/>
          <p:cNvSpPr/>
          <p:nvPr/>
        </p:nvSpPr>
        <p:spPr>
          <a:xfrm>
            <a:off x="1905120" y="22860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ЕМА:  СГОРАНИЕ ТОПЛИ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4"/>
          <p:cNvSpPr/>
          <p:nvPr/>
        </p:nvSpPr>
        <p:spPr>
          <a:xfrm>
            <a:off x="1143000" y="762120"/>
            <a:ext cx="76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ЦЕЛЬ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Узнать…..  Научиться 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2T15:56:38Z</dcterms:created>
  <dc:creator>Win</dc:creator>
  <dc:description/>
  <dc:language>en-US</dc:language>
  <cp:lastModifiedBy>Нина</cp:lastModifiedBy>
  <dcterms:modified xsi:type="dcterms:W3CDTF">2018-10-18T02:24:01Z</dcterms:modified>
  <cp:revision>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