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BFF-A219-4F3F-B457-6BB7DC0B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AE6-2143-4D3D-A90B-35820AE3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0FC-491C-4F01-A368-F0F26820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4C0-3E1A-4979-BFBF-18E4A801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9ED-BC46-4A27-A7A1-29745DE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8B5-90FA-4AFD-A646-D87D921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D36-DF80-4FE4-BFB1-1681310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353-2A0A-40E5-978E-875FBCF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128-8FBD-4BF5-8065-3D6E5276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086-5CD2-4CA6-8B07-E072036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E49-F22A-4B18-A513-16C14936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734-DC52-4F0A-BAF0-A99EE88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D32F-6903-4AB7-A84D-485E1D683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95280" y="8380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905120" y="228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ная работа     18.10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4300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295280" y="14479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на 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143000" y="762120"/>
            <a:ext cx="7696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урове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д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стрюле массой 1500 г находитс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ассой 1,5 кг. Какое количество теплоты потребуется для нагревания воды от температуры 10ºС до кип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2 уров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льн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стрюле, массой 1 кг 600 г, нагрел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д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ассой 8,5 кг от температуры 30 ºС до кипения. Какое количество теплоты было при этом затрач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43000" y="7621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колько воды можно нагреть на 10 ºС, если ей передать всю энергию, выделившуюся при сгорании керосина массой 50 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 СГОРАНИЕ ТОП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43000" y="762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знать…..  Научиться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56:38Z</dcterms:created>
  <dc:creator>Win</dc:creator>
  <dc:description/>
  <dc:language>en-US</dc:language>
  <cp:lastModifiedBy>Нина</cp:lastModifiedBy>
  <dcterms:modified xsi:type="dcterms:W3CDTF">2018-10-18T02:24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