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FAE9-0A0B-4053-A766-7E9EFCF74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F5DB-8DB5-4C7D-AE36-C9EEFEB0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5228-034D-4557-983B-8CAC5CF08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A1EF-8F0F-4C76-8295-93BB6313D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379B-4001-4875-A1A8-9F79908C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81FF-BFD8-40B5-9107-1E519DC7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E42A-D673-4725-AF6D-EA480D4F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196F-8B33-4467-A718-BB9341A4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B5E2-C1C0-41F0-94DB-85308BE4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C8AA-C320-4AEE-8A1C-56DB17C0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B20C-EF16-4883-893B-4B7ABB6A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22A1-B678-4054-8D9F-D15596E3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6C32-3C2A-48C5-9EFD-AF7D34789D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914400" y="380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ан от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1295280" y="838080"/>
            <a:ext cx="784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caff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ff61"/>
                </a:solidFill>
                <a:latin typeface="Arial"/>
              </a:rPr>
              <a:t>ТЕПЛОВЫЕ Я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aff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ff61"/>
                </a:solidFill>
                <a:latin typeface="Arial"/>
              </a:rPr>
              <a:t>ТЕПЛОВОЕ ДВИ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aff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ff61"/>
                </a:solidFill>
                <a:latin typeface="Arial"/>
              </a:rPr>
              <a:t>ВНУТРЕННЯЯ ЭНЕР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aff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ff61"/>
                </a:solidFill>
                <a:latin typeface="Arial"/>
              </a:rPr>
              <a:t>ДВА СПОСОБА ИЗМЕНЕНИЯ ВНУТРЕННЕЙ ЭНЕР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aff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ff61"/>
                </a:solidFill>
                <a:latin typeface="Arial"/>
              </a:rPr>
              <a:t>ВИДЫ ТЕПЛОПЕРЕ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aff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ff61"/>
                </a:solidFill>
                <a:latin typeface="Arial"/>
              </a:rPr>
              <a:t>КОЛИЧЕСТВО ТЕПЛ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aff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ff61"/>
                </a:solidFill>
                <a:latin typeface="Arial"/>
              </a:rPr>
              <a:t>УДЕЛЬНАЯ ТЕПЛОЁМК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aff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ff61"/>
                </a:solidFill>
                <a:latin typeface="Arial"/>
              </a:rPr>
              <a:t>ФОРМУЛА ДЛЯ РАСЧЁТА КОЛИЧЕСТВА ТЕПЛОТЫ ПРИ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ff61"/>
                </a:solidFill>
                <a:latin typeface="Arial"/>
              </a:rPr>
              <a:t>                                 </a:t>
            </a:r>
            <a:r>
              <a:rPr b="1" lang="ru-RU" sz="2000" spc="-1" strike="noStrike">
                <a:solidFill>
                  <a:srgbClr val="caff61"/>
                </a:solidFill>
                <a:latin typeface="Arial"/>
              </a:rPr>
              <a:t>НАГРЕВАНИИ И ОХЛАЖДЕНИИ Т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685800" y="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Лабораторная работа №2                                2.10.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457200" y="3808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Тема: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«Сравнение количеств теплоты при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………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мешивании воды разной температур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57200" y="114300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Цель работы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пределить количество теплоты, отданное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………. 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рячей водой и полученное холодной при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…..........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плообмене, и объяснить полученный результ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80880" y="22096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риборы и материалы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калориметр, измерительный цилиндр,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…………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рмометр, стак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533520" y="2971800"/>
            <a:ext cx="487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380880" y="29718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ение 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2280" y="3581280"/>
          <a:ext cx="8839440" cy="2806920"/>
        </p:xfrm>
        <a:graphic>
          <a:graphicData uri="http://schemas.openxmlformats.org/drawingml/2006/table">
            <a:tbl>
              <a:tblPr/>
              <a:tblGrid>
                <a:gridCol w="846360"/>
                <a:gridCol w="1439640"/>
                <a:gridCol w="1219320"/>
                <a:gridCol w="1295280"/>
                <a:gridCol w="1143000"/>
                <a:gridCol w="1511280"/>
                <a:gridCol w="1384560"/>
              </a:tblGrid>
              <a:tr h="198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я-ч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ы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,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альная темпера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ячей воды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пера-тура смес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теплоты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данное горячей водой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,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са холодной воды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альная температу-ра холодной воды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теплоты, полученное холодной водой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50" name="Object 59"/>
              <p:cNvSpPr txBox="1"/>
              <p:nvPr/>
            </p:nvSpPr>
            <p:spPr>
              <a:xfrm>
                <a:off x="2666880" y="4648320"/>
                <a:ext cx="8413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°</m:t>
                    </m:r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60"/>
              <p:cNvSpPr txBox="1"/>
              <p:nvPr/>
            </p:nvSpPr>
            <p:spPr>
              <a:xfrm>
                <a:off x="6477120" y="4876920"/>
                <a:ext cx="8110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°</m:t>
                    </m:r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65"/>
              <p:cNvSpPr txBox="1"/>
              <p:nvPr/>
            </p:nvSpPr>
            <p:spPr>
              <a:xfrm>
                <a:off x="5029200" y="4724280"/>
                <a:ext cx="83808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к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67"/>
              <p:cNvSpPr txBox="1"/>
              <p:nvPr/>
            </p:nvSpPr>
            <p:spPr>
              <a:xfrm>
                <a:off x="1295280" y="4618080"/>
                <a:ext cx="8114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°</m:t>
                    </m:r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68"/>
              <p:cNvSpPr txBox="1"/>
              <p:nvPr/>
            </p:nvSpPr>
            <p:spPr>
              <a:xfrm>
                <a:off x="7772400" y="4952880"/>
                <a:ext cx="9907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Дж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чис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5:56:38Z</dcterms:created>
  <dc:creator>Win</dc:creator>
  <dc:description/>
  <dc:language>en-US</dc:language>
  <cp:lastModifiedBy>Нина</cp:lastModifiedBy>
  <dcterms:modified xsi:type="dcterms:W3CDTF">2018-10-01T19:59:1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