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EEA-83E7-4EDC-B189-C169084A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2BB-10DB-4196-947F-47765520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02D-C9AA-47FF-8B01-92E5AFB8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C07-C56C-43F7-A8F8-F61BBF9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646-8F5C-44B0-8F36-DAD118C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504-3B77-418E-9399-D75EC5C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BEC-5B8D-42A3-B978-1C3FA945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FA8-64CC-40AA-8EBE-3CFD1BFF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6FA-74C4-4D1D-A634-BCBEDE5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886-044B-4869-843B-BA87481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D36-D870-4FDE-9F63-5E9EA58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EF4-29F9-4283-8900-3AC6778C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ADD-120E-4371-B5E2-82C85252F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1440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295280" y="8380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ЫЕ 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ТЕПЛОВ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НУТРЕННЯ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ДВА СПОСОБА ИЗМЕНЕНИЯ ВНУТРЕННЕ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ВИДЫ ТЕПЛО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КОЛИЧЕСТВО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УДЕЛЬНАЯ ТЕПЛОЁМ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af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ФОРМУЛА ДЛЯ РАСЧЁТА КОЛИЧЕСТВА ТЕПЛОТЫ ПР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caff61"/>
                </a:solidFill>
                <a:latin typeface="Arial"/>
              </a:rPr>
              <a:t>НАГРЕВАНИИ И ОХЛАЖДЕНИ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8580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абораторная работа №2                                2.1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«Сравнение количеств теплоты при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ешивании воды разной температ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" y="11430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ель работ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пределить количество теплоты, отданное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. 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ячей водой и полученное холодной пр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..........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обмене, и объяснить получен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0880" y="2209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боры и материал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лориметр, измерительный цилиндр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………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ометр, ста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33520" y="29718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80880" y="2971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3581280"/>
          <a:ext cx="8839440" cy="2806920"/>
        </p:xfrm>
        <a:graphic>
          <a:graphicData uri="http://schemas.openxmlformats.org/drawingml/2006/table">
            <a:tbl>
              <a:tblPr/>
              <a:tblGrid>
                <a:gridCol w="846360"/>
                <a:gridCol w="1439640"/>
                <a:gridCol w="1219320"/>
                <a:gridCol w="1295280"/>
                <a:gridCol w="1143000"/>
                <a:gridCol w="1511280"/>
                <a:gridCol w="138456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я-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 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яче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-тура смес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теплот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анное горячей вод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холодно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 температу-ра холодной вод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теплоты, полученное холодной водо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Object 59"/>
              <p:cNvSpPr txBox="1"/>
              <p:nvPr/>
            </p:nvSpPr>
            <p:spPr>
              <a:xfrm>
                <a:off x="2666880" y="4648320"/>
                <a:ext cx="84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0"/>
              <p:cNvSpPr txBox="1"/>
              <p:nvPr/>
            </p:nvSpPr>
            <p:spPr>
              <a:xfrm>
                <a:off x="6477120" y="4876920"/>
                <a:ext cx="811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5"/>
              <p:cNvSpPr txBox="1"/>
              <p:nvPr/>
            </p:nvSpPr>
            <p:spPr>
              <a:xfrm>
                <a:off x="5029200" y="4724280"/>
                <a:ext cx="8380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7"/>
              <p:cNvSpPr txBox="1"/>
              <p:nvPr/>
            </p:nvSpPr>
            <p:spPr>
              <a:xfrm>
                <a:off x="1295280" y="4618080"/>
                <a:ext cx="811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°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8"/>
              <p:cNvSpPr txBox="1"/>
              <p:nvPr/>
            </p:nvSpPr>
            <p:spPr>
              <a:xfrm>
                <a:off x="7772400" y="4952880"/>
                <a:ext cx="99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56:38Z</dcterms:created>
  <dc:creator>Win</dc:creator>
  <dc:description/>
  <dc:language>en-US</dc:language>
  <cp:lastModifiedBy>Нина</cp:lastModifiedBy>
  <dcterms:modified xsi:type="dcterms:W3CDTF">2018-10-01T19:59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