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71E-2558-4A34-AEA0-D0234947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5CF-340C-4254-AC6D-02E1B768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C24-0145-49BA-B4E8-C1545C10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EC9-16A5-4890-8572-779BBD87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1B9-FFE1-4AEF-91FE-C6CC45DC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EBC-4522-42FA-9440-39CC39B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E46-8ED4-496B-B582-073F200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A5F-7EED-45AD-A589-E268BEB3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B5B-D4F7-4685-9B14-7701258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F35-E916-4540-A795-001883B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6B6-8784-41CF-B26C-EE4A5DA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749-160E-4053-9B69-A525DD7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FD60-CF1F-46C0-B3F2-5F5B1AC9E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ФЕРЕН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 ЯВЛЕНИЕ СЛОЖЕНИЯ ДВУХ ВОЛН, ПРИ КОТОРОМ ОБРАЗУЕТСЯ ПОСТОЯННОЕ ВО ВРЕМЕНИ РАСПРЕДЕЛЕНИЕ АМПЛИТУД РЕЗУЛЬТИРУЮЩИХ КОЛЕБ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интерф на воде"/>
          <p:cNvPicPr/>
          <p:nvPr/>
        </p:nvPicPr>
        <p:blipFill>
          <a:blip r:embed="rId1"/>
          <a:stretch/>
        </p:blipFill>
        <p:spPr>
          <a:xfrm>
            <a:off x="395280" y="1628640"/>
            <a:ext cx="396072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явление огибания волнами препят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клонение от прямолиней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ения вол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я на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ны огибают тростинку, а за камнем  образуется т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дифрак"/>
          <p:cNvPicPr/>
          <p:nvPr/>
        </p:nvPicPr>
        <p:blipFill>
          <a:blip r:embed="rId1"/>
          <a:stretch/>
        </p:blipFill>
        <p:spPr>
          <a:xfrm>
            <a:off x="706320" y="1844640"/>
            <a:ext cx="3581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линейное распространение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домом или деревом всегда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точечного источника за непрозрачным телом тоже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mage1тень"/>
          <p:cNvPicPr/>
          <p:nvPr/>
        </p:nvPicPr>
        <p:blipFill>
          <a:blip r:embed="rId1"/>
          <a:stretch/>
        </p:blipFill>
        <p:spPr>
          <a:xfrm>
            <a:off x="539640" y="2266920"/>
            <a:ext cx="3888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ыт Т. Ю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6000" y="1628280"/>
            <a:ext cx="3970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ыте Т. Юнга видим дифракцию, т. е.отклонение света от прямолинейного распрост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две когерентные вол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опыт юнга10"/>
          <p:cNvPicPr/>
          <p:nvPr/>
        </p:nvPicPr>
        <p:blipFill>
          <a:blip r:embed="rId1"/>
          <a:stretch/>
        </p:blipFill>
        <p:spPr>
          <a:xfrm>
            <a:off x="1103400" y="1628640"/>
            <a:ext cx="29638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я возникновения дифракции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47480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препят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ы быть сравн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линой  све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ятствия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а должно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сотен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иломет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расстояния"/>
          <p:cNvPicPr/>
          <p:nvPr/>
        </p:nvPicPr>
        <p:blipFill>
          <a:blip r:embed="rId1"/>
          <a:stretch/>
        </p:blipFill>
        <p:spPr>
          <a:xfrm>
            <a:off x="3780000" y="2565360"/>
            <a:ext cx="46083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ема опыта  получения интерференционной картин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за непрозрачным дис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3434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ая картина о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нкой проволоки и д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mage16"/>
          <p:cNvPicPr/>
          <p:nvPr/>
        </p:nvPicPr>
        <p:blipFill>
          <a:blip r:embed="rId1"/>
          <a:stretch/>
        </p:blipFill>
        <p:spPr>
          <a:xfrm>
            <a:off x="5219640" y="2637000"/>
            <a:ext cx="2881440" cy="284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mage14"/>
          <p:cNvPicPr/>
          <p:nvPr/>
        </p:nvPicPr>
        <p:blipFill>
          <a:blip r:embed="rId2"/>
          <a:stretch/>
        </p:blipFill>
        <p:spPr>
          <a:xfrm>
            <a:off x="826920" y="2637000"/>
            <a:ext cx="31687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ая карти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т отвер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44276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0" y="1773000"/>
            <a:ext cx="4114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ас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ранц. ученый) предположил, что 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рстием должно быть темное пятно, и оно действительно там оказ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mage17"/>
          <p:cNvPicPr/>
          <p:nvPr/>
        </p:nvPicPr>
        <p:blipFill>
          <a:blip r:embed="rId1"/>
          <a:stretch/>
        </p:blipFill>
        <p:spPr>
          <a:xfrm>
            <a:off x="611280" y="2421000"/>
            <a:ext cx="3095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онная реш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 совокупность  большого числа очень тонких темных промежутков, разделенных светл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школьной решетке на каждый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дится 100 штрих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ория дифракционной  реш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3640" y="1628280"/>
            <a:ext cx="3888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ешетки есть период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ность 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g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y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 э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k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–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(2k+1)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–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agд"/>
          <p:cNvPicPr/>
          <p:nvPr/>
        </p:nvPicPr>
        <p:blipFill>
          <a:blip r:embed="rId1"/>
          <a:stretch/>
        </p:blipFill>
        <p:spPr>
          <a:xfrm>
            <a:off x="250920" y="2244600"/>
            <a:ext cx="4321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АКОМ УСЛОВИИ НАБЛЮДАЕТСЯ МАКСИМУМ РЕЗУЛЬТИРУЮЩИХ КОЛЕБА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λ, ил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 ± 1; ± 2 .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лучи интер"/>
          <p:cNvPicPr/>
          <p:nvPr/>
        </p:nvPicPr>
        <p:blipFill>
          <a:blip r:embed="rId1"/>
          <a:stretch/>
        </p:blipFill>
        <p:spPr>
          <a:xfrm>
            <a:off x="684360" y="2133720"/>
            <a:ext cx="3276360" cy="223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грвик мах"/>
          <p:cNvPicPr/>
          <p:nvPr/>
        </p:nvPicPr>
        <p:blipFill>
          <a:blip r:embed="rId2"/>
          <a:stretch/>
        </p:blipFill>
        <p:spPr>
          <a:xfrm>
            <a:off x="1187280" y="4797360"/>
            <a:ext cx="399924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решетка и лин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4581000"/>
            <a:ext cx="821844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 получения четкой дифракционной картины за решеткой помещают собирающую лин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дифр с линзой"/>
          <p:cNvPicPr/>
          <p:nvPr/>
        </p:nvPicPr>
        <p:blipFill>
          <a:blip r:embed="rId1"/>
          <a:stretch/>
        </p:blipFill>
        <p:spPr>
          <a:xfrm>
            <a:off x="1403280" y="1557360"/>
            <a:ext cx="6481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картина от белого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центре светлая белая полоса, а боковые полосы – цветные, в которых чередование цветов от фиолетового к крас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карт"/>
          <p:cNvPicPr/>
          <p:nvPr/>
        </p:nvPicPr>
        <p:blipFill>
          <a:blip r:embed="rId1"/>
          <a:stretch/>
        </p:blipFill>
        <p:spPr>
          <a:xfrm>
            <a:off x="468360" y="2276640"/>
            <a:ext cx="38876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картина  для белого света в цветном изобра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центре светлая белая полоса, а боковые полосы – цветные, в которых чередование цветов от фиолетового к крас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белыйсвет20"/>
          <p:cNvPicPr/>
          <p:nvPr/>
        </p:nvPicPr>
        <p:blipFill>
          <a:blip r:embed="rId1"/>
          <a:stretch/>
        </p:blipFill>
        <p:spPr>
          <a:xfrm>
            <a:off x="179280" y="2349360"/>
            <a:ext cx="856944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картина для красного  и фиолетового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3938400"/>
            <a:ext cx="8218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ектрах, полученных с помощью дифракционной решетки,  красные линии расположены дальше синих линий от центра дифракционной картины (от 0-максим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красн лазер"/>
          <p:cNvPicPr/>
          <p:nvPr/>
        </p:nvPicPr>
        <p:blipFill>
          <a:blip r:embed="rId1"/>
          <a:stretch/>
        </p:blipFill>
        <p:spPr>
          <a:xfrm>
            <a:off x="971640" y="1557360"/>
            <a:ext cx="6840360" cy="118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фиолет"/>
          <p:cNvPicPr/>
          <p:nvPr/>
        </p:nvPicPr>
        <p:blipFill>
          <a:blip r:embed="rId2"/>
          <a:stretch/>
        </p:blipFill>
        <p:spPr>
          <a:xfrm>
            <a:off x="1116000" y="2781360"/>
            <a:ext cx="66247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кое из приведенных ниже выражений  определяет  понятие дифра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Наложение когерентных вол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Разложение света в спектр при прелом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гибание  волной препят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ое из наблюдаемых явлений объясняется дифрак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Излучение света лампой накал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Радужная окраска компакт-д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Получение изображения на киноэк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ое из наблюдаемых явлений объясняется дифрак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Радужная окраска тонких мыльных пле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Появление светлого пятна в центре тени от малого непрозрачного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тклонение световых лучей в область геометрической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ое условие является необходимым для наблюдения  дифракционной карт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Размеры препятствия много больше длины вол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Размеры препятствия  сравнимы с длиной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Размеры препятствия много больше амплитуды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вет какого цвета располагается дальше всего от центра дифракционной карт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Крас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Зеле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Фиолет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8147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Дифракционная решетка име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штрихов на миллиметр. Под каким углом виден максимум второго порядка для света с  длиной волны 400 н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о условие минимума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плитуды результирующих колебани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1) λ/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= ± 1; ± 2 .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гр минимум"/>
          <p:cNvPicPr/>
          <p:nvPr/>
        </p:nvPicPr>
        <p:blipFill>
          <a:blip r:embed="rId1"/>
          <a:stretch/>
        </p:blipFill>
        <p:spPr>
          <a:xfrm>
            <a:off x="0" y="4164120"/>
            <a:ext cx="8748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м 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волны дают устойчивую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ую карт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ойчивую интерференционную картину дают когерентные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ерентные волны- это волны с  одинаковой частотой и постоянной разностью ф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когерен"/>
          <p:cNvPicPr/>
          <p:nvPr/>
        </p:nvPicPr>
        <p:blipFill>
          <a:blip r:embed="rId1"/>
          <a:stretch/>
        </p:blipFill>
        <p:spPr>
          <a:xfrm>
            <a:off x="179280" y="1784520"/>
            <a:ext cx="475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ему возникают радужные пятна на поверхности в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0" y="1916280"/>
            <a:ext cx="4114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возникают когерентные волны благодаря отражению от верхнего и нижнего слоя тонкой  прозрачной пл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з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интер пленка6"/>
          <p:cNvPicPr/>
          <p:nvPr/>
        </p:nvPicPr>
        <p:blipFill>
          <a:blip r:embed="rId1"/>
          <a:stretch/>
        </p:blipFill>
        <p:spPr>
          <a:xfrm>
            <a:off x="468360" y="1773360"/>
            <a:ext cx="395928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ляная пленка на поверхности воды, освещенная солнечным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а пленке"/>
          <p:cNvPicPr/>
          <p:nvPr/>
        </p:nvPicPr>
        <p:blipFill>
          <a:blip r:embed="rId1"/>
          <a:stretch/>
        </p:blipFill>
        <p:spPr>
          <a:xfrm>
            <a:off x="4859280" y="2924280"/>
            <a:ext cx="3097440" cy="27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масл пленка"/>
          <p:cNvPicPr/>
          <p:nvPr/>
        </p:nvPicPr>
        <p:blipFill>
          <a:blip r:embed="rId2"/>
          <a:stretch/>
        </p:blipFill>
        <p:spPr>
          <a:xfrm>
            <a:off x="1187280" y="2924280"/>
            <a:ext cx="249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ая картина на мыльной пленке и на дис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07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17672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лаз диски1"/>
          <p:cNvPicPr/>
          <p:nvPr/>
        </p:nvPicPr>
        <p:blipFill>
          <a:blip r:embed="rId2"/>
          <a:stretch/>
        </p:blipFill>
        <p:spPr>
          <a:xfrm>
            <a:off x="4500720" y="1909800"/>
            <a:ext cx="4032000" cy="15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грампластинка"/>
          <p:cNvPicPr/>
          <p:nvPr/>
        </p:nvPicPr>
        <p:blipFill>
          <a:blip r:embed="rId3"/>
          <a:stretch/>
        </p:blipFill>
        <p:spPr>
          <a:xfrm>
            <a:off x="4788000" y="4653000"/>
            <a:ext cx="35352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бор для наблюде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олец 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возникают когерентные волны благодаря отражению от выпуклой поверхности линзы и от пластины на границ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оле"/>
          <p:cNvPicPr/>
          <p:nvPr/>
        </p:nvPicPr>
        <p:blipFill>
          <a:blip r:embed="rId1"/>
          <a:stretch/>
        </p:blipFill>
        <p:spPr>
          <a:xfrm>
            <a:off x="0" y="2060640"/>
            <a:ext cx="4932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ьца Нью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кольца"/>
          <p:cNvPicPr/>
          <p:nvPr/>
        </p:nvPicPr>
        <p:blipFill>
          <a:blip r:embed="rId1"/>
          <a:stretch/>
        </p:blipFill>
        <p:spPr>
          <a:xfrm>
            <a:off x="1387440" y="1859040"/>
            <a:ext cx="63705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9:09:23Z</dcterms:created>
  <dc:creator>Admin</dc:creator>
  <dc:description/>
  <dc:language>en-US</dc:language>
  <cp:lastModifiedBy>Нина</cp:lastModifiedBy>
  <dcterms:modified xsi:type="dcterms:W3CDTF">2018-11-01T19:29:07Z</dcterms:modified>
  <cp:revision>32</cp:revision>
  <dc:subject/>
  <dc:title>Волновые свойства света   Каширина Т.Н</dc:title>
</cp:coreProperties>
</file>