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215-0E95-4662-93B9-B6352E69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767-313F-4F86-B323-20366C8D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75B-C476-42A8-A985-461A6F06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1D7-D3DE-48E4-95AE-C55F5309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799-1700-43F1-AF51-39948DBD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580-09F2-4593-85C1-024425EA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422-EA04-4871-AF6B-79A99086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36B-A845-4647-9EAB-38555769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0EA-E397-4D62-93DE-586875F4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3C8-1CFA-4F8C-AA8C-75171907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9B6-0AB5-45E6-B138-C67271B1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305-D6FB-47CC-94BC-0FBBA823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6C3D-F5AA-4B3E-B5B6-225B31F15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ФЕРЕН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 ЯВЛЕНИЕ СЛОЖЕНИЯ ДВУХ ВОЛН, ПРИ КОТОРОМ ОБРАЗУЕТСЯ ПОСТОЯННОЕ ВО ВРЕМЕНИ РАСПРЕДЕЛЕНИЕ АМПЛИТУД РЕЗУЛЬТИРУЮЩИХ КОЛЕБ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интерф на воде"/>
          <p:cNvPicPr/>
          <p:nvPr/>
        </p:nvPicPr>
        <p:blipFill>
          <a:blip r:embed="rId1"/>
          <a:stretch/>
        </p:blipFill>
        <p:spPr>
          <a:xfrm>
            <a:off x="395280" y="1628640"/>
            <a:ext cx="396072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фрак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явление огибания волнами препят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тклонение от прямолиней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остранения вол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фракция на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ны огибают тростинку, а за камнем  образуется т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дифрак"/>
          <p:cNvPicPr/>
          <p:nvPr/>
        </p:nvPicPr>
        <p:blipFill>
          <a:blip r:embed="rId1"/>
          <a:stretch/>
        </p:blipFill>
        <p:spPr>
          <a:xfrm>
            <a:off x="706320" y="1844640"/>
            <a:ext cx="3581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линейное распространение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домом или деревом всегда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точечного источника за непрозрачным телом тоже 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Image1тень"/>
          <p:cNvPicPr/>
          <p:nvPr/>
        </p:nvPicPr>
        <p:blipFill>
          <a:blip r:embed="rId1"/>
          <a:stretch/>
        </p:blipFill>
        <p:spPr>
          <a:xfrm>
            <a:off x="539640" y="2266920"/>
            <a:ext cx="3888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ыт Т. Ю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6000" y="1628280"/>
            <a:ext cx="3970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ыте Т. Юнга видим дифракцию, т. е.отклонение света от прямолинейного распрост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две когерентные вол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опыт юнга10"/>
          <p:cNvPicPr/>
          <p:nvPr/>
        </p:nvPicPr>
        <p:blipFill>
          <a:blip r:embed="rId1"/>
          <a:stretch/>
        </p:blipFill>
        <p:spPr>
          <a:xfrm>
            <a:off x="1103400" y="1628640"/>
            <a:ext cx="29638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я возникновения дифракции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47480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препят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ы быть сравн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линой  све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ояние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ятствия 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а должно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сотен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километ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расстояния"/>
          <p:cNvPicPr/>
          <p:nvPr/>
        </p:nvPicPr>
        <p:blipFill>
          <a:blip r:embed="rId1"/>
          <a:stretch/>
        </p:blipFill>
        <p:spPr>
          <a:xfrm>
            <a:off x="3780000" y="2565360"/>
            <a:ext cx="46083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хема опыта  получения интерференционной картин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за непрозрачным дис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34348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ренционная картина о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нкой проволоки и д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Image16"/>
          <p:cNvPicPr/>
          <p:nvPr/>
        </p:nvPicPr>
        <p:blipFill>
          <a:blip r:embed="rId1"/>
          <a:stretch/>
        </p:blipFill>
        <p:spPr>
          <a:xfrm>
            <a:off x="5219640" y="2637000"/>
            <a:ext cx="2881440" cy="284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mage14"/>
          <p:cNvPicPr/>
          <p:nvPr/>
        </p:nvPicPr>
        <p:blipFill>
          <a:blip r:embed="rId2"/>
          <a:stretch/>
        </p:blipFill>
        <p:spPr>
          <a:xfrm>
            <a:off x="826920" y="2637000"/>
            <a:ext cx="31687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ренционная карти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т отверс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44276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0" y="1773000"/>
            <a:ext cx="4114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ас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ранц. ученый) предположил, что 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рстием должно быть темное пятно, и оно действительно там оказ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Image17"/>
          <p:cNvPicPr/>
          <p:nvPr/>
        </p:nvPicPr>
        <p:blipFill>
          <a:blip r:embed="rId1"/>
          <a:stretch/>
        </p:blipFill>
        <p:spPr>
          <a:xfrm>
            <a:off x="611280" y="2421000"/>
            <a:ext cx="30956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фракционная реш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 совокупность  большого числа очень тонких темных промежутков, разделенных светл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школьной решетке на каждый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ходится 100 штрих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ория дифракционной  реш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3640" y="1628280"/>
            <a:ext cx="3888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ешетки есть период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ность х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sin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g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y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 э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sin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k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–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sin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(2k+1)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–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Imagд"/>
          <p:cNvPicPr/>
          <p:nvPr/>
        </p:nvPicPr>
        <p:blipFill>
          <a:blip r:embed="rId1"/>
          <a:stretch/>
        </p:blipFill>
        <p:spPr>
          <a:xfrm>
            <a:off x="250920" y="2244600"/>
            <a:ext cx="4321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АКОМ УСЛОВИИ НАБЛЮДАЕТСЯ МАКСИМУМ РЕЗУЛЬТИРУЮЩИХ КОЛЕБА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λ, ил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= ± 1; ± 2 .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лучи интер"/>
          <p:cNvPicPr/>
          <p:nvPr/>
        </p:nvPicPr>
        <p:blipFill>
          <a:blip r:embed="rId1"/>
          <a:stretch/>
        </p:blipFill>
        <p:spPr>
          <a:xfrm>
            <a:off x="684360" y="2133720"/>
            <a:ext cx="3276360" cy="223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грвик мах"/>
          <p:cNvPicPr/>
          <p:nvPr/>
        </p:nvPicPr>
        <p:blipFill>
          <a:blip r:embed="rId2"/>
          <a:stretch/>
        </p:blipFill>
        <p:spPr>
          <a:xfrm>
            <a:off x="1187280" y="4797360"/>
            <a:ext cx="399924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фракционная решетка и лин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4581000"/>
            <a:ext cx="821844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 получения четкой дифракционной картины за решеткой помещают собирающую лин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дифр с линзой"/>
          <p:cNvPicPr/>
          <p:nvPr/>
        </p:nvPicPr>
        <p:blipFill>
          <a:blip r:embed="rId1"/>
          <a:stretch/>
        </p:blipFill>
        <p:spPr>
          <a:xfrm>
            <a:off x="1403280" y="1557360"/>
            <a:ext cx="6481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фракционная картина от белого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центре светлая белая полоса, а боковые полосы – цветные, в которых чередование цветов от фиолетового к крас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карт"/>
          <p:cNvPicPr/>
          <p:nvPr/>
        </p:nvPicPr>
        <p:blipFill>
          <a:blip r:embed="rId1"/>
          <a:stretch/>
        </p:blipFill>
        <p:spPr>
          <a:xfrm>
            <a:off x="468360" y="2276640"/>
            <a:ext cx="38876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фракционная картина  для белого света в цветном изображ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центре светлая белая полоса, а боковые полосы – цветные, в которых чередование цветов от фиолетового к крас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белыйсвет20"/>
          <p:cNvPicPr/>
          <p:nvPr/>
        </p:nvPicPr>
        <p:blipFill>
          <a:blip r:embed="rId1"/>
          <a:stretch/>
        </p:blipFill>
        <p:spPr>
          <a:xfrm>
            <a:off x="179280" y="2349360"/>
            <a:ext cx="856944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фракционная картина для красного  и фиолетового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3938400"/>
            <a:ext cx="8218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пектрах, полученных с помощью дифракционной решетки,  красные линии расположены дальше синих линий от центра дифракционной картины (от 0-максим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красн лазер"/>
          <p:cNvPicPr/>
          <p:nvPr/>
        </p:nvPicPr>
        <p:blipFill>
          <a:blip r:embed="rId1"/>
          <a:stretch/>
        </p:blipFill>
        <p:spPr>
          <a:xfrm>
            <a:off x="971640" y="1557360"/>
            <a:ext cx="6840360" cy="118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фиолет"/>
          <p:cNvPicPr/>
          <p:nvPr/>
        </p:nvPicPr>
        <p:blipFill>
          <a:blip r:embed="rId2"/>
          <a:stretch/>
        </p:blipFill>
        <p:spPr>
          <a:xfrm>
            <a:off x="1116000" y="2781360"/>
            <a:ext cx="662472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кое из приведенных ниже выражений  определяет  понятие дифра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Наложение когерентных вол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Разложение света в спектр при прелом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гибание  волной препят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ое из наблюдаемых явлений объясняется дифракци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Излучение света лампой накал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Радужная окраска компакт-д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Получение изображения на киноэк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ое из наблюдаемых явлений объясняется дифракци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Радужная окраска тонких мыльных плен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Появление светлого пятна в центре тени от малого непрозрачного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тклонение световых лучей в область геометрической т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ое условие является необходимым для наблюдения  дифракционной карт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Размеры препятствия много больше длины вол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Размеры препятствия  сравнимы с длиной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Размеры препятствия много больше амплитуды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Свет какого цвета располагается дальше всего от центра дифракционной карт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Крас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Зеле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Фиолето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81471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Дифракционная решетка име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штрихов на миллиметр. Под каким углом виден максимум второго порядка для света с  длиной волны 400 н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5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во условие минимума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мплитуды результирующих колебани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1) λ/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= ± 1; ± 2 ..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гр минимум"/>
          <p:cNvPicPr/>
          <p:nvPr/>
        </p:nvPicPr>
        <p:blipFill>
          <a:blip r:embed="rId1"/>
          <a:stretch/>
        </p:blipFill>
        <p:spPr>
          <a:xfrm>
            <a:off x="0" y="4164120"/>
            <a:ext cx="8748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м 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волны дают устойчивую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ренционную карти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ойчивую интерференционную картину дают когерентные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ерентные волны- это волны с  одинаковой частотой и постоянной разностью ф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когерен"/>
          <p:cNvPicPr/>
          <p:nvPr/>
        </p:nvPicPr>
        <p:blipFill>
          <a:blip r:embed="rId1"/>
          <a:stretch/>
        </p:blipFill>
        <p:spPr>
          <a:xfrm>
            <a:off x="179280" y="1784520"/>
            <a:ext cx="4753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чему возникают радужные пятна на поверхности во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0" y="1916280"/>
            <a:ext cx="4114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возникают когерентные волны благодаря отражению от верхнего и нижнего слоя тонкой  прозрачной пл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з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интер пленка6"/>
          <p:cNvPicPr/>
          <p:nvPr/>
        </p:nvPicPr>
        <p:blipFill>
          <a:blip r:embed="rId1"/>
          <a:stretch/>
        </p:blipFill>
        <p:spPr>
          <a:xfrm>
            <a:off x="468360" y="1773360"/>
            <a:ext cx="395928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ляная пленка на поверхности воды, освещенная солнечным све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на пленке"/>
          <p:cNvPicPr/>
          <p:nvPr/>
        </p:nvPicPr>
        <p:blipFill>
          <a:blip r:embed="rId1"/>
          <a:stretch/>
        </p:blipFill>
        <p:spPr>
          <a:xfrm>
            <a:off x="4859280" y="2924280"/>
            <a:ext cx="3097440" cy="27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масл пленка"/>
          <p:cNvPicPr/>
          <p:nvPr/>
        </p:nvPicPr>
        <p:blipFill>
          <a:blip r:embed="rId2"/>
          <a:stretch/>
        </p:blipFill>
        <p:spPr>
          <a:xfrm>
            <a:off x="1187280" y="2924280"/>
            <a:ext cx="2490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ренционная картина на мыльной пленке и на дис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07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17672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лаз диски1"/>
          <p:cNvPicPr/>
          <p:nvPr/>
        </p:nvPicPr>
        <p:blipFill>
          <a:blip r:embed="rId2"/>
          <a:stretch/>
        </p:blipFill>
        <p:spPr>
          <a:xfrm>
            <a:off x="4500720" y="1909800"/>
            <a:ext cx="4032000" cy="151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грампластинка"/>
          <p:cNvPicPr/>
          <p:nvPr/>
        </p:nvPicPr>
        <p:blipFill>
          <a:blip r:embed="rId3"/>
          <a:stretch/>
        </p:blipFill>
        <p:spPr>
          <a:xfrm>
            <a:off x="4788000" y="4653000"/>
            <a:ext cx="35352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бор для наблюден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олец 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возникают когерентные волны благодаря отражению от выпуклой поверхности линзы и от пластины на границ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оле"/>
          <p:cNvPicPr/>
          <p:nvPr/>
        </p:nvPicPr>
        <p:blipFill>
          <a:blip r:embed="rId1"/>
          <a:stretch/>
        </p:blipFill>
        <p:spPr>
          <a:xfrm>
            <a:off x="0" y="2060640"/>
            <a:ext cx="49323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ьца Нью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кольца"/>
          <p:cNvPicPr/>
          <p:nvPr/>
        </p:nvPicPr>
        <p:blipFill>
          <a:blip r:embed="rId1"/>
          <a:stretch/>
        </p:blipFill>
        <p:spPr>
          <a:xfrm>
            <a:off x="1387440" y="1859040"/>
            <a:ext cx="63705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9:09:23Z</dcterms:created>
  <dc:creator>Admin</dc:creator>
  <dc:description/>
  <dc:language>en-US</dc:language>
  <cp:lastModifiedBy>Нина</cp:lastModifiedBy>
  <dcterms:modified xsi:type="dcterms:W3CDTF">2018-11-01T19:29:07Z</dcterms:modified>
  <cp:revision>32</cp:revision>
  <dc:subject/>
  <dc:title>Волновые свойства света   Каширина Т.Н</dc:title>
</cp:coreProperties>
</file>