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класс физика распространение колебаний в среде  вол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1) ввести понятие волны, рассмотреть виды волн, характеристики волны, учить применять знания на практике                               2)развитие памяти, логического мышления, практических умений            3)воспитание культуры труда, культуры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тилова Н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6E67-1CCF-4902-9961-3A782DC0A2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9 класс физика распространение колебаний в среде  волны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Цель:1) ввести понятие волны, рассмотреть виды волн, характеристики волны, учить применять знания на практике                               2)развитие памяти, логического мышления, практических умений            3)воспитание культуры труда, культуры труда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Шатилова Н.Н.</a:t>
            </a:r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C1F5-FFF6-49B0-9236-21C2321E7058}" type="slidenum">
              <a:rPr b="0" lang="ru-RU" sz="12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7739-7760-47B3-B3F2-3FF2C919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633-4FAA-4792-8035-E20FD325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899-CD66-4791-9E09-66FA1837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5F40-36FE-4131-9236-B4F4E17C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7B42-AD5A-44CE-900E-3C1F909E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E39F-E7E2-4D84-A618-E6923A1E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CFE0-2808-4B07-8359-E752ED3D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D210-5A18-419D-AF70-967C63F3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E327-B84A-4365-A140-A982F13C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6DA7-0202-4A06-8A5E-D9017936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D63C-0751-4498-B454-4ED271E3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110-F02D-4CB2-81F5-B61E060F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CA08-FDF1-4151-9800-234196E6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11F1-E56F-488A-9407-99761505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7D37-38A2-405D-BCCA-118845CB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6AB4-323F-425F-849F-441A3B10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54BE-519E-472D-950C-BD0B0D54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A8C-8257-4B2F-A83B-4FF8EE1D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1E38-A4F7-4A48-9198-1E11F66D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A74F-E2CD-4A63-B192-CAF1C2E7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0635-8870-443E-A941-BFF86356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E9D9-8A26-404F-93ED-EE1CCF19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E0A-A122-44E7-86A9-5E6066B8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9C4-ABA4-4029-BF64-5EC14A90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42D3-ECF9-4B2F-9918-ED5664DF8F2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99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60C7-0E69-44FF-B89F-A3A6DEE9D70C}" type="slidenum">
              <a:rPr b="0" lang="ru-RU" sz="1200" spc="-1" strike="noStrike">
                <a:solidFill>
                  <a:srgbClr val="ffff9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7e6wA0mme6A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ЧИТАТЬ: параграф 1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ВОПРОСЫ НА СТР. 7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ВИДЕОФИЛЬМ </a:t>
            </a:r>
            <a:r>
              <a:rPr b="0" lang="en-US" sz="4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https://www.youtube.com/watch?v=7e6wA0mme6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3124080" cy="17510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457200" y="457200"/>
            <a:ext cx="579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НИТЯНОЙ МАЯТНИ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5334120" y="2971800"/>
            <a:ext cx="3504960" cy="1814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838080" y="320040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ПРУЖИННЫЙ МАЯТНИ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ПОВТОРЕНИЕ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Лёгкая пружина жёсткостью  40 Н/м состоит из  40 витков. Определите, на сколько сантиметров увеличится расстояние между двенадцатым и двадцать пятым витками вертикально расположенной пружины, если к ней подвесить груз массой 600 г. Модуль ускорения свободного падения считайте равным 10 м/с</a:t>
            </a:r>
            <a:r>
              <a:rPr b="0" lang="ru-RU" sz="30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.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52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По закону Гука .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Сила упругости по 3 закону Ньютона уравновешивает вес груза .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удлинение всей пружины .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Значит, расстояние между двумя соседними витками увеличится на величину  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Тогда расстояние между двенадцатым и двадцать пятым витками пружины увеличится на величину   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Ответ: 5 м.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Наклонная плоскость длиной 15 м образует с горизонтом угол 30º. По данной плоскости скользит тело массой 1,5 кг. Начальная скорость равна 0. Известно, что скорость тела у основания наклонной плоскости 3 м/с. Какое количество теплоты выделится при трении о поверхность?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По закону сохранения энергии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Высота наклонной плоскости 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Значит, 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105, 75 Дж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Ответ:   105,75 Дж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Колебательное движение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Свободные колебани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Вынужденные колебани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Затухающие колебани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Колебательная система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Маятник (нитяной и пружинный)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ПОВТОРЕНИЕ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ХАРАКТЕРИСТИКИ КОЛЕБАНИЯ </a:t>
            </a:r>
            <a:endParaRPr b="0" lang="en-US" sz="38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КООРДИНАТА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СКОРОСТЬ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АМПЛИТУДА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ПЕРИОД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ЧАСТОТА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3000" spc="-1" strike="noStrike" u="sng">
                <a:solidFill>
                  <a:srgbClr val="ffff99"/>
                </a:solidFill>
                <a:uFillTx/>
                <a:latin typeface="Arial"/>
              </a:rPr>
              <a:t>КАКИЕ ФУНКЦИИ ОПИСЫВАЮТ КОЛЕБАНИЯ?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Классная работа                 03.09.18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Классная работа                 03.09.18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ГАРМОНИЧЕСКИЕ  КОЛЕБАНИ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АНАЛИТИЧЕСКИЙ СПОСОБ</a:t>
            </a:r>
            <a:br>
              <a:rPr sz="4200"/>
            </a:b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представления гармонических колебаний</a:t>
            </a:r>
            <a:br>
              <a:rPr sz="4200"/>
            </a:br>
            <a:br>
              <a:rPr sz="4200"/>
            </a:b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№1.1.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ГРАФИЧЕСКИЙ  СПОСОБ</a:t>
            </a:r>
            <a:br>
              <a:rPr sz="4200"/>
            </a:b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представления гармонических колебаний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СПЕКТРАЛЬНЫЙ МЕТОД</a:t>
            </a:r>
            <a:br>
              <a:rPr sz="4200"/>
            </a:b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 И </a:t>
            </a:r>
            <a:br>
              <a:rPr sz="4200"/>
            </a:br>
            <a:r>
              <a:rPr b="0" lang="ru-RU" sz="4200" spc="-1" strike="noStrike">
                <a:solidFill>
                  <a:srgbClr val="ffff66"/>
                </a:solidFill>
                <a:latin typeface="Garamond"/>
              </a:rPr>
              <a:t>МЕТОД ВЕКТОРНЫХ ДИАГРАММ</a:t>
            </a:r>
            <a:endParaRPr b="0" lang="en-US" sz="4200" spc="-1" strike="noStrike">
              <a:solidFill>
                <a:srgbClr val="ffff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66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9:47:35Z</dcterms:created>
  <dc:creator>славик</dc:creator>
  <dc:description/>
  <dc:language>en-US</dc:language>
  <cp:lastModifiedBy>Нина</cp:lastModifiedBy>
  <dcterms:modified xsi:type="dcterms:W3CDTF">2018-09-02T22:37:3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