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697C-580D-4133-BBFF-B387289D1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94F-E285-49A1-BD6B-1A32508403EC}" type="slidenum">
              <a:rPr b="0" lang="ru-RU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D48-1037-4BA1-B0A7-D1B6779A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EE7-91AF-4B2F-87A5-FA1270DC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C6D-67B7-41DE-838F-73D1BBBD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180-EBCD-4431-BE4D-CA3A9B01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CE28-0AC3-4C82-802A-07C6AE3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6CA6-09CB-40BA-B02D-A723FFB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C4EE-E3AA-404A-9EE1-947EEB2D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55E1-B743-462F-9841-9BDC245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A7EA-6236-4126-89F9-7F178EFE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B2B7-C4DF-4CB6-8922-7590834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145-EEAC-482B-89B7-C1DBF34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E84-79C2-411D-9CC3-E2EC692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FFA-E1E2-4030-A9EE-F968087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03C-AE1C-410E-A300-41ADAB3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79EC-AAB3-4503-9E50-208FAD3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3F21-5F21-421C-9971-2D0EEF7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AA6-3533-41A9-82A4-476B8460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A91-80EE-4C48-81F1-EF62302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F8C-3FDA-4259-A24C-4E23C4A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429-B6DF-43F0-8716-0B3D6885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911-D72A-4817-928D-E2F20FD8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9FA-35E9-4BC5-B686-C50ED0D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B98-568A-4482-917A-B827572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E01-B27C-44C5-A7EB-EA6CBA7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531-01E4-4D81-B6CB-C2D0AFE80B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0F9-6E10-4B65-8BA7-AF0F7BC79A21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e6wA0mme6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ЧИТАТЬ: параграф 1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ВОПРОСЫ НА СТР.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ВИДЕОФИЛЬМ </a:t>
            </a:r>
            <a:r>
              <a:rPr b="0" lang="en-US" sz="4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https://www.youtube.com/watch?v=7e6wA0mme6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3124080" cy="1751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57200" y="45720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НИТЯНО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504960" cy="181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38080" y="32004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УЖИННЫ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ТОРЕ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ёгкая пружина жёсткостью  40 Н/м состоит из  40 витков. Определите, на сколько сантиметров увеличится расстояние между двенадцатым и двадцать пятым витками вертикально расположенной пружины, если к ней подвесить груз массой 600 г. Модуль ускорения свободного падения считайте равным 10 м/с</a:t>
            </a:r>
            <a:r>
              <a:rPr b="0" lang="ru-RU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 закону Гука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ила упругости по 3 закону Ньютона уравновешивает вес груза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длинение всей пружины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начит, расстояние между двумя соседними витками увеличится на величину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Тогда расстояние между двенадцатым и двадцать пятым витками пружины увеличится на величину 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твет: 5 м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Наклонная плоскость длиной 15 м образует с горизонтом угол 30º. По данной плоскости скользит тело массой 1,5 кг. Начальная скорость равна 0. Известно, что скорость тела у основания наклонной плоскости 3 м/с. Какое количество теплоты выделится при трении о поверхность?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 закону сохранения энергии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ысота наклонной плоскости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начит,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105, 75 Дж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твет:   105,75 Дж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ТОРЕ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НИЯ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ОРДИНА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КОР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ИОД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ЧАСТО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ffff99"/>
                </a:solidFill>
                <a:uFillTx/>
                <a:latin typeface="Arial"/>
              </a:rPr>
              <a:t>КАКИЕ ФУНКЦИИ ОПИСЫВАЮТ КОЛЕБАНИЯ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03.09.18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03.09.18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ГАРМОНИЧЕСКИЕ 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АНАЛИТИЧЕСКИЙ СПОСОБ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едставления гармонических колебаний</a:t>
            </a: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№1.1.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ГРАФИЧЕСКИЙ  СПОСОБ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едставления гармонических колебаний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СПЕКТРАЛЬНЫЙ МЕТОД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 И 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МЕТОД ВЕКТОРНЫХ ДИАГРАММ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Нина</cp:lastModifiedBy>
  <dcterms:modified xsi:type="dcterms:W3CDTF">2018-09-02T22:37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