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1.gif" ContentType="image/gif"/>
  <Override PartName="/ppt/media/image9.wmf" ContentType="image/x-wmf"/>
  <Override PartName="/ppt/media/image13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1FDE-A519-4A7D-B485-DCB972380B0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661D-7E6E-4066-AA82-433D9A8C067E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E815-53AF-46A8-8772-0D3760FA6F8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884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2600" y="4362120"/>
            <a:ext cx="501804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BF9F-0920-4DCD-B4E5-5C821ED3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84EB-440D-41E4-8ECB-B9577779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1F0F-CF2A-4996-B086-E47672961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E1A1-25F4-4053-9EA4-2D4B9DD2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48988-AED8-4D86-BF71-3159B7E8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287F0-CAF3-47F4-B1BF-D1F1F4176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367DB-9BA2-4097-AE7A-1F7306A7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8D542-F2B5-49B5-B6BC-7C71AB443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818D-9411-456B-8BDE-0C79140B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EF38-CA34-40CB-8759-BF14FE7A0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231D-84C9-459F-9000-05F993D0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45F1-F9E4-49A4-AD13-7BB86905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AC445-89B9-407A-AD8F-EF40AF19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D339-BF9D-460A-943B-0242815A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C22A8-E417-4446-A6A0-1D71E720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8C17F-F980-4450-997C-2796EEDC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F75B-1BA5-48E3-B74E-733D6EF04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DCC1-33C2-4AE7-B280-5F61FA69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D939-F572-4C23-A76E-1A504059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6E7C-AC12-498C-9772-C7563007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FD1E-97C7-4C3B-97EA-752C8249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BBD2-F639-4EE5-AA51-B9690687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CF9D-5759-409F-A6C4-028EC531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77AC-A701-4AB1-980B-D4A17411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9172-1591-4D06-ADA9-92066415059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724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6CA8-8544-419C-AF67-E1D1A4B069F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3"/>
          <p:cNvSpPr/>
          <p:nvPr/>
        </p:nvSpPr>
        <p:spPr>
          <a:xfrm>
            <a:off x="0" y="836640"/>
            <a:ext cx="914400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ff99"/>
                </a:solidFill>
                <a:latin typeface="Times New Roman"/>
                <a:ea typeface="Times New Roman"/>
              </a:rPr>
              <a:t>Информационно-познавательная  игра по профориентации для старшеклассников</a:t>
            </a:r>
            <a:br>
              <a:rPr sz="3200"/>
            </a:br>
            <a:r>
              <a:rPr b="1" i="1" lang="ru-RU" sz="6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ЛАБИРИНТ ВЫБОРА»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4" descr="decor"/>
          <p:cNvPicPr/>
          <p:nvPr/>
        </p:nvPicPr>
        <p:blipFill>
          <a:blip r:embed="rId1"/>
          <a:stretch/>
        </p:blipFill>
        <p:spPr>
          <a:xfrm>
            <a:off x="4500720" y="3716280"/>
            <a:ext cx="4198680" cy="344484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395280" y="422100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читель по предпрофильной подготовке Тихонова Е.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оверяем!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9640" y="1268280"/>
          <a:ext cx="8229600" cy="36576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Професс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Долж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Специальность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Бухгалт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Главный бухгалт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Касси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Инжен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Старший инжен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Инженер-системотехни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Учител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Заву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Учитель начальных класс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Продавец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Заведующий магазино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Продавец продовольственных товаро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Лесник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Директор лесхоз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Главный лесничий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</a:tr>
            </a:tbl>
          </a:graphicData>
        </a:graphic>
      </p:graphicFrame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Задание №4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0" y="907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fffa"/>
                </a:solidFill>
                <a:latin typeface="Tahoma"/>
              </a:rPr>
              <a:t>Назовите положительные и отрицательные стороны профессии, по плану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Box 4"/>
          <p:cNvSpPr/>
          <p:nvPr/>
        </p:nvSpPr>
        <p:spPr>
          <a:xfrm>
            <a:off x="468360" y="191628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fffa"/>
                </a:solidFill>
                <a:latin typeface="Tahoma"/>
              </a:rPr>
              <a:t>ПЛА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Box 5"/>
          <p:cNvSpPr/>
          <p:nvPr/>
        </p:nvSpPr>
        <p:spPr>
          <a:xfrm>
            <a:off x="179280" y="2781360"/>
            <a:ext cx="8964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bcff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cfffd"/>
                </a:solidFill>
                <a:latin typeface="Tahoma"/>
              </a:rPr>
              <a:t>Значение профессии для обще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bcff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cfffd"/>
                </a:solidFill>
                <a:latin typeface="Tahoma"/>
              </a:rPr>
              <a:t>Условия работы: обычные, экстремальные, специфическ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bcff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cfffd"/>
                </a:solidFill>
                <a:latin typeface="Tahoma"/>
              </a:rPr>
              <a:t>Режим раб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bcff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cfffd"/>
                </a:solidFill>
                <a:latin typeface="Tahoma"/>
              </a:rPr>
              <a:t>Приблизительная зарпла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bcff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cfffd"/>
                </a:solidFill>
                <a:latin typeface="Tahoma"/>
              </a:rPr>
              <a:t>Предполагает ли профессия интенсивное общение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bcff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cfffd"/>
                </a:solidFill>
                <a:latin typeface="Tahoma"/>
              </a:rPr>
              <a:t>Личные качества обладателя профе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bcfff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cfffd"/>
                </a:solidFill>
                <a:latin typeface="Tahoma"/>
              </a:rPr>
              <a:t>Легок или труден путь получения профессии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Задание №5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TextBox 3"/>
          <p:cNvSpPr/>
          <p:nvPr/>
        </p:nvSpPr>
        <p:spPr>
          <a:xfrm>
            <a:off x="395280" y="1052640"/>
            <a:ext cx="84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cfffa"/>
                </a:solidFill>
                <a:latin typeface="Tahoma"/>
              </a:rPr>
              <a:t>«Составление синквейна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Box 4"/>
          <p:cNvSpPr/>
          <p:nvPr/>
        </p:nvSpPr>
        <p:spPr>
          <a:xfrm>
            <a:off x="0" y="2349360"/>
            <a:ext cx="9144000" cy="48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affff"/>
                </a:solidFill>
                <a:latin typeface="Tahoma"/>
              </a:rPr>
              <a:t>Синквейн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bcfffd"/>
                </a:solidFill>
                <a:latin typeface="Tahoma"/>
              </a:rPr>
              <a:t>– это стихотворение, состоящее из пяти строк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ва прилагательных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и глагол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Фраза на тему синквей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ществительно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affff"/>
                </a:solidFill>
                <a:latin typeface="Tahoma"/>
              </a:rPr>
              <a:t>НАПРИМЕР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бдительный, бесстрашный;                                               контактирует, организовывает, отвечает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граждают, присваивая очередное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вани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Следователь-полицейский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TextBox 6"/>
          <p:cNvSpPr/>
          <p:nvPr/>
        </p:nvSpPr>
        <p:spPr>
          <a:xfrm>
            <a:off x="5435640" y="3500280"/>
            <a:ext cx="316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читель физкультуры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троител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иблиотекарь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Геолог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Артист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Задание №6</a:t>
            </a:r>
            <a:br>
              <a:rPr sz="4000"/>
            </a:br>
            <a:r>
              <a:rPr b="1" lang="ru-RU" sz="4000" spc="-1" strike="noStrike">
                <a:solidFill>
                  <a:srgbClr val="2cfffa"/>
                </a:solidFill>
                <a:latin typeface="Tahoma"/>
              </a:rPr>
              <a:t>«Ориентир в новых профессиях»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fffa"/>
                </a:solidFill>
                <a:latin typeface="Tahoma"/>
              </a:rPr>
              <a:t>1. Логис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т, кто занимается логик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ециалист по организации транспортировки продукци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2574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тор конференций и научных самми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fffa"/>
                </a:solidFill>
                <a:latin typeface="Tahoma"/>
              </a:rPr>
              <a:t>2.Веб-мастер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т , кто работает на компьютер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работчик программ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работчик проектов сайтов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fffa"/>
                </a:solidFill>
                <a:latin typeface="Tahoma"/>
              </a:rPr>
              <a:t>3. Маркетолог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т, кто работает на рынке ценных бумаг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ециалист по изучению рынк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ba7c3e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т, кто изучает товарные марки и брен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fffa"/>
                </a:solidFill>
                <a:latin typeface="Tahoma"/>
              </a:rPr>
              <a:t>4. Фандрайзер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724c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т, кто ищет деньги и возможности для организаци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724c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Фанат, которого нанимает «звезда»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724c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ециалист, изучающий пути развития предприят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fffa"/>
                </a:solidFill>
                <a:latin typeface="Tahoma"/>
              </a:rPr>
              <a:t>5.Р</a:t>
            </a:r>
            <a:r>
              <a:rPr b="1" lang="en-US" sz="3200" spc="-1" strike="noStrike">
                <a:solidFill>
                  <a:srgbClr val="37fffa"/>
                </a:solidFill>
                <a:latin typeface="Tahoma"/>
              </a:rPr>
              <a:t>R</a:t>
            </a:r>
            <a:r>
              <a:rPr b="1" lang="ru-RU" sz="3200" spc="-1" strike="noStrike">
                <a:solidFill>
                  <a:srgbClr val="37fffa"/>
                </a:solidFill>
                <a:latin typeface="Tahoma"/>
              </a:rPr>
              <a:t>-агент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724c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от, кто связан с политико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724c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пециалист по рекламе и связям с общественностью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724c00"/>
              </a:buClr>
              <a:buSzPct val="65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средник между организациями и людьм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Задание №7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еловек данной профессии осуществляет методическое руководство правовой работой на предприятии, участвует в подготовке ответов при отклонении предприятием претензий. Дает справки и консультации работникам, гражданам о текущем законодательстве, а также содействует оформлению документов и актов правового характера. Для выполнения работы необходимо иметь оперативную и долговременную память, внимательность, коммуникабельность. Обязательно высшее специальное образов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Box 3"/>
          <p:cNvSpPr/>
          <p:nvPr/>
        </p:nvSpPr>
        <p:spPr>
          <a:xfrm>
            <a:off x="395280" y="83664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cfffa"/>
                </a:solidFill>
                <a:latin typeface="Tahoma"/>
              </a:rPr>
              <a:t>«Назовите профессию по описанию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0" y="1022400"/>
            <a:ext cx="91440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частвует в постройке и ремонте жилых домов, зданий и других сооружений. Рубит стены из бревен, настилает полы, устанавливает оконные рамы и двери. В своей работе использует как ручные, так и механизированные орудия труда. Человек, владеющий этой профессией, должен уметь читать чертежи, знать способы разметки и изготовления деревянных конструкций. Достаточно иметь среднее профессионально-техническое образов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1979640" y="1125360"/>
            <a:ext cx="66294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3" descr="MCj04344430000[1]"/>
          <p:cNvPicPr/>
          <p:nvPr/>
        </p:nvPicPr>
        <p:blipFill>
          <a:blip r:embed="rId1"/>
          <a:stretch/>
        </p:blipFill>
        <p:spPr>
          <a:xfrm rot="21345000">
            <a:off x="7613280" y="4851360"/>
            <a:ext cx="1477800" cy="1693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MCj04344490000[1]"/>
          <p:cNvPicPr/>
          <p:nvPr/>
        </p:nvPicPr>
        <p:blipFill>
          <a:blip r:embed="rId2"/>
          <a:stretch/>
        </p:blipFill>
        <p:spPr>
          <a:xfrm rot="665400">
            <a:off x="4744800" y="146160"/>
            <a:ext cx="1701720" cy="19699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MCj04361330000[1]"/>
          <p:cNvPicPr/>
          <p:nvPr/>
        </p:nvPicPr>
        <p:blipFill>
          <a:blip r:embed="rId3"/>
          <a:stretch/>
        </p:blipFill>
        <p:spPr>
          <a:xfrm rot="20977200">
            <a:off x="1828440" y="183960"/>
            <a:ext cx="2193840" cy="1717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MCj04359750000[1]"/>
          <p:cNvPicPr/>
          <p:nvPr/>
        </p:nvPicPr>
        <p:blipFill>
          <a:blip r:embed="rId4"/>
          <a:stretch/>
        </p:blipFill>
        <p:spPr>
          <a:xfrm rot="415200">
            <a:off x="7049880" y="36360"/>
            <a:ext cx="1760400" cy="189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MCj04359970000[1]"/>
          <p:cNvPicPr/>
          <p:nvPr/>
        </p:nvPicPr>
        <p:blipFill>
          <a:blip r:embed="rId5"/>
          <a:stretch/>
        </p:blipFill>
        <p:spPr>
          <a:xfrm rot="21296400">
            <a:off x="78840" y="4889520"/>
            <a:ext cx="2038680" cy="1882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MCj04360150000[1]"/>
          <p:cNvPicPr/>
          <p:nvPr/>
        </p:nvPicPr>
        <p:blipFill>
          <a:blip r:embed="rId6"/>
          <a:stretch/>
        </p:blipFill>
        <p:spPr>
          <a:xfrm rot="750000">
            <a:off x="2768400" y="4749480"/>
            <a:ext cx="1672920" cy="1949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MCj04359790000[1]"/>
          <p:cNvPicPr/>
          <p:nvPr/>
        </p:nvPicPr>
        <p:blipFill>
          <a:blip r:embed="rId7"/>
          <a:stretch/>
        </p:blipFill>
        <p:spPr>
          <a:xfrm rot="723600">
            <a:off x="176040" y="127080"/>
            <a:ext cx="1413000" cy="1841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MCj04359850000[1]"/>
          <p:cNvPicPr/>
          <p:nvPr/>
        </p:nvPicPr>
        <p:blipFill>
          <a:blip r:embed="rId8"/>
          <a:stretch/>
        </p:blipFill>
        <p:spPr>
          <a:xfrm rot="21079200">
            <a:off x="5428800" y="4789440"/>
            <a:ext cx="1677960" cy="19526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2"/>
          <p:cNvSpPr/>
          <p:nvPr/>
        </p:nvSpPr>
        <p:spPr>
          <a:xfrm>
            <a:off x="468360" y="2060640"/>
            <a:ext cx="828036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Когда    человек    не    знает,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к какой пристани он держит путь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для него ни один ветер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не будет попутны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ffcc"/>
                </a:solidFill>
                <a:latin typeface="Tahoma"/>
              </a:rPr>
              <a:t>Сене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этой профессии объединяются функции инженера, художника, психофизиолога, экономист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ё цель – в промышленных изделиях, бытовых приборах, мебели, интерьерах квартир, офисов гармонически совместить полезность, удобство и красоту, обеспечить надежность, привлекательность и конкурентоспособность. Человек этой профессии самостоятельно или совместно с другими специалистами совершенствует уже созданные объекты, участвует в проектировании, конструировании, опытной проверке новых объектов. Для этой профессии необходимы сочетание технической и художественной одаренности, развитое наглядно-образное мышление и воображ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0" y="189000"/>
            <a:ext cx="91440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ыполняет технические функции и поручения руководителя, применяет рациональные методы работы с посетителями и документами, способствуя тем самым успешному решению основных задач организации. Регистрирует и анализирует письма, документы, систематизирует их по степени важности, ведет телефонные переговоры, записывает и передает задания руководителя по назначению, следит за их выполнением. Человек, владеющий этой профессией, должен уметь работать на персональном компьютере, пишущей машинке, средствах оргтехники. Необходимы хорошее знание русского языка, осведомленность в вопросах психологии общения, эстетики.  Желательно знание иностранного язы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0" y="188640"/>
            <a:ext cx="88408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Удостоверяет сделки, оформляет наследственные права граждан, договоры, свидетельствует копии документов. В своей работе должен  знать правила оформления юридических документов, нормативные и руководящие материалы по правовой деятельности, действующее законодательство. Должен иметь высшее юридическое образова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казывает посреднические услуги при заключении сделок на бирже. Специализируется по определенным видам товаров и услуг. Консультирует клиентов. Анализирует информацию о конъюнктуре рынка, потребительских свойствах товаров, надежности ценных бума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Задание №8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течение 3 минут составить перечень профессий, представители которых приняли участие в создании данных предметов:   книг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хлеб,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шерстяной свитер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м из кирпич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Задание №9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0" y="90792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течение 3 минут составить перечень качеств, которыми должны обладать представители этой профессии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ГРОНО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АКТОРИСТ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А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ba7c3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3"/>
          <p:cNvSpPr/>
          <p:nvPr/>
        </p:nvSpPr>
        <p:spPr>
          <a:xfrm>
            <a:off x="1258920" y="733320"/>
            <a:ext cx="788508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Рабочий? Строитель? Учитель?</a:t>
            </a:r>
            <a:br>
              <a:rPr sz="2800"/>
            </a:b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Кто нужен России сейчас?</a:t>
            </a:r>
            <a:br>
              <a:rPr sz="2800"/>
            </a:b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А, может быть, врач-исцелитель</a:t>
            </a:r>
            <a:br>
              <a:rPr sz="2800"/>
            </a:b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Сегодня важнее для нас?</a:t>
            </a:r>
            <a:br>
              <a:rPr sz="2800"/>
            </a:b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Быть может нужней инженеры?</a:t>
            </a:r>
            <a:br>
              <a:rPr sz="2800"/>
            </a:b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Возможно, ученый важней?</a:t>
            </a:r>
            <a:br>
              <a:rPr sz="2800"/>
            </a:b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А, может, нужней офицеры,</a:t>
            </a:r>
            <a:br>
              <a:rPr sz="2800"/>
            </a:b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Чтоб армию сделать сильней?</a:t>
            </a:r>
            <a:br>
              <a:rPr sz="2800"/>
            </a:b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Отбросьте ненужные споры</a:t>
            </a:r>
            <a:br>
              <a:rPr sz="2800"/>
            </a:b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О том, кто важней для страны.</a:t>
            </a:r>
            <a:br>
              <a:rPr sz="2800"/>
            </a:b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Ответим: для нашей России</a:t>
            </a:r>
            <a:br>
              <a:rPr sz="2800"/>
            </a:b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Профессии все нужны.</a:t>
            </a:r>
            <a:br>
              <a:rPr sz="2800"/>
            </a:br>
            <a:r>
              <a:rPr b="1" i="1" lang="ru-RU" sz="2800" spc="-1" strike="noStrike">
                <a:solidFill>
                  <a:srgbClr val="99ffcc"/>
                </a:solidFill>
                <a:latin typeface="Tahoma"/>
              </a:rPr>
              <a:t>                                                (Ф.С. Махов</a:t>
            </a:r>
            <a:r>
              <a:rPr b="0" i="1" lang="ru-RU" sz="2800" spc="-1" strike="noStrike">
                <a:solidFill>
                  <a:srgbClr val="99ffcc"/>
                </a:solidFill>
                <a:latin typeface="Tahoma"/>
              </a:rPr>
              <a:t>)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6" descr="j0356712"/>
          <p:cNvPicPr/>
          <p:nvPr/>
        </p:nvPicPr>
        <p:blipFill>
          <a:blip r:embed="rId1"/>
          <a:stretch/>
        </p:blipFill>
        <p:spPr>
          <a:xfrm>
            <a:off x="7308720" y="2708280"/>
            <a:ext cx="1835280" cy="2233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j0356784"/>
          <p:cNvPicPr/>
          <p:nvPr/>
        </p:nvPicPr>
        <p:blipFill>
          <a:blip r:embed="rId2"/>
          <a:stretch/>
        </p:blipFill>
        <p:spPr>
          <a:xfrm>
            <a:off x="0" y="4913280"/>
            <a:ext cx="154764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3"/>
          <p:cNvSpPr/>
          <p:nvPr/>
        </p:nvSpPr>
        <p:spPr>
          <a:xfrm>
            <a:off x="250920" y="260280"/>
            <a:ext cx="8353440" cy="60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Задание №1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cfffa"/>
                </a:solidFill>
                <a:latin typeface="Tahoma"/>
              </a:rPr>
              <a:t>«Реклама профессии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8 класс –  водител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9 класс –  врач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10 класс –  бухгалте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11 класс –  журналис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    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685800" y="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37fffa"/>
                </a:solidFill>
                <a:latin typeface="Times New Roman"/>
              </a:rPr>
              <a:t>типы професс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50920" y="692280"/>
            <a:ext cx="2666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bcfffd"/>
                </a:solidFill>
                <a:latin typeface="Times New Roman"/>
              </a:rPr>
              <a:t>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bcfffd"/>
                </a:solidFill>
                <a:latin typeface="Times New Roman"/>
              </a:rPr>
              <a:t>Человек-тех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6324480" y="68580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bcfffd"/>
                </a:solidFill>
                <a:latin typeface="Times New Roman"/>
              </a:rPr>
              <a:t>П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bcfffd"/>
                </a:solidFill>
                <a:latin typeface="Times New Roman"/>
              </a:rPr>
              <a:t>Человек-прир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352680" y="68580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bcfffd"/>
                </a:solidFill>
                <a:latin typeface="Times New Roman"/>
              </a:rPr>
              <a:t>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bcfffd"/>
                </a:solidFill>
                <a:latin typeface="Times New Roman"/>
              </a:rPr>
              <a:t>Человек-чел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304920" y="365760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bcfffd"/>
                </a:solidFill>
                <a:latin typeface="Times New Roman"/>
              </a:rPr>
              <a:t>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bcfffd"/>
                </a:solidFill>
                <a:latin typeface="Times New Roman"/>
              </a:rPr>
              <a:t>Человек-знаковая систе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5181480" y="3352680"/>
            <a:ext cx="3657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bcfffd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bcfffd"/>
                </a:solidFill>
                <a:latin typeface="Times New Roman"/>
              </a:rPr>
              <a:t>Человек-художественный обр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879560" cy="1817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"/>
          <p:cNvPicPr/>
          <p:nvPr/>
        </p:nvPicPr>
        <p:blipFill>
          <a:blip r:embed="rId2"/>
          <a:stretch/>
        </p:blipFill>
        <p:spPr>
          <a:xfrm>
            <a:off x="3505320" y="1676520"/>
            <a:ext cx="2209680" cy="1770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"/>
          <p:cNvPicPr/>
          <p:nvPr/>
        </p:nvPicPr>
        <p:blipFill>
          <a:blip r:embed="rId3"/>
          <a:stretch/>
        </p:blipFill>
        <p:spPr>
          <a:xfrm>
            <a:off x="7010280" y="1600200"/>
            <a:ext cx="1755720" cy="1981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"/>
          <p:cNvPicPr/>
          <p:nvPr/>
        </p:nvPicPr>
        <p:blipFill>
          <a:blip r:embed="rId4"/>
          <a:stretch/>
        </p:blipFill>
        <p:spPr>
          <a:xfrm>
            <a:off x="1066680" y="4876920"/>
            <a:ext cx="2362320" cy="1734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"/>
          <p:cNvPicPr/>
          <p:nvPr/>
        </p:nvPicPr>
        <p:blipFill>
          <a:blip r:embed="rId5"/>
          <a:stretch/>
        </p:blipFill>
        <p:spPr>
          <a:xfrm>
            <a:off x="6248520" y="4724280"/>
            <a:ext cx="1692000" cy="1905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3"/>
          <p:cNvSpPr/>
          <p:nvPr/>
        </p:nvSpPr>
        <p:spPr>
          <a:xfrm>
            <a:off x="0" y="190440"/>
            <a:ext cx="9144000" cy="66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Задание №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cfffa"/>
                </a:solidFill>
                <a:latin typeface="Tahoma"/>
              </a:rPr>
              <a:t>«Типы профессий»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b9fffd"/>
                </a:solidFill>
                <a:latin typeface="Tahoma"/>
              </a:rPr>
              <a:t>Распределите  профессии по типам, заполнив таблиц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9fffd"/>
                </a:solidFill>
                <a:latin typeface="Tahoma"/>
              </a:rPr>
              <a:t>Водитель, биолог, оператор ПК, бухгалтер,  дизайнер, социальный работник, журналист, эколог, токарь, физик, учитель, вокалист, слесарь, зоотехник, строитель, кассир, врач, декоратор, судья,  верстальщик, геолог, столяр, егерь, воспитатель, визажис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0" y="3141720"/>
          <a:ext cx="9144000" cy="9144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Человек - Челове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Человек - Техн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Человек - Прир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Человек - Знаковая сист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Человек - Художественный обр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0" y="2781360"/>
          <a:ext cx="9144000" cy="323676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Человек - Челове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Человек - Техник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Человек - Прир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Человек - Знаковая сист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Человек - Художественный обра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социальный работ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води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биоло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оператор П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дизайне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учи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тока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эколо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бухгалтер,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журнали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врач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слеса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зоотехн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физ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вокали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судь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строи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геоло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строи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декорато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42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воспитател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столя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егер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верстальщи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8481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8481"/>
                          </a:solidFill>
                          <a:latin typeface="Tahoma"/>
                        </a:rPr>
                        <a:t>визажис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cb"/>
                    </a:solidFill>
                  </a:tcPr>
                </a:tc>
              </a:tr>
            </a:tbl>
          </a:graphicData>
        </a:graphic>
      </p:graphicFrame>
      <p:sp>
        <p:nvSpPr>
          <p:cNvPr id="120" name="TextBox 5"/>
          <p:cNvSpPr/>
          <p:nvPr/>
        </p:nvSpPr>
        <p:spPr>
          <a:xfrm>
            <a:off x="755640" y="620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4fffe"/>
                </a:solidFill>
                <a:latin typeface="Tahoma"/>
              </a:rPr>
              <a:t>Проверяем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3"/>
          <p:cNvSpPr/>
          <p:nvPr/>
        </p:nvSpPr>
        <p:spPr>
          <a:xfrm>
            <a:off x="0" y="1125360"/>
            <a:ext cx="87123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ffff"/>
                </a:solidFill>
                <a:latin typeface="Tahoma"/>
              </a:rPr>
              <a:t>Профессия</a:t>
            </a:r>
            <a:r>
              <a:rPr b="1" i="1" lang="ru-RU" sz="2400" spc="-1" strike="noStrike">
                <a:solidFill>
                  <a:srgbClr val="ccffff"/>
                </a:solidFill>
                <a:latin typeface="Tahoma"/>
              </a:rPr>
              <a:t> – это род трудовой деятельности, занятий, требующих  определенной  подготовки и  являющихся  источником существования</a:t>
            </a:r>
            <a:r>
              <a:rPr b="1" lang="ru-RU" sz="2400" spc="-1" strike="noStrike">
                <a:solidFill>
                  <a:srgbClr val="99ffcc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755640" y="47628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Что такое профессия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684360" y="263700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Что такое специальнос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0" y="335772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7ff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fffa"/>
                </a:solidFill>
                <a:latin typeface="Tahoma"/>
              </a:rPr>
              <a:t>Специальность </a:t>
            </a:r>
            <a:r>
              <a:rPr b="1" i="1" lang="ru-RU" sz="2400" spc="-1" strike="noStrike">
                <a:solidFill>
                  <a:srgbClr val="bcfffd"/>
                </a:solidFill>
                <a:latin typeface="Tahoma"/>
              </a:rPr>
              <a:t>– это вид занятия в рамках одной профессии</a:t>
            </a:r>
            <a:r>
              <a:rPr b="0" lang="ru-RU" sz="1800" spc="-1" strike="noStrike">
                <a:solidFill>
                  <a:srgbClr val="bcfffd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395280" y="450864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Что такое должност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0" y="551664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7fffa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7fffa"/>
                </a:solidFill>
                <a:latin typeface="Tahoma"/>
              </a:rPr>
              <a:t>Должность </a:t>
            </a:r>
            <a:r>
              <a:rPr b="1" i="1" lang="ru-RU" sz="2400" spc="-1" strike="noStrike">
                <a:solidFill>
                  <a:srgbClr val="bcfffd"/>
                </a:solidFill>
                <a:latin typeface="Tahoma"/>
              </a:rPr>
              <a:t>– это служебная обязанность, это круг  действий, возложенных на определённого человека  и обязательных для исполн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3"/>
          <p:cNvSpPr/>
          <p:nvPr/>
        </p:nvSpPr>
        <p:spPr>
          <a:xfrm>
            <a:off x="611280" y="33336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Задание №3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0" y="10526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cfffa"/>
                </a:solidFill>
                <a:latin typeface="Tahoma"/>
              </a:rPr>
              <a:t>Распределит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cfffa"/>
                </a:solidFill>
                <a:latin typeface="Tahoma"/>
              </a:rPr>
              <a:t>профессии, должности и специальности по колонкам таблиц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0920" y="2492280"/>
          <a:ext cx="8532720" cy="371520"/>
        </p:xfrm>
        <a:graphic>
          <a:graphicData uri="http://schemas.openxmlformats.org/drawingml/2006/table">
            <a:tbl>
              <a:tblPr/>
              <a:tblGrid>
                <a:gridCol w="2844720"/>
                <a:gridCol w="2844720"/>
                <a:gridCol w="28432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Професс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Долж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7976"/>
                          </a:solidFill>
                          <a:latin typeface="Tahoma"/>
                        </a:rPr>
                        <a:t>Специально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sp>
        <p:nvSpPr>
          <p:cNvPr id="130" name="TextBox 6"/>
          <p:cNvSpPr/>
          <p:nvPr/>
        </p:nvSpPr>
        <p:spPr>
          <a:xfrm>
            <a:off x="395280" y="3357720"/>
            <a:ext cx="87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bcfff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cfffd"/>
                </a:solidFill>
                <a:latin typeface="Tahoma"/>
              </a:rPr>
              <a:t>Главный бухгалтер, кассир, бухгалтер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bcfff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cfffd"/>
                </a:solidFill>
                <a:latin typeface="Tahoma"/>
              </a:rPr>
              <a:t>Старший инженер; инженер, инженер-системотехник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bcfff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cfffd"/>
                </a:solidFill>
                <a:latin typeface="Tahoma"/>
              </a:rPr>
              <a:t>Учитель,  учитель начальных классов, завуч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bcfff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cfffd"/>
                </a:solidFill>
                <a:latin typeface="Tahoma"/>
              </a:rPr>
              <a:t>Продавец, заведующий магазином, продавец продовольственных товаров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bcfffd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cfffd"/>
                </a:solidFill>
                <a:latin typeface="Tahoma"/>
              </a:rPr>
              <a:t>Лесник, главный лесничий, директор лесхоз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1:01:27Z</dcterms:created>
  <dc:creator>Admin</dc:creator>
  <dc:description/>
  <dc:language>en-US</dc:language>
  <cp:lastModifiedBy>Администратор</cp:lastModifiedBy>
  <dcterms:modified xsi:type="dcterms:W3CDTF">2018-12-24T11:18:32Z</dcterms:modified>
  <cp:revision>53</cp:revision>
  <dc:subject/>
  <dc:title>Слайд 1</dc:title>
</cp:coreProperties>
</file>