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354-82EC-4A99-BFCC-7C566668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AA7-E945-4CCD-9870-7350462D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BE4-BF87-4C48-84ED-6D62D038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38B-EFC7-476B-91E7-30F29454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02A3-B53C-466F-B958-FCFEE111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7764-64D0-49B4-A303-9D38F51C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2181-85AF-4AEC-8142-E7C3307F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D647-4B1A-4B2D-8C9D-0A030012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62D1-2833-4B70-8FD7-11FA95B5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97F5-AA29-4156-810A-F278EDB0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BC02-E708-496E-BD08-EB945804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B2D-D3DD-4ABA-972B-527073C1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AAA8-8887-4183-81F6-867B54E8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D526-C0AF-4E24-BE00-8EEE5599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624B-523E-4799-84BA-E3E99445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490F-42B8-4ED5-9CD6-DDAE05F3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1D05-5AD8-4A3B-BD46-6CCAF884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3B035-B586-471C-88FC-6743BAA3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76930-240B-4EBF-8CEB-2E07CB80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7B836-5AB2-41C7-96F3-C3EC692D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FD7C4-7E27-4C71-9892-0202C83A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B7696-EFD4-4F96-A4F5-F5B14166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CCF-1845-46DC-8B38-DE2429F7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D0059-4EA6-4FC4-A075-5055521F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57C27-9A14-4AE1-B952-C0C5A02E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DBD21-D3FB-4476-840D-99DA9F3B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AB19D-A437-4F11-AF98-A083A25F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09322-9041-4C4B-9168-A851C9EA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16260-34BE-4C45-A806-D564A3B9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6389F-B3D6-4870-8F1C-582AC7A1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B953E-1E17-43DD-A85E-630F164E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2E6CA-4619-4B28-B393-A12FAFE7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9E9A6-464F-4635-9109-307CC6C6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86E-6C1A-4260-B028-60860DCE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5CA17-4251-4E91-8483-492B4BD6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FFCE3-B0C9-4C83-962F-D0CE738B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C187F-C9FD-41C7-A62C-5D0CDA1B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0CCD5-87A5-4CD9-A821-949C388B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73BFD-F160-4369-AEB6-FBBC3A89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760B5-72EC-480E-BF68-887D6EF5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1709-D75C-4F8D-BA67-1FF5DBF2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6BDDD-7001-4EEF-8063-C63E1F1B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9A96-CB50-4005-8BBF-E533087B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2A94F-6736-4EB2-97DF-EDCA8C90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194-E9B0-43B9-8C3B-77C24607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3D38F-F974-4B68-BA0B-D6925478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2B875-25B8-45FA-B7F2-9A42220E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19990-D70C-47DD-B897-2FE874D3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CF042-8EEA-40F9-9717-C875C861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91DA4-44F4-4AD3-B46F-EC120FB2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42012-1B72-4699-8E36-88D0BE0D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B6A6C-950F-4318-A4C9-FDB93A32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32B82-9F62-4AC5-A1AA-D5A1F2C1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62D64-1B7C-404D-9B7F-4921E8BE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5F514-AD07-46E2-92D1-3BEF9E7C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F08-3435-410D-B71F-A3C240D8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30FAD-46D5-493F-BF16-341ADC1E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3C0ED8-71E0-4167-8FDB-E8AF77E1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6346A-CD19-4121-A4E1-84C47E62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DD47D-6855-4DCF-B30D-A616C159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8BD3D8-C76C-40CC-84AB-2E65C26B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B4114-6EDD-4EAD-8373-E19FDC1D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37772-1560-4325-8504-D93A52C4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3111A-76AA-44A9-B897-09594115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50626-C0F4-4ED7-ACE9-C920B9ED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33F329-CB6D-4316-8DFD-C8BCAC72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B27-C002-48AD-9C86-1E53B9AB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6683A-EE95-44BC-ABCF-5EB714E1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17949-924F-4B79-ADCF-0A714C38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279CA-2C16-4038-AF95-F128C354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C53ED-4E11-4764-9666-24AB9945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4F672-98AB-4821-9202-4731E726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37DC6-40B6-4FD2-A800-C01F3ACD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DD07E6-64CD-4D44-9FC9-1D1C5C11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CFCE5C-D6A6-4E78-BE53-779241DF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DEB28-03BB-4079-9E4E-53F08F3F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02BD7-4EC4-4A09-B7A1-91EBD393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940-E2B7-4973-8954-5E2FC2DD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8C0221-4993-47B8-A44F-95CEA824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3F64C-6501-4E42-905B-285C0858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78295-D16F-4BD6-A8AB-CECC9A26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D7A498-B7CC-4DF6-A1FF-29BDA6D0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B94CF-F5F5-4F4A-8C5B-40269550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D9B-D4D0-401E-9EDD-B82A0307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FBD9-0569-4DD7-BEB9-5A9C362584D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24D0-3ABE-42CD-98CA-D3B6D371B2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FDDA-C5DC-4BE8-B88E-ECDC9579A1C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D13A-8C07-444B-8B3F-0094A6BB114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046B-ABD2-4762-A7D4-6C0ABA39637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6373-076D-4330-A285-CF45396581A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0C2D-4CD3-40CB-9109-61922A33CDE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821520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ru-RU" sz="4000" spc="-1" strike="noStrike">
                <a:solidFill>
                  <a:srgbClr val="d96c89"/>
                </a:solidFill>
                <a:latin typeface="Century Schoolbook"/>
              </a:rPr>
              <a:t>«</a:t>
            </a:r>
            <a:r>
              <a:rPr b="1" lang="ru-RU" sz="3600" spc="-1" strike="noStrike">
                <a:solidFill>
                  <a:srgbClr val="d96c89"/>
                </a:solidFill>
                <a:latin typeface="AdverGothic"/>
              </a:rPr>
              <a:t>ИСПОЛЬЗОВАНИЕ СОВРЕМЕННЫХ ПЕДАГОГИЧЕСКИХ ТЕХНОЛОГИЙ</a:t>
            </a:r>
            <a:br>
              <a:rPr sz="3600"/>
            </a:br>
            <a:r>
              <a:rPr b="1" lang="ru-RU" sz="3600" spc="-1" strike="noStrike">
                <a:solidFill>
                  <a:srgbClr val="d96c89"/>
                </a:solidFill>
                <a:latin typeface="AdverGothic"/>
              </a:rPr>
              <a:t>В ОБРАЗОВАТЕЛЬНОМ ПРОЦЕССЕ»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6000" y="4786200"/>
            <a:ext cx="58579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Century Schoolbook"/>
              </a:rPr>
              <a:t>Семинар « Учебное заняти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Century Schoolbook"/>
              </a:rPr>
              <a:t>в дополнительном образовании детей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b13f9a"/>
                </a:solidFill>
                <a:latin typeface="Century Schoolbook"/>
              </a:rPr>
              <a:t>КЛАССИФИКАЦИЯ ТЕХНОЛОГИЙ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28400" y="128592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едагогические технологии на основе личностной ориентации педагогического процес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едагогические технологии на основе активизации и интенсификации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едагогические технологии на основе эффективности управления и организации учебного процесс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едагогические технологии на основе дидактического усовершенствования и реконструирования материа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Альтернативные технолог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риродосообразные технолог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Технология развивающего обучен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46784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Century Schoolbook"/>
              </a:rPr>
              <a:t>ПЕДАГОГ ПРИ ВНЕДРЕНИИ НОВОЙ ТЕХНОЛОГИИ В ОБРАЗОВАТЕЛЬНЫЙ ПРОЦЕСС ДОЛЖЕН УМЕТЬ: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96" name="Прямоугольник 2"/>
          <p:cNvSpPr/>
          <p:nvPr/>
        </p:nvSpPr>
        <p:spPr>
          <a:xfrm>
            <a:off x="500040" y="2143080"/>
            <a:ext cx="81439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нять методы и приемы обучения, используемые в данной техноло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одить и анализировать учебные занятия, построенные по новой техноло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учить детей новым методам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ценивать результаты внедрения новой технологии в практику, используя методы педагогической диагно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1800" y="571680"/>
            <a:ext cx="6386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e7ed"/>
                </a:solidFill>
                <a:latin typeface="Century Schoolbook"/>
              </a:rPr>
              <a:t>«ТЕХНОЛОГИЧЕСКИЙ ПОДХОД ПРЕДСТАВЛЯЕТ СОБОЙ ВНЕДРЕНИЕ В ПЕДАГОГИКУ СИСТЕМНОГО СПОСОБА МЫШЛЕНИЯ…»</a:t>
            </a:r>
            <a:br>
              <a:rPr sz="4000"/>
            </a:br>
            <a:endParaRPr b="0" lang="en-US" sz="4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e7ed"/>
                </a:solidFill>
                <a:latin typeface="Century Schoolbook"/>
              </a:rPr>
              <a:t>Т. Сакамото, японский педагог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Century Schoolbook"/>
              </a:rPr>
              <a:t>«ТЕХНОЛОГИЯ»</a:t>
            </a:r>
            <a:endParaRPr b="0" lang="en-US" sz="44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наука об искусстве»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реч. tесhnе – «искусство», «мастерство»; lоgоs – «слово», «учение»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 совокупность приемов, применяемых в каком-либо деле, мастерстве и искусстве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Словарь современного русского языка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3200" spc="-1" strike="noStrike">
                <a:solidFill>
                  <a:srgbClr val="d96c89"/>
                </a:solidFill>
                <a:latin typeface="Century Schoolbook"/>
              </a:rPr>
              <a:t>ПОНЯТИЕ "ПЕДАГОГИЧЕСКАЯ ТЕХНОЛОГИЯ" В ТРЕХ АСПЕКТАХ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научном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- как часть педагогической науки, изучающая и разрабатывающая цели, содержание и методы обучения и проектирующая педагогические процессы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роцессуальном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- как описание (алгоритм) процесса, совокупность целей, содержания, методов и средств достижения планируемых результатов обучения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деятельностном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- осуществление технологического (педагогического) процесса, функционирование всех личностных, инструментальных и методологических педагогических средст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749592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3200" spc="-1" strike="noStrike">
                <a:solidFill>
                  <a:srgbClr val="d96c89"/>
                </a:solidFill>
                <a:latin typeface="Century Schoolbook"/>
              </a:rPr>
              <a:t>КРИТЕРИИ ТЕХНОЛОГИЧНОСТИ ПЕДАГОГИЧЕСКОЙ ТЕХНОЛОГИИ</a:t>
            </a:r>
            <a:br>
              <a:rPr sz="3200"/>
            </a:b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28440" y="171432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онцептуальнос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системность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управляемос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эффективность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оспроизводимость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7496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3200" spc="-1" strike="noStrike">
                <a:solidFill>
                  <a:srgbClr val="d96c89"/>
                </a:solidFill>
                <a:latin typeface="Century Schoolbook"/>
              </a:rPr>
              <a:t>СТРУКТУРА </a:t>
            </a:r>
            <a:br>
              <a:rPr sz="3200"/>
            </a:br>
            <a:r>
              <a:rPr b="1" lang="ru-RU" sz="3200" spc="-1" strike="noStrike">
                <a:solidFill>
                  <a:srgbClr val="d96c89"/>
                </a:solidFill>
                <a:latin typeface="Century Schoolbook"/>
              </a:rPr>
              <a:t>ПЕДАГОГИЧЕСКОЙ ТЕХНОЛОГИИ</a:t>
            </a:r>
            <a:br>
              <a:rPr sz="3200"/>
            </a:b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22600"/>
            <a:ext cx="403848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entury Schoolbook"/>
              </a:rPr>
              <a:t>Концептуальная часть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entury Schoolbook"/>
              </a:rPr>
              <a:t>Содержательная часть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entury Schoolbook"/>
              </a:rPr>
              <a:t>Процессуальная часть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86160" y="1722240"/>
            <a:ext cx="440064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научная база технологии, те психолого-педагогические идеи, которые заложены в ее фундамент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цели - общие и конкретные, а также содержание учебного материал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вокупность следующих элементов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рганизация учебного процесса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етоды и формы учебной деятельности учащихся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етоды и формы работы педагога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еятельность педагога по управлению процессом усвоения материала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иагностика учебного процесса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37116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449640" y="621720"/>
            <a:ext cx="6984000" cy="1129680"/>
          </a:xfrm>
          <a:prstGeom prst="rect">
            <a:avLst/>
          </a:prstGeom>
          <a:noFill/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Педагогическую технолог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можно представить следующей формул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2"/>
          <p:cNvSpPr/>
          <p:nvPr/>
        </p:nvSpPr>
        <p:spPr>
          <a:xfrm>
            <a:off x="714240" y="1857240"/>
            <a:ext cx="1714680" cy="1000440"/>
          </a:xfrm>
          <a:prstGeom prst="ellipse">
            <a:avLst/>
          </a:prstGeom>
          <a:solidFill>
            <a:srgbClr val="f1d7ec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2431080" y="214308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642960" y="3071880"/>
            <a:ext cx="3286080" cy="714240"/>
          </a:xfrm>
          <a:prstGeom prst="rect">
            <a:avLst/>
          </a:prstGeom>
          <a:solidFill>
            <a:srgbClr val="f1d7ec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4643280" y="3071880"/>
            <a:ext cx="3000600" cy="714240"/>
          </a:xfrm>
          <a:prstGeom prst="rect">
            <a:avLst/>
          </a:prstGeom>
          <a:solidFill>
            <a:srgbClr val="f1d7ec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642960" y="4143240"/>
            <a:ext cx="3500280" cy="1143000"/>
          </a:xfrm>
          <a:prstGeom prst="rect">
            <a:avLst/>
          </a:prstGeom>
          <a:solidFill>
            <a:srgbClr val="f1d7ec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емы, средст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7"/>
          <p:cNvSpPr/>
          <p:nvPr/>
        </p:nvSpPr>
        <p:spPr>
          <a:xfrm>
            <a:off x="4714920" y="4143240"/>
            <a:ext cx="3429000" cy="1143000"/>
          </a:xfrm>
          <a:prstGeom prst="rect">
            <a:avLst/>
          </a:prstGeom>
          <a:solidFill>
            <a:srgbClr val="f1d7ec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8"/>
          <p:cNvSpPr/>
          <p:nvPr/>
        </p:nvSpPr>
        <p:spPr>
          <a:xfrm>
            <a:off x="3500280" y="2143080"/>
            <a:ext cx="3714840" cy="642960"/>
          </a:xfrm>
          <a:prstGeom prst="rect">
            <a:avLst/>
          </a:prstGeom>
          <a:solidFill>
            <a:srgbClr val="f1d7ec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люс 9"/>
          <p:cNvSpPr/>
          <p:nvPr/>
        </p:nvSpPr>
        <p:spPr>
          <a:xfrm>
            <a:off x="7429680" y="2143080"/>
            <a:ext cx="642600" cy="500040"/>
          </a:xfrm>
          <a:prstGeom prst="pie">
            <a:avLst/>
          </a:prstGeom>
          <a:solidFill>
            <a:srgbClr val="b13f9a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люс 10"/>
          <p:cNvSpPr/>
          <p:nvPr/>
        </p:nvSpPr>
        <p:spPr>
          <a:xfrm>
            <a:off x="4071960" y="3214800"/>
            <a:ext cx="428760" cy="428400"/>
          </a:xfrm>
          <a:prstGeom prst="pie">
            <a:avLst/>
          </a:prstGeom>
          <a:solidFill>
            <a:srgbClr val="b13f9a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люс 11"/>
          <p:cNvSpPr/>
          <p:nvPr/>
        </p:nvSpPr>
        <p:spPr>
          <a:xfrm>
            <a:off x="7929720" y="3071880"/>
            <a:ext cx="500040" cy="642960"/>
          </a:xfrm>
          <a:prstGeom prst="pie">
            <a:avLst/>
          </a:prstGeom>
          <a:solidFill>
            <a:srgbClr val="b13f9a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люс 12"/>
          <p:cNvSpPr/>
          <p:nvPr/>
        </p:nvSpPr>
        <p:spPr>
          <a:xfrm>
            <a:off x="4143240" y="4286160"/>
            <a:ext cx="428760" cy="42876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Равно 13"/>
          <p:cNvSpPr/>
          <p:nvPr/>
        </p:nvSpPr>
        <p:spPr>
          <a:xfrm>
            <a:off x="2571840" y="2214720"/>
            <a:ext cx="500040" cy="428400"/>
          </a:xfrm>
          <a:prstGeom prst="pie">
            <a:avLst/>
          </a:prstGeom>
          <a:solidFill>
            <a:srgbClr val="b13f9a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439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00000"/>
                </a:solidFill>
                <a:uFillTx/>
                <a:latin typeface="Century Schoolbook"/>
              </a:rPr>
              <a:t>МЕТОДОМ ОБУЧЕНИЯ</a:t>
            </a: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ru-RU" sz="1800" spc="-1" strike="noStrike">
                <a:solidFill>
                  <a:srgbClr val="b13f9a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НАЗЫВАЮТ СПОСОБ УПОРЯДОЧЕННОЙ ВЗАИМОСВЯЗАННОЙ ДЕЯТЕЛЬНОСТИ ПЕДАГОГА И ВОСПИТАННИКОВ, НАПРАВЛЕННОЙ НА РЕШЕНИЕ ЗАДАЧ ОБРАЗОВАНИЯ, ВОСПИТАНИЯ И РАЗВИТИЯ В ПРОЦЕССЕ ОБУЧЕНИЯ </a:t>
            </a:r>
            <a:br>
              <a:rPr sz="1800"/>
            </a:br>
            <a:r>
              <a:rPr b="0" lang="ru-RU" sz="1800" spc="-1" strike="noStrike">
                <a:solidFill>
                  <a:srgbClr val="b13f9a"/>
                </a:solidFill>
                <a:latin typeface="Century Schoolbook"/>
              </a:rPr>
              <a:t>                                                                                  ( БАБАНСКИЙ Ю.К.)</a:t>
            </a:r>
            <a:br>
              <a:rPr sz="2700"/>
            </a:br>
            <a:endParaRPr b="0" lang="en-US" sz="1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0" y="3414600"/>
            <a:ext cx="8358120" cy="21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3"/>
          <p:cNvSpPr/>
          <p:nvPr/>
        </p:nvSpPr>
        <p:spPr>
          <a:xfrm>
            <a:off x="214200" y="2000160"/>
            <a:ext cx="3500640" cy="928800"/>
          </a:xfrm>
          <a:prstGeom prst="ellipse">
            <a:avLst/>
          </a:prstGeom>
          <a:solidFill>
            <a:srgbClr val="e3afd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источнику передачи и восприят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4286160" y="2214720"/>
            <a:ext cx="3857760" cy="928440"/>
          </a:xfrm>
          <a:prstGeom prst="rect">
            <a:avLst/>
          </a:prstGeom>
          <a:solidFill>
            <a:srgbClr val="e3afd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лове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агля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а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6"/>
          <p:cNvSpPr/>
          <p:nvPr/>
        </p:nvSpPr>
        <p:spPr>
          <a:xfrm>
            <a:off x="214200" y="3643200"/>
            <a:ext cx="3429000" cy="857520"/>
          </a:xfrm>
          <a:prstGeom prst="ellipse">
            <a:avLst/>
          </a:prstGeom>
          <a:solidFill>
            <a:srgbClr val="e3afd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дидактическим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4286160" y="3357720"/>
            <a:ext cx="4357800" cy="1785960"/>
          </a:xfrm>
          <a:prstGeom prst="rect">
            <a:avLst/>
          </a:prstGeom>
          <a:solidFill>
            <a:srgbClr val="e3afd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иобрет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я умений и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имен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вор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закрепления знаний, умений и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верки результатов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8"/>
          <p:cNvSpPr/>
          <p:nvPr/>
        </p:nvSpPr>
        <p:spPr>
          <a:xfrm>
            <a:off x="214200" y="5286240"/>
            <a:ext cx="3643560" cy="785880"/>
          </a:xfrm>
          <a:prstGeom prst="ellipse">
            <a:avLst/>
          </a:prstGeom>
          <a:solidFill>
            <a:srgbClr val="e3afd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4286160" y="5357880"/>
            <a:ext cx="3786120" cy="1214280"/>
          </a:xfrm>
          <a:prstGeom prst="rect">
            <a:avLst/>
          </a:prstGeom>
          <a:solidFill>
            <a:srgbClr val="e3afd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яснительно-иллюстрати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епродукти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блемного из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астичн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исковый (эвристиче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сследователь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Выгнутая вверх стрелка 10"/>
          <p:cNvSpPr/>
          <p:nvPr/>
        </p:nvSpPr>
        <p:spPr>
          <a:xfrm>
            <a:off x="3571920" y="2071800"/>
            <a:ext cx="714240" cy="214200"/>
          </a:xfrm>
          <a:custGeom>
            <a:avLst/>
            <a:gdLst>
              <a:gd name="textAreaLeft" fmla="*/ 158400 w 714240"/>
              <a:gd name="textAreaRight" fmla="*/ 529200 w 71424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5" hR="21600" stAng="10800000" swAng="5400000"/>
                <a:lnTo>
                  <a:pt x="11205" y="0"/>
                </a:lnTo>
                <a:arcTo wR="9585" hR="21600" stAng="-5400000" swAng="3588404"/>
                <a:lnTo>
                  <a:pt x="21296" y="16200"/>
                </a:lnTo>
                <a:lnTo>
                  <a:pt x="19980" y="21600"/>
                </a:lnTo>
                <a:lnTo>
                  <a:pt x="18056" y="16200"/>
                </a:lnTo>
                <a:lnTo>
                  <a:pt x="18866" y="16200"/>
                </a:lnTo>
                <a:arcTo wR="9585" hR="21600" stAng="-1811596" swAng="-3459087"/>
                <a:lnTo>
                  <a:pt x="10395" y="77"/>
                </a:lnTo>
                <a:arcTo wR="9585" hR="21600" stAng="-5529317" swAng="-5270683"/>
                <a:close/>
              </a:path>
              <a:path fill="darkenLess" w="21600" h="21600">
                <a:moveTo>
                  <a:pt x="0" y="21600"/>
                </a:moveTo>
                <a:arcTo wR="9585" hR="21600" stAng="10800000" swAng="5400000"/>
                <a:lnTo>
                  <a:pt x="9585" y="0"/>
                </a:lnTo>
                <a:arcTo wR="9585" hR="21600" stAng="-5400000" swAng="129317"/>
                <a:lnTo>
                  <a:pt x="10395" y="77"/>
                </a:lnTo>
                <a:arcTo wR="9585" hR="21600" stAng="-5529317" swAng="-5270683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Выгнутая вверх стрелка 11"/>
          <p:cNvSpPr/>
          <p:nvPr/>
        </p:nvSpPr>
        <p:spPr>
          <a:xfrm>
            <a:off x="3286080" y="3571920"/>
            <a:ext cx="1000080" cy="214200"/>
          </a:xfrm>
          <a:custGeom>
            <a:avLst/>
            <a:gdLst>
              <a:gd name="textAreaLeft" fmla="*/ 229680 w 1000080"/>
              <a:gd name="textAreaRight" fmla="*/ 743400 w 10000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32" hR="21600" stAng="10800000" swAng="5400000"/>
                <a:lnTo>
                  <a:pt x="11090" y="0"/>
                </a:lnTo>
                <a:arcTo wR="9932" hR="21600" stAng="-5400000" swAng="3641074"/>
                <a:lnTo>
                  <a:pt x="21285" y="16200"/>
                </a:lnTo>
                <a:lnTo>
                  <a:pt x="20443" y="21600"/>
                </a:lnTo>
                <a:lnTo>
                  <a:pt x="18971" y="16200"/>
                </a:lnTo>
                <a:lnTo>
                  <a:pt x="19549" y="16200"/>
                </a:lnTo>
                <a:arcTo wR="9932" hR="21600" stAng="-1758926" swAng="-3548789"/>
                <a:lnTo>
                  <a:pt x="10511" y="37"/>
                </a:lnTo>
                <a:arcTo wR="9932" hR="21600" stAng="-5492286" swAng="-5307714"/>
                <a:close/>
              </a:path>
              <a:path fill="darkenLess" w="21600" h="21600">
                <a:moveTo>
                  <a:pt x="0" y="21600"/>
                </a:moveTo>
                <a:arcTo wR="9932" hR="21600" stAng="10800000" swAng="5400000"/>
                <a:lnTo>
                  <a:pt x="9932" y="0"/>
                </a:lnTo>
                <a:arcTo wR="9932" hR="21600" stAng="-5400000" swAng="92286"/>
                <a:lnTo>
                  <a:pt x="10511" y="37"/>
                </a:lnTo>
                <a:arcTo wR="9932" hR="21600" stAng="-5492286" swAng="-5307714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Выгнутая вверх стрелка 12"/>
          <p:cNvSpPr/>
          <p:nvPr/>
        </p:nvSpPr>
        <p:spPr>
          <a:xfrm>
            <a:off x="3571920" y="5214960"/>
            <a:ext cx="714240" cy="214200"/>
          </a:xfrm>
          <a:custGeom>
            <a:avLst/>
            <a:gdLst>
              <a:gd name="textAreaLeft" fmla="*/ 158400 w 714240"/>
              <a:gd name="textAreaRight" fmla="*/ 529200 w 71424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5" hR="21600" stAng="10800000" swAng="5400000"/>
                <a:lnTo>
                  <a:pt x="11205" y="0"/>
                </a:lnTo>
                <a:arcTo wR="9585" hR="21600" stAng="-5400000" swAng="3588404"/>
                <a:lnTo>
                  <a:pt x="21296" y="16200"/>
                </a:lnTo>
                <a:lnTo>
                  <a:pt x="19980" y="21600"/>
                </a:lnTo>
                <a:lnTo>
                  <a:pt x="18056" y="16200"/>
                </a:lnTo>
                <a:lnTo>
                  <a:pt x="18866" y="16200"/>
                </a:lnTo>
                <a:arcTo wR="9585" hR="21600" stAng="-1811596" swAng="-3459087"/>
                <a:lnTo>
                  <a:pt x="10395" y="77"/>
                </a:lnTo>
                <a:arcTo wR="9585" hR="21600" stAng="-5529317" swAng="-5270683"/>
                <a:close/>
              </a:path>
              <a:path fill="darkenLess" w="21600" h="21600">
                <a:moveTo>
                  <a:pt x="0" y="21600"/>
                </a:moveTo>
                <a:arcTo wR="9585" hR="21600" stAng="10800000" swAng="5400000"/>
                <a:lnTo>
                  <a:pt x="9585" y="0"/>
                </a:lnTo>
                <a:arcTo wR="9585" hR="21600" stAng="-5400000" swAng="129317"/>
                <a:lnTo>
                  <a:pt x="10395" y="77"/>
                </a:lnTo>
                <a:arcTo wR="9585" hR="21600" stAng="-5529317" swAng="-5270683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2714760" y="2289960"/>
            <a:ext cx="8184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которых  педагог осуществ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ее воздействие (учебный процес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Облако 2"/>
          <p:cNvSpPr/>
          <p:nvPr/>
        </p:nvSpPr>
        <p:spPr>
          <a:xfrm>
            <a:off x="214200" y="571680"/>
            <a:ext cx="2214720" cy="135720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обу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2643120" y="714240"/>
            <a:ext cx="62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элемент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составная часть метода обуч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блако 4"/>
          <p:cNvSpPr/>
          <p:nvPr/>
        </p:nvSpPr>
        <p:spPr>
          <a:xfrm>
            <a:off x="285840" y="2143080"/>
            <a:ext cx="2286000" cy="128592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460440" y="3798720"/>
            <a:ext cx="760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едагогическим средствам относ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лабораторное оборуд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техни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производственное оборуд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наглядные пособ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 обучения и автоматизированные системы обу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 класс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педагогические 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ебные планы,  карточки-задания, учебные пособия и т.п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8400" y="642960"/>
            <a:ext cx="746748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c00000"/>
                </a:solidFill>
                <a:uFillTx/>
                <a:latin typeface="Century Schoolbook"/>
              </a:rPr>
              <a:t>ФОРМА ОБУЧЕНИЯ </a:t>
            </a:r>
            <a:r>
              <a:rPr b="0" lang="ru-RU" sz="2700" spc="-1" strike="noStrike" u="sng">
                <a:solidFill>
                  <a:srgbClr val="c00000"/>
                </a:solidFill>
                <a:uFillTx/>
                <a:latin typeface="Century Schoolbook"/>
              </a:rPr>
              <a:t> </a:t>
            </a: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- ЭТО УСТОЙЧИВАЯ ЗАВЕРШЕННАЯ ОРГАНИЗАЦИЯ ПЕДАГОГИЧЕСКОГО ПРОЦЕССА В ЕДИНСТВЕ ВСЕХ ЕГО КОМПОНЕНТОВ. </a:t>
            </a:r>
            <a:br>
              <a:rPr sz="2700"/>
            </a:br>
            <a:endParaRPr b="0" lang="en-US" sz="27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92" name="Rectangle 1"/>
          <p:cNvSpPr/>
          <p:nvPr/>
        </p:nvSpPr>
        <p:spPr>
          <a:xfrm>
            <a:off x="571680" y="2795040"/>
            <a:ext cx="781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сложности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9:42:25Z</dcterms:created>
  <dc:creator>NickOn</dc:creator>
  <dc:description/>
  <dc:language>en-US</dc:language>
  <cp:lastModifiedBy>NickOn</cp:lastModifiedBy>
  <dcterms:modified xsi:type="dcterms:W3CDTF">2015-02-17T07:27:52Z</dcterms:modified>
  <cp:revision>69</cp:revision>
  <dc:subject/>
  <dc:title>  «Использование современных педагогических технологий в образовательном процессе»</dc:title>
</cp:coreProperties>
</file>