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471-032A-4013-B971-4F83710C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286-3FD4-464E-9633-B20DFF99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AFA-0CAF-4F62-A6B9-62EE89DC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D37E-29B7-4F79-B8D8-A6DB9885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618D-A0C6-4C39-8414-69403D5D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9A70-970D-4833-B085-DE7D6AE1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9DC5-7E07-4333-9057-73FF35D1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3B1F-F8F6-4429-A4A7-761F1BEF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83C2-2B96-4C4F-86FF-8CD9C5FF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AC9A-3A83-4CBD-BDCD-AD505988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9D58-5CF1-46C1-ADF8-79C4D13C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092E-7D19-45F4-ADDB-E205E005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077D-0744-4688-9AC0-C15397CF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4966-8E7F-4604-9D41-7906FFAD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34A1-7F75-4A20-A651-CAB24F02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B33A-FBEB-4C02-A45E-F695FBEA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CF9B-37D3-4CB0-9CAB-068C4F0C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883EE-BDA6-41AB-A139-32FEF216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F1F0A-05AF-4862-8B9C-A7266ADF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8DF62-046A-4AC7-918F-7AFFD8A1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326F4-A0EB-439E-93FA-0361FA6E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DA29A-A929-4704-B644-B1AEA5A1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2F1-DF0F-49E9-A875-A06B78CA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2F131-D9F4-41E5-9710-8DB91A5F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8E38D-AC25-4719-9587-9ADA7B95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2807A-FDA4-4B78-A3A6-E9F793AB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683D1-3448-42BD-B2FB-21DFFFE3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5C888-5134-43A9-9771-A39DF820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875EB-4C89-4755-AEBC-305E9553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A656E-59B9-4420-8BEE-3F628891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6BB24-BDD4-474F-9B7F-E5C59894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6ED9F-98DA-487C-AEC9-7A61FAFE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38C64-4019-43A9-AEE5-DE582CAD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7A7-F876-4CD8-B106-30324C6F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C9B90-A215-43CD-8BC7-748BDB06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3581A-34C1-4A88-9EB6-00F7E5FD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4B125-BCEE-449A-AEDC-BEC5AA50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C7E21-CDC0-4CED-88F1-67D7C749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DAF7C-E734-4A7A-837A-BED1D2C9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774F2-C727-4BFB-B40A-46CE9DDE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6AEBF-1FB9-4A41-9389-32A13E6D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5091B-1A4A-4AD1-9E17-5EEC53D1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D3259-2206-44CF-BEF5-D7B51EF0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D5E0DD-7115-4022-AB7A-2F50E810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D44-E184-4A52-ACE0-6184D62D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A4DBF-7DB5-40DB-A740-909F17DB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AB28E3-46E0-4BF7-8358-37B55BA7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FC9EE4-B004-492D-9FEA-0B270B8A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C0532-520B-4747-8D3E-B58BC876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FB2FD-C844-441B-A5C2-90668515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5AA36-AEB5-4A36-A2CD-55131B4F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37A34-1DF0-469C-A71E-3DD0FB14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2AC22-327F-489B-A0E7-22C14593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FE2FC-79E2-42E4-B72F-C15ED7E1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06F48-CE6C-451B-9953-61185136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ACC-7C2F-498B-A101-30953319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EC49B-DBD2-42EF-81F0-AFD918FB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19E4FB-369C-4FC8-B563-D5E2E36D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4AD07D-4F23-4050-B3FF-A7DEA1CD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5F8F68-AC62-4630-AA15-08B7D00E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B921CF-7A72-4D71-B50A-1903A8C1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2DDCC4-556D-4450-B9B5-35657450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291F1-9272-4375-B072-0D035E4C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F599F-E1CC-46D0-8F27-DB4F2145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856807-8568-477B-BE5C-B1C5491F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6483D1-94DA-4ADA-9B51-FD243B01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0313-A2BF-4597-943F-383DD786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0D9E43-F1AC-4DF9-BCC4-B37A7BE0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F059CE-09F3-4599-BC45-DE5638DE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5D40E-C2ED-4F15-9F26-9B682E3F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72C37E-1BE2-4D45-A1D0-3546AE27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33D6DE-D86D-4A41-9019-B8C11EFC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82436C-3FF8-44E2-810D-A0F5509D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5D4981-7191-428A-A65A-618CB435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7EE993-DB78-4347-9F58-DDFE8EAA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6315F7-1882-4F14-BA6E-87F3299F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779740-51A2-4A90-A1D3-8DB4CA98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D77-C495-4BDF-B6BE-82FCCC53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FEA23D-49A5-45CB-8EBE-7787523F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5C8137-9018-4CBD-88E2-5D13D727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9AED88-80D1-46C8-81AE-1EA66691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BBA15C-EFA6-4638-9F31-B9C146BF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CCADC0-193B-4796-BA7B-7375D719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387-A252-49BB-B889-DBACC008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33F5-B1D9-47F3-A4A2-549B7914440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5B34-FD3E-4022-95EE-16ECE9AAF7F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EBE4-C27D-477D-A872-8C01CEB2B79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2D36-64BD-47FD-9E3E-24729BD46F6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0B8A-9D11-415E-BD41-77CB3A13E8B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9FF8-C7CB-451D-A8A6-C6F5A2A84B8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196C-487E-4C18-AF48-C2D3D592790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821520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ru-RU" sz="4000" spc="-1" strike="noStrike">
                <a:solidFill>
                  <a:srgbClr val="d96c89"/>
                </a:solidFill>
                <a:latin typeface="Century Schoolbook"/>
              </a:rPr>
              <a:t>«</a:t>
            </a:r>
            <a:r>
              <a:rPr b="1" lang="ru-RU" sz="3600" spc="-1" strike="noStrike">
                <a:solidFill>
                  <a:srgbClr val="d96c89"/>
                </a:solidFill>
                <a:latin typeface="AdverGothic"/>
              </a:rPr>
              <a:t>ИСПОЛЬЗОВАНИЕ СОВРЕМЕННЫХ ПЕДАГОГИЧЕСКИХ ТЕХНОЛОГИЙ</a:t>
            </a:r>
            <a:br>
              <a:rPr sz="3600"/>
            </a:br>
            <a:r>
              <a:rPr b="1" lang="ru-RU" sz="3600" spc="-1" strike="noStrike">
                <a:solidFill>
                  <a:srgbClr val="d96c89"/>
                </a:solidFill>
                <a:latin typeface="AdverGothic"/>
              </a:rPr>
              <a:t>В ОБРАЗОВАТЕЛЬНОМ ПРОЦЕССЕ»</a:t>
            </a:r>
            <a:endParaRPr b="0" lang="en-US" sz="36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6000" y="4786200"/>
            <a:ext cx="58579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Century Schoolbook"/>
              </a:rPr>
              <a:t>Семинар « Учебное занятие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Century Schoolbook"/>
              </a:rPr>
              <a:t>в дополнительном образовании детей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b13f9a"/>
                </a:solidFill>
                <a:latin typeface="Century Schoolbook"/>
              </a:rPr>
              <a:t>КЛАССИФИКАЦИЯ ТЕХНОЛОГИЙ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28400" y="1285920"/>
            <a:ext cx="8258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Педагогические технологии на основе личностной ориентации педагогического процесс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Педагогические технологии на основе активизации и интенсификации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Педагогические технологии на основе эффективности управления и организации учебного процесс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Педагогические технологии на основе дидактического усовершенствования и реконструирования материа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Альтернативные технологи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Природосообразные технологи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Технология развивающего обучени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46784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Century Schoolbook"/>
              </a:rPr>
              <a:t>ПЕДАГОГ ПРИ ВНЕДРЕНИИ НОВОЙ ТЕХНОЛОГИИ В ОБРАЗОВАТЕЛЬНЫЙ ПРОЦЕСС ДОЛЖЕН УМЕТЬ: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96" name="Прямоугольник 2"/>
          <p:cNvSpPr/>
          <p:nvPr/>
        </p:nvSpPr>
        <p:spPr>
          <a:xfrm>
            <a:off x="500040" y="2143080"/>
            <a:ext cx="81439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менять методы и приемы обучения, используемые в данной технолог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одить и анализировать учебные занятия, построенные по новой технолог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учить детей новым методам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ценивать результаты внедрения новой технологии в практику, используя методы педагогической диагнос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71800" y="571680"/>
            <a:ext cx="6386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e7ed"/>
                </a:solidFill>
                <a:latin typeface="Century Schoolbook"/>
              </a:rPr>
              <a:t>«ТЕХНОЛОГИЧЕСКИЙ ПОДХОД ПРЕДСТАВЛЯЕТ СОБОЙ ВНЕДРЕНИЕ В ПЕДАГОГИКУ СИСТЕМНОГО СПОСОБА МЫШЛЕНИЯ…»</a:t>
            </a:r>
            <a:br>
              <a:rPr sz="4000"/>
            </a:br>
            <a:endParaRPr b="0" lang="en-US" sz="4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e7ed"/>
                </a:solidFill>
                <a:latin typeface="Century Schoolbook"/>
              </a:rPr>
              <a:t>Т. Сакамото, японский педагог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13f9a"/>
                </a:solidFill>
                <a:latin typeface="Century Schoolbook"/>
              </a:rPr>
              <a:t>«ТЕХНОЛОГИЯ»</a:t>
            </a:r>
            <a:endParaRPr b="0" lang="en-US" sz="44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8258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«наука об искусстве»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реч. tесhnе – «искусство», «мастерство»; lоgоs – «слово», «учение»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« совокупность приемов, применяемых в каком-либо деле, мастерстве и искусстве»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Словарь современного русского языка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3200" spc="-1" strike="noStrike">
                <a:solidFill>
                  <a:srgbClr val="d96c89"/>
                </a:solidFill>
                <a:latin typeface="Century Schoolbook"/>
              </a:rPr>
              <a:t>ПОНЯТИЕ "ПЕДАГОГИЧЕСКАЯ ТЕХНОЛОГИЯ" В ТРЕХ АСПЕКТАХ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научном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- как часть педагогической науки, изучающая и разрабатывающая цели, содержание и методы обучения и проектирующая педагогические процессы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процессуальном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- как описание (алгоритм) процесса, совокупность целей, содержания, методов и средств достижения планируемых результатов обучения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деятельностном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- осуществление технологического (педагогического) процесса, функционирование всех личностных, инструментальных и методологических педагогических средст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749592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3200" spc="-1" strike="noStrike">
                <a:solidFill>
                  <a:srgbClr val="d96c89"/>
                </a:solidFill>
                <a:latin typeface="Century Schoolbook"/>
              </a:rPr>
              <a:t>КРИТЕРИИ ТЕХНОЛОГИЧНОСТИ ПЕДАГОГИЧЕСКОЙ ТЕХНОЛОГИИ</a:t>
            </a:r>
            <a:br>
              <a:rPr sz="3200"/>
            </a:b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28440" y="171432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онцептуальност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системность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управляемост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эффективность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воспроизводимость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7496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3200" spc="-1" strike="noStrike">
                <a:solidFill>
                  <a:srgbClr val="d96c89"/>
                </a:solidFill>
                <a:latin typeface="Century Schoolbook"/>
              </a:rPr>
              <a:t>СТРУКТУРА </a:t>
            </a:r>
            <a:br>
              <a:rPr sz="3200"/>
            </a:br>
            <a:r>
              <a:rPr b="1" lang="ru-RU" sz="3200" spc="-1" strike="noStrike">
                <a:solidFill>
                  <a:srgbClr val="d96c89"/>
                </a:solidFill>
                <a:latin typeface="Century Schoolbook"/>
              </a:rPr>
              <a:t>ПЕДАГОГИЧЕСКОЙ ТЕХНОЛОГИИ</a:t>
            </a:r>
            <a:br>
              <a:rPr sz="3200"/>
            </a:b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722600"/>
            <a:ext cx="4038480" cy="47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entury Schoolbook"/>
              </a:rPr>
              <a:t>Концептуальная часть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entury Schoolbook"/>
              </a:rPr>
              <a:t>Содержательная часть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entury Schoolbook"/>
              </a:rPr>
              <a:t>Процессуальная часть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86160" y="1722240"/>
            <a:ext cx="440064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это научная база технологии, те психолого-педагогические идеи, которые заложены в ее фундамент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цели - общие и конкретные, а также содержание учебного материал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овокупность следующих элементов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рганизация учебного процесса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етоды и формы учебной деятельности учащихся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етоды и формы работы педагога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еятельность педагога по управлению процессом усвоения материала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иагностика учебного процесса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449640" y="621720"/>
            <a:ext cx="6984000" cy="1129680"/>
          </a:xfrm>
          <a:prstGeom prst="rect">
            <a:avLst/>
          </a:prstGeom>
          <a:noFill/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Педагогическую технолог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можно представить следующей формул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2"/>
          <p:cNvSpPr/>
          <p:nvPr/>
        </p:nvSpPr>
        <p:spPr>
          <a:xfrm>
            <a:off x="714240" y="1857240"/>
            <a:ext cx="1714680" cy="1000440"/>
          </a:xfrm>
          <a:prstGeom prst="ellipse">
            <a:avLst/>
          </a:prstGeom>
          <a:solidFill>
            <a:srgbClr val="f1d7ec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2431080" y="214308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4"/>
          <p:cNvSpPr/>
          <p:nvPr/>
        </p:nvSpPr>
        <p:spPr>
          <a:xfrm>
            <a:off x="642960" y="3071880"/>
            <a:ext cx="3286080" cy="714240"/>
          </a:xfrm>
          <a:prstGeom prst="rect">
            <a:avLst/>
          </a:prstGeom>
          <a:solidFill>
            <a:srgbClr val="f1d7ec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4643280" y="3071880"/>
            <a:ext cx="3000600" cy="714240"/>
          </a:xfrm>
          <a:prstGeom prst="rect">
            <a:avLst/>
          </a:prstGeom>
          <a:solidFill>
            <a:srgbClr val="f1d7ec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6"/>
          <p:cNvSpPr/>
          <p:nvPr/>
        </p:nvSpPr>
        <p:spPr>
          <a:xfrm>
            <a:off x="642960" y="4143240"/>
            <a:ext cx="3500280" cy="1143000"/>
          </a:xfrm>
          <a:prstGeom prst="rect">
            <a:avLst/>
          </a:prstGeom>
          <a:solidFill>
            <a:srgbClr val="f1d7ec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емы, средст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7"/>
          <p:cNvSpPr/>
          <p:nvPr/>
        </p:nvSpPr>
        <p:spPr>
          <a:xfrm>
            <a:off x="4714920" y="4143240"/>
            <a:ext cx="3429000" cy="1143000"/>
          </a:xfrm>
          <a:prstGeom prst="rect">
            <a:avLst/>
          </a:prstGeom>
          <a:solidFill>
            <a:srgbClr val="f1d7ec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8"/>
          <p:cNvSpPr/>
          <p:nvPr/>
        </p:nvSpPr>
        <p:spPr>
          <a:xfrm>
            <a:off x="3500280" y="2143080"/>
            <a:ext cx="3714840" cy="642960"/>
          </a:xfrm>
          <a:prstGeom prst="rect">
            <a:avLst/>
          </a:prstGeom>
          <a:solidFill>
            <a:srgbClr val="f1d7ec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люс 9"/>
          <p:cNvSpPr/>
          <p:nvPr/>
        </p:nvSpPr>
        <p:spPr>
          <a:xfrm>
            <a:off x="7429680" y="2143080"/>
            <a:ext cx="642600" cy="500040"/>
          </a:xfrm>
          <a:prstGeom prst="pie">
            <a:avLst/>
          </a:prstGeom>
          <a:solidFill>
            <a:srgbClr val="b13f9a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люс 10"/>
          <p:cNvSpPr/>
          <p:nvPr/>
        </p:nvSpPr>
        <p:spPr>
          <a:xfrm>
            <a:off x="4071960" y="3214800"/>
            <a:ext cx="428760" cy="428400"/>
          </a:xfrm>
          <a:prstGeom prst="pie">
            <a:avLst/>
          </a:prstGeom>
          <a:solidFill>
            <a:srgbClr val="b13f9a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люс 11"/>
          <p:cNvSpPr/>
          <p:nvPr/>
        </p:nvSpPr>
        <p:spPr>
          <a:xfrm>
            <a:off x="7929720" y="3071880"/>
            <a:ext cx="500040" cy="642960"/>
          </a:xfrm>
          <a:prstGeom prst="pie">
            <a:avLst/>
          </a:prstGeom>
          <a:solidFill>
            <a:srgbClr val="b13f9a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люс 12"/>
          <p:cNvSpPr/>
          <p:nvPr/>
        </p:nvSpPr>
        <p:spPr>
          <a:xfrm>
            <a:off x="4143240" y="4286160"/>
            <a:ext cx="428760" cy="42876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Равно 13"/>
          <p:cNvSpPr/>
          <p:nvPr/>
        </p:nvSpPr>
        <p:spPr>
          <a:xfrm>
            <a:off x="2571840" y="2214720"/>
            <a:ext cx="500040" cy="428400"/>
          </a:xfrm>
          <a:prstGeom prst="pie">
            <a:avLst/>
          </a:prstGeom>
          <a:solidFill>
            <a:srgbClr val="b13f9a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439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c00000"/>
                </a:solidFill>
                <a:uFillTx/>
                <a:latin typeface="Century Schoolbook"/>
              </a:rPr>
              <a:t>МЕТОДОМ ОБУЧЕНИЯ</a:t>
            </a: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 </a:t>
            </a:r>
            <a:br>
              <a:rPr sz="2700"/>
            </a:br>
            <a:r>
              <a:rPr b="0" lang="ru-RU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НАЗЫВАЮТ СПОСОБ УПОРЯДОЧЕННОЙ ВЗАИМОСВЯЗАННОЙ ДЕЯТЕЛЬНОСТИ ПЕДАГОГА И ВОСПИТАННИКОВ, НАПРАВЛЕННОЙ НА РЕШЕНИЕ ЗАДАЧ ОБРАЗОВАНИЯ, ВОСПИТАНИЯ И РАЗВИТИЯ В ПРОЦЕССЕ ОБУЧЕНИЯ </a:t>
            </a:r>
            <a:br>
              <a:rPr sz="1800"/>
            </a:br>
            <a:r>
              <a:rPr b="0" lang="ru-RU" sz="1800" spc="-1" strike="noStrike">
                <a:solidFill>
                  <a:srgbClr val="b13f9a"/>
                </a:solidFill>
                <a:latin typeface="Century Schoolbook"/>
              </a:rPr>
              <a:t>                                                                                  ( БАБАНСКИЙ Ю.К.)</a:t>
            </a:r>
            <a:br>
              <a:rPr sz="2700"/>
            </a:br>
            <a:endParaRPr b="0" lang="en-US" sz="18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6" name="Rectangle 1"/>
          <p:cNvSpPr/>
          <p:nvPr/>
        </p:nvSpPr>
        <p:spPr>
          <a:xfrm>
            <a:off x="0" y="3414600"/>
            <a:ext cx="8358120" cy="21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Овал 3"/>
          <p:cNvSpPr/>
          <p:nvPr/>
        </p:nvSpPr>
        <p:spPr>
          <a:xfrm>
            <a:off x="214200" y="2000160"/>
            <a:ext cx="3500640" cy="928800"/>
          </a:xfrm>
          <a:prstGeom prst="ellipse">
            <a:avLst/>
          </a:prstGeom>
          <a:solidFill>
            <a:srgbClr val="e3afd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источнику передачи и восприят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4286160" y="2214720"/>
            <a:ext cx="3857760" cy="928440"/>
          </a:xfrm>
          <a:prstGeom prst="rect">
            <a:avLst/>
          </a:prstGeom>
          <a:solidFill>
            <a:srgbClr val="e3afd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лове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агля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ак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Овал 6"/>
          <p:cNvSpPr/>
          <p:nvPr/>
        </p:nvSpPr>
        <p:spPr>
          <a:xfrm>
            <a:off x="214200" y="3643200"/>
            <a:ext cx="3429000" cy="857520"/>
          </a:xfrm>
          <a:prstGeom prst="ellipse">
            <a:avLst/>
          </a:prstGeom>
          <a:solidFill>
            <a:srgbClr val="e3afd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дидактическим зад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4286160" y="3357720"/>
            <a:ext cx="4357800" cy="1785960"/>
          </a:xfrm>
          <a:prstGeom prst="rect">
            <a:avLst/>
          </a:prstGeom>
          <a:solidFill>
            <a:srgbClr val="e3afd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иобретения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формирования умений и 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именения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твор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закрепления знаний, умений и 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оверки результатов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Овал 8"/>
          <p:cNvSpPr/>
          <p:nvPr/>
        </p:nvSpPr>
        <p:spPr>
          <a:xfrm>
            <a:off x="214200" y="5286240"/>
            <a:ext cx="3643560" cy="785880"/>
          </a:xfrm>
          <a:prstGeom prst="ellipse">
            <a:avLst/>
          </a:prstGeom>
          <a:solidFill>
            <a:srgbClr val="e3afd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характеру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4286160" y="5357880"/>
            <a:ext cx="3786120" cy="1214280"/>
          </a:xfrm>
          <a:prstGeom prst="rect">
            <a:avLst/>
          </a:prstGeom>
          <a:solidFill>
            <a:srgbClr val="e3afd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яснительно-иллюстратив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епродуктив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облемного из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- частичн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исковый (эвристиче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- исследователь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Выгнутая вверх стрелка 10"/>
          <p:cNvSpPr/>
          <p:nvPr/>
        </p:nvSpPr>
        <p:spPr>
          <a:xfrm>
            <a:off x="3571920" y="2071800"/>
            <a:ext cx="714240" cy="214200"/>
          </a:xfrm>
          <a:custGeom>
            <a:avLst/>
            <a:gdLst>
              <a:gd name="textAreaLeft" fmla="*/ 158400 w 714240"/>
              <a:gd name="textAreaRight" fmla="*/ 529200 w 71424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5" hR="21600" stAng="10800000" swAng="5400000"/>
                <a:lnTo>
                  <a:pt x="11205" y="0"/>
                </a:lnTo>
                <a:arcTo wR="9585" hR="21600" stAng="-5400000" swAng="3588404"/>
                <a:lnTo>
                  <a:pt x="21296" y="16200"/>
                </a:lnTo>
                <a:lnTo>
                  <a:pt x="19980" y="21600"/>
                </a:lnTo>
                <a:lnTo>
                  <a:pt x="18056" y="16200"/>
                </a:lnTo>
                <a:lnTo>
                  <a:pt x="18866" y="16200"/>
                </a:lnTo>
                <a:arcTo wR="9585" hR="21600" stAng="-1811596" swAng="-3459087"/>
                <a:lnTo>
                  <a:pt x="10395" y="77"/>
                </a:lnTo>
                <a:arcTo wR="9585" hR="21600" stAng="-5529317" swAng="-5270683"/>
                <a:close/>
              </a:path>
              <a:path fill="darkenLess" w="21600" h="21600">
                <a:moveTo>
                  <a:pt x="0" y="21600"/>
                </a:moveTo>
                <a:arcTo wR="9585" hR="21600" stAng="10800000" swAng="5400000"/>
                <a:lnTo>
                  <a:pt x="9585" y="0"/>
                </a:lnTo>
                <a:arcTo wR="9585" hR="21600" stAng="-5400000" swAng="129317"/>
                <a:lnTo>
                  <a:pt x="10395" y="77"/>
                </a:lnTo>
                <a:arcTo wR="9585" hR="21600" stAng="-5529317" swAng="-5270683"/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Выгнутая вверх стрелка 11"/>
          <p:cNvSpPr/>
          <p:nvPr/>
        </p:nvSpPr>
        <p:spPr>
          <a:xfrm>
            <a:off x="3286080" y="3571920"/>
            <a:ext cx="1000080" cy="214200"/>
          </a:xfrm>
          <a:custGeom>
            <a:avLst/>
            <a:gdLst>
              <a:gd name="textAreaLeft" fmla="*/ 229680 w 1000080"/>
              <a:gd name="textAreaRight" fmla="*/ 743400 w 100008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32" hR="21600" stAng="10800000" swAng="5400000"/>
                <a:lnTo>
                  <a:pt x="11090" y="0"/>
                </a:lnTo>
                <a:arcTo wR="9932" hR="21600" stAng="-5400000" swAng="3641074"/>
                <a:lnTo>
                  <a:pt x="21285" y="16200"/>
                </a:lnTo>
                <a:lnTo>
                  <a:pt x="20443" y="21600"/>
                </a:lnTo>
                <a:lnTo>
                  <a:pt x="18971" y="16200"/>
                </a:lnTo>
                <a:lnTo>
                  <a:pt x="19549" y="16200"/>
                </a:lnTo>
                <a:arcTo wR="9932" hR="21600" stAng="-1758926" swAng="-3548789"/>
                <a:lnTo>
                  <a:pt x="10511" y="37"/>
                </a:lnTo>
                <a:arcTo wR="9932" hR="21600" stAng="-5492286" swAng="-5307714"/>
                <a:close/>
              </a:path>
              <a:path fill="darkenLess" w="21600" h="21600">
                <a:moveTo>
                  <a:pt x="0" y="21600"/>
                </a:moveTo>
                <a:arcTo wR="9932" hR="21600" stAng="10800000" swAng="5400000"/>
                <a:lnTo>
                  <a:pt x="9932" y="0"/>
                </a:lnTo>
                <a:arcTo wR="9932" hR="21600" stAng="-5400000" swAng="92286"/>
                <a:lnTo>
                  <a:pt x="10511" y="37"/>
                </a:lnTo>
                <a:arcTo wR="9932" hR="21600" stAng="-5492286" swAng="-5307714"/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Выгнутая вверх стрелка 12"/>
          <p:cNvSpPr/>
          <p:nvPr/>
        </p:nvSpPr>
        <p:spPr>
          <a:xfrm>
            <a:off x="3571920" y="5214960"/>
            <a:ext cx="714240" cy="214200"/>
          </a:xfrm>
          <a:custGeom>
            <a:avLst/>
            <a:gdLst>
              <a:gd name="textAreaLeft" fmla="*/ 158400 w 714240"/>
              <a:gd name="textAreaRight" fmla="*/ 529200 w 71424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5" hR="21600" stAng="10800000" swAng="5400000"/>
                <a:lnTo>
                  <a:pt x="11205" y="0"/>
                </a:lnTo>
                <a:arcTo wR="9585" hR="21600" stAng="-5400000" swAng="3588404"/>
                <a:lnTo>
                  <a:pt x="21296" y="16200"/>
                </a:lnTo>
                <a:lnTo>
                  <a:pt x="19980" y="21600"/>
                </a:lnTo>
                <a:lnTo>
                  <a:pt x="18056" y="16200"/>
                </a:lnTo>
                <a:lnTo>
                  <a:pt x="18866" y="16200"/>
                </a:lnTo>
                <a:arcTo wR="9585" hR="21600" stAng="-1811596" swAng="-3459087"/>
                <a:lnTo>
                  <a:pt x="10395" y="77"/>
                </a:lnTo>
                <a:arcTo wR="9585" hR="21600" stAng="-5529317" swAng="-5270683"/>
                <a:close/>
              </a:path>
              <a:path fill="darkenLess" w="21600" h="21600">
                <a:moveTo>
                  <a:pt x="0" y="21600"/>
                </a:moveTo>
                <a:arcTo wR="9585" hR="21600" stAng="10800000" swAng="5400000"/>
                <a:lnTo>
                  <a:pt x="9585" y="0"/>
                </a:lnTo>
                <a:arcTo wR="9585" hR="21600" stAng="-5400000" swAng="129317"/>
                <a:lnTo>
                  <a:pt x="10395" y="77"/>
                </a:lnTo>
                <a:arcTo wR="9585" hR="21600" stAng="-5529317" swAng="-5270683"/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"/>
          <p:cNvSpPr/>
          <p:nvPr/>
        </p:nvSpPr>
        <p:spPr>
          <a:xfrm>
            <a:off x="2714760" y="2289960"/>
            <a:ext cx="81849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которых  педагог осуществл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ее воздействие (учебный процес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Облако 2"/>
          <p:cNvSpPr/>
          <p:nvPr/>
        </p:nvSpPr>
        <p:spPr>
          <a:xfrm>
            <a:off x="214200" y="571680"/>
            <a:ext cx="2214720" cy="13572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обуч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2643120" y="714240"/>
            <a:ext cx="62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элемент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составная часть метода обуч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Облако 4"/>
          <p:cNvSpPr/>
          <p:nvPr/>
        </p:nvSpPr>
        <p:spPr>
          <a:xfrm>
            <a:off x="285840" y="2143080"/>
            <a:ext cx="2286000" cy="128592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460440" y="3798720"/>
            <a:ext cx="760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едагогическим средствам относя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лабораторное оборуд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техни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производственное оборуд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наглядные пособ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средства обучения и автоматизированные системы обуч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ые класс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-педагогические 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чебные планы,  карточки-задания, учебные пособия и т.п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28400" y="642960"/>
            <a:ext cx="746748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c00000"/>
                </a:solidFill>
                <a:uFillTx/>
                <a:latin typeface="Century Schoolbook"/>
              </a:rPr>
              <a:t>ФОРМА ОБУЧЕНИЯ </a:t>
            </a:r>
            <a:r>
              <a:rPr b="0" lang="ru-RU" sz="2700" spc="-1" strike="noStrike" u="sng">
                <a:solidFill>
                  <a:srgbClr val="c00000"/>
                </a:solidFill>
                <a:uFillTx/>
                <a:latin typeface="Century Schoolbook"/>
              </a:rPr>
              <a:t> </a:t>
            </a: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- ЭТО УСТОЙЧИВАЯ ЗАВЕРШЕННАЯ ОРГАНИЗАЦИЯ ПЕДАГОГИЧЕСКОГО ПРОЦЕССА В ЕДИНСТВЕ ВСЕХ ЕГО КОМПОНЕНТОВ. </a:t>
            </a:r>
            <a:br>
              <a:rPr sz="2700"/>
            </a:br>
            <a:endParaRPr b="0" lang="en-US" sz="27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92" name="Rectangle 1"/>
          <p:cNvSpPr/>
          <p:nvPr/>
        </p:nvSpPr>
        <p:spPr>
          <a:xfrm>
            <a:off x="571680" y="2795040"/>
            <a:ext cx="781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пени сложности подразделяются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9:42:25Z</dcterms:created>
  <dc:creator>NickOn</dc:creator>
  <dc:description/>
  <dc:language>en-US</dc:language>
  <cp:lastModifiedBy>NickOn</cp:lastModifiedBy>
  <dcterms:modified xsi:type="dcterms:W3CDTF">2015-02-17T07:27:52Z</dcterms:modified>
  <cp:revision>69</cp:revision>
  <dc:subject/>
  <dc:title>  «Использование современных педагогических технологий в образовательном процессе»</dc:title>
</cp:coreProperties>
</file>