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F14613-56F4-415E-A8B1-D71DAC9BF8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C08EE7-0223-4304-96DE-D94677EC128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793C69-53A4-4227-9C1E-C23B9760F05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38ABCA-8474-4CD1-B77F-B0B15D773B1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325A3E-D00F-4FF1-9001-2CD3068A0C3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625939-BCB5-42B8-8F95-2EBB252E263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0AF4DB-81A4-4E4E-B653-76CA640E6D5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AA7067-6C64-4FC4-BF12-E4D84E5171D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E6F3C6-0784-48CF-88FB-7035AC5624D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35767C-F176-4C00-88DA-940001887DC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146053-BE18-4845-85D6-BC773D8CE32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6F3401-FA7A-41F8-AB6F-FFDE6146083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97A9B2-EBA3-4AD7-A0D3-74FC6A2F020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C351AB-5E4F-4B2E-8412-B992B9AB47C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91626F-CCED-44EC-AD39-8950F25021C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20419F-6D1E-4CDB-9700-3EC284E4115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33DCE2-FB47-4668-AAE6-46FD10BAF48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409D42-1A89-45CF-9AC2-9A7B5894F83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CEF695-496F-4DFD-964A-ECCD3DF5F6D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1FB129-6789-404E-B7C0-A772CE9B131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21E776-2377-4A7A-BF94-28AD4093037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43C929-006E-4419-AE3D-040A3A4217F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8A5631-EA0A-4BDC-B813-D773D6BC1E5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7501-A3B3-44BB-A4EE-B0F6110D1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5F9A-72CA-4CDA-B4E9-B1361B856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90B1D-8833-4732-95B4-CABC6C049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473D-839C-4E10-AEB9-80116FD4AC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8B20-55F4-4AE6-B3BF-61792990F3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BA90-E149-433E-8E7D-15BD212E7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47D1-DFAF-414B-BD03-42EA6B938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29A3-4DD9-498B-B860-4A1D31985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8BCA-D863-4D43-854D-F3045BE83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D128-7F85-41CC-BB83-ACABE996E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52C3-C1BD-4BA6-853C-3A33775B5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1306-9CA1-4F1A-849F-8685799CA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93f28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A4C81A-3E10-4AF8-AE25-943AFA3513CC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685800" y="76320"/>
            <a:ext cx="7924680" cy="5105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1523880" y="609480"/>
            <a:ext cx="5943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Психология детства.</a:t>
            </a:r>
            <a:br>
              <a:rPr sz="3200"/>
            </a:b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апризы и упрямств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676520" y="54100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611280" y="541188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ДОУ центр развития ребёнка- детский сад №129 Выборгского района Санкт-Петербу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нецова Вероника Аркад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657600" y="380880"/>
            <a:ext cx="5029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зраст от 4 до 5 лет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43000" y="1919160"/>
            <a:ext cx="8153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ериод интенсивного роста и развития организм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е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оцессе игр у детей формируется познавательный интерес, развивается наблюдательность, совершенствуются основные движ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Ведущи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тановится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знавательный моти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который проявляется в многочисленных вопросах, стремлении получить от взрослых новую информацию (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возраст «почемучек»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арактерна высокая мыслительная активность и любознательность. Продолжается процесс придумывания новых слов и выраж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657600" y="380880"/>
            <a:ext cx="5029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зраст от 5 до 6 лет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1905120"/>
            <a:ext cx="800100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м возрасте происходит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интенсивное развитие интеллектуальной, нравственно-волевой и эмоциональной сфер лич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 шестого года жизни стремятся познать себя и других людей, начинают осознавать связи в поведении и взаимоотношения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нимают разный характер отношений, выбирают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обственную линию по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Происходят изменения в представлениях о себ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е личности характеризуется появлением новых качеств и потребностей. Дети способны выполнять соответствующие возрасту гигиенические процедуры, имеют навыки опрятности, представления о здоровом образе жиз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657600" y="380880"/>
            <a:ext cx="5029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зраст от 6 до 7 лет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143000" y="1905120"/>
            <a:ext cx="800100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ин из самых сложных перио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ыш впервые начинает отделять себя от ма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Я сам» становится истинной мотивацией. Ребенок полностью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осознает себя как самостоятельную лич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что проявляется в свободном диалоге со сверстни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 уже умеют отстаивать собственную позицию в совместной деятельности, могут совершать нравственный выбор в реальных жизненных ситуация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Реч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тановится подлинным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редством общ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3505320" y="27000"/>
            <a:ext cx="4419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изис   7 -  ми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124080" y="533520"/>
            <a:ext cx="6019920" cy="6400800"/>
          </a:xfrm>
          <a:prstGeom prst="rect">
            <a:avLst/>
          </a:prstGeom>
          <a:noFill/>
          <a:ln cap="sq"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ризис 7 – ми л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обуславливается изменениями       в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ведении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овообразован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о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Ребенок начинает</a:t>
            </a:r>
            <a:r>
              <a:rPr b="1" lang="en-US" sz="1800" spc="-1" strike="noStrike">
                <a:solidFill>
                  <a:srgbClr val="2d2d8a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- кривлять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стоянное притворство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шутовство никак не мотивировано внешн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о вызывает уже не смех, а сужд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рослых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- манернич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ходить не так, как ходил раньше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ведении появляется что – то нарочито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епое и искусственное, вертляв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ясничанье, клоунада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апризнич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оворить плаксивым голос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оглашаться с мнением взрослого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ь этих изменений Л.С. Выготский  определи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утрату  детской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посредствен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962520" y="228600"/>
            <a:ext cx="388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овообра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124080" y="685800"/>
            <a:ext cx="61722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Ребенок осознает и переоценивает</a:t>
            </a:r>
            <a:r>
              <a:rPr b="1" lang="en-US" sz="1800" spc="-1" strike="noStrike">
                <a:solidFill>
                  <a:srgbClr val="2d2d8a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- свое место в мире общественных отношений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ткрытие социальной позиции школьника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- меняется самосозна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ождение социального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еоцениваются ценности и мо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анные с учебной деятельность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знаваемые переживания образуют  устойчивые аффективные комплексы, происходит обобщение и осознание переживаний, появляется новый для ребенка  смысл переживаний – личностный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- возникает способность и потребность к   социальному функционированию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существление общественно – значимой деятельност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57200" y="7621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В этот кризисный период ребенок страдает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т невозможности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делать внутренний мир доступным и понятным для окружающих. </a:t>
            </a:r>
            <a:br>
              <a:rPr sz="1800"/>
            </a:b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Задача взрослого помочь ребенку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еодолеть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соответствие внешнего и внутреннего,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преодолеть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совпадения желаний и их внешнего выражения.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022480" y="236232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ть в семье для ребенка доброжелательную атмосфер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вать позитивное отношение к ребенку (говорить, что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енок для них самый лучший. Ошибки и поступки ребе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влияют на их любовь, а всего лишь огорчаю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ь ребенка конструктивным способам выхода из конфликт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учить ребенка правильно распределять свое время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упустить момент, ребенку будет трудно адаптировать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школ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азвивать волевую сферу ребенк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оддерживать начиная ребенка, учить оценивать продукт сво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ятельности, показывать способы улучшения этого продукт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хвалить ребенка и восхищаться его достижения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657600" y="380880"/>
            <a:ext cx="5029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V.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Причиной капризов и упрямства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детей могут быть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нарушения  в системе родитель – ребенок  </a:t>
            </a:r>
            <a:r>
              <a:rPr b="1" i="1" lang="ru-RU" sz="1800" spc="-1" strike="noStrike">
                <a:solidFill>
                  <a:srgbClr val="2d2d8a"/>
                </a:solidFill>
                <a:latin typeface="Arial"/>
              </a:rPr>
              <a:t>(нарушение детско – родительских взаимоотношений).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1919160"/>
            <a:ext cx="8153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1. Использование в общении с ребенком деструктивных стилей воспитания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2d2d8a"/>
                </a:solidFill>
                <a:latin typeface="Arial"/>
              </a:rPr>
              <a:t>- гиперопе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ребенок  находиться под контролем и вниманием взрослого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этом уровень самостоятельности ребенка крайне низок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2d2d8a"/>
                </a:solidFill>
                <a:latin typeface="Arial"/>
              </a:rPr>
              <a:t>- гипоопе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ребенку слишком много позволено, количество запре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ребований минимальное, ребенок чувствует вседозволенность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2d2d8a"/>
                </a:solidFill>
                <a:latin typeface="Arial"/>
              </a:rPr>
              <a:t>- неустойчивы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резкая смена стилей воспитания – от строг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 либеральному, ребенок находиться постоянно в стрессовом состоянии)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2. Ребенку недостаточно эмоционального общения с родителя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ривлечение к себе внимания, как к члену семь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3. Неадекватная оценка возможностей ребенка со стороны родите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завышение или занижение требований к ребенку которые н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ответствуют возрасту ребенка. В первом случаи это может приве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неврозу, во втором к развитию эгоцентричных черт характер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4. Проблемы в супружеских взаимоотношения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ребенок показывает св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гативное отношение к неблагоприятной ситуации в семье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5. В семье нет единой воспитательной позиции в отношении ребе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роисходит манипуляция родителями).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23880" y="2286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амятка для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2120" y="762120"/>
            <a:ext cx="8001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ой залог предупреждения упрямство и капризов у детей  - это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доровый психологический климат в семье, разумная родительская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юбовь к детям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ямство ребенка - результа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злишней требовательности родителей,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призы, наоборот, следстви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резмерной уступчивос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го близки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м источником радости для ребенка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вместная со взрослым деятельность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нообразное обще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азаться от привычной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авторитарной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попустительской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зиции, научиться относиться как к человеку, имеющему определенные права, собственное мнение, уважать, признание его как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лич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а также здравый подход к каждой конкретной ситуации, в которой проявляется упрямство, каприз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ощрять самостоятельность ребенк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в себ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еодолевать привычку делать все з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бенк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реплять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рвную систему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енка: строго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людать режим дня, рационально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уществлять физическое воспитание и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аливание, не перенасыщать его психик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ьными впечатлениями, контролирова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смотр телепередач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295280" y="228600"/>
            <a:ext cx="5562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амятка для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7200" y="685800"/>
            <a:ext cx="83059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валите ребенка,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хвала не бывает лишне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за поступок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свершившееся действия, за то что достигнуто своим трудом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казание не должн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редить здоровью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енк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ропускайте упрямство и капризы ребенка,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рицательное поведение при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жет закрепитьс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ские капризы и упрямство – это результа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правильного воспита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воспитании важн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степенность и последователь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Первоначаль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бований, которые вы    будете предъявлять ребёнку, должно бы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чень мног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надо запрещать только то, что является абсолют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допустимым и если запрещать что-то, то уже быть до конц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овательны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оянное подчёркивание родителям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достатков ребёнк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зывает у не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злобление, сопротивление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 нередко та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ажается в капризах и упрямств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бое поведение ребенка имеет существ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чины вести себя так. прояснение эт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чин – ценный материал для постро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шений с ребенком и одно из условий е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пешного разви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447920" y="609480"/>
            <a:ext cx="5562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комендации для родителей.</a:t>
            </a:r>
            <a:br>
              <a:rPr sz="2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равляемся с каприз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990720" y="1371600"/>
            <a:ext cx="716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Ребенка можно успокоить, если отвлечь его внимание.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Используйте положительные просьбы.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ффективный способ остановить истерику — пятиминутный тайм-аут. Посадите ребенка на стул, стоящий около стены, позаботьтесь о том, чтобы в поле зрения не оказалось ничего интересно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ще один способ успокоить кричащего ребенка — присоединиться к нему. Начните плакать вместе с малышом и постепенно меняйте тональность, переходя от крика и рева, к хныканью и шмыганью нос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ие дети имеют скверную привычку биться головой о стенку или пол, пытаясь таким способом заставить взрослых выполни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жела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учший способ отучить от этой привычки —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нориро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-304920" y="0"/>
            <a:ext cx="9829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то такое                                                            Что тако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упрямство ?                                                          капризы ?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-68400" y="1523880"/>
            <a:ext cx="9296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психологическое состояние                                    Это действия, которые лишены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изкое к негативизму, т.е.                                              разумного основания, т.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рицательная особенность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так хочу и все !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дения ребенка, выражающаяся                            Они вызываются слабость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еобоснованном  и  нерациональном                        ребенка и в определен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тиводействии просьбам, советам,                        степени выступают, ка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бованиям других людей.                                         форма самозащи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роявление упрямств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                                             Проявление капризов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лание продолжить начатое                                               - в желание продолжить начатое действ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йствие даже в тех случаях,                                                  даже в тех случаях, когда ясно, что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ясно, что действие                                                           оно бессмысленно, не приносит польз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ссмысленно и не приносит                                                 - в недовольстве, раздражительност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ьз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плач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выступает как психологическая                                            - в двигательном перевозбужден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щита, имеет избирательный характе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Таким образом – для </a:t>
            </a:r>
            <a:r>
              <a:rPr b="1" lang="ru-RU" sz="15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упрямого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ребенка самое главное не уступить взрослому, настоять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на своем, а для </a:t>
            </a: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капризного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главное находиться в состоянии готовности к капризу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по малейшему поводу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447920" y="609480"/>
            <a:ext cx="5562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комендации для родителей.</a:t>
            </a:r>
            <a:br>
              <a:rPr sz="2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равляемся с каприз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990720" y="1371600"/>
            <a:ext cx="716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8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мечайте и поощряйте все поступки ребенка, заслуживающие одобрения, все случаи проявления положительных черт характе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9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тив, что ребенок начал плакать, ныть или как-то по-другому выражать свое недовольство с целью получения выгоды -  оставьте его на некоторое время одно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0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ребенок устраивает сцену на улице, не стыдите его и не наказывайте. Это жестокость в чистом вид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 походом или поездкой (магазин, гости) оговорите с ребенком предполагаемые действ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енку можно давать право выбо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3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Вы о чем-то попросили ребенка, он должен выполни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сьбу, а Вы проконтролировать. Ели просьба не выполне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енок может быть лишен чего  - либ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4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бования к ребенку должны бы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диными и постоянными со стороны все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зрослы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685800" y="-701640"/>
            <a:ext cx="7772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482920" y="1600200"/>
            <a:ext cx="4190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бенок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это зеркало нравственной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одителей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”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. А. Сухомли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7086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2895480" y="304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чины возникнове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призов и упрям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590920" y="1066680"/>
            <a:ext cx="64767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.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Капризы и упрямства могут быть обусловлены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социальными особенност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Смена обстанов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Обилие новых впечатлений (эмоциональная перегрузк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Влияние средств массовой информации на эмоциональное состояние и развитие ребенка (фильмы, мультфильмы, компьютерные игры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сходит смешение установок и ребенок не в состоян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мостоятельно понять, что хорошее, что плохое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Нарушение режима дня (по каким либо причинам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I.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Капризы и упрямства могут быть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обусловл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психофизиологическими особенност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Неокрепшая нервная система (период упрямства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призности начинается примерно с 18 мес.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заканчивается к 3,5 – 4 годам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Переутомл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Плохое самочувствие во время болез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Тип темперамента – разные или одинаковые тип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родителей и ребенка.     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93f28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1835280" y="155736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ризис 3-х л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394920" cy="745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3956040" y="749160"/>
            <a:ext cx="5218200" cy="1311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4"/>
          <a:stretch/>
        </p:blipFill>
        <p:spPr>
          <a:xfrm>
            <a:off x="4005360" y="1925640"/>
            <a:ext cx="4979880" cy="51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69800" y="0"/>
            <a:ext cx="8217000" cy="150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124000" y="1663560"/>
            <a:ext cx="4735440" cy="4748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-49320" y="-158760"/>
            <a:ext cx="92426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609480" y="1773360"/>
            <a:ext cx="3710160" cy="46083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26267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72eac"/>
                </a:solidFill>
                <a:latin typeface="Arial"/>
              </a:rPr>
              <a:t>      </a:t>
            </a:r>
            <a:r>
              <a:rPr b="1" lang="ru-RU" sz="2600" spc="-1" strike="noStrike">
                <a:solidFill>
                  <a:srgbClr val="262673"/>
                </a:solidFill>
                <a:latin typeface="Arial"/>
              </a:rPr>
              <a:t>Ребенок неуправляем, впадает в ярост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62673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262673"/>
                </a:solidFill>
                <a:latin typeface="Arial"/>
              </a:rPr>
              <a:t>Кризис может начаться в 18 месяцев, а закончиться в 3,5-4 год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62673"/>
                </a:solidFill>
                <a:latin typeface="Arial"/>
              </a:rPr>
              <a:t>      </a:t>
            </a:r>
            <a:r>
              <a:rPr b="1" lang="ru-RU" sz="2600" spc="-1" strike="noStrike">
                <a:solidFill>
                  <a:srgbClr val="262673"/>
                </a:solidFill>
                <a:latin typeface="Arial"/>
              </a:rPr>
              <a:t>У некоторых детей протекает ярко выражено, у  других напротив – тих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621320" y="2276640"/>
            <a:ext cx="3914640" cy="25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-103320" y="165240"/>
            <a:ext cx="95029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863640" y="1371600"/>
            <a:ext cx="7594560" cy="51530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74"/>
              </a:spcBef>
              <a:buClr>
                <a:srgbClr val="ff0909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НЕГАТИВИЗМ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бёнок негативно реагирует не на само действие, которое он отказывается выполнять, а на требования или просьбу взрослого. Он не делает что-то только потому, что это предложил ему определённый взрослый человек. Негативизм избирателен: ребёнок игнорирует требования одного члена семьи, а с другими достаточно послушен. Главный мотив- сделать наоборот. Негативизм – кризисное явление, которое должно исчезнуть со временем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74"/>
              </a:spcBef>
              <a:buClr>
                <a:srgbClr val="ff0909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УПРЯМСТВО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то реакция ребёнка, который настаивает на чём-то не потому, что ему этого очень хочется, а потому что он так решил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74"/>
              </a:spcBef>
              <a:buClr>
                <a:srgbClr val="ff0909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СТРОПТИВОСТЬ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на направлена не против конкретного взрослого, а против всей сложившейся в раннем детстве  системы отношений, против принятых в семье норм воспитания. Ребёнок стремится настоять на своих желаниях и недоволен всем, что ему предлагают и делают другие. Ребёнок всё хочет сделать и решить сам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74"/>
              </a:spcBef>
              <a:buClr>
                <a:srgbClr val="ff0909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СВОЕВОЛИЕ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Это когда ребёнок всё хочет делать сам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74"/>
              </a:spcBef>
              <a:buClr>
                <a:srgbClr val="ff0909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БУНТ ПРОТИВ ОКРУЖАЮЩИХ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ебёнок ссорится со всеми, ведет себя агрессивно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74"/>
              </a:spcBef>
              <a:buClr>
                <a:srgbClr val="ff0909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ОБЕСЦЕНИВАНИЕ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В глазах ребёнка обесценивается то, что было привычно, интересно, дорого раньше. Трёхлетний ребёнок может ругаться, отбросить или сломать любую игрушку и т.п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74"/>
              </a:spcBef>
              <a:buClr>
                <a:srgbClr val="ff0909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0909"/>
                </a:solidFill>
                <a:latin typeface="Arial"/>
              </a:rPr>
              <a:t>СТРЕМЛЕНИЕ К ДЕСПОТИЧНОМУ ПОДАВЛЕНИЮ ОКРУЖАЮЩИХ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ся семья должна удовлетворять любое желание маленького тирана, в противном случае её ждут истерики. Если в семье несколько детей, этот симптом проявляется в ревности, агрессии, в требовании постоянного внимания к себе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84120" y="-139680"/>
            <a:ext cx="845496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1763640" y="1295280"/>
            <a:ext cx="5181840" cy="5562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66666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Примите к сведению приступ, но не очень волнуйтесь за ребё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Во время приступа оставайтесь рядом, дайте ему почувствовать, что вы его понимае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Не пытайтесь в это время что-либо внушать своему ребёнку – это бесполезно. Ругать не имеет смысла, шлепки ещё сильнее взбудоража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Будьте в поведении с ребёнком настойчивы. Если вы сказали «нет», оставайтесь и дальше при этом мне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Не сдавайтесь даже тогда, когда приступ у ребёнка протекает в общественном мес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Не придавайте большого значения упрямству и каприз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Чаще всего помогает одно – взять его за руки и уве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Истеричность и капризность требует зрителей, не прибегайте к помощи посторонн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04920" y="-139680"/>
            <a:ext cx="853416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657600" y="457200"/>
            <a:ext cx="5029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зраст от 3 до 4 лет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031760" y="1905120"/>
            <a:ext cx="81536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сходят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изменения в характер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особенностях и содержании деятельности ребенка, в отношениях со взрослыми и сверстни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нсивно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развивается интеллектуальная сфер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ребенок познает эталонные формы, цвета, величины, явления окружающей действительности, задумывается и о самом себе. Преобладающей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ормой мышл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тановится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наглядно-образна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В этом возрасте очень высока потребность в движении, и развитие крупной моторики выходит на первый пла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 осваивают основные движения.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Начинают вырабатываться физические качест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скорость, сила, координация, гибкость, вынослив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ть и такая особенность: дети впервые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начинают понимать, что есть «Я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осознавать свое место в обществе, а также свою принадлежность к тому или иному пол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5:26:22Z</dcterms:created>
  <dc:creator>Наташа</dc:creator>
  <dc:description/>
  <dc:language>en-US</dc:language>
  <cp:lastModifiedBy>олег</cp:lastModifiedBy>
  <cp:lastPrinted>2014-03-28T15:01:49Z</cp:lastPrinted>
  <dcterms:modified xsi:type="dcterms:W3CDTF">2018-12-24T18:16:23Z</dcterms:modified>
  <cp:revision>1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