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52172D-D36F-4C43-9103-ED1ADA3263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F90AEE-2C34-4B62-811F-A375BCF2C9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37C5CB-7BA4-4841-A1CE-B1940BE888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B51CE1-DA20-470A-9B15-6D4ECDC00E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6B8540-0AFB-4C5D-8540-83E94DE098A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461E83-D24F-4BDE-A4A6-A767875380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FF7C0D-FF21-4354-B5C6-C525C6A98A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255E93-8BE1-4C9D-87E2-36DE355D4D5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85E7FF-37FE-475F-B8A9-A1DD471A2E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E36372-DB2C-4667-BDBF-F1D80593E9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151568-1C87-4A52-91B1-04B8D88987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4FE74B-8AD7-4B92-9C85-D67BF4666BA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8F98E6-4357-444A-80E7-2DBDB991CF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723BDA-0A44-483D-BEC5-950BD85AE69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EB830C-887A-495C-A659-7579B00DFF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3092A3-88C3-4AAA-87F1-11A3A7F703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6FA864-3FE8-48EA-AEF9-036F7C769F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CF9392-6AEF-44A7-AA73-0180A1B899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F41D66-5A8C-42CD-8DBE-FC1F750ADC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B3BD99-79F7-40BF-9600-BBBDE679B4B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34DD5F-DB52-433A-B06E-8D2F35AF6A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665310-7A4B-4923-B183-D17E945563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B91DBE-4A8C-4CE1-BD4B-AC1D0C4799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122D-8B01-4619-95E8-FC15C1425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84A0-FEA4-4807-9346-59562D413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0502-7E98-4B89-A881-D96755800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D0D7-0ECC-4CAE-B862-0CDB4D8EC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E4D7-89BA-4FFB-9AE6-C9CA282E9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883A-3789-4C7D-A3AD-4FE2B4E96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A0FC-A1C4-48DA-BC51-236184E84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1DEE-D478-4F4B-8699-2FFC8EDAA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7E8B-1D9D-40A9-8AE7-42688619D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FF15-D7FD-496E-9890-FA25CF245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889C-BA7A-43B2-BFDB-3C97AA2A5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5CF1-DF8F-4C67-B233-EB0851C0B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93f28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56BFBE-D36F-46AC-AC9A-B975A6FBE7F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924680" cy="5105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1523880" y="609480"/>
            <a:ext cx="5943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Психология детства.</a:t>
            </a:r>
            <a:br>
              <a:rPr sz="3200"/>
            </a:b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призы и упрямств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76520" y="54100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611280" y="54118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ДОУ центр развития ребёнка- детский сад №129 Выборгского района 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ова Вероника Аркад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657600" y="3808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раст от 4 до 5 лет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43000" y="191916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ериод интенсивного роста и развития организм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цессе игр у детей формируется познавательный интерес, развивается наблюдательность, совершенствуются основные движ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едущи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тановится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знавательный моти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который проявляется в многочисленных вопросах, стремлении получить от взрослых новую информацию (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озраст «почемучек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на высокая мыслительная активность и любознательность. Продолжается процесс придумывания новых слов и выраж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657600" y="3808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раст от 5 до 6 лет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1905120"/>
            <a:ext cx="80010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возрасте происходит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нтенсивное развитие интеллектуальной, нравственно-волевой и эмоциональной сфер лич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шестого года жизни стремятся познать себя и других людей, начинают осознавать связи в поведении и взаимоотношения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нимают разный характер отношений, выбирают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обственную линию по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роисходят изменения в представлениях о себ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личности характеризуется появлением новых качеств и потребностей. Дети способны выполнять соответствующие возрасту гигиенические процедуры, имеют навыки опрятности, представления о здоровом образе жи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657600" y="3808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раст от 6 до 7 лет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143000" y="1905120"/>
            <a:ext cx="80010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 из самых сложных перио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ыш впервые начинает отделять себя от ма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Я сам» становится истинной мотивацией. Ребенок полностью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осознает себя как самостоятельную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что проявляется в свободном диалоге со сверстни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уже умеют отстаивать собственную позицию в совместной деятельности, могут совершать нравственный выбор в реальных жизненных ситуаци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еч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тановится подлинным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редством общ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3505320" y="27000"/>
            <a:ext cx="4419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изис   7 -  ми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124080" y="533520"/>
            <a:ext cx="6019920" cy="6400800"/>
          </a:xfrm>
          <a:prstGeom prst="rect">
            <a:avLst/>
          </a:prstGeom>
          <a:noFill/>
          <a:ln cap="sq"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ризис 7 – ми л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обуславливается изменениями       в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ведении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овообразова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Ребенок начинает</a:t>
            </a: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кривлять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стоянное притворство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шутовство никак не мотивировано внешн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о вызывает уже не смех, а суж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ослых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манернич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одить не так, как ходил раньше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ведении появляется что – то нарочито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епое и искусственное, вертляв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сничанье, клоунада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апризнич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оворить плаксивым голос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оглашаться с мнением взрослого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ь этих изменений Л.С. Выготский  определи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трату  детской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посредств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962520" y="22860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овообра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124080" y="685800"/>
            <a:ext cx="61722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Ребенок осознает и переоценивает</a:t>
            </a: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свое место в мире общественных отношений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крытие социальной позиции школьника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меняется самосозн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ождение социального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еоцениваются ценности и мо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анные с учебной деятельность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знаваемые переживания образуют  устойчивые аффективные комплексы, происходит обобщение и осознание переживаний, появляется новый для ребенка  смысл переживаний – личностный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возникает способность и потребность к   социальному функционированию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существление общественно – значимой деятельност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57200" y="7621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В этот кризисный период ребенок страдае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т невозможности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внутренний мир доступным и понятным для окружающих. </a:t>
            </a:r>
            <a:br>
              <a:rPr sz="1800"/>
            </a:b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Задача взрослого помочь ребенку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еодолеть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соответствие внешнего и внутреннего,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преодолеть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совпадения желаний и их внешнего выражения.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022480" y="236232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ть в семье для ребенка доброжелательную атмосфер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вать позитивное отношение к ребенку (говорить, что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ок для них самый лучший. Ошибки и поступки реб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лияют на их любовь, а всего лишь огорчаю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ь ребенка конструктивным способам выхода из конфликт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чить ребенка правильно распределять свое время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упустить момент, ребенку будет трудно адаптировать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школ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азвивать волевую сферу ребенк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ддерживать начиная ребенка, учить оценивать продукт сво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ятельности, показывать способы улучшения этого продукт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хвалить ребенка и восхищаться его достижен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657600" y="3808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V.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ричиной капризов и упрямства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детей могут быть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нарушения  в системе родитель – ребенок 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(нарушение детско – родительских взаимоотношений).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191916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1. Использование в общении с ребенком деструктивных стилей воспитания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</a:rPr>
              <a:t>- гиперопе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ребенок  находиться под контролем и вниманием взрослог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этом уровень самостоятельности ребенка крайне низок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</a:rPr>
              <a:t>- гипоопе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ребенку слишком много позволено, количество запре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ребований минимальное, ребенок чувствует вседозволенность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</a:rPr>
              <a:t>- неустойчив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резкая смена стилей воспитания – от строг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 либеральному, ребенок находиться постоянно в стрессовом состоянии)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2. Ребенку недостаточно эмоционального общения с родителя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ивлечение к себе внимания, как к члену семь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3. Неадекватная оценка возможностей ребенка со стороны роди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завышение или занижение требований к ребенку которые 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ответствуют возрасту ребенка. В первом случаи это может приве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неврозу, во втором к развитию эгоцентричных черт характе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4. Проблемы в супружеских взаимоотношения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ребенок показывает св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гативное отношение к неблагоприятной ситуации в семь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5. В семье нет единой воспитательной позиции в отношении реб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оисходит манипуляция родителями).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3880" y="2286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амятка для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120" y="762120"/>
            <a:ext cx="8001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й залог предупреждения упрямство и капризов у детей  - это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доровый психологический климат в семье, разумная родительская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юбовь к детям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ямство ребенка - результа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лишней требовательности родителей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призы, наоборот, следств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резмерной уступчивос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го близки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м источником радости для ребенка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вместная со взрослым деятельность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образное общ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азаться от привычно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авторитарной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попустительской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иции, научиться относиться как к человеку, имеющему определенные права, собственное мнение, уважать, признание его как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лич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а также здравый подход к каждой конкретной ситуации, в которой проявляется упрямство, капри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ощрять самостоятельность ребенк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 себ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еодолевать привычку делать все з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бенк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реплять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рвную систем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ка: строго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людать режим дня, рационально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уществлять физическое воспитание и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аливание, не перенасыщать его психик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ми впечатлениями, контролирова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мотр телепереда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295280" y="228600"/>
            <a:ext cx="5562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амятка для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" y="685800"/>
            <a:ext cx="83059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валите ребенка,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хвала не бывает лишне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за поступок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свершившееся действия, за то что достигнуто своим трудом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казание не долж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редить здоровь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к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ропускайте упрямство и капризы ребенка,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рицательное поведение при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жет закрепитьс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ие капризы и упрямство – это результа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правильного воспита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оспитании важ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тепенность и последователь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ервоначаль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ований, которые вы    будете предъявлять ребёнку, должно бы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чень мног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надо запрещать только то, что является абсолют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пустимым и если запрещать что-то, то уже быть до конц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овательны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ое подчёркивание родителям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достатков ребён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зывает у не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злобление, сопротивлени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 нередко та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ется в капризах и упрямств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ое поведение ребенка имеет существ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ы вести себя так. прояснение эт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 – ценный материал для постро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й с ребенком и одно из условий е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шного разви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447920" y="609480"/>
            <a:ext cx="5562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комендации для родителей.</a:t>
            </a: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равляемся с каприз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Ребенка можно успокоить, если отвлечь его внимание.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Используйте положительные просьбы.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ффективный способ остановить истерику — пятиминутный тайм-аут. Посадите ребенка на стул, стоящий около стены, позаботьтесь о том, чтобы в поле зрения не оказалось ничего интересн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ще один способ успокоить кричащего ребенка — присоединиться к нему. Начните плакать вместе с малышом и постепенно меняйте тональность, переходя от крика и рева, к хныканью и шмыганью нос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дети имеют скверную привычку биться головой о стенку или пол, пытаясь таким способом заставить взрослых выполни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жела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учший способ отучить от этой привычки —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нориро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-304920" y="0"/>
            <a:ext cx="9829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 такое                                                            Что тако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упрямство ?                                                          капризы ?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-68400" y="1523880"/>
            <a:ext cx="9296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сихологическое состояние                                    Это действия, которые лишены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изкое к негативизму, т.е.                                              разумного основания, т.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рицательная особенность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так хочу и все !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 ребенка, выражающаяся                            Они вызываются слабость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еобоснованном  и  нерациональном                        ребенка и в определен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тиводействии просьбам, советам,                        степени выступают, ка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ованиям других людей.                                         форма самозащи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оявление упрямств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                                           Проявление капризов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лание продолжить начатое                                               - в желание продолжить начатое действ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йствие даже в тех случаях,                                                  даже в тех случаях, когда ясно, что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ясно, что действие                                                           оно бессмысленно, не приносит польз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смысленно и не приносит                                                 - в недовольстве, раздражитель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ьз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плач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выступает как психологическая                                            - в двигательном перевозбужде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щита, имеет избиратель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Таким образом – для </a:t>
            </a:r>
            <a:r>
              <a:rPr b="1" lang="ru-RU" sz="15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упрямого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ребенка самое главное не уступить взрослому, настоят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на своем, а для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капризного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главное находиться в состоянии готовности к капризу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по малейшему поводу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47920" y="609480"/>
            <a:ext cx="5562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комендации для родителей.</a:t>
            </a: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равляемся с каприз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8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мечайте и поощряйте все поступки ребенка, заслуживающие одобрения, все случаи проявления положительных черт характе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9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тив, что ребенок начал плакать, ныть или как-то по-другому выражать свое недовольство с целью получения выгоды -  оставьте его на некоторое время одн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0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енок устраивает сцену на улице, не стыдите его и не наказывайте. Это жестокость в чистом вид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 походом или поездкой (магазин, гости) оговорите с ребенком предполагаемые действ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ку можно давать право выб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ы о чем-то попросили ребенка, он должен выполни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ьбу, а Вы проконтролировать. Ели просьба не выполне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ок может быть лишен чего  - либ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4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ования к ребенку должны бы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диными и постоянными со стороны все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росл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685800" y="-70164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482920" y="1600200"/>
            <a:ext cx="4190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бенок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то зеркало нравственной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одителе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. А. Сухомли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86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895480" y="304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чины возникнове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призов и упрям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590920" y="1066680"/>
            <a:ext cx="64767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.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апризы и упрямства могут быть обусловлены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социальными особен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Смена обстанов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Обилие новых впечатлений (эмоциональная перегруз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Влияние средств массовой информации на эмоциональное состояние и развитие ребенка (фильмы, мультфильмы, компьютерные игры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ит смешение установок и ребенок не в состоян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остоятельно понять, что хорошее, что плохое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Нарушение режима дня (по каким либо причинам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I.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апризы и упрямства могут быть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обусловл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сихофизиологическими особен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Неокрепшая нервная система (период упрямства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призности начинается примерно с 18 мес.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заканчивается к 3,5 – 4 годам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ереутомл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Плохое самочувствие во время боле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Тип темперамента – разные или одинаковые тип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родителей и ребенка.     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93f28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835280" y="1557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ризис 3-х л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394920" cy="745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956040" y="749160"/>
            <a:ext cx="5218200" cy="1311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005360" y="1925640"/>
            <a:ext cx="4979880" cy="51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69800" y="0"/>
            <a:ext cx="8217000" cy="15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124000" y="1663560"/>
            <a:ext cx="4735440" cy="474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-49320" y="-158760"/>
            <a:ext cx="9242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609480" y="1773360"/>
            <a:ext cx="3710160" cy="46083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26267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72eac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Ребенок неуправляем, впадает в ярост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Кризис может начаться в 18 месяцев, а закончиться в 3,5-4 год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У некоторых детей протекает ярко выражено, у  других напротив – тих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21320" y="2276640"/>
            <a:ext cx="3914640" cy="25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-103320" y="165240"/>
            <a:ext cx="95029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863640" y="1371600"/>
            <a:ext cx="7594560" cy="51530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НЕГАТИВИЗМ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ёнок негативно реагирует не на само действие, которое он отказывается выполнять, а на требования или просьбу взрослого. Он не делает что-то только потому, что это предложил ему определённый взрослый человек. Негативизм избирателен: ребёнок игнорирует требования одного члена семьи, а с другими достаточно послушен. Главный мотив- сделать наоборот. Негативизм – кризисное явление, которое должно исчезнуть со времене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УПРЯМСТВО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о реакция ребёнка, который настаивает на чём-то не потому, что ему этого очень хочется, а потому что он так реши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СТРОПТИВОСТЬ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а направлена не против конкретного взрослого, а против всей сложившейся в раннем детстве  системы отношений, против принятых в семье норм воспитания. Ребёнок стремится настоять на своих желаниях и недоволен всем, что ему предлагают и делают другие. Ребёнок всё хочет сделать и решить сам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СВОЕВОЛИЕ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Это когда ребёнок всё хочет делать са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БУНТ ПРОТИВ ОКРУЖАЮЩИХ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ебёнок ссорится со всеми, ведет себя агрессивно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ОБЕСЦЕНИВАНИЕ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В глазах ребёнка обесценивается то, что было привычно, интересно, дорого раньше. Трёхлетний ребёнок может ругаться, отбросить или сломать любую игрушку и т.п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СТРЕМЛЕНИЕ К ДЕСПОТИЧНОМУ ПОДАВЛЕНИЮ ОКРУЖАЮЩИХ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я семья должна удовлетворять любое желание маленького тирана, в противном случае её ждут истерики. Если в семье несколько детей, этот симптом проявляется в ревности, агрессии, в требовании постоянного внимания к себ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84120" y="-139680"/>
            <a:ext cx="845496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1763640" y="1295280"/>
            <a:ext cx="5181840" cy="5562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6666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Примите к сведению приступ, но не очень волнуйтесь за ребё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Во время приступа оставайтесь рядом, дайте ему почувствовать, что вы его понима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Не пытайтесь в это время что-либо внушать своему ребёнку – это бесполезно. Ругать не имеет смысла, шлепки ещё сильнее взбудоража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Будьте в поведении с ребёнком настойчивы. Если вы сказали «нет», оставайтесь и дальше при этом мн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Не сдавайтесь даже тогда, когда приступ у ребёнка протекает в общественном мес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Не придавайте большого значения упрямству и каприз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Чаще всего помогает одно – взять его за руки и уве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Истеричность и капризность требует зрителей, не прибегайте к помощи посторонн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04920" y="-139680"/>
            <a:ext cx="853416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657600" y="45720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раст от 3 до 4 лет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031760" y="1905120"/>
            <a:ext cx="81536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т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зменения в характер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собенностях и содержании деятельности ребенка, в отношениях со взрослыми и сверстни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нсивно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азвивается интеллектуальная сфер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ребенок познает эталонные формы, цвета, величины, явления окружающей действительности, задумывается и о самом себе. Преобладающей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ормой мышл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тановится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аглядно-образн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В этом возрасте очень высока потребность в движении, и развитие крупной моторики выходит на первый пла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осваивают основные движения.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Начинают вырабатываться физические качест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скорость, сила, координация, гибкость, вынослив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и такая особенность: дети впервые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ачинают понимать, что есть «Я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сознавать свое место в обществе, а также свою принадлежность к тому или иному пол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5:26:22Z</dcterms:created>
  <dc:creator>Наташа</dc:creator>
  <dc:description/>
  <dc:language>en-US</dc:language>
  <cp:lastModifiedBy>олег</cp:lastModifiedBy>
  <cp:lastPrinted>2014-03-28T15:01:49Z</cp:lastPrinted>
  <dcterms:modified xsi:type="dcterms:W3CDTF">2018-12-24T18:16:23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