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5506-C275-4C4A-A375-ED50EA9D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2870-CEDC-4E99-8679-8DEA524C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7D6B-BC83-4C0A-82F3-91137F64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13EF-4673-465D-85EF-987AB423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EC6E-461D-45A3-A950-2387AC70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D75C-B36D-4A6E-B937-1F288224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79F8-348A-4C15-946E-92E7AC42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6DDB-1F21-4961-8EBC-11F64BA2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62B2-D9C7-4C80-8463-437A871F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EAFC-0CB2-41C5-97ED-BFABB7FE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9B2E-A6D0-41B3-98A5-9B5A5158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CC05-371E-4A2D-982F-0F9BC82D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EBDD-486D-4E12-B876-C78FC7C015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Колебательное 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Свободные колеб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Вынужденные колеб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Затухающие колеб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Колебатель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ПЕРИ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ЧАС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АМПЛИТ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99"/>
                </a:solidFill>
                <a:latin typeface="Arial"/>
              </a:rPr>
              <a:t>Что сегодня вы узнали новог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99"/>
                </a:solidFill>
                <a:latin typeface="Arial"/>
              </a:rPr>
              <a:t>Довольны ли вы своей работой на урок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ИЗУЧИТЬ (повторить)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                  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§</a:t>
            </a: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26, 28,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Дополнительно: 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§</a:t>
            </a: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Доклады: «Резонанс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Гармонические колеба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Лабораторная работа </a:t>
            </a:r>
            <a:br>
              <a:rPr sz="3200"/>
            </a:b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Тема: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«Исследование зависимости периода   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         колебаний пружинного маятника от  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         массы груза и жёсткости пружи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Выполнение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ри увеличении массы груза пружинного маятника период колебаний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ри увеличении жёсткости пружины пери од колебаний пружинного маятника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Лабораторная работа №        11.01.15.</a:t>
            </a:r>
            <a:br>
              <a:rPr sz="3200"/>
            </a:b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Тема: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«Исследование зависимости периода   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          и частоты колебаний нитяного  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          маятника от  длины ни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Цель:  …………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             …………………………………………………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борудование: …………………………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           ……………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Выполнение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80880" y="2282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Вывод: 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При увеличении длины нити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аятника период колебаний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При увеличении длины нити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аятника частота колебани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33"/>
                </a:solidFill>
                <a:latin typeface="Arial"/>
              </a:rPr>
              <a:t>Дополнительн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33"/>
                </a:solidFill>
                <a:latin typeface="Arial"/>
              </a:rPr>
              <a:t>Вариант 1.                   Вариант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4495680" cy="251928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4572000" y="4267080"/>
            <a:ext cx="4343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1.   При уменьшении длины нити в 36 раз период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4419720"/>
            <a:ext cx="4495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1.    При увеличении длины нити в 25 раз период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46400" indent="-446400">
              <a:buClr>
                <a:srgbClr val="ffff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Найти период колебаний нитяного маятника, если 200 колебаний совершается за 2,5 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buClr>
                <a:srgbClr val="ffff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Найти период колебаний нитяного маятника, если частота колебаний равна 0,25 Г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95680" y="5335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41000" indent="-441000">
              <a:buClr>
                <a:srgbClr val="99ff3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33"/>
                </a:solidFill>
                <a:latin typeface="Arial"/>
              </a:rPr>
              <a:t>Найти период колебаний нитяного маятника, если 400 колебаний совершается за 2,4 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000" indent="-441000">
              <a:buClr>
                <a:srgbClr val="99ff3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33"/>
                </a:solidFill>
                <a:latin typeface="Arial"/>
              </a:rPr>
              <a:t>Найти период колебаний нитяного маятника, если частота колебаний равна 0,4 Г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0492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1. ОПРЕДЕЛИТЕ ПЕРИОД СВОБОДНОГО КОЛЕБАНИЯ ГРУЗА, массой 125 г., ПОДВЕШЕННОГО НА ПРУЖИНЕ ЖЁСТКОСТЬЮ 50 Н/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30492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ешение задач по теме «Колеба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6477120" y="228600"/>
            <a:ext cx="243828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80880" y="304920"/>
            <a:ext cx="6782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2. </a:t>
            </a: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Груз, колеблющийся на пружине, коэффициент жёсткости  которой равен 9,9 Н/м, совершает 12 колебаний за 24 с. Определите массу груз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243828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3. Груз, совершает колебания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 нити длиной 40 см.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пределите период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частоту колеба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095880" y="4876920"/>
            <a:ext cx="236232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2362320" cy="1323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380880" y="304920"/>
            <a:ext cx="67820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4. Определите во сколько раз нужно увеличить длину математического маятника, чтобы частота его колебаний уменьшилась в 4 р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5. Периоды колебаний двух математических маятников относятся как 3:2. Рассчитайте, во сколько раз первый маятник длиннее втор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2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29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0T21:59:46Z</dcterms:created>
  <dc:creator>славик</dc:creator>
  <dc:description/>
  <dc:language>en-US</dc:language>
  <cp:lastModifiedBy>Нина</cp:lastModifiedBy>
  <dcterms:modified xsi:type="dcterms:W3CDTF">2016-01-10T18:56:49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