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F84F-39B5-4AA1-8AA6-6DDCE229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9CE3-DD36-4832-B279-6EA3F844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F799-3F9F-4757-9F94-02BC528D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1774-6D28-485A-A614-8FEC63C0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F841-C9C2-4B29-8641-6DB235D5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8BD0-3975-4C11-A5A7-36472B8D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B522-06C0-434F-B9E5-915854BD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AFBC-EB40-485C-919A-D06E08FD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4EDA-3E83-4ABF-A9DE-27452061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B58B-FD86-4197-9C63-F48A4C61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8A31-2C98-40C7-A7BB-7B376496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AD3E-DB9A-4AA2-80FE-E380A4EA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2EF1-1695-4BF3-A8E1-4C6788043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Колебательное 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Свободные колеб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Вынужденные колеб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Затухающие колеб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Колебатель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Маятник (нитяной и пружинны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Лабораторная работа №3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Тема: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«Исследование зависимости периода  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        колебаний пружинного маятника от 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        массы груза и жёсткости пружи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Выполнение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При увеличении массы груза пружинного маятника период колебаний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При увеличении жёсткости пружины пери од колебаний пружинного маятника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Дополнительное задание: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Вариант 1(2)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130000"/>
              </a:lnSpc>
              <a:spcBef>
                <a:spcPts val="601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Найти период колебаний пружинного маятника, если 200 колебаний совершается за 2,5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170000"/>
              </a:lnSpc>
              <a:spcBef>
                <a:spcPts val="601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Найти период колебаний пружинного маятника, если частота колебаний равна 0,25 Г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30000"/>
              </a:lnSpc>
              <a:spcBef>
                <a:spcPts val="601"/>
              </a:spcBef>
              <a:buClr>
                <a:srgbClr val="cc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Arial"/>
              </a:rPr>
              <a:t>Найти период колебаний пружинного маятника, если 400 колебаний совершается за 2,4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spcBef>
                <a:spcPts val="601"/>
              </a:spcBef>
              <a:buClr>
                <a:srgbClr val="cc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Arial"/>
              </a:rPr>
              <a:t>Найти период колебаний пружинного маятника, если частота колебаний равна 0,4 Г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61722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Вывод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0492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1. ОПРЕДЕЛИТЕ ПЕРИОД СВОБОДНОГО КОЛЕБАНИЯ ГРУЗА, массой 125 г., ПОДВЕШЕННОГО НА ПРУЖИНЕ ЖЁСТКОСТЬЮ 50 Н/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0492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ешение задач по теме «Колеба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477120" y="228600"/>
            <a:ext cx="243828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304920"/>
            <a:ext cx="6782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Груз, колеблющийся на пружине, коэффициент жёсткости  которой равен 9,9 Н/м, совершает 12 колебаний за 24 с. Определите массу груз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243828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2362320" cy="1323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304920"/>
            <a:ext cx="67820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3. Определите во сколько раз нужно увеличить длину математического маятника, чтобы частота его колебаний уменьшилась в 4 р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4. Периоды колебаний двух математических маятников относятся как 3:2. Рассчитайте, во сколько раз первый маятник длиннее втор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9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Что сегодня вы узнали новог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Довольны ли вы своей работой на урок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ИЗУЧИТЬ (повторить)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                  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§</a:t>
            </a: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26, 28,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Дополнительно: 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§</a:t>
            </a: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Доклад: «Резонанс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Гармонические колеба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0T21:59:46Z</dcterms:created>
  <dc:creator>славик</dc:creator>
  <dc:description/>
  <dc:language>en-US</dc:language>
  <cp:lastModifiedBy>Win</cp:lastModifiedBy>
  <dcterms:modified xsi:type="dcterms:W3CDTF">2013-12-20T23:00:0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