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F9C-F106-4CEB-8891-8133249B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613-450D-42AD-BF73-50263BA1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208-014F-4A43-A27E-1A90E2EF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729-8A52-4EA9-B38C-2C8057B2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E0D-BE46-4A52-93BC-4337C96E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B79-2BFE-491B-95B8-B6893001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03B-F191-49DA-887A-8C854270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7FB-0DBD-4E69-9615-4858E092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05B-B695-4891-AA04-564E7C1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643-82D5-4417-99E3-8936A38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B8E-CF83-4E11-B920-54182EF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446-0AC8-4732-944F-571EFF7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72C1-EA52-4FEE-8FC5-F6270C02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Маятник (нитяной и пружинны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Лабораторная работа №3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«Исследование зависимости периода 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колебаний пружинного маятника от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массы груза и жёсткости пруж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Выполне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При увеличении массы груза пружинного маятника период колебаний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При увеличении жёсткости пружины пери од колебаний пружинного маятник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Дополнительное задание: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Вариант 1(2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30000"/>
              </a:lnSpc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Найти период колебаний пружинного маятника, если 200 колебаний совершается за 2,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70000"/>
              </a:lnSpc>
              <a:spcBef>
                <a:spcPts val="601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Найти период колебаний пружинного маятника, если частота колебаний равна 0,25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Найти период колебаний пружинного маятника, если 400 колебаний совершается за 2,4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cc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Найти период колебаний пружинного маятника, если частота колебаний равна 0,4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172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. ОПРЕДЕЛИТЕ ПЕРИОД СВОБОДНОГО КОЛЕБАНИЯ ГРУЗА, массой 125 г., ПОДВЕШЕННОГО НА ПРУЖИНЕ ЖЁСТКОСТЬЮ 50 Н/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ение задач по теме «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04920"/>
            <a:ext cx="678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Груз, колеблющийся на пружине, коэффициент жёсткости  которой равен 9,9 Н/м, совершает 12 колебаний за 24 с. Определите массу гру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438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362320" cy="132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04920"/>
            <a:ext cx="6782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3. Определите во сколько раз нужно увеличить длину математического маятника, чтобы частота его колебаний уменьшилась 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4. Периоды колебаний двух математических маятников относятся как 3:2. Рассчитайте, во сколько раз первый маятник длиннее вт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Что сегодня вы узнали ново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Довольны ли вы своей работой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ИЗУЧИТЬ (повторить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6, 28,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ополнительно: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клад: «Резонан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Гармонические 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21:59:46Z</dcterms:created>
  <dc:creator>славик</dc:creator>
  <dc:description/>
  <dc:language>en-US</dc:language>
  <cp:lastModifiedBy>Win</cp:lastModifiedBy>
  <dcterms:modified xsi:type="dcterms:W3CDTF">2013-12-20T23:00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